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6747-BECF-4194-9447-BE37C43F896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36C8-0CAA-45F1-9942-ABDE33D3EB8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D562-3204-4F42-9DC8-5783BB148DD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9EBD-A670-4759-970F-704E27140C0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38F6-E35C-48DF-966C-25E65E217FF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520E-7D47-4730-AE76-F5441852893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748D-E813-443F-8C06-19DB3AC1837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832A-94EE-4FE6-9077-ADA908C509A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90FF-B4EE-4900-9743-80EFAD67867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9DDC-7C59-4DF6-822B-A4F60D24096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CD1B-1928-4CFE-BD99-0945C8E0A5B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D276-973D-4571-96A5-FA5E7B3F718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8BD8-D689-4AC4-A033-B43FA543565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8733-4FF6-41D3-95DC-4B3B98851FD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FA54-29DC-4C7A-AB33-82DB739A731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FF1D-4C04-475C-A3D6-164D2CEF9FD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4DA3-5012-4738-8BEF-79A4A0F2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E883-888F-4AC8-ADDB-7E1D1820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DFECD-5CE4-44A2-B693-8B12C439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AC357-4661-4F17-B952-8434CAEB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4C58E-C7AA-4897-A07F-62A9322C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6969A-BBB8-4209-9642-417F3A68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32A4E-4473-4995-8CD9-BB9DB579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E36EF-691F-4426-9A1C-E96A85DB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890A0-C95F-437B-8538-9D0FC7B7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DDDBF-44F4-4A36-A03E-53BFA142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CE40E-C633-4A3E-BB6D-178AD3569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5D1BD-B59D-455D-A52E-B77E192F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9FEA-54CF-47C6-8424-C46405CDC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8BEF45-562C-42F1-8CBC-B57DE059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30EAB-ABC2-4828-869E-E15745FB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587C8-82A2-4670-9DC8-6BE5AF09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104BE-F1D0-4587-8ED9-C2D7C97B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B68FB-249B-4CF0-B849-D406F87B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A4D46-D835-4B82-AE8E-690AD2BB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25245-D518-42DD-96B3-6E00E350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8423EC-4E60-4E15-A298-AB70BE5A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E5321-F537-41BD-85AE-DE2F3AED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D4920-6454-4D59-99B1-AF228D870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4D30-C6DC-4417-8B0B-F3C8ADDCD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247B6-F19F-4D99-9B65-882F82182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8D86-C517-4F8A-887F-2EE9EC792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8A4B-B54F-478C-BCFD-62992158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5929-89CA-4BBA-BDF3-F9828303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F573-3AA2-4E39-9F7B-B2271E4F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3D69-0FBB-4D18-880A-6A95A5ED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F257-F7F5-48FC-88B8-0550E03D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5B7E-E0A0-466F-901F-00C6F886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ED2A-7AAC-458A-80E4-DD499E68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127B-8CF5-41AD-8000-49860067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3D2B-275B-4D3B-80E4-B8B552F8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864E-3829-4568-99FD-14067736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8600-8A3C-4BAB-BB87-B81A507F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DB3A-393F-461F-82EA-EAB9EE4B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E49B4-BE4A-4EF2-94C1-172C3C8C8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BF80A-7FE3-43DC-85ED-A1302CF3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74A08-4EA8-45BD-A462-71BC2393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E3989-0135-41C8-B695-EAE7283A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CBA3B-8AC9-47F2-9CF3-2ADFFE1B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D1B6-96B2-4128-B59F-6563C331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CCB0E-AD48-45EF-98C1-8758EB89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D72AF-A88A-4F16-B03D-C79CCD6B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73FA5-33A8-4474-9230-8D5130F1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E91AF-83F8-416A-A793-7800B65F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804AC-4966-4431-B055-DE82D290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BD2A5-D33C-4541-A068-E571BF17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44ABE-D32E-4C90-A6BB-6262B7317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C9BA2-C1FA-4527-919D-D7D3BA434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4417D-50EE-4A1A-A50E-8C9E26D8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A6DF1-5B0D-40B0-AAF2-8096276D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545A-8260-450F-9746-7B03CD67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F7BCD-5E32-4EC6-A575-56B5EDDC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1E3D2-112E-465C-B485-6F0BC5E5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EC633-4553-4A5D-82B2-7F970E36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AFD0C-94D5-467C-88C9-A9198D9D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F70E4-06A0-41FC-ABA5-B57F5C98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17A1D-060E-4730-8CE1-375ADCDD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582D0-7E0C-4285-94D9-D512BF52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89FBA-37FD-4641-9678-6A86E875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0716F-2346-4F87-AFD7-24E633BFC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3F6A7-BAC3-43FA-ADC1-6021A334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340F-B23E-4CCB-8C9D-2A0BC1C4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82F78-E75B-4371-9A3D-A3CAD3F8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BF462-2504-4C22-8CC3-5311DCAE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52484-2EBB-47C3-AE5C-08904C8B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F88AD-3278-4E02-B260-28E1AA11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D088C-6D4C-4963-8FD8-2601F38E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AB375-A6DB-40AD-AABD-6B809751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C17F7-3F56-41F2-BD24-46168B5A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7C567-80E7-4A5B-9DA9-622FB8C5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D0BCA-8BA0-474D-A105-E6753442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ECCDB-DD6C-44B6-ABB6-F891B478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E107-5ABE-4658-95A3-436A4861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F4AD8-1511-4412-80E9-4800F88B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2F838-8E68-4DBF-8982-87FDDE5B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FCE6D-9869-4626-B689-0F010A5F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AD0C5-25EB-4254-BA09-FCD02732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FEE40-AB57-46A4-A17A-55D753F1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0F112-E4A2-4EC8-A27D-3B1BA126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21498-2B5B-4C1E-BEAF-FD15A99F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E2281-D878-4A2F-8FD2-5AE92142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0C8C3-AEC7-4C02-AA2B-88529F3D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5F128-F63F-47FA-B337-829E4050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AC02-F14F-449C-A950-F17620B2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ED6B7-F892-40F4-9D7C-57CF6942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C5E89-9378-4377-AE1D-3313B6EFE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81AB1-C4E1-428D-8FDA-A9D4972AC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43AE2-FEE2-4302-9750-25B3D7B5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AEFC8-EE0A-4CC2-9C2A-75E31A59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A98F0-C541-4B9C-8A2A-FB421706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A7D35-E8EE-445E-9130-9805D48E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41BA7-DEBF-4E03-8BE8-A03E0217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2715C-0C9C-4AFB-916D-1D2AEA0D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55CA9-CF9F-4EFD-A4F7-3C092047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31E3-A2CB-4D81-AAB7-FEC90347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5A434-DBD2-4D7A-8125-47380885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136D8-2551-4498-8219-C2EEAA6F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7B7CB-FA18-4D7C-88B7-13A4FAAA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92401-B46B-43C0-B0FF-54E555D5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B6B83-CA56-4265-AC1D-37931856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D62D0-54EA-42EB-992C-38DCEC6FC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AA5CD-F9AD-4004-B0C8-470A479A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E3176-B6EC-40D1-A1BB-538A8743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A8CE5-86E0-4937-883E-A1311FFD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4961D-2486-4618-8683-A5B39CC7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F296-B764-4A45-8873-D07CE867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8A9E8-F397-4A14-91E0-9E316719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519DF-4590-4C4D-B677-D389A597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68A6B-7BBC-4BF3-8CDA-374E050F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30DE5-861D-4EAF-920F-1CEC4255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11F79-F4DE-497D-941D-6D28DCA6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F6D30-F627-4D9D-90D7-B893A692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5F665-CC07-42C3-BF05-B51D42F14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10B17-73ED-4FD4-84C0-451CF8275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5EA43-679D-4A34-B7BD-F9F62E76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077FB-1830-47EF-AA08-79742B1F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3B10-8BE9-492C-84F2-752A72F2AE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4FA8-CB4E-4AD7-8D65-B54B1B3FAD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D7E5-9272-4EC4-BC18-E187A9C7D4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AD71-6882-4D19-A196-7F461F5C26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3C3E-E70D-4117-8BF6-CFF48BCFE2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5E52-7F36-4966-95D6-DFF733718B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8786-6EC8-421B-915E-7BAFDE66D6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7395-D2FE-4FC5-B48F-02D83695BB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4A75-6D36-4FCD-B943-68E4E7AFBB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2130-2B9D-493B-A2E1-DF959F5AB8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,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ovaná účetní závěr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. Přednáška FU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vahový 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jakému datu je konsolidace provedena? K jakému datu jsou sestaveny výkaz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ůzné podniky (M a D) mohou mít různá účetní období (legislativa, geografie, obor podniká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 – mezitímní účetní závěr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, ale v povoleném časovém rozmezí (3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shodné rozvahové d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ční pravid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tní závěrka D musí být sestavena podle stejných pravidel jako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není, D vyhotovuje dvě účetní závěrky – pro potřeby individuálního vykázání a pro potřeby konsolidace (např. dle ČR a dle IAS/IF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ividuál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olidované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parát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statný vl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řízení v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istorical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výsledovky je zahrnuto zvýšení / snížení hodnoty inve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rava ostatních složek VK o takové vlivy, které neprošly výsledovkou (např. aplikace fair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děly ze zisku snižují hodnotu investice (souvztažně s pohledávkou za přiznané dividen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ovlád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 výkazech zveřej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tiva, která ovlád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vazky, které přebír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klady, které plynou ze spol. podnikání a podíl na výnosech ze spol.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468360" y="191628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Investice v 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468360" y="436896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TextovéPole 9"/>
          <p:cNvSpPr/>
          <p:nvPr/>
        </p:nvSpPr>
        <p:spPr>
          <a:xfrm>
            <a:off x="5796000" y="3924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lfa vlastní 60% B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395280" y="1854360"/>
          <a:ext cx="8353440" cy="4457520"/>
        </p:xfrm>
        <a:graphic>
          <a:graphicData uri="http://schemas.openxmlformats.org/drawingml/2006/table">
            <a:tbl>
              <a:tblPr/>
              <a:tblGrid>
                <a:gridCol w="2049480"/>
                <a:gridCol w="1260360"/>
                <a:gridCol w="1260720"/>
                <a:gridCol w="1260360"/>
                <a:gridCol w="1262160"/>
                <a:gridCol w="1260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č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pra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solid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Maj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. 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ový podíl 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namená upevnění, ustálení, urovnání například zdravotního stavu pacienta po úrazu, politických poměrů nebo financí firmy či státu po období špatného hospodaření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sada „content over form“ – účetnictví zobrazuje realitu bez ohledu na (právní) for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kapitálově (i jinak) propojených společností, jak řešit účetní pohled na tuto skuteč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chodi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ategické podíly (investice) mateřské firmy  (M) do dceřiné firmy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živatel nechce vědět pouze kolik bylo investováno, ale také do kterých podniků, jaká aktiva M kontroluje, jaký vliv má investice na finanční pozici 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tzv.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čního celk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ovaných účetních výkazů, účetní závěr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 – obecný k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Zástupný symbol pro obsah 3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4078080" cy="45226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 propojené fir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určit, kdo je M a kdo 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, kdy už D zahrnout a kdy nezahrnout do konsolid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blematika konsolidačního cel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vlivu – vyjadřuje podíl na rozhodování Mateřské společnosti v Dceřiné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hodující vliv (control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5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%, podstatný vliv 20% - 50% (significant influence), vyrovnaný vliv (spoluovládání, joint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nik vli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upě podílu na základním kapit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zavřením smlouvy o podílu na hlasovacích práv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stupy ke konsolida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obecně uživatels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vo uživatelů účetních informací znát finanční pozici, výkonnost a změny ve finanční pozici za celou skupinu kapitálově propojených podniků – cílem konsolidace je vidět kapitálově propojené podniky jako j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jem vlastníka znát finanční pozici, výkonnost a změny ve finanční pozici podniku, do něhož investoval, cílem konsolidace je doplnit informace o finančních investic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schéma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ovéPole 3"/>
          <p:cNvSpPr/>
          <p:nvPr/>
        </p:nvSpPr>
        <p:spPr>
          <a:xfrm>
            <a:off x="1619280" y="5013360"/>
            <a:ext cx="180036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ovéPole 5"/>
          <p:cNvSpPr/>
          <p:nvPr/>
        </p:nvSpPr>
        <p:spPr>
          <a:xfrm>
            <a:off x="2627280" y="3573360"/>
            <a:ext cx="208908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at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ovéPole 6"/>
          <p:cNvSpPr/>
          <p:nvPr/>
        </p:nvSpPr>
        <p:spPr>
          <a:xfrm>
            <a:off x="4067280" y="5013360"/>
            <a:ext cx="180000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ovéPole 7"/>
          <p:cNvSpPr/>
          <p:nvPr/>
        </p:nvSpPr>
        <p:spPr>
          <a:xfrm>
            <a:off x="6588000" y="2133720"/>
            <a:ext cx="208764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nsolidační cel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Elipsa 8"/>
          <p:cNvSpPr/>
          <p:nvPr/>
        </p:nvSpPr>
        <p:spPr>
          <a:xfrm>
            <a:off x="539640" y="3357720"/>
            <a:ext cx="6480360" cy="338436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Šipka doprava 9"/>
          <p:cNvSpPr/>
          <p:nvPr/>
        </p:nvSpPr>
        <p:spPr>
          <a:xfrm rot="18978000">
            <a:off x="5857920" y="3252960"/>
            <a:ext cx="649080" cy="288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y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 rozhodující vliv v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kazy se agregují, řádek po řádku se sčítají shodné položky A, Z, VK, N, V všech podniků konsolidačního cel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třeba vyloučit vzájemné transa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vestice M v každém D podniku a podíl na VK v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nitroskupinové transa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eřejnění podílu menšinových akcionářů – specifický řádek VK v rozva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6:12:38Z</dcterms:created>
  <dc:creator>mensikm</dc:creator>
  <dc:description/>
  <dc:language>en-US</dc:language>
  <cp:lastModifiedBy>Menšík Michal</cp:lastModifiedBy>
  <dcterms:modified xsi:type="dcterms:W3CDTF">2012-03-30T05:07:11Z</dcterms:modified>
  <cp:revision>104</cp:revision>
  <dc:subject/>
  <dc:title>Mzdová agenda – účetní zobrazení a dopady na firmu</dc:title>
</cp:coreProperties>
</file>