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0D55-9460-4E2C-8F3E-8146483D6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8EAC-AD3D-42AD-901E-72BDE0C0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E965-1385-4C56-8B31-87B0D98A9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7E0C-37E0-4359-A878-C139D655C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0A88-C4C1-4DA1-B77E-AA35F7FB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95D7-1A85-4FD0-BFEC-F3BB3D54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CB74-A701-405A-BA4D-17D67DAC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6A7A-5F20-489A-862C-90115FCE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A420-F298-4D57-9B7A-290F10E1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605F-469F-4F7E-A505-2A24E365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4D9E-6C99-4FFA-9947-0FF55B7B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1649-12AD-4D5B-B7B8-8C4FF9FC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3D47-7B70-4D40-BFAC-3A66C3AD354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kladní metodické prvky účetnictv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6. Přednáška FU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Lower of cost or market (LCM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nění na úrovni historical cost nebo tržní / realizační / reprodukční cena (cost of replac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bírá se nižš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razem principu opatrnosti (Prudence, conservatis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ím projevem je opravná položka či jednorázový odp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air Value / Reálná hodnota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klad nešťastně zvolen, leč vžit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– poctivý, spravedlivý, bezvadný, dobrý, přiměřený, správ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ena, která by se získala prodejem aktiva / by byla zaplacena za uhrazení závazku v rámci řádně uzavřené transakce mezi účastníky trhu k datu oce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brovolné, nezávislé, dobře informované strany, fungující (operující) tr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air Value / Reálná hodnota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Value může hodnotit aktivum i na vyšší úroveň než je historical 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ouštění principu opatr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kazování dosud nerealizovaných zisků / výnosů – nevýsledkově (zisk v pojetí změny V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časná hodno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dnota diskontovaných peněžních toků přijatých / vydaných v důsledku existence aktiva / závaz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kcentuje časovou hodnotu peně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st modelu (realita x mod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da A, Z, VK, N, V odpovídají realit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kud ne, upravuje s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sadní pro „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rue and fair view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vinná (zákon a po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uditor má právo být přítomen či si vyžád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toda 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běr prv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jištění jeho hodnoty v účetnictví (zůstatek, obr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stování hodno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vantifikace rozdí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ořádání inventarizačního rozdí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působy 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yzická – zejména hmotná ak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kladová – zejmé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hmotná ak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inanční ak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vaz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čet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počty kurzových rozdíl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počty současných hodnot (termínové operace apod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číslení rezerv (dovolená, záruční servis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edvaha / Trial bal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jpoužívanější přehled při práci s účetními informace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obrazuje účetní položky (dle účtového rozvrhu) ve struktuř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 M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 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/ souhrn obra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edvaha - schematic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1"/>
          <a:stretch/>
        </p:blipFill>
        <p:spPr>
          <a:xfrm>
            <a:off x="108000" y="2041560"/>
            <a:ext cx="88567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sah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 poj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voj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vztaž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ň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ventariz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v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vě podmínky rozpoznání a vykázání prv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vděpodobnost (99,99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ceniteln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dvoj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ký název – Podvojné účetnict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chází z bilanční rovnice (dvě strany rovnice) A = VK + 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ynamické pojetí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=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+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rmální prvek, umožňuje bilanc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rmální kontrol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Ʃ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D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Ʃ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čáteční zůstat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onečné zůstat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vztaž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chází z podvoj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ansakce má dvě strany (MD, 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jsou voleny náhodn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jadřují obsah transak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ýkají se relevantních účtů, které jsou transakcí ovlivně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možňuje věcnou kontro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ceňování aktiv a dluh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xistence více možností / alternativ jak prvky oce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běr alternativy s ohledem na GAAP a „true and fair view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ňování chronologic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ocenění / Initial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ásledné ocenění / Subsequent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votní ocen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al cost (HC) částka, která byla vyplacená nebo přijatá v řádně uzavřené transak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ena poříz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řizovací c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astní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ominální hodno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Reprodukční pořizovací c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ásledné ocen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vykle ke konci rozvahového d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votní ocenění nesplňuje GAAP / true and fair 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mortizovaná c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ower of cost or market (LC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value / reálná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časná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mortizovaná ce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al cost upravená 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právk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iskont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émii at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rávky ve smys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mort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prec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ple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8:21:53Z</dcterms:created>
  <dc:creator>Mike</dc:creator>
  <dc:description/>
  <dc:language>en-US</dc:language>
  <cp:lastModifiedBy>Menšík Michal</cp:lastModifiedBy>
  <dcterms:modified xsi:type="dcterms:W3CDTF">2015-02-17T06:58:36Z</dcterms:modified>
  <cp:revision>3</cp:revision>
  <dc:subject/>
  <dc:title>Základní metodické prvky účetnictví</dc:title>
</cp:coreProperties>
</file>