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8CFB-3E50-4C86-B46E-A4AB3C9A459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A8F1-A393-4491-B6C7-E1935A3E4A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E27A-6AFA-4E54-A164-834E7DD22F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7BB0-2FDC-453E-82B3-C5344F6F8B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D212-D6B2-465A-AECE-519123DDAB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5945-4846-4193-B7AB-F61ACB11CFC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83AF-43E4-4C53-B9B9-22226AF991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7C6F-321E-4958-A38E-10ED6F39FC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C2DC-3FA2-4583-B6E5-39CCE5068AA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EFB0-3F2F-42A7-98B1-BAA83B96F0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97DB-CB63-4BF7-9DC7-0013F481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5179-A800-48AF-8493-7739256C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25EDA-A3FB-49E8-B562-47761F39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A26A2-0A72-4576-A9C9-DB852A9E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9725C-36F5-4275-B2A4-0A8FF5CF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DF750-0864-46DF-92D4-A78721F1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F19F9-0F3A-4036-B8B8-89830FB1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31445-1325-4C10-98B3-20CD4DCD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EDF6A-9D52-42EA-86FE-55191299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A2DF1-E106-4DE3-876F-765CFF14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74F42-112C-4F3C-9DA9-CBE0335B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459C5-5398-468B-8CC1-85323BC3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F5B4-A2B7-4F33-9284-059D4DEF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1BB68-FD27-46D5-8B84-90F72F0E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1A6DB-87E9-45C7-A6E2-ACCFC06F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C6831-A676-4517-9BF3-A879FD11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ED878-737E-4CCF-B935-35BB85CC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A92EB-7AA7-4396-82C7-230E8EF6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BDD84-C356-4AB9-B0D0-9876ABB3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436FD-2AAC-40C0-834F-1132E474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AFD0E-D4C9-4BCF-A244-E3FD3C2E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FB8D2-C2EF-47F3-9605-3573CFAA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F4C51-1CC3-4025-A2EB-10974E76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52E-BE38-4045-85C5-D0AAF26F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80751-4D04-498D-A950-C7AA59A5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286C-6601-4309-B657-8F5DE707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7E38-B6CE-4658-B17E-997339C8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4538-726D-4F01-B699-A213EBE5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D13A-216F-4F3B-8F49-2050311F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7C38-A52E-4ABC-92B7-DC353AA4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46CC-B6C2-46E5-BBB1-92EE9FC0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8BDA-9F2B-472A-9F4B-27BC200F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455-9CD0-45B7-A2BC-1443844B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E52E-C91A-402D-AF25-CB78E68B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305A-0300-4C5C-A6E4-69F648A3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409A-D4EF-43D5-9C73-5D6CD2D1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5198-1CE7-4E5C-8CC9-236749C2A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1CFF-95F0-4AF4-A21F-BD24D866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D5659-DFB4-450E-B42E-72E88791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5EA0D-3260-407C-B570-52E2A703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8D1CF-9D95-400F-88F1-4B6F9BFA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474F2-8C53-4F7E-AA48-9A054D51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38C0B-9076-4110-8FBE-A6F76818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851-1B26-4D18-8FF5-1FDD0067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78871-793C-4A13-80D8-5FEC17E9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2D617-7E86-4A2E-91FD-723E1E66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20DE7-9A1B-4B57-B878-8AEF86EE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D2FA7-698A-48CE-B536-E26ED512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6E5C5-C9B3-45D4-A39B-294F328C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40E4C-1FF7-4597-AB04-AAB0C025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05410-7C80-420F-ADC8-9B8CCE82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DD260-47C9-4B8F-825E-0A8D00B0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14C64-E0D1-4227-8D88-2163A3A5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88E92-64A7-491C-A620-948BB6F9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FBAA-336F-4F75-9408-EC792CDE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72DF1-5FD7-4A2B-931A-C8132D37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EC538-D8B4-4532-BF85-C1A1CD7A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C1766-18E2-48C5-B044-919B2FE9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3DC3B-1CAA-4EC7-9F30-E808F23F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C2A22-881E-40E3-9253-7E65DC6C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72DCC-3718-442F-B305-1995B316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0ACB8-0649-43A7-990A-14CCD460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C0B0F-8E40-47B1-9630-A543BE63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209EA-4716-4919-8C53-D7AA3394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5C96A-D18C-4BB8-BB9C-A8D0636F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EF1E-5E0E-4A38-96BC-D216A6AE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18FC3-AF57-49B1-B365-E92730F7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478F7-C5B6-47D6-9184-37A76A68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E818E-4406-44E6-9CBA-D6E13119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B8F63-7E7E-420D-ADC6-1E17B863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D2692-D47E-4579-983B-BCDB257D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15893-8BCB-4A2B-A1C1-BDAAAF2A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55DAD-9FF3-4395-BB3D-7120AF2A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F4B26-D52D-4E35-A59F-565AFC21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C3E8F-AF92-4559-BAB9-BF3ABDCD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8776E-9A56-48E0-BD85-56A234AB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53F-F219-4C2E-AF35-E5E99F52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6DDAF-AB54-4A84-9E3C-76326AD7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7F908-6478-46FE-A335-0E1694DC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EE512-01D7-4555-8651-0B748A00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7A89F-7742-49C3-B950-041A9810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F74DB-47B1-4595-82F9-8D355A36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66558-944D-40D3-8F6E-D738C6B6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3FC55-AC37-4C69-9D6D-DD2F9D73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BA130-5433-4117-ABD4-C3557C7F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5955A-05FF-4C0F-AFBD-0BB8B798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4A3F4-A94C-4FDB-97B4-474369D0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326-B327-4245-AA01-ACD128AF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B2364-012A-4C29-86E4-F75C90C4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9CA41-014F-4144-8576-199DD01B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94AA2-A6C2-4BBF-8F03-56270DC5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E674A-4B03-45F8-979F-DBBA3BBB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87FB8-2C41-48C6-BDDA-9DDF9530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EEE50-19BE-49F2-B302-2AF2ED89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09AA5-186C-4C1E-876A-68F0382A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45F84-A08A-44E9-B638-079350EA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FFB95-81D4-47D5-9889-516FC0FE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4E9CF-D9BB-46D7-B6AA-19F1E701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0A7-40C3-4D2D-9AB3-9F591342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ED032-E100-4DE0-B4F6-E6F28FB2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916AF-2F0C-44CC-B34F-ABF2B97A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BF44B-A17E-4775-A6F2-219E6670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9CDBE-786C-4E30-B15C-F8E24E74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6B99B-311F-49EB-BC1B-7B436FDE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89632-7B93-4A79-85E2-198275DD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E87FF-17F7-4DE8-9E5D-7F04D763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13095-4762-4CD5-B7B9-BDB1DBE3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5BE1F-4C36-44AC-AF8C-0792DFFF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B90F1-07D9-40AD-9DEF-D2546E36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3A8F-486F-4FF5-B43D-6075E0EE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4541F-74C2-4473-B5AD-935D2829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48BB8-5FB4-45B2-BF87-CDAA5397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6CA81-245E-4742-80C8-8F43B389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3746C-2EB4-4A74-8525-64237A0C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D20D2-EAA7-49BD-94C7-AFACBC18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A19A1-8A6C-479F-B137-69A65D74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93DB3-D01F-475D-B634-8D86A11F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AC8D2-C672-41CB-A393-D2D7C40C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68611-D8E0-4C9E-86EC-86BB4308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5E88E-A870-4727-8C6A-3B3D8795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1C29-19D7-44A5-A26D-0B1D57007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7004-2DD1-4364-95A5-E827290B8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4DCE-115C-4756-9BEF-E26D83390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12EE-F3C7-4AE0-B958-1B1C59602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6048-2F64-492C-8556-283396691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F038-4F1B-473C-B22B-30D4B530D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1D56-054D-47A0-9B5C-34AC9F60A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E249-0477-4551-8D8E-6F6F89243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2E0A-AA45-4F6A-9EBC-0E4E0957E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6231-B0F3-4211-B62F-C292F601C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. Přednáška F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je proces (záznam, třídění, kontrola, prez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cholem je analýza účetních informací, (metodicky obvykle analýza, syntéza, formulace závěr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lem je zvýšit informační potenciál účetních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vědět se víc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chází z účetních výka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, PL, CF, ES,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edá vazby a sou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ha zhodnotit minulost a současnost a předvídat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 zájmu obv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ta (výnos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a (obrat prostřed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vidita a solventnost (platební schop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ální a 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damentální – rozsáhlé znalosti o souvislostech mikro / makro jevů a jejich dopadů, zkušenosti odborníků, zpracování kvalitativních informací (zejména), závěry vyvozuje obvykle bez použití algoritmizovaných po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– matematické, matematicko-statistické a další algoritmizované postupy, , kvantitativní informace, následné kvalitativní posouzení výsl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ájemně komplemetnární, neexistuje vztah nadřazenosti či podřaz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ky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áte z jiných předmě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funguje jako zdroj informací zejména pro technickou analý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Šipka doprava 3"/>
          <p:cNvSpPr/>
          <p:nvPr/>
        </p:nvSpPr>
        <p:spPr>
          <a:xfrm>
            <a:off x="1187280" y="3860640"/>
            <a:ext cx="1656000" cy="1368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tnictví (závěr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Šipka doprava 4"/>
          <p:cNvSpPr/>
          <p:nvPr/>
        </p:nvSpPr>
        <p:spPr>
          <a:xfrm>
            <a:off x="2843280" y="3860640"/>
            <a:ext cx="1657440" cy="1368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Šipka doprava 5"/>
          <p:cNvSpPr/>
          <p:nvPr/>
        </p:nvSpPr>
        <p:spPr>
          <a:xfrm>
            <a:off x="4500720" y="3860640"/>
            <a:ext cx="1655640" cy="136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Šipka doprava 6"/>
          <p:cNvSpPr/>
          <p:nvPr/>
        </p:nvSpPr>
        <p:spPr>
          <a:xfrm>
            <a:off x="6156360" y="3860640"/>
            <a:ext cx="1800360" cy="1368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Tvar 8"/>
          <p:cNvCxnSpPr>
            <a:stCxn id="463" idx="0"/>
            <a:endCxn id="460" idx="0"/>
          </p:cNvCxnSpPr>
          <p:nvPr/>
        </p:nvCxnSpPr>
        <p:spPr>
          <a:xfrm flipV="1" rot="16200000">
            <a:off x="3886920" y="1843920"/>
            <a:ext cx="685080" cy="6085800"/>
          </a:xfrm>
          <a:prstGeom prst="bentConnector4">
            <a:avLst>
              <a:gd name="adj1" fmla="val -33385"/>
              <a:gd name="adj2" fmla="val 103756"/>
            </a:avLst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465" name="TextovéPole 9"/>
          <p:cNvSpPr/>
          <p:nvPr/>
        </p:nvSpPr>
        <p:spPr>
          <a:xfrm>
            <a:off x="2843280" y="5435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tah účetních informací a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(rozhodnutí) je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tup může být špatný, proto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u špatné v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upy jsou v pořádku, ale nebyly vybrány / byly vybrány nevhod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vstupy, špatné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zpracování, špatná interpretace či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ce uveden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ní (součet, rozdí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(podíl,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podnikové / vnitropodnikové sou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k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ní / časový po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čitost účetních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 (GAAP) jsou idealistické, skutečnost realis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cal costs jsou“špatné“ imanen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or pro kvalifikovaný úsudek účetního profesionála (Když dva dělají totéž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istota ekonomického prospěchu (100% pohledávek nebude splaceno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stý a nejistý (podmíněný) zá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základních pojmů ve vztahu k jiným disciplínám (daně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asnosti při formulaci účetních postupů a pravidel – různý vý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úmyslné a úmyslné chyby účetních profesion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yly finančních analyt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chařkovitý pohled „vezmi vzoreček a dosaď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dostatečná znalost systému účet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eužívání poměrových ukazatelů (jsou nezávislé, existence doporučených hodno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ochopení konstrukce vzorců a kontextu doby jejich vz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1:13Z</dcterms:created>
  <dc:creator>dvorakf</dc:creator>
  <dc:description/>
  <dc:language>en-US</dc:language>
  <cp:lastModifiedBy>Mike</cp:lastModifiedBy>
  <dcterms:modified xsi:type="dcterms:W3CDTF">2012-05-16T05:53:48Z</dcterms:modified>
  <cp:revision>47</cp:revision>
  <dc:subject/>
  <dc:title>Vnitřní kontrolní systém účetnictví</dc:title>
</cp:coreProperties>
</file>