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00113-CFB6-49C2-A958-6745E144F0C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605FD-E89B-4C98-9318-CC43F5E8474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A5277-1ED6-4A7C-9310-E9C43B91EA9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43E2E-9E73-4242-BB50-2800913F8DA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E96CD-1964-47A1-A47A-C3E67CCA3D6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BABF6-A47E-4359-83A6-496E3B7FA86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134E5-77B4-4F9C-9F9B-623F71D0B09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95B38-E23A-4E41-9DC7-E80E4D93D41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F3B20-8B7C-44D3-BAFC-C7E8DB4D16D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9F13B-265D-4182-B0AC-6616472B88B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2F5E-7313-4245-9F4A-950F92192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211B-645A-4B04-8762-F4C4E2DC7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E6B0B6-E2E3-4FA0-9639-6C6A1CED0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DB564B-D77F-4C55-8B67-1D46F0691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9AD7A9-8F01-438F-A637-27E31B7FE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53CAC9-CE7E-4831-9E2B-6B86C520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1796D9-A69D-4A3A-AE86-F0E07C36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6FF3EE-AD76-40A9-97C6-6B31C1CE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63489B-8DA3-4ADA-9A03-9B77A75AB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E57B23-F3E9-4F88-B1BD-A4072B00B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7F2E32-8B9D-4E2C-B80C-18A5A98F0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508E22-DFDD-4AF7-BC1E-F0F9A89FC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D267-B237-464B-AE5F-3A273BB86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DAEDD1-E95C-4DDD-914C-777EC3D07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D70850-2CC2-43D1-BF2A-A0B5953E8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5A51D2-AC8E-498D-87A7-F75AA7226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B26C17-457F-4868-9AE8-5CF2012D8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982D29-7463-4F05-85D1-88B6288B4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2BCF88-8641-4CE2-8E54-C17AEF83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33EF91-41CD-4B06-8930-42AEE6D9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09CF41-B7A3-43CD-864F-3261DA14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D16D2F-7C63-4BB0-B326-8B1B4A477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803902-98B1-4D69-8004-1A8C53F32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EBED-9466-4C87-A58C-CFB21E74D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9C688D-56D9-4360-9F87-F9D396BCD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E327B-03B8-4AB3-8CD7-69552CC40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E995E-DB02-4ED4-9BCE-2FF8BDCC5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681BB-1DC5-4CAF-A3D1-764466889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AF54A-0CB0-4A5A-AF85-FEED894E1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8400E-3C32-4FB4-A4B4-211F67FC8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6E0FF-EAB4-48C9-86C4-35ED4CC8B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41E30-33D1-4AEF-BFED-D6859FD4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ED10-05CF-4B3C-A57E-D5B0775A4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859FB-6809-4419-BB85-7C2FCCB3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07AB1-2AB0-42DE-8EA1-977B8DAC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60761-5945-47AC-933F-523CF1E07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50DC8-FD90-42A1-8F1F-02709D2BE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06F1B-0319-4F93-A603-9347C0017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A88DE-120E-4FAB-9452-DF7B5F857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518C3-EA82-4F8C-89E3-E9BB7DE61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BC17E-36CD-4EA4-B40E-95228B449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54B92-E0AB-443C-A6C5-2B9AFF040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70880-7EB9-4CFB-A1CE-14CDEAFEA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6AB0-7292-4CF8-9876-B2B41D524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C72E3-786E-4056-AD88-1CB2B5608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94E80-68A9-4CE0-A404-72594884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F8916-CF16-46AB-AC2A-58F02445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7E731-D2D8-4229-89FE-5DB2A577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9A8F5-DEE1-4A05-AE69-137479F33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989CC-CBE7-477B-8B75-C68624D05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7DEAA-37F6-4668-AC99-3A29B1D59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2C49B-7872-4246-B25C-8F0DF9167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9D323-55F4-403E-91F5-1F13F8E4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143DD-00F9-429B-9C70-4F4E64012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284B-5A92-4B03-BC69-DCBB0A473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954DD-2E84-4487-A84B-27CE2B05B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F1401-1B7F-45B1-B471-3CBB87F53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E67AF-96DE-46CA-ABB8-ED39DF5F9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8DADC-0DF2-4A4D-8D72-8CA5E804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60E5B-A82F-497F-8C35-8513C321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E66C3-9177-4BD6-8170-45731BAC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68FA3-6148-47DC-ABED-B6E3A50BB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528C3-7374-41A9-A311-1DDE8CAD0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3FE79-883D-4602-9CA6-87A68C842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B0539-FEEF-485F-AEEB-47004E68E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5AA3-C7A7-4E4C-9167-0D1D65E27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B68AC-A1A7-44AB-A7D7-07FE53D4F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D5EFB-5561-4B38-B5D6-4A8EE52C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0040A-EE7A-4C27-AB3F-78EC9831A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FF94F-F7E9-431C-9240-55C57D119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9C555-16D4-476A-BED6-C6690D806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7239F-7336-46F1-94FF-CA92F571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814DF-B5C2-42F8-B79F-A342FAAF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24506-0D4C-4748-AA95-42D88588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F9C57-6AE5-48B1-A6FA-58740A3D8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D4C96-DAB4-4739-922B-69A0F1471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3E57-AD3E-4CBA-9CB2-EE30F55BB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87EA5-53A1-4DF1-BFEF-292D4BDE2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C687D9-DF34-4242-AD79-2A71D7C7E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87A10-E788-45EA-954A-7CF18428B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82814-6970-4E06-87EB-9ACAF65C0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960AA-5300-4159-B0C5-AF3FAA26E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D3E24-8632-47EB-9FF9-93D491365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4891F-3CE6-4831-961A-6B25D95CD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6A954D-B9F4-473C-AAEB-2E083058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8FA53-1204-41E9-AA7A-2EE75D47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DD8A61-0F56-4B82-AA3D-70AECB6B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636F-1D05-4E0D-8D82-73D6566A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0B76D-257F-4765-AE23-46EB28E42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103E6-BB47-4BE8-A4E0-3B7587E5B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CA60D-DF8A-43F6-867A-73AD6EE74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64A2D1-1BDB-4243-B208-F727A49D0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9E1303-FA6D-4FF9-91CF-BB965F03E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A45F9F-9A94-42BE-9D1D-6D9ABE490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521495-4B0E-4BC4-AD8E-92B63166D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7C7214-DFD3-417F-A60C-DFE586876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334D39-6B03-47A2-999F-9F92EB84B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D79051-4315-46F6-8670-AA58C3FC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45F7-E478-428A-B2F4-4CAC4697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0CD2AF-1953-47C4-8107-1EB45161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5B55D-DBB4-4F48-B696-54EB34A5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B483A7-0410-4F6B-9DAF-10A89529D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865B30-0362-4FF3-A485-2FC5AC19F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E77395-69DF-4320-A44E-3EE90368B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62DD83-5B5C-4CAB-8F76-87C8C1E3F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53FDB7-C231-43FA-B305-B20E3ACB4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75F025-4046-4524-89E3-BD95719B0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B247C5-6E4B-41F4-96D9-0E850DB0F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1E6938-8178-453D-B1B0-2999E27D3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6A4B-DC12-4710-99BB-128B5021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6B8169-4699-461A-8265-108E06347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500E07-30B5-4E14-8EDA-E9CEB060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389F4E-752E-46AC-9B67-6BEA263F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13401C-26A2-4BB6-A043-A450DC4D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ECD112-3F01-4DD1-97DF-F0D5E0DE0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0994B0-232A-4B23-BF5B-26AB02CBA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8840A8-0B7B-4CDF-BF2A-A8F845F62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F010D9-4889-4A7E-B9FC-E5BC65924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B98698-3829-408F-BFB0-0209B0471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BAA170-D462-4534-9A8E-87FCB5C64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9C160-5A15-42B1-BC86-B8633120C3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5211F-86AD-4A2E-8333-5A315A0555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8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9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Obrázek 8" descr=""/>
          <p:cNvPicPr/>
          <p:nvPr/>
        </p:nvPicPr>
        <p:blipFill>
          <a:blip r:embed="rId2"/>
          <a:stretch/>
        </p:blipFill>
        <p:spPr>
          <a:xfrm>
            <a:off x="3635280" y="115920"/>
            <a:ext cx="1878120" cy="18781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503B3-45E8-42C2-81C2-84FFE5D43C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bdélník 8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bdélník 9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D5CC5-7022-4414-A8F9-1A75ECB5FD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1DE25-0E93-4DB7-A9DA-F411C65350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593F1-8B47-47CB-8106-A826B3231B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AA245-5E88-4ED1-BEC7-75D476057B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94501-C71F-4001-AB88-E8C0F5B4E5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44457-70D8-4AB9-94E6-7583C3BDB7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E993B-C003-4149-8773-92205CCECE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ýza účetních výkaz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13716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2. Přednáška FU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ýza účetních výkazů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četnictví je proces (záznam, třídění, kontrola, prezenta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rcholem je analýza účetních informací, (metodicky obvykle analýza, syntéza, formulace závěrů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ílem je zvýšit informační potenciál účetních inform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zvědět se víc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ýza účetních výkazů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ychází z účetních výkaz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S, PL, CF, ES,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ledá vazby a souvisl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naha zhodnotit minulost a současnost a předvídat budouc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edmět zájmu obvyk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tabilita (výnosno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ktivita (obrat prostředk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vidita a solventnost (platební schopno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amentální a Technická analý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undamentální – rozsáhlé znalosti o souvislostech mikro / makro jevů a jejich dopadů, zkušenosti odborníků, zpracování kvalitativních informací (zejména), závěry vyvozuje obvykle bez použití algoritmizovaných postup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chnická – matematické, matematicko-statistické a další algoritmizované postupy, , kvantitativní informace, následné kvalitativní posouzení výsled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zájemně komplemetnární, neexistuje vztah nadřazenosti či podřaze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ky analý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57200" y="18284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áte z jiných předmět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četnictví funguje jako zdroj informací zejména pro technickou analýz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Šipka doprava 3"/>
          <p:cNvSpPr/>
          <p:nvPr/>
        </p:nvSpPr>
        <p:spPr>
          <a:xfrm>
            <a:off x="1187280" y="3860640"/>
            <a:ext cx="1656000" cy="136872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četnictví (závěrk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Šipka doprava 4"/>
          <p:cNvSpPr/>
          <p:nvPr/>
        </p:nvSpPr>
        <p:spPr>
          <a:xfrm>
            <a:off x="2843280" y="3860640"/>
            <a:ext cx="1657440" cy="136872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ý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Šipka doprava 5"/>
          <p:cNvSpPr/>
          <p:nvPr/>
        </p:nvSpPr>
        <p:spPr>
          <a:xfrm>
            <a:off x="4500720" y="3860640"/>
            <a:ext cx="1655640" cy="13687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živa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Šipka doprava 6"/>
          <p:cNvSpPr/>
          <p:nvPr/>
        </p:nvSpPr>
        <p:spPr>
          <a:xfrm>
            <a:off x="6156360" y="3860640"/>
            <a:ext cx="1800360" cy="136872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zhodnu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4" name="Tvar 8"/>
          <p:cNvCxnSpPr>
            <a:stCxn id="463" idx="0"/>
            <a:endCxn id="460" idx="0"/>
          </p:cNvCxnSpPr>
          <p:nvPr/>
        </p:nvCxnSpPr>
        <p:spPr>
          <a:xfrm flipV="1" rot="16200000">
            <a:off x="3886920" y="1843920"/>
            <a:ext cx="685080" cy="6085800"/>
          </a:xfrm>
          <a:prstGeom prst="bentConnector4">
            <a:avLst>
              <a:gd name="adj1" fmla="val -33385"/>
              <a:gd name="adj2" fmla="val 103756"/>
            </a:avLst>
          </a:prstGeom>
          <a:ln w="2844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465" name="TextovéPole 9"/>
          <p:cNvSpPr/>
          <p:nvPr/>
        </p:nvSpPr>
        <p:spPr>
          <a:xfrm>
            <a:off x="2843280" y="543564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pětná vaz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ztah účetních informací a analý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ýza (rozhodnutí) je výs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ýstup může být špatný, protož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ou špatné vstu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stupy jsou v pořádku, ale nebyly vybrány / byly vybrány nevhod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bré vstupy, špatné zprac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bré zpracování, špatná interpretace či prezen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mbinace uvedených faktor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cká analý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lutní (součet, rozdí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ní (podíl, inde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zipodnikové / vnitropodnikové souměř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izontální analý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kální analý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kturální / časový poh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určitost účetních d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 (GAAP) jsou idealistické, skutečnost realistick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istorical costs jsou“špatné“ imanent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stor pro kvalifikovaný úsudek účetního profesionála (Když dva dělají totéž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istota ekonomického prospěchu (100% pohledávek nebude splaceno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istý a nejistý (podmíněný) závaz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mezení základních pojmů ve vztahu k jiným disciplínám (daně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asnosti při formulaci účetních postupů a pravidel – různý výkl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úmyslné a úmyslné chyby účetních profesioná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myly finančních analytik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uchařkovitý pohled „vezmi vzoreček a dosaď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dostatečná znalost systému účetnictv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neužívání poměrových ukazatelů (jsou nezávislé, existence doporučených hodnot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pochopení konstrukce vzorců a kontextu doby jejich vzni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05:31:13Z</dcterms:created>
  <dc:creator>dvorakf</dc:creator>
  <dc:description/>
  <dc:language>en-US</dc:language>
  <cp:lastModifiedBy>Mike</cp:lastModifiedBy>
  <dcterms:modified xsi:type="dcterms:W3CDTF">2012-05-16T05:53:48Z</dcterms:modified>
  <cp:revision>47</cp:revision>
  <dc:subject/>
  <dc:title>Vnitřní kontrolní systém účetnictví</dc:title>
</cp:coreProperties>
</file>