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2B9C-CF43-4284-B125-1A99A98E6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B76F-2445-4E21-8CB4-1A9842514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015C-719C-45A0-966A-7C7CEEB88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6BF2-1937-4477-92F9-93D4818F7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D0CC-5BE3-4443-8160-8BF8A2582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72B0-6F42-4D56-8CC6-60A1A151B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0EBE-BB6B-4C7B-B96D-F4B3C08DF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17E5-7357-4FEC-952F-4D81F364D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E966-8FAE-411D-BA15-F60809DE2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009A-B9B6-4BF3-9A53-7F01F8F42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844F-E917-4A63-8B60-D216CA5A8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7414-1CFF-4B93-9245-CEEA6A97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36A23-CA44-4C49-8450-5F06501A85C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ákladní metodické prvky účetnictv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898989"/>
                </a:solidFill>
                <a:latin typeface="Calibri"/>
              </a:rPr>
              <a:t>6. Přednáška FU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Lower of cost or market (LCM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cenění na úrovni historical cost nebo tržní / realizační / reprodukční cena (cost of replaceme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bírá se nižš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drazem principu opatrnosti (Prudence, conservatis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Účetním projevem je opravná položka či jednorázový odp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Fair Value / Reálná hodnota 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eklad nešťastně zvolen, leč vžitý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air – poctivý, spravedlivý, bezvadný, dobrý, přiměřený, správn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ena, která by se získala prodejem aktiva / by byla zaplacena za uhrazení závazku v rámci řádně uzavřené transakce mezi účastníky trhu k datu oceně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brovolné, nezávislé, dobře informované strany, fungující (operující) tr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Fair Value / Reálná hodnota 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air Value může hodnotit aktivum i na vyšší úroveň než je historical c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pouštění principu opatrn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kazování dosud nerealizovaných zisků / výnosů – nevýsledkově (zisk v pojetí změny VK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oučasná hodno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odnota diskontovaných peněžních toků přijatých / vydaných v důsledku existence aktiva / závaz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kcentuje časovou hodnotu peně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Inventariz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est modelu (realita x mode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da A, Z, VK, N, V odpovídají realit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kud ne, upravuje se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ásadní pro „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true and fair view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vinná (zákon a po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uditor má právo být přítomen či si vyžád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Metoda inventariz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běr prv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jištění jeho hodnoty v účetnictví (zůstatek, obra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estování hodno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vantifikace rozdí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pořádání inventarizačního rozdí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působy inventariz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Fyzická – zejména hmotná akt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okladová – zejmén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ehmotná akti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Finanční akti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ávaz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čet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počty kurzových rozdíl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počty současných hodnot (termínové operace apod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yčíslení rezerv (dovolená, záruční servis, 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edvaha / Trial bal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jpoužívanější přehled při práci s účetními informacem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obrazuje účetní položky (dle účtového rozvrhu) ve struktuř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rat M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rat 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Z / souhrn obrat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edvaha - schematic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8" descr=""/>
          <p:cNvPicPr/>
          <p:nvPr/>
        </p:nvPicPr>
        <p:blipFill>
          <a:blip r:embed="rId1"/>
          <a:stretch/>
        </p:blipFill>
        <p:spPr>
          <a:xfrm>
            <a:off x="108000" y="2041560"/>
            <a:ext cx="885672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bsah přednáš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pakování pojm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vojn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ouvztažn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ceňov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ventariz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edvah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pakování pojm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vě podmínky rozpoznání a vykázání prvk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avděpodobnost (99,99%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ceniteln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dvoj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istorický název – Podvojné účetnictv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chází z bilanční rovnice (dvě strany rovnice) A = VK + 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ynamické pojetí </a:t>
            </a: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 = </a:t>
            </a: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K + </a:t>
            </a: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ormální prvek, umožňuje bilancov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ormální kontrola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Ʃ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D =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Ʃ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čáteční zůstat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ra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onečné zůstat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ouvztaž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chází z podvojn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ransakce má dvě strany (MD, 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jsou voleny náhodn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yjadřují obsah transak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Týkají se relevantních účtů, které jsou transakcí ovlivně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možňuje věcnou kontro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ceňování aktiv a dluh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Existence více možností / alternativ jak prvky ocen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běr alternativy s ohledem na GAAP a „true and fair view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ceňování chronologic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votní ocenění / Initial measur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ásledné ocenění / Subsequent measur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rvotní oceně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istorical cost (HC) částka, která byla vyplacená nebo přijatá v řádně uzavřené transak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Cena poříze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řizovací ce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lastní nákla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ominální hodno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Reprodukční pořizovací ce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Následné oceně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bvykle ke konci rozvahového d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votní ocenění nesplňuje GAAP / true and fair 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mortizovaná ce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Lower of cost or market (LC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air value / reálná hodno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oučasná hodno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mortizovaná ce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istorical cost upravená 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právky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iskont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émii at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právky ve smys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Amort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eprec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eple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18:21:53Z</dcterms:created>
  <dc:creator>Mike</dc:creator>
  <dc:description/>
  <dc:language>en-US</dc:language>
  <cp:lastModifiedBy>Menšík Michal</cp:lastModifiedBy>
  <dcterms:modified xsi:type="dcterms:W3CDTF">2015-02-17T06:58:36Z</dcterms:modified>
  <cp:revision>3</cp:revision>
  <dc:subject/>
  <dc:title>Základní metodické prvky účetnictví</dc:title>
</cp:coreProperties>
</file>