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4FD8-BBA1-41FD-BC43-C1743FDFC19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8B5F-3C61-4F18-B653-5B6C830C4DE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7468-F381-45F8-AEF9-E40D07043CA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9A9C-5FE7-4A02-89C2-5EE2FC26B27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972C-899F-4485-B61E-EAED47C3178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6C94-A1A5-4DA6-9424-D56C5DB3A8D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BEEB-676A-4325-ADF6-B5A463DFF93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625A-B40E-4623-8E02-609095B9779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B5DA-0515-484A-A632-93240C5817B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FFCA-FD58-48F9-8E8A-FFC5F8D753F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8A94-22D4-4E26-99C0-7DA045CC1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4F08-1B47-4590-8D8C-B589FABB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5B1F28-2966-46E4-906F-F90847CE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55CCEB-2BA6-483E-9290-5BEDB8AE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3A66E7-D391-404F-A34C-83821B30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B351A5-6741-43A3-A721-368A180B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D18C1C-8F77-4531-A725-ECEA1AAC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597792-1612-4464-B8BD-E406DE8D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CD542C-5574-45D6-B4B8-E1E4B713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2FEAF6-C7DA-40C7-B369-20BA4CA83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85FCE8-130D-4448-A97C-9B6FDA3DE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74AEEC-06C6-43DB-A2BC-E882C06C6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4D29-E4EA-4294-88B5-88D74A1D6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751197-4CAA-45F1-831C-11B1BBF2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B0B91B-4453-4656-8211-B59F98A0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5AECD9-A7BB-4D02-8D78-563F8130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7683BD-A885-4C2E-98C6-D7057681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8BB8C4-EBD8-4EB8-9150-9482FF22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083C80-8C08-4D06-AD24-1B28093E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7A4D06-8FFB-4E78-89CC-53755D92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A8657A-2EC9-4001-8B90-C7714109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15183A-17EA-430B-922F-9AFEF33E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ACDECF-AFE4-4694-AC87-0F9A5FCC9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E687-A57B-4A48-B4C9-28B8B60BF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79E540-77D1-4782-904E-62D705C8B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401C-BF88-45E1-BD61-207ACEA48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F34F-A36D-4CF3-988A-BEE0DD71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C478E-7F5A-49DA-A98A-1CE3938D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80C0-D4D3-4FFC-A325-2DF83051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686A-7D2F-4352-A4BD-769EB5A5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0B19-A6A2-4918-8151-E15433F6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8888-2483-4F6E-9FB1-9CDD569E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C88F-20A2-426B-B6F7-24108438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422D-972A-4B51-92A7-20FD4FF8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3268-AF38-4B32-9230-A53F0367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013C-C37E-44EE-BFC7-097E3443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C5E2-7BF9-43EB-99B6-B0BD15DCF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D0FD-7ED9-4AF4-A8FA-D7D5A62D5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B52E4-6258-4FDE-BE22-E548AFFA6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7D8B6-CE3D-4DA3-A4B8-70E04071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E5878-E44C-411F-AC6B-8C9988E5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4F4D3-E2F0-4607-9177-4ABC1B10F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1A20B-725B-4726-9E81-FE607D93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B126-424A-4C0C-8A35-B107C3DA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3573F-F31A-4091-84F4-9F1B6156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1328B-D301-4EF4-8EF1-CD3B36FD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4078C-9762-40E4-AF57-2300AB46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54C70-94CD-47D9-BEF2-9F881948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97740-CEE5-472D-B462-F57D4F8D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6075F-C65A-40D9-974B-996EA9BD2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C30B6-FC55-47BD-9041-149FA5710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BB4AF-D157-4326-8994-2A0DE311A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059CB-81B4-4C25-90E7-4C9177F1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456E2-99F7-4B82-A95A-39D7E9CF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9838-F2A4-4EBB-A7CE-60D5C39F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3181B-CC6C-40BE-ABAB-6D83F83D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F70FB-9A9D-42B9-A743-5F37A07F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059AE-FD87-4938-BED1-D899F69F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FC937-E836-4BBF-AA40-35B929F0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E8220-BED3-408A-8D26-5CAE6460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775A4-8842-4881-B71B-FF86D40D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391F7-5E43-454B-8605-B6991ABA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4DE6F-7B73-4C13-A089-6CC5DEF60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3E6BB-F81D-4F12-A187-2871E4580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25B66-FE4E-4D80-963A-A0904FC47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D412-5D88-4D9C-B8A3-898B65D6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A1523-1E09-4BF1-B86E-A16C8605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3F052-F7D9-478B-85E0-4776631D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2932F-F47E-4B10-9621-BA9F7154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27DDA-5932-4ED5-8CC4-6515D0C9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45729-7270-4C98-9B59-29C22D1A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ED63B-CDD5-4EF2-9C29-B8E2AC62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21880-4B43-40DB-9BA2-3FEAEC64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742CE-123D-4604-B91F-CDF178EA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7399F-CFFA-4FD3-9D99-B7F9206D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5783E-C649-4127-80C4-50093C5D2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3012-C5A7-4874-9028-AFD03288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350F9-DF36-4FEB-8994-73CE8DC13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FDBA5-A248-4934-B571-BB3285A05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17E6B-DC1D-4E8F-AA70-D787C5E8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5A98C-6ABC-45E5-B874-A2FA3827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D0087-ACCE-4A66-858F-CFDF3549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A9850-D797-4861-946D-2EC65B91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3447C-2C14-4441-8BBF-0F94A46B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C7D4A-A263-415F-920A-8D99C549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4E616-5AC4-4721-B12A-92FB2B1C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DA4CF-0497-4D81-B2D5-A8246E52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4276-9D4A-448C-B790-4B5D2A17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206AF-D941-4F75-A0AA-EAFF9104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B9D3B-A585-4E54-9A69-3D2B3E7CC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B6FAB-310C-42C5-86DC-2177CD424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446B2-7B48-4DD7-8E40-84BCB5905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11EB0-0ED1-4C43-B234-DA723B4A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68952-831B-4BBC-BB05-05B2D101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17238-A525-431E-A63E-BAC65765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8F769-5E13-4A80-A75E-5A0E13A6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651FD-90D6-460F-AFE6-3F7F617D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938B7-1A46-4BE1-94A4-00670D63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21C2-3EFA-44F7-A999-C0D382E5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FA6AB-BB3D-49B4-940D-42963630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C78C7-F3B3-4C34-90B7-2C8D694A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46A05-5283-446A-9A9F-C7BDB58B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DBDC1-D1A9-48B0-9DFB-215303C20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01D16-A5B6-43B6-8B5E-EFA7EBC6A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A7635-7284-4EC8-B71A-15C796951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87701-42EE-4796-AC51-4ADD9D86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18C78-825D-4BA3-B1DB-7910A388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60199-60C0-4545-8A6D-6DCFAF91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8D6DF-309A-4E95-9690-E2CAAF19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2412-D501-414E-82FC-682D0EA5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F46BE-7C74-454F-ACE0-DFEF5F8E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E52B3-FE7C-4A78-BB77-2B43E93F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FA2AE-522E-4591-87AD-A284746B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6BEB7-8C0E-437C-996E-1E7D729D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B27D4-1D7F-41FB-8157-0660EE73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ABEB2-98E6-4419-A61C-916827BB5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8A97D-4B1B-4458-92F3-44F92D069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038A18-88D5-465F-A6FE-643249510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99B2D-03AF-40DB-A585-E0A90AB5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FF96E8-D436-4E39-A192-45F92152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2C84-2022-4102-B960-F1EEA678F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5938-3108-4EFF-A5C4-73F296164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Obrázek 8" descr=""/>
          <p:cNvPicPr/>
          <p:nvPr/>
        </p:nvPicPr>
        <p:blipFill>
          <a:blip r:embed="rId2"/>
          <a:stretch/>
        </p:blipFill>
        <p:spPr>
          <a:xfrm>
            <a:off x="3635280" y="115920"/>
            <a:ext cx="1878120" cy="1878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37FD-8C15-4FEA-882A-0598F17BD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F2FB-F90E-4CE0-A1F0-69986BBC1E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830D-6D29-4362-9030-BE456A2B7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8AEC-881D-4C79-836D-77067FE15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4E7F-A828-4F04-BAF3-8AD638023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21BB-AEB1-4182-8CEB-67E2F3C17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C5CB-B278-428D-B463-83D363146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0E22-AEF2-4680-AA2B-0F98CF68D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3716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2. Přednáška FU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četnictví je proces (záznam, třídění, kontrola, prezent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rcholem je analýza účetních informací, (metodicky obvykle analýza, syntéza, formulace závěrů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ílem je zvýšit informační potenciál účetních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zvědět se víc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chází z účetních výkaz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, PL, CF, ES,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ledá vazby a souvisl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aha zhodnotit minulost a současnost a předvídat budouc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edmět zájmu obvyk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tabilita (výnosn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ktivita (obrat prostředk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vidita a solventnost (platební schopn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amentální a Technická analý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undamentální – rozsáhlé znalosti o souvislostech mikro / makro jevů a jejich dopadů, zkušenosti odborníků, zpracování kvalitativních informací (zejména), závěry vyvozuje obvykle bez použití algoritmizovaných postup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– matematické, matematicko-statistické a další algoritmizované postupy, , kvantitativní informace, následné kvalitativní posouzení výsled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ájemně komplemetnární, neexistuje vztah nadřazenosti či podřaze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ky analý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8284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áte z jiných předmět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četnictví funguje jako zdroj informací zejména pro technickou analýz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Šipka doprava 3"/>
          <p:cNvSpPr/>
          <p:nvPr/>
        </p:nvSpPr>
        <p:spPr>
          <a:xfrm>
            <a:off x="1187280" y="3860640"/>
            <a:ext cx="1656000" cy="136872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četnictví (závěr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Šipka doprava 4"/>
          <p:cNvSpPr/>
          <p:nvPr/>
        </p:nvSpPr>
        <p:spPr>
          <a:xfrm>
            <a:off x="2843280" y="3860640"/>
            <a:ext cx="1657440" cy="136872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Šipka doprava 5"/>
          <p:cNvSpPr/>
          <p:nvPr/>
        </p:nvSpPr>
        <p:spPr>
          <a:xfrm>
            <a:off x="4500720" y="3860640"/>
            <a:ext cx="1655640" cy="13687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živa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Šipka doprava 6"/>
          <p:cNvSpPr/>
          <p:nvPr/>
        </p:nvSpPr>
        <p:spPr>
          <a:xfrm>
            <a:off x="6156360" y="3860640"/>
            <a:ext cx="1800360" cy="13687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zhodnu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4" name="Tvar 8"/>
          <p:cNvCxnSpPr>
            <a:stCxn id="463" idx="0"/>
            <a:endCxn id="460" idx="0"/>
          </p:cNvCxnSpPr>
          <p:nvPr/>
        </p:nvCxnSpPr>
        <p:spPr>
          <a:xfrm flipV="1" rot="16200000">
            <a:off x="3886920" y="1843920"/>
            <a:ext cx="685080" cy="6085800"/>
          </a:xfrm>
          <a:prstGeom prst="bentConnector4">
            <a:avLst>
              <a:gd name="adj1" fmla="val -33385"/>
              <a:gd name="adj2" fmla="val 103756"/>
            </a:avLst>
          </a:prstGeom>
          <a:ln w="2844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465" name="TextovéPole 9"/>
          <p:cNvSpPr/>
          <p:nvPr/>
        </p:nvSpPr>
        <p:spPr>
          <a:xfrm>
            <a:off x="2843280" y="543564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pětná vaz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ztah účetních informací a analý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ýza (rozhodnutí) je výs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ýstup může být špatný, protož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ou špatné vstu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stupy jsou v pořádku, ale nebyly vybrány / byly vybrány nevhod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bré vstupy, špatné zprac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bré zpracování, špatná interpretace či prez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mbinace uvedených fakto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ká analý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ní (součet, rozdí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ní (podíl,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zipodnikové / vnitropodnikové soumě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izontální 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kální 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kturální / časový poh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čitost účetních d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 (GAAP) jsou idealistické, skutečnost realistick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istorical costs jsou“špatné“ imanent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stor pro kvalifikovaný úsudek účetního profesionála (Když dva dělají totéž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istota ekonomického prospěchu (100% pohledávek nebude splaceno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stý a nejistý (podmíněný) závaz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mezení základních pojmů ve vztahu k jiným disciplínám (daně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asnosti při formulaci účetních postupů a pravidel – různý výkl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úmyslné a úmyslné chyby účetních profesioná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myly finančních analytik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uchařkovitý pohled „vezmi vzoreček a dosaď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dostatečná znalost systému účetnic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neužívání poměrových ukazatelů (jsou nezávislé, existence doporučených hodnot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pochopení konstrukce vzorců a kontextu doby jejich vzn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05:31:13Z</dcterms:created>
  <dc:creator>dvorakf</dc:creator>
  <dc:description/>
  <dc:language>en-US</dc:language>
  <cp:lastModifiedBy>Mike</cp:lastModifiedBy>
  <dcterms:modified xsi:type="dcterms:W3CDTF">2012-05-16T05:53:48Z</dcterms:modified>
  <cp:revision>47</cp:revision>
  <dc:subject/>
  <dc:title>Vnitřní kontrolní systém účetnictví</dc:title>
</cp:coreProperties>
</file>