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4EB0-02D8-4620-B047-E652BF07435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08B7-14BE-44F4-B43D-525BF5AB6FB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F8F6-775B-4D8F-B006-371F9A22B12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529F-E544-4F4D-910D-214021FE480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1E13-C92D-49B8-9616-59DAC0F127E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745F-3306-424A-AD49-B1E6ACC09F3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7E0D-BF7C-42C0-A3F4-9C6459E2124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7F0C-669B-4908-A508-4B5FB55ED1D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7FBA-8AC2-4DC3-98C3-5E775FAEE1B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FF19-020A-4E88-8E03-4BC27EEA5D9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0D17-22FA-4CBE-962B-293E6340EA3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B0EC-BE7E-40A9-9902-B9D6C66F27D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48BA-45F3-4A91-A78B-AC998A06D11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E1BE-9F7E-4BCB-ADA5-438C4B120A7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6E7D-AE88-4C60-ABD9-C24BC097A03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D6D8-3260-4379-9BE0-D85C57474D3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DBF-46D2-43D4-9DD7-A074EB7A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528-837A-4B80-A4E4-C5FA79B5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78709-3465-4C50-8465-7DF40428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A9C41-5F09-4FFC-85B1-0E403933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14DC5-0CB8-439E-A9AA-F20A5B58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5026E-85EF-4F01-AA7E-9468E895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0338D-BBC5-4C9D-AFA0-8B467C4B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C4C87-6DB0-4869-B99C-4086937C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9ACD8-6CD9-47A7-BDD9-F596305F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F4927-9C60-4C59-87E0-87015875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B13F0-C4AB-4E12-B40E-9A4E87F6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8FF0F-65DD-4B38-B9DD-EB6EB530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3EE-3EB3-431F-A197-B4F826EC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92339-465B-402D-9760-A91B680F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ECC5C-9A6B-4514-A222-0D52B7D5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730FF-2A88-4A63-8F17-1C13981A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692AC-E20F-42AB-88FD-97D30971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44DD7-50AF-4E01-98A6-798B265F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87F22-9F7F-4333-8AFB-F5712000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65B97-0B59-43B1-9E57-EFA15E7C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1CDEE-583A-4EDF-B825-C5810744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D6DF1-C9CB-4801-9A8E-A589BB5E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147EA-C494-4983-A0DF-55784587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12E-262E-4D9F-A219-7E90E7F3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9072D-C3C0-4C2D-9DD3-B27D8ACA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4AA3-828C-450A-97E3-3627ED45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2BBF-EE03-4D69-B6BB-F54DB7A8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B3C3-C01A-4848-BC01-0C9F818E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6238-47AC-46A5-9911-3CAEE503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D665-985E-4D63-8DA9-EEFBB348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A02E-6BBD-46AA-9BE5-14424961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14A4-CFBA-45F1-BA8C-24EA25E4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197-7889-46C0-83AB-E22B782A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A692-3191-493D-A4BA-A1B0C146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1F8B-FB5D-4457-B8FE-DA152D39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031E-78AD-4F21-B2E8-45E888D6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FDDB-BD34-45FC-8CED-5B1BCAC7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A8AF-1F19-480C-8E81-7908D078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B5ECF-AF71-46F0-8425-48F2A021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20938-2B62-47C3-B1EE-EE952372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31EB7-014B-4273-A449-B72D6D48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144B5-F5A7-4E96-BFED-071496AC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C42E7-E2EA-4A03-80F5-8DC1B376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DF1-3D85-4099-A447-643AA7FA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B8DE4-14F5-4298-AF52-7C23FEA2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19720-28F5-4327-B48D-0C1EE2E9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4922D-5AD4-4B03-B59C-D4605F51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053D2-9544-46CE-8208-0DFB286D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E685F-F9F8-415D-87F5-3626FCAE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E4098-6D46-4C14-8B70-9385D7E2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340BD-F681-47C4-AB00-B34D9261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31519-82BE-42C7-9E7E-4E8C22ED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6B9C5-B459-4254-AB80-F92C5079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A3004-2BD9-48CF-8C28-996CFE50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14B-E0CF-491E-9B31-0712A1E0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89D01-AD96-4DA4-AD85-FC12993E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94852-69C4-469D-8A28-C412AF81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86A5E-8151-404B-B8BF-439EBCF1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2CBFD-C90B-44C9-BB5A-6765A7D1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CB575-AA7A-430F-868A-9191F4A7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8FA6E-9A4E-4A68-B893-03F42F2E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8FE00-1020-4AB3-B00E-0205556E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FD45A-0B43-4D8F-984F-8EC8748F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FE141-70C8-4276-AB17-4766B669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F56CE-5C5C-4A7A-8086-52AB7F92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D73-D7A4-4C49-9050-A38CA983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D0771-2898-49E3-AE6F-707DE9F9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F055C-A7B3-413F-ADC2-A94FD441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BE088-28F0-4DFB-BF4D-E75979E9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4F241-75D7-4939-84CE-E311473C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04E00-0856-4DF5-84EA-790F3F21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3E404-CACC-4228-B44B-BF2D617E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70A00-99F9-4588-9911-79BA9EBC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98889-67CA-426B-8F83-B4C56EDE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A0A28-B1F9-4E29-BEDE-4D3F2ED0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007B9-5C98-4A80-9828-198FF376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3E4-F511-4B85-91D9-BB173394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AF31E-0521-43C0-8500-69FFA1AB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91353-C549-4407-BA22-D0FF82A6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BCACA-2E6C-4980-981E-AFEC2824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421B2-9A5D-4662-869E-9D0BE39E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FB154-D5F4-4E39-A9C2-C9BC1BDE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DB65B-DA12-464E-B065-25BB47A4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F62EE-9122-4376-BF5B-67611504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D30C6-74C1-4AAC-AEDC-636875DE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2AF19-802F-4A89-B3B4-D83258AF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E9721-267C-4AC2-A22E-86560083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5DB7-9343-4CEA-8911-56CE617A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60E1C-44F1-4B82-8000-DEEA28A8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B9283-5B4A-498D-A41A-E99F550C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1ED9C-8B1C-45E0-A6A1-B435FE41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A8536-6741-4F5E-90C6-2010B844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3F0C3-C957-44C4-B516-5A0BB573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69425-BE7C-45AC-807F-FE45716F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18F76-36B6-4F80-84F7-062C9CE7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2A845-0236-4724-AA6A-C17E05D5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BEC05-D39B-40CC-B6E4-13843FA3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1DE63-B817-42A2-90CB-5E9B7A9A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8D5-0719-49D7-A903-087BEBF3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F7AAD-C3B6-4F42-863B-FD9354C5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D58C7-FA19-449E-8092-1043E44D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B1BB8-C3C6-4112-987A-D0D631BD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85334-227B-4728-8E99-C5A271E6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D8396-E3B3-47FB-9251-B8104737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06238-1557-4ADE-9EC8-711789AF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6FF65-8DAB-4C09-8931-CCE14112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6A21E-F061-4E2E-9940-264C57F5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1A6DA-DF0A-4421-A2FB-A266288B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A4CEC-DC68-4D9E-9553-F978550F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4AAD-88FE-4C70-AC54-A7B9F8F0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6B6E1-60CB-492B-B4E9-11472B64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C1EE5-52C8-40B3-987C-4D563088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36BAD-38BE-4C9E-88B6-6A52C0A3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3F2A9-30B3-4695-8917-1F340F3B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D5F81-8C8A-4D50-93F0-6D739183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7AB69-0644-4D33-B34D-7289D76B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CB9BA-1AD0-4153-A764-CC517884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A2C69-8CD9-4C09-ADE6-553800A3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7681E-FEF3-4E73-AF8D-4604DEE2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5466D-BA1A-42A1-84AA-61DD907B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A726-2212-4B00-8D9F-3A3A62F91E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3684-3F19-4185-8671-29B5FAF86C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EBF5-EBDC-4A7B-BED1-D1E531E8B7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546A-207F-4A82-829B-6B98254021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001B-1A61-4A4B-BF21-F846CB527B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0F0A-0682-4EF3-8712-5696C6FF9A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E99C-420D-4A63-B0CB-ADEA96158E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1B7D-E2F1-449D-A748-FDB0F61A7E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265C-1B54-44EE-B59C-B9E2C7E512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7068-CCDF-41F5-B586-E31D7B9BF7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ovaná účetní závě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řednáška FU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vahový 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ému datu je konsolidace provedena? K jakému datu jsou sestaveny výk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podniky (M a D) mohou mít různá účetní období (legislativa, geografie, obor podnik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 – mezitímní účetní závě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, ale v povoleném časovém rozmezí (3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shodné rozvahové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ční pravi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závěrka D musí být sestavena podle stejných pravidel jako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není, D vyhotovuje dvě účetní závěrky – pro potřeby individuálního vykázání a pro potřeby konsolidace (např. dle ČR a dle IAS/IF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olidované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parát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statný v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řízení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stor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ýsledovky je zahrnuto zvýšení / snížení hodnoty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ostatních složek VK o takové vlivy, které neprošly výsledovkou (např. aplikace fair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děly ze zisku snižují hodnotu investice (souvztažně s pohledávkou za přiznané divide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kazech zveřej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a, která ovlá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ky, které přebí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, které plynou ze spol. podnikání a podíl na výnosech ze spol.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191628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Investice v 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68360" y="436896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ovéPole 9"/>
          <p:cNvSpPr/>
          <p:nvPr/>
        </p:nvSpPr>
        <p:spPr>
          <a:xfrm>
            <a:off x="5796000" y="3924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lfa vlastní 60% B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1854360"/>
          <a:ext cx="8353440" cy="4457520"/>
        </p:xfrm>
        <a:graphic>
          <a:graphicData uri="http://schemas.openxmlformats.org/drawingml/2006/table">
            <a:tbl>
              <a:tblPr/>
              <a:tblGrid>
                <a:gridCol w="2049480"/>
                <a:gridCol w="1260360"/>
                <a:gridCol w="1260720"/>
                <a:gridCol w="1260360"/>
                <a:gridCol w="1262160"/>
                <a:gridCol w="1260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solid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M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. 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ový podíl 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 upevnění, ustálení, urovnání například zdravotního stavu pacienta po úrazu, politických poměrů nebo financí firmy či státu po období špatného hospodaření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sada „content over form“ – účetnictví zobrazuje realitu bez ohledu na (právní)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kapitálově (i jinak) propojených společností, jak řešit účetní pohled na tuto skut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podíly (investice) mateřské firmy  (M) do dceřiné firmy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 nechce vědět pouze kolik bylo investováno, ale také do kterých podniků, jaká aktiva M kontroluje, jaký vliv má investice na finanční pozici 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čního cel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ovaných účetních výkazů, účetní závě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 – obecný k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Zástupný symbol pro obsah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4078080" cy="4522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 propojené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určit, kdo je M a kdo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, kdy už D zahrnout a kdy nezahrnout do konsolid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ematika konsolidačního ce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vlivu – vyjadřuje podíl na rozhodování Mateřské společnosti v Dceřin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vliv (contro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, podstatný vliv 20% - 50% (significant influence), vyrovnaný vliv (spoluovládání, joint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vl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upě podílu na základním kapit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zavřením smlouvy o podílu na hlasovacích prá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upy ke konsoli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obecně uži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o uživatelů účetních informací znát finanční pozici, výkonnost a změny ve finanční pozici za celou skupinu kapitálově propojených podniků – cílem konsolidace je vidět kapitálově propojené podniky jako j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em vlastníka znát finanční pozici, výkonnost a změny ve finanční pozici podniku, do něhož investoval, cílem konsolidace je doplnit informace o finančních invest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schéma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3"/>
          <p:cNvSpPr/>
          <p:nvPr/>
        </p:nvSpPr>
        <p:spPr>
          <a:xfrm>
            <a:off x="1619280" y="5013360"/>
            <a:ext cx="180036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ovéPole 5"/>
          <p:cNvSpPr/>
          <p:nvPr/>
        </p:nvSpPr>
        <p:spPr>
          <a:xfrm>
            <a:off x="2627280" y="3573360"/>
            <a:ext cx="208908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ovéPole 6"/>
          <p:cNvSpPr/>
          <p:nvPr/>
        </p:nvSpPr>
        <p:spPr>
          <a:xfrm>
            <a:off x="4067280" y="5013360"/>
            <a:ext cx="180000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ovéPole 7"/>
          <p:cNvSpPr/>
          <p:nvPr/>
        </p:nvSpPr>
        <p:spPr>
          <a:xfrm>
            <a:off x="6588000" y="2133720"/>
            <a:ext cx="208764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solidační c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Elipsa 8"/>
          <p:cNvSpPr/>
          <p:nvPr/>
        </p:nvSpPr>
        <p:spPr>
          <a:xfrm>
            <a:off x="539640" y="3357720"/>
            <a:ext cx="6480360" cy="3384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Šipka doprava 9"/>
          <p:cNvSpPr/>
          <p:nvPr/>
        </p:nvSpPr>
        <p:spPr>
          <a:xfrm rot="18978000">
            <a:off x="5857920" y="3252960"/>
            <a:ext cx="649080" cy="288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rozhodující vliv v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azy se agregují, řádek po řádku se sčítají shodné položky A, Z, VK, N, V všech podniků konsolidačního ce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vyloučit vzájemné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ce M v každém D podniku a podíl na VK v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roskupinové trans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řejnění podílu menšinových akcionářů – specifický řádek VK v rozv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6:12:38Z</dcterms:created>
  <dc:creator>mensikm</dc:creator>
  <dc:description/>
  <dc:language>en-US</dc:language>
  <cp:lastModifiedBy>Menšík Michal</cp:lastModifiedBy>
  <dcterms:modified xsi:type="dcterms:W3CDTF">2012-03-30T05:07:11Z</dcterms:modified>
  <cp:revision>104</cp:revision>
  <dc:subject/>
  <dc:title>Mzdová agenda – účetní zobrazení a dopady na firmu</dc:title>
</cp:coreProperties>
</file>