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F859-FCD0-4686-98CE-0101E57ABC9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93EC-135E-4F78-AFE2-9D231F551CC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B864-7923-4063-8A4F-C83E1A4088B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8A37-7E9C-45E3-84A9-121FB6A3D71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6905-E340-4E7A-8501-F5BDD0D6051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EADC-02D6-45B2-BFD0-815679F3865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82B5-2F8D-42A6-B7D8-55F559FF338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B614-72C3-4CAE-B648-F1F8BF11971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966E-21EA-485A-A8BF-8285BBEA0FD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C372-66D0-493B-ADB1-A2AD807BA6E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B72B-BC24-4B40-A387-52C8E71B3E0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52B3-2407-4D18-9B8B-8077A21B192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9634-D7DC-456B-B7EE-0531767D254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8B70-B949-46A3-847F-19032DF1505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D105-BE67-4008-8782-390B34440C7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CBFD-288F-42BA-91F7-5DD105600CC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18C0-C4EF-423C-B6B9-C65A7835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C2C5-2877-486A-AC31-BE8CE40A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C0D1E-31EB-40B6-A620-43E4CB69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48660-3CDE-44D5-A593-7F19DBBE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A1BAF-0203-499F-8CF8-FC0A4862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4CF97-F89B-4DC4-8CD6-D94DB7CD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8FF60-B013-4443-9563-53AE0E28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A6A0B-DEA6-4517-B35C-86765BA1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F3051-E12E-4F76-A232-27E16E2A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8C43D-48A2-440C-B90B-0CA6B546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E2C8E-52F8-4735-914B-F3674C98B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9D82A-4291-4B1B-9023-FDBAA177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6D10-B5D8-4EF8-85C7-765D902B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3D1B8-E1F2-48C3-B1AE-7ECA4D7A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360F4-9DBF-4234-9F49-142CAB3B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E92BF-F3A7-4D26-B49C-FCF3565F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177C8-7346-40B4-A3EF-4B21D805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7C49D-C573-4A86-A1A8-52794010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A0A59-DC74-4E3D-A2D9-C7C0718E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2972C-9699-4EB1-9750-26C053A6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4985B-C28F-4D65-8114-2746BD93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CF480-ACAA-4952-830C-EB2F7814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84135-E6A0-47B3-B12A-FB0C03E3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2D8C-ADCE-43DB-B21A-B268C4C2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6BD11-69E2-4BC7-8F8E-44C5AB93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908C-7931-4197-BDFD-73BBC84A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F454-4409-4DBB-8314-BFB4C50D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CE42-E163-4FD1-9ADC-B1658A15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D683-5A7C-44E4-AA76-247B9FA3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F92E-AC78-4E07-8A3D-0FF7B325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62B3-705B-458A-A454-93707B08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9EE1-6838-45E9-B01B-43553CE9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BA72-192D-4C57-8A3C-349E07E0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0E5D-69C5-4D3A-88AC-EC45D23C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C28D-5B9F-4019-8251-05E17ABB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3A7E-7FDF-442E-946E-25AE1AE8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61BF-7B2C-464B-8334-CEA4C67E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BA59-B66A-475D-9CE6-7A4F952A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88B92-007A-4E73-9199-69E1F9B0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6F61F-043C-493C-9F91-2CF7264B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59358-1075-45BC-B7A7-DE85E524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46141-95F2-4FB3-9F13-3C3B4CCA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2DDF2-F07F-4259-BA61-6455088F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DC65-E144-43BA-913B-83BC0B77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F0609-8D3E-4318-9C82-E42365B0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58D7B-6030-4E33-BD0A-C2B98976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434A9-10B2-4787-B68D-C177251E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8C4D6-8FEC-4E48-8801-D0F21207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8E763-83A8-4F67-9106-ED0B45C2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57C28-5FE0-408B-8B5D-9B0B4804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68161-9455-4E6A-94ED-EBDF45D9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3B2A7-038A-4AE5-A38B-276904E4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F414C-4EA8-4D15-965D-A4BEA491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B4D14-4330-456D-825A-6A01ED92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32B5-BDB3-43DC-90CD-8CAB2B4B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4C262-8916-475D-95DF-F9A96C51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A96C7-5537-4E8D-8FEB-DE9C5D97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CB07B-3569-483D-89FA-B8843FEC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9E7CA-27A6-4A99-91AF-BE0550AF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4A615-F643-4D0C-91F1-6CE54571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19673-8716-4B49-9746-26D4130E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185AB-88DA-49BF-8382-8375D9E8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81E72-22F6-4B97-BF8A-B9FE2C86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2D923-05A8-4182-8813-DFCA05C6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626EA-8100-4957-9050-D18FC1DE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728A-EE62-4079-8F8F-DCE2D2F5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DDE3A-EC55-4EB7-B0E2-C23222AD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51A97-5969-4508-9EC3-4AA04FF5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CC594-427F-4121-AE09-38325668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198C9-3B62-48A7-9778-0ED80FA8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B1177-B017-471F-AD9D-9CFD239F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7625F-D154-4E8C-8ED1-2E941BC9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92F06-A8AF-4CA3-9FFC-8758444D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22241-6630-49AE-AD99-37E39BD4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1FD52-DC0F-48CA-B62A-C87B196D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11A60-C94F-4C94-A401-5D96C0726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B107-75C3-4E81-A5BD-21D08326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B4DEC-4F94-48D5-A25F-60A33B67B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227BE-A556-4291-86CF-28F52C6A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ABAB9-40D2-4172-B523-2FAAC84C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6B7DD-08AA-46AE-8215-FEB650CC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5EEA1-01E5-4E24-94B3-EA1029F2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6ED88-44F0-4767-A227-46D20D3D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7D670-11A2-4D58-A789-1BF49C54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F27E1-974F-4B7D-8FA1-847F7A0F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B7447-CD37-437B-9921-72517168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FC3BD-72C0-4720-8D80-897CB580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436E-99E1-4AF4-B34E-40584117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B44E0-65AD-450F-977C-1F7F68EB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38A59-1B48-4576-81BA-6168A327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68113-9DEE-4BF6-B070-17F0A7FB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46C50-5154-4356-9070-D067634A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201A3-930A-47DE-9488-EBBCAD16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399C4-B0ED-49A8-B0A8-3D7F366F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14BBF-BB4B-46C9-8E13-EB71C17B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E28AA-7839-4E9D-85E7-D8A3C2C9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E575F-44EE-4D2A-BAF6-2EBDEDD1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C9CA5-2AA1-4E87-A40C-5C9C1EC3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2C21-3929-4EEE-945B-75B6BC03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B91B7-4F20-4AD8-A417-9657052E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64876-C901-4D42-B5C2-3A2DE764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9ADD8-A688-4084-9B77-E2C6AB73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6E996-B771-42AE-8D00-AB26354A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A3ACC-D422-4EA2-A15B-614D9E0AE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4E04A-B56B-45DF-9EFB-3365BBF6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0457D-7713-4F42-A35F-1331A4E2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03C0B-972C-43B4-88A9-E99521AA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D3B18-437C-4F22-8A12-06A4B05E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8BBD3-2A24-4492-9727-972DD95B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EBC9-40E5-484B-87C9-139DB716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DEB2E-116D-4A81-854D-0AF475E4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9D4E7-6922-42BA-8BBA-6C3B1736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0E42B-9F1D-4ED9-8F01-EEBAD0EA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4B276-3857-4BED-A14F-E056C015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21F52-6DD1-4279-A82E-35A2B8E9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B8CEF-6ABC-4E92-BB88-4F522089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FC6E8-0D38-4CC6-AF8F-4D98C9C1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C2A15-BF56-4D64-9C98-56F4D582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8C749-5C6F-40AC-9637-0DF3164D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0C868-EAF7-49B4-89F8-406745D6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66A1-4A17-4FAC-8835-0A6A8F9A81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7368-D763-449A-9FE5-74F4336FCF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12A7-2855-47D1-98B2-4DD2E6C0B4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38CB-8A94-4706-97A9-C4C2543DF7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4BD3-7D85-453C-B7AE-3960B25AEC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A103-A9E7-4570-A773-707B2A29FC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DB7E-2269-4719-BD4F-4201EE8BE5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031D-3ED0-46AF-8BDC-D4BAB97EA9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BA36-A102-4429-A703-E32884B7EC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B8F0-C73F-4940-8B5B-2DE8FEEDAF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ovaná účetní závěr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. Přednáška FU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vahový 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jakému datu je konsolidace provedena? K jakému datu jsou sestaveny výkaz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ůzné podniky (M a D) mohou mít různá účetní období (legislativa, geografie, obor podnik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 – mezitímní účetní závěr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, ale v povoleném časovém rozmezí (3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shodné rozvahové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ční pravid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závěrka D musí být sestavena podle stejných pravidel jako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není, D vyhotovuje dvě účetní závěrky – pro potřeby individuálního vykázání a pro potřeby konsolidace (např. dle ČR a dle IAS/IF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viduál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olidované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parát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statný vl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řízení v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istoric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výsledovky je zahrnuto zvýšení / snížení hodnoty inve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ostatních složek VK o takové vlivy, které neprošly výsledovkou (např. aplikace fair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děly ze zisku snižují hodnotu investice (souvztažně s pohledávkou za přiznané dividen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ovlád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výkazech zveřej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a, která ovlád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vazky, které přebír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klady, které plynou ze spol. podnikání a podíl na výnosech ze spol.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68360" y="191628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Investice v 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468360" y="436896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ovéPole 9"/>
          <p:cNvSpPr/>
          <p:nvPr/>
        </p:nvSpPr>
        <p:spPr>
          <a:xfrm>
            <a:off x="5796000" y="3924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lfa vlastní 60% B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95280" y="1854360"/>
          <a:ext cx="8353440" cy="4457520"/>
        </p:xfrm>
        <a:graphic>
          <a:graphicData uri="http://schemas.openxmlformats.org/drawingml/2006/table">
            <a:tbl>
              <a:tblPr/>
              <a:tblGrid>
                <a:gridCol w="2049480"/>
                <a:gridCol w="1260360"/>
                <a:gridCol w="1260720"/>
                <a:gridCol w="1260360"/>
                <a:gridCol w="1262160"/>
                <a:gridCol w="1260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č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pra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solid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Maj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. 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ový podíl 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namená upevnění, ustálení, urovnání například zdravotního stavu pacienta po úrazu, politických poměrů nebo financí firmy či státu po období špatného hospodaření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sada „content over form“ – účetnictví zobrazuje realitu bez ohledu na (právní) for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kapitálově (i jinak) propojených společností, jak řešit účetní pohled na tuto skute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chodi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tegické podíly (investice) mateřské firmy  (M) do dceřiné firmy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vatel nechce vědět pouze kolik bylo investováno, ale také do kterých podniků, jaká aktiva M kontroluje, jaký vliv má investice na finanční pozici 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čního celk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ovaných účetních výkazů, účetní závěr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 – obecný k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Zástupný symbol pro obsah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4078080" cy="45226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 propojené fir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určit, kdo je M a kdo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, kdy už D zahrnout a kdy nezahrnout do konsolid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blematika konsolidačního cel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vlivu – vyjadřuje podíl na rozhodování Mateřské společnosti v Dceřiné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odující vliv (control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5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%, podstatný vliv 20% - 50% (significant influence), vyrovnaný vliv (spoluovládání, joint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 vli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upě podílu na základním kapit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zavřením smlouvy o podílu na hlasovacích práv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stupy ke konsolid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obecně uživatel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o uživatelů účetních informací znát finanční pozici, výkonnost a změny ve finanční pozici za celou skupinu kapitálově propojených podniků – cílem konsolidace je vidět kapitálově propojené podniky jako j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jem vlastníka znát finanční pozici, výkonnost a změny ve finanční pozici podniku, do něhož investoval, cílem konsolidace je doplnit informace o finančních investi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schéma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ovéPole 3"/>
          <p:cNvSpPr/>
          <p:nvPr/>
        </p:nvSpPr>
        <p:spPr>
          <a:xfrm>
            <a:off x="1619280" y="5013360"/>
            <a:ext cx="180036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ovéPole 5"/>
          <p:cNvSpPr/>
          <p:nvPr/>
        </p:nvSpPr>
        <p:spPr>
          <a:xfrm>
            <a:off x="2627280" y="3573360"/>
            <a:ext cx="208908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at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ovéPole 6"/>
          <p:cNvSpPr/>
          <p:nvPr/>
        </p:nvSpPr>
        <p:spPr>
          <a:xfrm>
            <a:off x="4067280" y="5013360"/>
            <a:ext cx="180000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ovéPole 7"/>
          <p:cNvSpPr/>
          <p:nvPr/>
        </p:nvSpPr>
        <p:spPr>
          <a:xfrm>
            <a:off x="6588000" y="2133720"/>
            <a:ext cx="208764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solidační cel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Elipsa 8"/>
          <p:cNvSpPr/>
          <p:nvPr/>
        </p:nvSpPr>
        <p:spPr>
          <a:xfrm>
            <a:off x="539640" y="3357720"/>
            <a:ext cx="6480360" cy="33843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Šipka doprava 9"/>
          <p:cNvSpPr/>
          <p:nvPr/>
        </p:nvSpPr>
        <p:spPr>
          <a:xfrm rot="18978000">
            <a:off x="5857920" y="3252960"/>
            <a:ext cx="649080" cy="288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y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 rozhodující vliv v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kazy se agregují, řádek po řádku se sčítají shodné položky A, Z, VK, N, V všech podniků konsolidačního cel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 vyloučit vzájemné trans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stice M v každém D podniku a podíl na VK v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itroskupinové transa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eřejnění podílu menšinových akcionářů – specifický řádek VK v rozv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6:12:38Z</dcterms:created>
  <dc:creator>mensikm</dc:creator>
  <dc:description/>
  <dc:language>en-US</dc:language>
  <cp:lastModifiedBy>Menšík Michal</cp:lastModifiedBy>
  <dcterms:modified xsi:type="dcterms:W3CDTF">2012-03-30T05:07:11Z</dcterms:modified>
  <cp:revision>104</cp:revision>
  <dc:subject/>
  <dc:title>Mzdová agenda – účetní zobrazení a dopady na firmu</dc:title>
</cp:coreProperties>
</file>