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8B63-EADE-46A4-BD8A-82214C9CBC8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D018-0C82-496F-A37C-E8785E5ABE0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5B5D-7921-4C3D-BA9C-15F90751F76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0635-6ED4-4E33-BD7E-A79B59F541E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AC26-FAC8-4FDF-AA3C-8FE93DE9741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D5E3-733C-415C-BABE-00F332F513F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D463-87E3-47AC-B166-64E4A58B25D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6AD5-BC66-4D06-8243-609945D3640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907F-6158-4E0E-962E-26F8F5001F3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C210-9FC2-4784-9CF9-D80A854682A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E339-E90B-4C11-B1A0-17BE2F52B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B9FD-E0B7-4E2E-AEE5-D5A2822C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BE9B4-E040-4C6E-855B-E5F2A02A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3B9D47-7DC7-4320-9297-EE1AE5DC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88B401-AC27-4968-B3D4-CBF1B2E9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1053B3-032D-4EF5-92D9-164CA8EA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A68415-2DEB-4481-8493-B908C57C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0A7A51-CDA9-4BBA-A9A5-442D1454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8ED698-F0EC-4D3A-8D26-4CF7EFC1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F6F32D-76CB-4088-80D1-94B418241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20BEF-3951-4C3F-8F8C-824645A5A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6E4E48-E957-4F01-81F7-38D9807E3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F078-AE88-4F92-8174-C012C4935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FF3A73-059C-48B6-A5B8-8DCDD2D9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4B06FF-D1FF-4F1B-8271-14076A16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8176D4-5461-4B8B-A401-D6C1354C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A7CA10-DAB4-423A-AA68-104C6146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5BF21D-3A6E-466F-9C15-649E5380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E59EA0-3DBA-4BA7-B3EF-977F4881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A3698C-EC30-41D4-A217-56F30187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55DC3F-202F-4BA8-9183-5ABC4710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5CB239-3421-472D-AAA0-C715935D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124BF6-C8CD-4AB8-9D03-66365D3B9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78FD-E223-4CDC-9F6F-E065D6CC3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B8207D-FEFE-49B6-B15A-2AB65491A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BBF7-21E9-4C70-A19A-F49871417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5BD0D-B9FA-4C65-855E-E54D6FE5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F25E-4321-4885-A777-0DE4F9F9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A991B-AD55-49E3-A42F-CA816829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3061-043B-41D1-9301-17E5632D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E3F3-B827-4CB6-AB4B-621A9F12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F485F-4A66-4101-8089-6DF25ADD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81F1-0484-4171-A2B2-33429923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7F85-82E9-423A-9F00-E1C7E7CA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7AD2A-AEB3-470C-B6AE-C3DC19A0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2952-6C4F-4F64-B3EF-33204E77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C80B-FD44-40F7-ACD8-FD7551824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70076-8640-4A8B-9EE1-9788E5A0D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AD09A-ACB8-4567-A900-38E0EFC8E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51716-8CCC-4523-B91F-3AE419A2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A3482-B655-4007-8933-C6CEE02F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CCA3C-00B4-4056-BB08-E9DF13B4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ECACD-5B35-4E19-A0AF-58721F58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2956-4039-4386-9621-7E525754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75DC1-BA49-4AF7-91F0-93D593C2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289D3-41BD-4C3C-A0AA-8706F99A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958AF-A87B-4AF7-9F51-01C634C1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A7387-03CE-4A69-AF44-5A16190D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E808F-A524-4BD4-8659-7D5BFA59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3F7D3-A66C-4274-B208-41DF449FD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9F5A8-C5AE-4B9F-9738-1A10F6BB9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A4FBC-B86E-401E-A1A2-2002AE8DE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B0B6C-F355-44D3-B33B-159A56FF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C9C83-DD3D-4473-BFE4-AE5C1A25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C937-BBCB-4C21-82C2-AE035990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48DC0-57EC-472C-8E02-8D2477A4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45BCF-1EF9-4B29-ABB0-F0C3F64C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3E74B-6190-44A8-9EB6-252B6DC3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82F87-DECC-44C8-A452-D347E923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EA402-F004-4B44-93C0-3381AEF9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1CE3D-8733-4DEE-8453-7B85230A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E3F05-E2BD-461F-8257-9744DF8F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0BFE4-E241-4CFD-90D0-6710A2C6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7B80F-7B8B-42FC-8204-BC71D417D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E4B7E-AF76-4764-BB23-44D546A73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3EC4-E8B0-4C7D-B2E4-76C76EE6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3DA86-F7B0-44B9-A579-F9AE753F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14442-1575-43AA-9A53-C88E8B28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83530-CE50-452F-A548-D76F948C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0E6DE-9E9D-4692-BCE4-84FE8784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438AF-28A3-4EBA-86E5-B9990BCE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FFB37-AB61-4BB7-998D-CB9396D1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6213C-FD91-4AB1-A65B-4016052A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CAB73-1A4C-4786-908B-A6856F1C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F3EAA-A2CB-4BF6-BF42-44110281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E7F65-6771-45D4-90BB-D9E8E72EA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5025-BF3C-4409-9E81-70E7DD4A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1C70F-756F-4438-A8C9-BE5F4A2D8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FED96-5FD0-458B-8007-14106014C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D476B-58F5-4FDD-845D-1EB0979B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7D330-B70B-4369-A126-600F4390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75F40-C3F5-44BD-B66B-19A2B636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130B3-644C-4F0F-9985-845B4892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E8389-C81A-4EEF-93E3-1E2C1577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BB40A-9458-4C63-94E7-179D60ED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E8060-F815-4275-A3D9-1A0B0A1F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59C9A-F787-4216-A8BC-AD65FAD2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FBC9-C2C1-4F04-913F-10E4CB89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4105A-DEE7-4AE5-BA88-D8178A90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C2B92-B2C6-46D9-93ED-B0E61377F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68ADF-4D31-4A0D-B9D7-AF4772C9A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96B3B-3DB7-4364-80B0-3734DC26E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8CCC7-4806-4C9F-816A-DB185CF0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F7E79-CA9F-47E3-98A7-21707CEC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044F3-BD35-4366-A781-E28C7A84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71216-D334-4220-88DB-E24578D3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DD4C3-F2AB-45D5-94D4-DC50EA99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51489-0702-4556-8A37-F9E68825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95A6-2CBC-45FD-BC17-3E289401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A5490-DF8D-4169-919B-D582ACAE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9A524-4A7A-44A3-9933-87CA3B91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E578F-5FE1-4BD8-8598-7F600028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533E8-9C19-49D4-968E-7792AD00E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E498D-217C-4355-8AF6-20F7317C8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955B3-873B-4577-912C-D6F2979F7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4026D-152E-426B-8D26-DA886CFE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4D204-0988-4CE9-9266-D803C8AF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E36E4-F20C-4188-BB10-90FE73AC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27D06-2821-4A0C-9C75-00D54D39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61ED-2839-4ED2-85EE-6E24C6D6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263C5-5076-4209-B545-A8545F76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53E02-61DB-422D-86B0-377E5BAD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29494-1A88-4D01-A201-8B483F99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75E25-9963-40B0-8766-914011D1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99AFB-EDED-4FAA-9801-2EA51F01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8C337-5636-4363-BC4A-1D5F8C040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7EEB7-5954-407E-9392-521BD7BBB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919DEA-1C19-40C1-BCDA-4FC63DA9E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9596F4-26B9-48D0-AFA2-71304DB9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EC12EA-75AC-4BF1-8625-D336E82F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0F57-42C6-449D-96B1-F09684FAC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EB05-5FA4-4DAE-AB2A-3A06A809A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Obrázek 8" descr=""/>
          <p:cNvPicPr/>
          <p:nvPr/>
        </p:nvPicPr>
        <p:blipFill>
          <a:blip r:embed="rId2"/>
          <a:stretch/>
        </p:blipFill>
        <p:spPr>
          <a:xfrm>
            <a:off x="3635280" y="115920"/>
            <a:ext cx="1878120" cy="1878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5A25-96B6-4C18-A61D-6FBCF2FC1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54E9-81BC-403E-9002-235304571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7628-BD76-4150-8E12-334C98B19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392E-E515-480A-9043-9890DB4EA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210D-6664-43AE-ABB4-F9997D0BE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653F-6F7E-4B20-A28A-6914F7825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EAF3-1C58-4992-A82B-0624BA0CC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CAB2-4766-402B-A9BC-B6F86CEE6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3716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2. Přednáška FU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četnictví je proces (záznam, třídění, kontrola, prezent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rcholem je analýza účetních informací, (metodicky obvykle analýza, syntéza, formulace závěrů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ílem je zvýšit informační potenciál účetních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zvědět se víc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chází z účetních výkaz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, PL, CF, ES,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ledá vazby a souvisl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aha zhodnotit minulost a současnost a předvídat budouc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edmět zájmu obvyk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tabilita (výnosn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ktivita (obrat prostředk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vidita a solventnost (platební schopn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amentální a Technická analý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undamentální – rozsáhlé znalosti o souvislostech mikro / makro jevů a jejich dopadů, zkušenosti odborníků, zpracování kvalitativních informací (zejména), závěry vyvozuje obvykle bez použití algoritmizovaných postup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– matematické, matematicko-statistické a další algoritmizované postupy, , kvantitativní informace, následné kvalitativní posouzení výsled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ájemně komplemetnární, neexistuje vztah nadřazenosti či podřaze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ky analý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8284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áte z jiných předmět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četnictví funguje jako zdroj informací zejména pro technickou analýz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Šipka doprava 3"/>
          <p:cNvSpPr/>
          <p:nvPr/>
        </p:nvSpPr>
        <p:spPr>
          <a:xfrm>
            <a:off x="1187280" y="3860640"/>
            <a:ext cx="1656000" cy="136872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četnictví (závěr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Šipka doprava 4"/>
          <p:cNvSpPr/>
          <p:nvPr/>
        </p:nvSpPr>
        <p:spPr>
          <a:xfrm>
            <a:off x="2843280" y="3860640"/>
            <a:ext cx="1657440" cy="136872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Šipka doprava 5"/>
          <p:cNvSpPr/>
          <p:nvPr/>
        </p:nvSpPr>
        <p:spPr>
          <a:xfrm>
            <a:off x="4500720" y="3860640"/>
            <a:ext cx="1655640" cy="13687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živa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Šipka doprava 6"/>
          <p:cNvSpPr/>
          <p:nvPr/>
        </p:nvSpPr>
        <p:spPr>
          <a:xfrm>
            <a:off x="6156360" y="3860640"/>
            <a:ext cx="1800360" cy="13687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zhodnu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4" name="Tvar 8"/>
          <p:cNvCxnSpPr>
            <a:stCxn id="463" idx="0"/>
            <a:endCxn id="460" idx="0"/>
          </p:cNvCxnSpPr>
          <p:nvPr/>
        </p:nvCxnSpPr>
        <p:spPr>
          <a:xfrm flipV="1" rot="16200000">
            <a:off x="3886920" y="1843920"/>
            <a:ext cx="685080" cy="6085800"/>
          </a:xfrm>
          <a:prstGeom prst="bentConnector4">
            <a:avLst>
              <a:gd name="adj1" fmla="val -33385"/>
              <a:gd name="adj2" fmla="val 103756"/>
            </a:avLst>
          </a:prstGeom>
          <a:ln w="2844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465" name="TextovéPole 9"/>
          <p:cNvSpPr/>
          <p:nvPr/>
        </p:nvSpPr>
        <p:spPr>
          <a:xfrm>
            <a:off x="2843280" y="543564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pětná vaz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ztah účetních informací a analý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ýza (rozhodnutí) je výs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ýstup může být špatný, protož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ou špatné vstu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stupy jsou v pořádku, ale nebyly vybrány / byly vybrány nevhod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bré vstupy, špatné zprac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bré zpracování, špatná interpretace či prez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mbinace uvedených fakto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ká analý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ní (součet, rozdí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ní (podíl,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zipodnikové / vnitropodnikové soumě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izontální 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kální 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kturální / časový poh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čitost účetních d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 (GAAP) jsou idealistické, skutečnost realistick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istorical costs jsou“špatné“ imanent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stor pro kvalifikovaný úsudek účetního profesionála (Když dva dělají totéž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istota ekonomického prospěchu (100% pohledávek nebude splaceno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stý a nejistý (podmíněný) závaz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mezení základních pojmů ve vztahu k jiným disciplínám (daně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asnosti při formulaci účetních postupů a pravidel – různý výkl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úmyslné a úmyslné chyby účetních profesioná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myly finančních analytik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uchařkovitý pohled „vezmi vzoreček a dosaď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dostatečná znalost systému účetnic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neužívání poměrových ukazatelů (jsou nezávislé, existence doporučených hodnot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pochopení konstrukce vzorců a kontextu doby jejich vzn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05:31:13Z</dcterms:created>
  <dc:creator>dvorakf</dc:creator>
  <dc:description/>
  <dc:language>en-US</dc:language>
  <cp:lastModifiedBy>Mike</cp:lastModifiedBy>
  <dcterms:modified xsi:type="dcterms:W3CDTF">2012-05-16T05:53:48Z</dcterms:modified>
  <cp:revision>47</cp:revision>
  <dc:subject/>
  <dc:title>Vnitřní kontrolní systém účetnictví</dc:title>
</cp:coreProperties>
</file>