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9D16-6DEE-4FF9-B520-3A917DD1BAA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39DC-FFAA-43B4-91B3-EDEFE8DD4F4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D4E1-CDA3-47DB-8DF6-D5C74890D60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D54D-5331-4E9D-9F7E-E34E1FA7F82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5198-4449-4D0F-98E5-FF8B74C50F7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49A4-D23A-4A64-A926-218C2015569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EAAC-59B1-40A7-9D85-18810DA0F22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38B0-7379-4AFD-9E8C-9938982E382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BB5A-59CE-4BF9-B242-54970F1BBBF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AEB8-FE8F-4E31-9029-14428EA4D62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7635-5393-4C6B-9778-BBF6B0380A7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3B9B-A207-4EE3-9A18-356F1D958A8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0EB9-EC70-4260-B467-3465BAE976D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9B96-EDA5-4F77-8C8F-52C017B122F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1AB4-EBD4-4181-919F-DD9783AC6EF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BFC7-ED17-4B54-8CE9-0E947A6AF14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C47-4E89-4D21-A0C5-EF73B568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7B6-36E7-4BC7-BFA4-005ABB13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02312-E3A8-48DF-BE5B-FE99F7D9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583E4-97E8-4779-9280-6824236D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CB6AD-A63A-42F5-860B-30934FDB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145BF-5890-4920-9742-951F22EF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871B0-54E0-4AE7-BD47-9D7143D2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F29F8-153B-4830-9D98-5CC6DA25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05370-9397-435C-B949-C8A7EBA6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78472-73C0-4287-A048-7E58CBD2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28894-5504-4FED-93D3-06A7959D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04FCE-1970-4A73-8AF5-C99F08D7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D461-7035-428B-80D9-2BA4767C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C0F4F-F12A-4976-A510-313D1220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6CA36-0FBC-471E-9DA3-EE6940FC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8D131-F2C7-4472-A254-31017EFF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CEEDD-7968-44CE-A5BE-D587D3D3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F9E30-3D31-4E6D-8126-0ECBDF4C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39A0E-65C6-40AD-8715-5E2A7689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4BB1B-9EE7-4FA3-AF6E-3765FD33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10B71-5880-45E6-AAA1-FE574945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A997A-9348-426F-8EEE-7F39537A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6EA24-CD20-488D-ADC6-91D26B30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ABB-850C-4DFE-A1C1-918EA5E7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F01E9-5239-4037-8090-1EE94279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E52F-6863-4609-8D5A-4C537336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C29A-909E-436C-89B5-F28D7C06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67CA-A25C-4876-9DEC-F5EDD566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8E91-7D33-4C77-AFAB-335DD5AF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7201-C25D-406C-A162-62F8C486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9459-312F-4015-8C16-D1034153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A5E6-487A-44E9-BC98-8B85D98D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9ED-05C1-452B-A547-BFDB988B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E523-0C72-4DF3-AC9F-5F937B7F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7508-8FE2-44C6-BD99-5A9D59E3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1261-3B89-4F3D-802F-514DD372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C6DA-60BE-4BBD-B4A3-03E789AC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D277-E991-45BA-8FDF-DB5356B0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4055D-8B12-4022-A607-9A647902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0ADD2-0312-4BF2-83F0-9B7B2F0E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370EE-1928-4552-9526-DA91CA54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769A2-83CA-41C6-A533-36D0E326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5FD5D-06AE-41E2-8D71-EF45B62E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C373-C70B-45F4-B5F3-7CA43AF0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AA7EC-F425-4B70-ACA0-232EE58E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E5392-AB9E-45B8-BAE9-422165D3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94CA3-703E-4765-AC59-BC0B5530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126CC-257D-4B74-B479-B9DA92A3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FC30E-C036-4B46-9C02-151D5789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0858A-2679-41A6-BC3D-7EF06678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543C6-D416-4C32-A067-9B03C0CA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C56FE-12D4-4851-A37B-76851208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8BBA1-A6EA-46F9-A90A-D18DD9DD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26849-7535-4D46-A526-18EAEF5C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6D1-9F32-4EED-864F-BB2F5316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4707F-7AAF-4AE6-AABB-4605601E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907B1-490B-4550-8972-DF989294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5B530-70BA-45E9-938C-B23FAE65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EB119-2AC0-4D10-9D1F-521972C4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FD489-19AF-4039-BED1-8D324288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8AC02-4AD3-4F3D-9977-5D806A42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C0D62-E4B9-4FE3-93A5-1BEC2D32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F5A1A-1274-422F-9F60-72297629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04914-3AEE-4832-A60B-01B75299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BF746-13F6-48FE-A390-B2D09A34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7057-9FD6-448F-9A80-35D7E9A7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F9D9E-2AAD-4C03-95F9-432BC1E6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A0FC8-9DC3-46A4-99BE-3A70B5A3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DA488-3EAB-496E-97B5-7E950549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5E2CC-023B-46D2-8EBB-3DE9EF2D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41589-71C2-468F-8227-5DB8EE32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573A5-A48C-4C9F-809E-238649C4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ED6A0-A844-4567-8382-42464939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2E4BA-D635-4E30-8170-8D09BC88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3191E-3143-4069-9961-86B86EC8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AA9CD-A4F2-4BA9-9E2E-8ADBDBE3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EB0-FED5-4096-95E3-02DE537D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AD776-1B45-4DC6-9560-2895F3A4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51411-6CD5-45BC-A244-1E66CE8B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CC533-9189-41AE-8019-7DA8190D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0DFE8-F765-48BB-B944-125C0A04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8C869-AE81-48C0-B696-C5B93077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4D622-6785-4258-8A27-A28FC0B0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7AD9D-A7A5-4648-90D6-6D0BAB6D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EF341-5CE7-4330-8CB0-058E1842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4FA32-F159-4415-9BFA-E9F0ED7E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80931-DBD2-44A0-B7D5-2CB4A844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E3F-3643-405C-9126-EB737FF0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60918-FE0B-48A2-8588-42A58155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E45F0-31F1-42E0-9274-8C0A76A2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B3C65-A135-4DC9-8A13-0FA06236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2F3B4-6192-4C59-81A8-CFB98B90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3552C-9341-4EF2-8FE0-7182F1E9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70AF7-99E9-4278-8E56-E3BBD263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D9785-4224-4EB3-BAB3-EE2276E3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F6B95-792E-4A72-A047-30F95868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8F5CD-628E-48AD-B273-8BD6F4D3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46DD8-BF31-4274-8E05-4B38A69F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CB26-BA2F-4B3D-BD4B-4162FF46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EBBDD-CB5C-43DC-AA60-D15715B9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65163-3760-4E10-A244-5570406F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A819B-1BB8-4A2B-9858-8CF23616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63988-F74C-484E-BDDC-3D8282F7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A4197-0D27-4BA8-A823-ADA46ABF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9A16B-9B6D-4BC7-A19C-4788D758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7E851-D712-410C-9255-8A22872D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EF947-EFBB-4601-9277-6EE9424C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E8F3E-0076-4B88-8E5E-C308089C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B5046-5D94-4AFC-88DF-BC4F04EC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E82F-9365-495B-AC55-B98B1F71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929FA-5562-491D-962A-F161B0B4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16A9E-5B32-40A0-AF9F-4E3A87AD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3B31D-7B9D-47BE-84F6-1A2BB3CF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95B3A-9C70-4274-8FF4-91B9C2A2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36089-4DE8-4BA8-9F8F-C607EB37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63A41-1589-4F27-AF4B-0C3EC8E5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0F049-DE18-47B9-B6B9-D493A132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8B4A8-0025-4754-BC29-EF6CD212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57BDA-B342-4478-B6F4-5F7E51A3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D22AA-01D0-4218-B3BB-0ECED8F7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B932-6973-4880-85CC-D4445F3A10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0105-EBC8-419C-B0EC-CC1C9EF2C8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C57C-366A-49D5-A747-B083ED827E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083B-D585-42EB-AB46-EF340D5B1F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32D0-8F70-4C1E-BC94-E6A7518BD7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21A7-D7CD-4156-9E92-1218126210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7B59-8B27-4CE6-AD88-9C4AC3A411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0AAB-44FC-4057-B322-774514278C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3634-F913-4EAE-8621-C2B65D83FA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43B2-9427-4319-86F4-496896982B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ovaná účetní závě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řednáška FU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vahový 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ému datu je konsolidace provedena? K jakému datu jsou sestaveny výk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podniky (M a D) mohou mít různá účetní období (legislativa, geografie, obor podnik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 – mezitímní účetní závě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, ale v povoleném časovém rozmezí (3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shodné rozvahové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ční pravi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závěrka D musí být sestavena podle stejných pravidel jako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není, D vyhotovuje dvě účetní závěrky – pro potřeby individuálního vykázání a pro potřeby konsolidace (např. dle ČR a dle IAS/IF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olidované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parát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statný v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řízení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stor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ýsledovky je zahrnuto zvýšení / snížení hodnoty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ostatních složek VK o takové vlivy, které neprošly výsledovkou (např. aplikace fair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děly ze zisku snižují hodnotu investice (souvztažně s pohledávkou za přiznané divide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kazech zveřej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a, která ovlá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ky, které přebí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, které plynou ze spol. podnikání a podíl na výnosech ze spol.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191628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Investice v 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68360" y="436896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ovéPole 9"/>
          <p:cNvSpPr/>
          <p:nvPr/>
        </p:nvSpPr>
        <p:spPr>
          <a:xfrm>
            <a:off x="5796000" y="3924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lfa vlastní 60% B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1854360"/>
          <a:ext cx="8353440" cy="4457520"/>
        </p:xfrm>
        <a:graphic>
          <a:graphicData uri="http://schemas.openxmlformats.org/drawingml/2006/table">
            <a:tbl>
              <a:tblPr/>
              <a:tblGrid>
                <a:gridCol w="2049480"/>
                <a:gridCol w="1260360"/>
                <a:gridCol w="1260720"/>
                <a:gridCol w="1260360"/>
                <a:gridCol w="1262160"/>
                <a:gridCol w="1260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solid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M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. 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ový podíl 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 upevnění, ustálení, urovnání například zdravotního stavu pacienta po úrazu, politických poměrů nebo financí firmy či státu po období špatného hospodaření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sada „content over form“ – účetnictví zobrazuje realitu bez ohledu na (právní)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kapitálově (i jinak) propojených společností, jak řešit účetní pohled na tuto skut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podíly (investice) mateřské firmy  (M) do dceřiné firmy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 nechce vědět pouze kolik bylo investováno, ale také do kterých podniků, jaká aktiva M kontroluje, jaký vliv má investice na finanční pozici 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čního cel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ovaných účetních výkazů, účetní závě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 – obecný k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Zástupný symbol pro obsah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4078080" cy="4522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 propojené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určit, kdo je M a kdo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, kdy už D zahrnout a kdy nezahrnout do konsolid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ematika konsolidačního ce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vlivu – vyjadřuje podíl na rozhodování Mateřské společnosti v Dceřin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vliv (contro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, podstatný vliv 20% - 50% (significant influence), vyrovnaný vliv (spoluovládání, joint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vl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upě podílu na základním kapit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zavřením smlouvy o podílu na hlasovacích prá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upy ke konsoli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obecně uži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o uživatelů účetních informací znát finanční pozici, výkonnost a změny ve finanční pozici za celou skupinu kapitálově propojených podniků – cílem konsolidace je vidět kapitálově propojené podniky jako j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em vlastníka znát finanční pozici, výkonnost a změny ve finanční pozici podniku, do něhož investoval, cílem konsolidace je doplnit informace o finančních invest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schéma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3"/>
          <p:cNvSpPr/>
          <p:nvPr/>
        </p:nvSpPr>
        <p:spPr>
          <a:xfrm>
            <a:off x="1619280" y="5013360"/>
            <a:ext cx="180036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ovéPole 5"/>
          <p:cNvSpPr/>
          <p:nvPr/>
        </p:nvSpPr>
        <p:spPr>
          <a:xfrm>
            <a:off x="2627280" y="3573360"/>
            <a:ext cx="208908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ovéPole 6"/>
          <p:cNvSpPr/>
          <p:nvPr/>
        </p:nvSpPr>
        <p:spPr>
          <a:xfrm>
            <a:off x="4067280" y="5013360"/>
            <a:ext cx="180000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ovéPole 7"/>
          <p:cNvSpPr/>
          <p:nvPr/>
        </p:nvSpPr>
        <p:spPr>
          <a:xfrm>
            <a:off x="6588000" y="2133720"/>
            <a:ext cx="208764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solidační c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Elipsa 8"/>
          <p:cNvSpPr/>
          <p:nvPr/>
        </p:nvSpPr>
        <p:spPr>
          <a:xfrm>
            <a:off x="539640" y="3357720"/>
            <a:ext cx="6480360" cy="3384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Šipka doprava 9"/>
          <p:cNvSpPr/>
          <p:nvPr/>
        </p:nvSpPr>
        <p:spPr>
          <a:xfrm rot="18978000">
            <a:off x="5857920" y="3252960"/>
            <a:ext cx="649080" cy="288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rozhodující vliv v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azy se agregují, řádek po řádku se sčítají shodné položky A, Z, VK, N, V všech podniků konsolidačního ce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vyloučit vzájemné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ce M v každém D podniku a podíl na VK v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roskupinové trans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řejnění podílu menšinových akcionářů – specifický řádek VK v rozv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6:12:38Z</dcterms:created>
  <dc:creator>mensikm</dc:creator>
  <dc:description/>
  <dc:language>en-US</dc:language>
  <cp:lastModifiedBy>Menšík Michal</cp:lastModifiedBy>
  <dcterms:modified xsi:type="dcterms:W3CDTF">2012-03-30T05:07:11Z</dcterms:modified>
  <cp:revision>104</cp:revision>
  <dc:subject/>
  <dc:title>Mzdová agenda – účetní zobrazení a dopady na firmu</dc:title>
</cp:coreProperties>
</file>