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dt" idx="3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 type="ftr" idx="3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 type="sldNum" idx="3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F14CD-BCE4-4DAD-AF21-65C6DD834B75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7807E-CC7C-4A4A-9BB9-0535ADFB3B3B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3C9DC-D649-48BD-8861-7EB5BA0351D8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04ACE-8098-4F3A-8C01-23344C3C1D2F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A118F-2B7F-4A7A-A85E-BD81E1D60A40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27570-5D28-40D8-B0DD-830CDF43E871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18E32-CA04-4A9F-B4B4-513126F60053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6659D-C9AE-49AD-8C7E-1C53BFCFDE07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7935D-56F2-4D48-A1D0-2840283AF3B5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E0DA7-15BE-49F7-9D7E-D008CB1122C4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AC0DD-2F6E-455F-ABD0-76160A680687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C030B-2CCB-4CAA-B564-D77B74828DD5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A934D-CAFA-4ECC-85B1-75960CBD3782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530CA-D20E-4AF2-83BE-32530B999925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FBC34-5320-45EC-B64C-935842814F70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DE3DD-EC2C-45B0-ACE7-473EEDF6DD3E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6628-0255-493B-850F-C2D7FA0AE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2F78-D4F7-4605-A1A7-8DE6EAEA8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D75795-A79E-4D7D-9509-961202B0A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A6FB34-3502-4A06-BDC6-22642FE91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93BB0D-FF48-4020-ADA4-33A2F03FD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E4396D-2655-49CB-A15F-29F7144CA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1476F2-CCE7-45D8-B40C-4BD6D6326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D5389F-E83D-47AF-9BA3-C57C2E37D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336E0B-DCC1-4555-970D-C769077A9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417EAB-2AB2-40EE-8DAB-3DCCD1263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250192-F6FA-4175-8151-E03D50094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14D456-3FB7-4052-9865-2E17E9EE3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32AB-F8F2-46A1-ABCC-7016801C9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E5AA8B-96EE-4CB5-B5E3-E949E98F7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768EE9-3D53-4A74-B520-19B140D4E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D28DAF-7970-4499-AC1D-BD812C0DA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E962BB-9672-4534-AB0D-4C67F8801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0AD684-36D3-4502-9805-30479BC59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6D9D32-586F-4181-8645-A26DC44CC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298345-9583-4527-8770-3F818A2FB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1F2C91-43DD-49C1-9DDC-1F3BDB97C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C6CDF9-0003-4A9C-A21B-92763778C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D6459D-4CE1-48AD-B3D9-3A02D5B6A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12E1-3FF3-4473-9E25-87ABB73E8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817A53-B2AF-457D-B2AF-C5270DE0E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B6C64-2FAB-496E-9EB5-1D684F5C4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D58AE-492D-41D8-8D96-348C8602F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C3067-34CC-44B6-A0A9-E8BBAFE67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27A44-38B4-46FE-BC2F-1056FE0AC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95441-85E0-4BE2-BA84-3F39225B5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5AEDE-8C32-4FA7-A7D1-6337F3CCE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D3A9E-799C-43AB-AB75-72CD13738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CE8A-2B41-42FD-8695-3A578AF13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4F5C7-6C3D-4C73-A8FF-00D702C9F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B47E9-F498-4ADB-9F38-2FF2485F8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E7D96-9FB6-49D6-82B4-8CD3D236A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55AB9-D3D3-4974-9F38-BDEF7E155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57B58-D2F1-4C8B-85DD-E28B2BDE1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7FD810-7423-498A-83D8-F634D1173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E37D0F-E7A3-496B-A98F-5FCB9ED6E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F31518-C1EB-4791-A47D-E1779C783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40E1F8-AA11-407B-87E5-59EFE5739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B87FDF-A40D-4956-A56A-F28391068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5577-ED79-419C-819C-121DBB007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7E0925-00E1-4325-9B65-2A1DA6DB5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150646-ECD6-473D-A5F2-5ED64EB74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15CC33-7EF0-4448-8251-C6FE821BD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F45708-2ED1-4F4C-B195-7738D41F9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CBA475-6D5A-4155-986F-8109D3464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6A4C71-FCE1-40A1-B455-0CBA34B94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BCD85A-2120-4ACD-BDF1-7B7AAA9D1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816D72-9E8C-43AB-ABA1-F84BD98C3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C0889D-8742-47F8-8992-561764569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CD935A-DC7B-41DE-863B-485335D4A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8106-B222-40FF-9DCE-01D77FA9D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9D5F69-A470-4E4C-BDCB-ED4D4B32E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779D05-194B-4D42-B1FB-5B1644A40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8ED7AE-930E-4B75-A01A-ADB0149FA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1DAD9D-BDEF-42E6-A3F0-86F1F5311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676B4D-EECB-41BD-A21C-E1A4F110D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39467B-226D-4AE2-BF1A-195465558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6AA8E0-FD51-492E-9771-3023171A1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EC1C9C-1F06-4B4C-8556-7D097A801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15B037-4311-48DD-AE2D-3EBA62379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7CCD57-A7BB-4DBA-BFB9-5E0535D64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3277-3BCE-4121-9B3B-2AFB04352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C6E872-F1E6-4495-ADF3-1DD480C19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4DA7B1-E4D4-407A-87F0-76E79472D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4FF652-F81F-4498-9F46-473DC60C6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375C4A-B8F8-4E7E-9BC5-A8278E082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08AEA1-106C-4A32-A441-A8ECC6AFE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DAA8BC-111F-4DAA-AFEE-B28A0A768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6C696E-B8E0-472B-B2B1-BD9B2FA11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CF31A8-D20E-44C6-891D-E05A41D7E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4E6201-5AA6-4EBB-B50B-0E5F8A275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3954BA-30B3-4D25-8D80-20EF9D337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0EF0-8101-436D-BC45-AA5306749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F11D14-2265-4D8B-9409-3B6AE0107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E7452F-07D8-4FAF-A9B6-41D9CA82A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024107-216A-4154-9F85-9CCEB0557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0B8C45-B54F-4621-9F5A-22A098015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AC5719-9CB3-43C3-A785-F33B5F497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366373-FD65-44ED-814B-8EE23A7CD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E4D862-DA05-4F53-80B3-298FDE68B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BC3BA6-11EC-40BA-B8F7-755C65AB3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88487C-FF0F-4080-9DE2-A401DB117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3B168C-D920-4DBC-A097-B4C2054D2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3E49-33FB-4FF3-841C-4D3CEAF4D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68E1DA-B42D-4913-A950-505B99FC2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A6F570-C357-4A48-83C7-9FC054078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73EAFC-7DCB-49C0-BD69-7DD814342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0F8A27-4FD4-40C2-BB55-5BDB82EBC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D81A23-BD25-4F64-AB3F-BB6E44C67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85C361-7AD2-4D00-8D2F-10AB35E0B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DA5CD2-DC7E-4CB4-A2B5-EA4AD6105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C0B637-A449-472C-A0DC-8B96C4359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FF9DB2-FCCD-42B9-9490-B09BCF2E1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9085F9-E84D-44B2-A64C-A02F6ABE6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4DC7-9B37-4C03-B881-4BEC93E47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45B459-04C8-42FB-82D9-8EC4896FD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EE9EC2-90B0-4276-886C-04BBFA418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D905DE-C3C1-45CE-8215-E229FF0B5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657399-1850-487A-8A87-38633E89A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5758B4-F88D-4FC2-95FC-E55CB27E4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8F7618-43A7-46DC-A3EE-24303562A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D78020-C0A6-4038-BE32-E645534B6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1A337E-9C3B-491D-9248-5BCC03E44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A29DC2-47DF-4B4A-8FDB-223F66EA0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B82E49-2D3B-4A51-9041-9620867C6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BFDE-F8D2-48DA-915C-B04613773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01F08D-7278-41B6-AB9F-40EC6D128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797E9F-2BF1-430A-9F5F-AA06BF45A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CC61BD-859D-49DA-A80E-A42148BEF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7E113B-421D-4F45-A010-5CFAE9BB9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C07FF0-13B5-4880-AD9D-FBEFE9834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8D2E02-24C6-4E55-BF1B-B21F1C7B5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60C254-5931-447D-8C10-CF0D7A940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5AA451-4308-48DD-9E98-401DFD5A5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772D8D-EF85-4386-B9AD-6114171D4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2A21F1-B87F-4476-857C-4D9E06DAA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3619E-5C07-4D0D-BC34-A115B441DE9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1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1721A-3C8D-43E3-AA00-A47C3E941B9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Obdélník 8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Obdélník 9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Obrázek 8" descr=""/>
          <p:cNvPicPr/>
          <p:nvPr/>
        </p:nvPicPr>
        <p:blipFill>
          <a:blip r:embed="rId2"/>
          <a:stretch/>
        </p:blipFill>
        <p:spPr>
          <a:xfrm>
            <a:off x="3635280" y="115920"/>
            <a:ext cx="1878120" cy="18781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8C1F8-478A-43CF-BA0C-34FC7E0B8FF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Obdélník 8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Obdélník 9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A1CCE-4208-4A39-ACBB-C8241E8B58D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0F153-C181-4EB2-AA50-F7BA4775636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87685-A730-4B31-84D6-022A364269F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19213-3091-48EB-8976-3EC6C2DBEAD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F5BA9-E600-46E5-8F58-92DC78D5509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3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BB024-0B3E-476A-8083-8166986A80B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7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23714-13F9-4BDC-B9DB-90EA47F50AB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Konsolidace, </a:t>
            </a:r>
            <a:br>
              <a:rPr sz="4400"/>
            </a:b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konsolidovaná účetní závěr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I. Přednáška FU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Rozvahový d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 jakému datu je konsolidace provedena? K jakému datu jsou sestaveny výkaz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ůzné podniky (M a D) mohou mít různá účetní období (legislativa, geografie, obor podnikání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 má jiné rozvahové datum – mezitímní účetní závěr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 má jiné rozvahové datum, ale v povoleném časovém rozmezí (3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 má shodné rozvahové dat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Konsolidační pravid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četní závěrka D musí být sestavena podle stejných pravidel jako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kud není, D vyhotovuje dvě účetní závěrky – pro potřeby individuálního vykázání a pro potřeby konsolidace (např. dle ČR a dle IAS/IF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xist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dividuální účetní výkaz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onsolidované účetní výkaz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eparátní účetní výkaz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Metoda ekvival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dstatný vli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řízení v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historical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 výsledovky je zahrnuto zvýšení / snížení hodnoty inves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prava ostatních složek VK o takové vlivy, které neprošly výsledovkou (např. aplikace fair valu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íděly ze zisku snižují hodnotu investice (souvztažně s pohledávkou za přiznané dividend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Metoda poměrné konsolid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poluovlád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e výkazech zveřej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ktiva, která ovlád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ávazky, které přebír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áklady, které plynou ze spol. podnikání a podíl na výnosech ze spol. podnik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lná konsolidace - příkl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3" name=""/>
          <p:cNvGraphicFramePr/>
          <p:nvPr/>
        </p:nvGraphicFramePr>
        <p:xfrm>
          <a:off x="468360" y="1916280"/>
          <a:ext cx="4680000" cy="2228760"/>
        </p:xfrm>
        <a:graphic>
          <a:graphicData uri="http://schemas.openxmlformats.org/drawingml/2006/table">
            <a:tbl>
              <a:tblPr/>
              <a:tblGrid>
                <a:gridCol w="1690560"/>
                <a:gridCol w="820800"/>
                <a:gridCol w="1349280"/>
                <a:gridCol w="819360"/>
              </a:tblGrid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f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zvah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n. Investice v Be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umul. Výdělk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is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ávazk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lk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lk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f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ýsledov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klad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ýnos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is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84" name=""/>
          <p:cNvGraphicFramePr/>
          <p:nvPr/>
        </p:nvGraphicFramePr>
        <p:xfrm>
          <a:off x="468360" y="4368960"/>
          <a:ext cx="4680000" cy="2228760"/>
        </p:xfrm>
        <a:graphic>
          <a:graphicData uri="http://schemas.openxmlformats.org/drawingml/2006/table">
            <a:tbl>
              <a:tblPr/>
              <a:tblGrid>
                <a:gridCol w="1690560"/>
                <a:gridCol w="820800"/>
                <a:gridCol w="1349280"/>
                <a:gridCol w="819360"/>
              </a:tblGrid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zvah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umul. Výdělk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is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ávazk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lk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lk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ýsledov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klad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ýnos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is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5" name="TextovéPole 9"/>
          <p:cNvSpPr/>
          <p:nvPr/>
        </p:nvSpPr>
        <p:spPr>
          <a:xfrm>
            <a:off x="5796000" y="392436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Alfa vlastní 60% Be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lná konsolidace - příkl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7" name=""/>
          <p:cNvGraphicFramePr/>
          <p:nvPr/>
        </p:nvGraphicFramePr>
        <p:xfrm>
          <a:off x="395280" y="1854360"/>
          <a:ext cx="8353440" cy="4457520"/>
        </p:xfrm>
        <a:graphic>
          <a:graphicData uri="http://schemas.openxmlformats.org/drawingml/2006/table">
            <a:tbl>
              <a:tblPr/>
              <a:tblGrid>
                <a:gridCol w="2049480"/>
                <a:gridCol w="1260360"/>
                <a:gridCol w="1260720"/>
                <a:gridCol w="1260360"/>
                <a:gridCol w="1262160"/>
                <a:gridCol w="1260360"/>
              </a:tblGrid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lož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f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uč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Úprav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nsolida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n. Maj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lkem 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7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9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umu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7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is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nšin. Z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nšin Kumu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nšin Zis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á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siv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7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ýnos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klad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nšinový podíl H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Konsolid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Konsolidac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znamená upevnění, ustálení, urovnání například zdravotního stavu pacienta po úrazu, politických poměrů nebo financí firmy či státu po období špatného hospodaření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ásada „content over form“ – účetnictví zobrazuje realitu bez ohledu na (právní) for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xistence kapitálově (i jinak) propojených společností, jak řešit účetní pohled na tuto skuteč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Východis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rategické podíly (investice) mateřské firmy  (M) do dceřiné firmy (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živatel nechce vědět pouze kolik bylo investováno, ale také do kterých podniků, jaká aktiva M kontroluje, jaký vliv má investice na finanční pozici  ap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xistence tzv.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konsolidačního celku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konsolidovaných účetních výkazů, účetní závěr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Konsolidace – obecný konce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7" name="Zástupný symbol pro obsah 3" descr=""/>
          <p:cNvPicPr/>
          <p:nvPr/>
        </p:nvPicPr>
        <p:blipFill>
          <a:blip r:embed="rId1"/>
          <a:stretch/>
        </p:blipFill>
        <p:spPr>
          <a:xfrm>
            <a:off x="444600" y="1603440"/>
            <a:ext cx="4078080" cy="4522680"/>
          </a:xfrm>
          <a:prstGeom prst="rect">
            <a:avLst/>
          </a:prstGeom>
          <a:ln w="0">
            <a:noFill/>
          </a:ln>
        </p:spPr>
      </p:pic>
      <p:sp>
        <p:nvSpPr>
          <p:cNvPr id="45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ak rozpoznat propojené firm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ak určit, kdo je M a kdo 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ak rozpoznat, kdy už D zahrnout a kdy nezahrnout do konsolida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roblematika konsolidačního celk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íra vlivu – vyjadřuje podíl na rozhodování Mateřské společnosti v Dceřiné společ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ozhodující vliv (control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 50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%, podstatný vliv 20% - 50% (significant influence), vyrovnaný vliv (spoluovládání, joint contro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znik vliv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oupě podílu na základním kapitál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zavřením smlouvy o podílu na hlasovacích práve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řístupy ke konsolidac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šeobecně uživatelsk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ávo uživatelů účetních informací znát finanční pozici, výkonnost a změny ve finanční pozici za celou skupinu kapitálově propojených podniků – cílem konsolidace je vidět kapitálově propojené podniky jako je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lastnick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ájem vlastníka znát finanční pozici, výkonnost a změny ve finanční pozici podniku, do něhož investoval, cílem konsolidace je doplnit informace o finančních investicí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becné schéma konsolid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ovéPole 3"/>
          <p:cNvSpPr/>
          <p:nvPr/>
        </p:nvSpPr>
        <p:spPr>
          <a:xfrm>
            <a:off x="1619280" y="5013360"/>
            <a:ext cx="1800360" cy="1191240"/>
          </a:xfrm>
          <a:prstGeom prst="rect">
            <a:avLst/>
          </a:prstGeom>
          <a:noFill/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Dcera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Rozvah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Výsledovk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TextovéPole 5"/>
          <p:cNvSpPr/>
          <p:nvPr/>
        </p:nvSpPr>
        <p:spPr>
          <a:xfrm>
            <a:off x="2627280" y="3573360"/>
            <a:ext cx="2089080" cy="1191240"/>
          </a:xfrm>
          <a:prstGeom prst="rect">
            <a:avLst/>
          </a:prstGeom>
          <a:noFill/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Matk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Rozvah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Výsledovk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TextovéPole 6"/>
          <p:cNvSpPr/>
          <p:nvPr/>
        </p:nvSpPr>
        <p:spPr>
          <a:xfrm>
            <a:off x="4067280" y="5013360"/>
            <a:ext cx="1800000" cy="1191240"/>
          </a:xfrm>
          <a:prstGeom prst="rect">
            <a:avLst/>
          </a:prstGeom>
          <a:noFill/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Dcera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Rozvah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Výsledovk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TextovéPole 7"/>
          <p:cNvSpPr/>
          <p:nvPr/>
        </p:nvSpPr>
        <p:spPr>
          <a:xfrm>
            <a:off x="6588000" y="2133720"/>
            <a:ext cx="2087640" cy="1191240"/>
          </a:xfrm>
          <a:prstGeom prst="rect">
            <a:avLst/>
          </a:prstGeom>
          <a:noFill/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Konsolidační cele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Rozvah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Výsledovk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Elipsa 8"/>
          <p:cNvSpPr/>
          <p:nvPr/>
        </p:nvSpPr>
        <p:spPr>
          <a:xfrm>
            <a:off x="539640" y="3357720"/>
            <a:ext cx="6480360" cy="3384360"/>
          </a:xfrm>
          <a:prstGeom prst="ellipse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Šipka doprava 9"/>
          <p:cNvSpPr/>
          <p:nvPr/>
        </p:nvSpPr>
        <p:spPr>
          <a:xfrm rot="18978000">
            <a:off x="5857920" y="3252960"/>
            <a:ext cx="649080" cy="288720"/>
          </a:xfrm>
          <a:prstGeom prst="rightArrow">
            <a:avLst>
              <a:gd name="adj1" fmla="val 50000"/>
              <a:gd name="adj2" fmla="val 50021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Metody konsolid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etoda plné konsolid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etoda ekvival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etoda poměrné konsolid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Metoda plné konsolid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 rozhodující vliv v 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ýkazy se agregují, řádek po řádku se sčítají shodné položky A, Z, VK, N, V všech podniků konsolidačního cel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třeba vyloučit vzájemné transak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vestice M v každém D podniku a podíl na VK v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nitroskupinové transak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veřejnění podílu menšinových akcionářů – specifický řádek VK v rozva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06:12:38Z</dcterms:created>
  <dc:creator>mensikm</dc:creator>
  <dc:description/>
  <dc:language>en-US</dc:language>
  <cp:lastModifiedBy>Menšík Michal</cp:lastModifiedBy>
  <dcterms:modified xsi:type="dcterms:W3CDTF">2012-03-30T05:07:11Z</dcterms:modified>
  <cp:revision>104</cp:revision>
  <dc:subject/>
  <dc:title>Mzdová agenda – účetní zobrazení a dopady na firmu</dc:title>
</cp:coreProperties>
</file>