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C02B-AD73-49F7-91DF-3AC51FA9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D024-C8B4-4915-BF0A-15FE5AF6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2050-55E6-4543-B8E8-22872972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253C-5C5D-43D9-8939-35F1414FC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EB2C-C826-4A50-BA7B-BA9E2009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6BF9-A9C4-4FD4-B4E1-F76AA4D0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9B31-C849-4522-A8E4-37DC9376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D7D2-BC94-447E-BA52-919F4FC5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6DE1-6D3B-4E2F-8634-97288CFA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B9CD-D01C-49F4-9FD4-7E4DE982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BD89-244A-4554-ACC6-D4268494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4174-901D-4AB6-91AE-C49A380F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6D43-A1F5-4906-A8A3-C7B3589845B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kladní metodické prvky účetnictv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6. Přednáška FU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Lower of cost or market (LC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nění na úrovni historical cost nebo tržní / realizační / reprodukční cena (cost of replac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bírá se nižš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razem principu opatrnosti (Prudence, conservatis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ím projevem je opravná položka či jednorázový odp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ir Value / Reálná hodnota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klad nešťastně zvolen, leč vžit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– poctivý, spravedlivý, bezvadný, dobrý, přiměřený, správ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na, která by se získala prodejem aktiva / by byla zaplacena za uhrazení závazku v rámci řádně uzavřené transakce mezi účastníky trhu k datu oce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brovolné, nezávislé, dobře informované strany, fungující (operující) tr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ir Value / Reálná hodnota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Value může hodnotit aktivum i na vyšší úroveň než je historical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ouštění principu opatr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kazování dosud nerealizovaných zisků / výnosů – nevýsledkově (zisk v pojetí změny V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á hodno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dnota diskontovaných peněžních toků přijatých / vydaných v důsledku existence aktiva / závaz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kcentuje časovou hodnotu peně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 modelu (realita x mod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da A, Z, VK, N, V odpovídají realit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ud ne, upravuje s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sadní pro „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rue and fair view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á (zákon a po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uditor má právo být přítomen či si vyžád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prv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štění jeho hodnoty v účetnictví (zůstatek, obr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ování hodn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vantifikace rozdí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řádání inventarizačního rozdí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působy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yzická – zejména hmotná ak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kladová – zejmé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hmotná ak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inanční ak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vaz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et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počty kurzových rozdí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počty současných hodnot (termínové operace apod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číslení rezerv (dovolená, záruční servi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vaha / Trial bal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jpoužívanější přehled při práci s účetními informace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obrazuje účetní položky (dle účtového rozvrhu) ve struktuř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 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 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/ souhrn obra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vaha - schematic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tretch/>
        </p:blipFill>
        <p:spPr>
          <a:xfrm>
            <a:off x="108000" y="2041560"/>
            <a:ext cx="88567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sah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 poj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voj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vztaž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ň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ventariz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v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vě podmínky rozpoznání a vykázání prv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 (99,99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cenitel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voj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ký název – Podvojné účetnict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chází z bilanční rovnice (dvě strany rovnice) A = VK + 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ynamické pojetí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=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+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prvek, umožňuje bilanc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kontrol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Ʃ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D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Ʃ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áteční zůst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onečné zůst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vztaž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chází z podvoj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ansakce má dvě strany (MD, 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jsou voleny náhod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jadřují obsah transak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ýkají se relevantních účtů, které jsou transakcí ovlivně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možňuje věcnou kontro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ceňování aktiv a dluh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istence více možností / alternativ jak prvky oce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alternativy s ohledem na GAAP a „true and fair view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ňování chronologic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ocenění / Initial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ásledné ocenění / Subsequent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votní oc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al cost (HC) částka, která byla vyplacená nebo přijatá v řádně uzavřené transak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ena poříz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řizovací 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ominální hodno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eprodukční pořizovací 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ásledné oc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vykle ke konci rozvahového d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votní ocenění nesplňuje GAAP / true and fair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mortizovaná c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ower of cost or market (LC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value / reálná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časná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mortizovaná ce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al cost upravená 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právk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skont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émii at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rávky ve smys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mort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rec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le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8:21:53Z</dcterms:created>
  <dc:creator>Mike</dc:creator>
  <dc:description/>
  <dc:language>en-US</dc:language>
  <cp:lastModifiedBy>Menšík Michal</cp:lastModifiedBy>
  <dcterms:modified xsi:type="dcterms:W3CDTF">2015-02-17T06:58:36Z</dcterms:modified>
  <cp:revision>3</cp:revision>
  <dc:subject/>
  <dc:title>Základní metodické prvky účetnictví</dc:title>
</cp:coreProperties>
</file>