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4E1C-DF25-48C8-86E5-138369B6641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3276-C30E-4B9B-A047-BF82682608B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D3BB-E215-447F-82EA-AC48248498D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8224-D952-4849-8790-27DC3E84D4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C9C3-E8D5-4E9D-A9DC-56CC5D15EBC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C2FD-E177-4759-ACF9-13FA169EEB6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3627-2A98-4EC3-9A74-608E9794BAC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2049-B40B-4BFE-9CCF-D9D0C82A7AD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3ED0-99F4-4DD7-AF04-535F84C88A4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4B78-AC36-44AB-8716-AC312001C3C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BA4-34FD-4634-80F5-A14B19B31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6231-A642-4F77-8EB9-55822B6B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C6C3B-4D6C-4E53-8505-11C4E85E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2B573-B3F4-409F-BE59-5DAEAD3F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8153D-7CE0-407C-B638-1A82D4F8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9DAD8-57F2-421E-871F-84938F84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3A3E8-23B4-4B0C-B29D-2DFE5BB5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64F7E-BD62-42B3-92DD-B4B5A229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8E9D5-430F-4FEF-8473-7EE5ADE4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B2EE0-398C-4E3F-A3C7-2C90AEC7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F925C-C364-4407-A47E-E7A03CD0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44154-8727-47FE-B9F7-4B31DBA2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F83B-BD69-447C-8714-3E28D409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1EA45-70E5-41ED-B9F8-94EE1BB1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6F54A-0AF6-4483-A4C4-3FB9E41B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6DC43-FDB8-465C-95CA-73538541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F8B4A-43A5-4229-9B3E-350E2164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2F125-7947-405D-8120-18956CE0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F3036-A77B-4ADA-AF4C-AB85AA19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B20E6-BC40-4AE3-BB3F-6E809AEF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A2398-4597-462A-BA8C-D91662C2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45769-8BBF-48EA-AFD4-DD16F7F0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B731E-7032-41EC-A78C-C52A4D77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7F2-317F-4EF8-8A9B-CD6C8F71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6984D-F53F-45E1-874E-0F9F8441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1A4D-5664-4D14-A4E4-FBB3821C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6C7B-97B3-4E38-812B-8F8D5249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28F9-1020-4E67-8EBB-C3FD3E4F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1EC4-A1E7-47E8-98B9-391C98B4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1259-B1A5-4212-8243-2C507E03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3F76-A173-4E24-BFCD-8A5CA0C0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9352-B266-4907-A28C-F20E3756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0AA-B705-4539-81C5-B45FD926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1E11-9E9B-4E0E-9550-0DB7C333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580D-8C02-403B-9F53-F6B5E076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C8E9-3C12-42FA-80FE-D088767A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93E4-039D-4B57-91E9-4BD471A3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ED96-93F9-414D-B814-A68A8C7F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299F8-4756-4C6C-BBB9-3AE8D9DE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D201B-000E-4E32-A148-2A6EAD78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D8C18-259F-4041-BAAF-849012F4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31112-5EBB-4C7E-9F16-81C4539E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BF9BA-B8CD-4D7F-95D5-8AB88EDD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862-8B01-4C68-B13A-AECF1176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B505D-617F-47C7-B03D-E3F3FCDE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6F137-081F-4932-B50C-FC96960F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E114B-C548-4AEC-9D39-C4FE2ED7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AB98B-766D-4141-85B4-BDAAED43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02A66-06E0-434D-91E5-9CBEC048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0806D-A77D-497B-94E7-89103468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BDDC7-F896-49BE-97A1-0A90D967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BA4FE-459F-441E-9D54-7FE225ED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4ED45-3AAE-41E6-840F-E36CAA49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11D15-3A75-4EF5-B504-FC0A8D0A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ECA-2A47-46E8-BFC4-7E3EB225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7D4ED-C037-4E99-8DA2-2BBE9CA2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96B34-14FB-43B5-9F00-435CCAED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D533E-AD57-4A02-8899-73645C32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BCB37-8140-4AE9-92A0-055C53AD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C1A47-5524-482B-8282-584D2AB4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692F1-1A47-472A-A25F-4E4A49CD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07C9A-1CEB-4610-BC87-E6356E40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5CDC2-C22D-4FF9-8E73-B0EE57EF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A672F-F11E-4C93-AF3F-184F655C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DCC8B-B5CF-4F93-88A3-C299B0D9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586-D293-4127-B879-9EBD0689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BB76D-D0B3-4838-A1C1-FAE0BDB5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F1424-F95B-41C4-A470-0B1F86BE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E7481-B1DA-45C8-B93B-78DDB892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2EA3D-715A-417C-BC26-C0657D31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BB5A9-FF68-4A02-83CE-F162DB13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9DBA3-930B-4B5A-AA0E-09C27F73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A00A5-0F95-43AD-8271-63494BB2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4F3FE-9BAB-43EC-BDCE-FC95CD1B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88EB7-297D-4349-8039-E53121E6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1D549-B44B-410F-8383-C0B1875E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0DF6-18ED-4152-9DAA-01DDDF41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3AB32-D584-47D6-9BFF-071BE9F5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BEE3E-4BE1-49DB-B7CF-A1FAF7AD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487E5-1E35-4240-ABCC-3D8E2A7E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5AB81-1FEA-4737-8DE3-BBD49588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62D61-A8B3-46E5-9282-4731E216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664CD-75AC-4E1F-91EF-EB57CDE5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098AF-1B93-4990-A5E9-B03A0FB9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E0065-6E57-43D1-A1C5-909B4DA9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990F1-7A2D-4594-8FCD-BC0384BD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82148-40D8-4B24-9812-0B707772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962-31BC-4190-A7B9-37C99462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BE834-48DA-46ED-B685-24DFB845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42E52-AA50-4CAB-BD5C-48F018C1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AAB23-A7FC-4AAD-8A8B-928CF32C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F24F1-D352-4AA2-8231-B2625EE0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1056A-ACF3-4DFE-8CC7-E5D2ABF2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5A92C-F8E9-45BF-94CA-5782E4DF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C7C4F-21F3-4BCD-BDE6-E754ED8D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48713-113B-4D00-B552-7CE1AA7C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3A92F-75CD-4619-AF6F-BA3D092A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9D684-46DB-4E0F-88DA-29C0BA0F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37D-37FF-4A6C-9163-EC8C29B3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8B2DB-05FE-4F21-86A9-3D00335C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2DDBF-4312-4812-A155-35067EEE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511B1-4B5E-45AA-846B-78EB0CAE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151D4-4301-4C6E-BEBC-4E2C4D8C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DE9EE-7235-46FF-BA52-7A6534DE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4B385-B3E2-498D-892D-5E7DD4DC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E6D49-1144-4F6E-8DB8-14397962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0F0B3-2520-4B82-AFF4-1C9358F1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392CC-9C50-4838-95B5-CD5338D9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8AD80-4E62-493B-8419-86AA5275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1C1-5E4E-49A0-93BF-87B5893C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11218-6E00-47EB-BC16-CD32A83D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6BE7E-EA92-43CB-A117-6A486EF6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F6C42-7FC6-44AA-A1E4-4B6A5FF0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ABFC4-0D00-4D4C-991E-E9A5F44A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0B89D-29B1-4E8D-8614-2F6C5AAC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BDA39-42D7-4915-8E6D-892A3594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EC9A4-D7A9-45A9-A566-22FD03D1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A65F9-E7A8-4807-A614-4CF6E0E0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A190D-7DD1-42B1-8DB8-4AD5A172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60F85-046E-4CB8-A371-963073AC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97E5-5353-4992-BECB-0AE9F273B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40C8-42EF-4CB5-8F87-2FDDBA20A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7D3B-55B6-455B-8EF1-D040F472C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7783-20C3-41B4-828B-67C2D799D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2441-1715-4DD4-B39D-6343E7991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D12D-9ECB-44F5-8B03-618EE13CF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F8D7-6EA2-4061-9197-8935E90EA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1278-52A0-4A90-A813-376DCFE51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AEE4-9EA8-4FA2-9DC1-006F27905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AF45-A2F1-4EDB-B1EF-632C1DBC6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. Přednáška F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je proces (záznam, třídění, kontrola, prez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cholem je analýza účetních informací, (metodicky obvykle analýza, syntéza, formulace závěr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lem je zvýšit informační potenciál účetních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vědět se víc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chází z účetních výka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, PL, CF, ES,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edá vazby a sou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ha zhodnotit minulost a současnost a předvídat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 zájmu obv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ta (výnos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a (obrat prostřed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vidita a solventnost (platební schop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ální a 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damentální – rozsáhlé znalosti o souvislostech mikro / makro jevů a jejich dopadů, zkušenosti odborníků, zpracování kvalitativních informací (zejména), závěry vyvozuje obvykle bez použití algoritmizovaných po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– matematické, matematicko-statistické a další algoritmizované postupy, , kvantitativní informace, následné kvalitativní posouzení výsl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ájemně komplemetnární, neexistuje vztah nadřazenosti či podřaz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ky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áte z jiných předmě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funguje jako zdroj informací zejména pro technickou analý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Šipka doprava 3"/>
          <p:cNvSpPr/>
          <p:nvPr/>
        </p:nvSpPr>
        <p:spPr>
          <a:xfrm>
            <a:off x="1187280" y="3860640"/>
            <a:ext cx="1656000" cy="1368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tnictví (závěr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Šipka doprava 4"/>
          <p:cNvSpPr/>
          <p:nvPr/>
        </p:nvSpPr>
        <p:spPr>
          <a:xfrm>
            <a:off x="2843280" y="3860640"/>
            <a:ext cx="1657440" cy="1368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Šipka doprava 5"/>
          <p:cNvSpPr/>
          <p:nvPr/>
        </p:nvSpPr>
        <p:spPr>
          <a:xfrm>
            <a:off x="4500720" y="3860640"/>
            <a:ext cx="1655640" cy="136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Šipka doprava 6"/>
          <p:cNvSpPr/>
          <p:nvPr/>
        </p:nvSpPr>
        <p:spPr>
          <a:xfrm>
            <a:off x="6156360" y="3860640"/>
            <a:ext cx="1800360" cy="1368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Tvar 8"/>
          <p:cNvCxnSpPr>
            <a:stCxn id="463" idx="0"/>
            <a:endCxn id="460" idx="0"/>
          </p:cNvCxnSpPr>
          <p:nvPr/>
        </p:nvCxnSpPr>
        <p:spPr>
          <a:xfrm flipV="1" rot="16200000">
            <a:off x="3886920" y="1843920"/>
            <a:ext cx="685080" cy="6085800"/>
          </a:xfrm>
          <a:prstGeom prst="bentConnector4">
            <a:avLst>
              <a:gd name="adj1" fmla="val -33385"/>
              <a:gd name="adj2" fmla="val 103756"/>
            </a:avLst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465" name="TextovéPole 9"/>
          <p:cNvSpPr/>
          <p:nvPr/>
        </p:nvSpPr>
        <p:spPr>
          <a:xfrm>
            <a:off x="2843280" y="5435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tah účetních informací a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(rozhodnutí) je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tup může být špatný, proto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u špatné v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upy jsou v pořádku, ale nebyly vybrány / byly vybrány nevhod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vstupy, špatné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zpracování, špatná interpretace či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ce uveden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ní (součet, rozdí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(podíl,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podnikové / vnitropodnikové sou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k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ní / časový po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čitost účetních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 (GAAP) jsou idealistické, skutečnost realis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cal costs jsou“špatné“ imanen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or pro kvalifikovaný úsudek účetního profesionála (Když dva dělají totéž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istota ekonomického prospěchu (100% pohledávek nebude splaceno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stý a nejistý (podmíněný) zá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základních pojmů ve vztahu k jiným disciplínám (daně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asnosti při formulaci účetních postupů a pravidel – různý vý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úmyslné a úmyslné chyby účetních profesion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yly finančních analyt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chařkovitý pohled „vezmi vzoreček a dosaď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dostatečná znalost systému účet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eužívání poměrových ukazatelů (jsou nezávislé, existence doporučených hodno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ochopení konstrukce vzorců a kontextu doby jejich vz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1:13Z</dcterms:created>
  <dc:creator>dvorakf</dc:creator>
  <dc:description/>
  <dc:language>en-US</dc:language>
  <cp:lastModifiedBy>Mike</cp:lastModifiedBy>
  <dcterms:modified xsi:type="dcterms:W3CDTF">2012-05-16T05:53:48Z</dcterms:modified>
  <cp:revision>47</cp:revision>
  <dc:subject/>
  <dc:title>Vnitřní kontrolní systém účetnictví</dc:title>
</cp:coreProperties>
</file>