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268-CFF9-4141-808D-D4581434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612E-315A-40E4-B550-5CA5B01A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68D-910E-4C87-AB82-C938F612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5E9A-E320-41EF-97D4-114ADB3B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ABA-0EEF-4733-9B92-CD72241D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72BA-C051-4955-94B9-315C496E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B0F3-99FE-4CAF-AB82-67840DDE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18EC-E89E-42C2-A26D-74822965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10C-EAE6-4F50-BFB2-3C215AD5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D73-817B-4EF3-94F2-B88894E5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EAB-5EF2-4B1D-BDA0-DE425D53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E8E-BF9B-4D48-AA4C-26DE3BB6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C19D-B6BD-401F-B9B4-D14E765993E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h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4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ztah Rozvaha – Výsledovka - C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14200" y="2421000"/>
            <a:ext cx="8713800" cy="277488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>
            <a:off x="1692000" y="3573360"/>
            <a:ext cx="165564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5292720" y="3213000"/>
            <a:ext cx="208764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1835280" y="5300640"/>
            <a:ext cx="5472000" cy="949320"/>
          </a:xfrm>
          <a:custGeom>
            <a:avLst/>
            <a:gdLst/>
            <a:ahLst/>
            <a:rect l="l" t="t" r="r" b="b"/>
            <a:pathLst>
              <a:path w="3946" h="598">
                <a:moveTo>
                  <a:pt x="0" y="46"/>
                </a:moveTo>
                <a:cubicBezTo>
                  <a:pt x="669" y="322"/>
                  <a:pt x="1338" y="598"/>
                  <a:pt x="1996" y="590"/>
                </a:cubicBezTo>
                <a:cubicBezTo>
                  <a:pt x="2654" y="582"/>
                  <a:pt x="3621" y="98"/>
                  <a:pt x="3946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az CF a metoda výpo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metody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á - tok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přímá – z rozvahových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vazbě na metodu je potom použit odpovídající výkaz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lýza účetních transak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tovostní transakce musí obsahovat údaj o kategorii CF (provoz, investice, finan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ovnává příjmy a výd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římá metoda – výkaz C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38200" y="1268280"/>
            <a:ext cx="8137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a na bilanční rovnici (VK = A – Z) v dynamickém vyjád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klad hypotetických prodejů a nákupů, zadlužování a splác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14640" y="692280"/>
            <a:ext cx="46180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problematiky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tah Rozvaha – Výsledovka –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az o peněžních tocích a metoda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nron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+ budoucí ek. prospěch, kontrola, pří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- budoucí ek. prospěch, odtok, nevyhnute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kapit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tiva -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no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výšení ek. prospěchu během úč. obd., + V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nížení ek. prospěchu během úč. obd., -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i jedna z definic nezmiňuje hotovostní toky (akruální bá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hodně aktiv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zisk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ýt ve ztrátě ≠ mít málo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tovost a její vývoj jsou pro firmu zásad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kvid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easu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atební neschop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F sleduje vývoj a stav peněžních prostřed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ťuje kde a proč jsou prostřed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ískávány – Příjmy (flow 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dány – Výdaje (flow 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vídá vývoj a případnou finanční tíse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hotovosti v kontextu 4 rozvahových změ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ová – vydělávám / utrácím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výsledková – půjčuju / splácím / investuju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xe ukázala potřebu peněžní toky struktur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vozní / opera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vestiční / inves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cování / financ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ky v souvislosti s hlavní výdělečnou činností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dej výkonů a prodej finančních akt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 vstupů (materiál, zboží, služby, mzdy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adné, pokud ne – firma prodělává nebo neumí inkasovat trž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stič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řizování a pozbývání dlouhodobých ak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výda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vidend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skytnutí dlouhodobé půjč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F z financ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krátk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é úvě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ry (zejména o N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dlouh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mise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uh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mise dluhopi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ankovní / nebankovní úv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plata divid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58:15Z</dcterms:created>
  <dc:creator>Mike</dc:creator>
  <dc:description/>
  <dc:language>en-US</dc:language>
  <cp:lastModifiedBy>mensikm</cp:lastModifiedBy>
  <dcterms:modified xsi:type="dcterms:W3CDTF">2014-03-03T06:56:03Z</dcterms:modified>
  <cp:revision>4</cp:revision>
  <dc:subject/>
  <dc:title>Cash Flow</dc:title>
</cp:coreProperties>
</file>