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2F24-5742-4CF2-A9A1-493578A601E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7F93-913C-4A00-A451-D190C77A734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5158-03F3-4730-B071-DDBCDAF559E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76AF-9C60-4AA6-88AD-9726AB18698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094D-35EB-4520-A2BD-166502DBE4F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AF90-3702-42A5-AF6A-C97C4B32397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4317-F76C-45A9-9F3D-E754FE1C299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8407-5AFC-459C-B406-F62B0536D1D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E670-3D68-47E1-9B35-F7C24E42B58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BF9C-5632-44DD-BA2E-867AB8383ED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15BD-1B1C-4974-955A-E779EB1B8C2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57FA-444E-4566-B068-CB6635CCFAD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539A-80DB-4ED0-8DB5-25BE98943F1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D4C4-2573-4FCD-91E4-9F2976F1DE7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D8C2-02B6-4BA3-86A1-FD6ABA048AA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1452-0AA3-4492-A238-5431F2A126A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667F-6387-45B9-9C2A-C24F8FFF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CDB2-B3E3-4FA5-A3D0-35098122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16E27-2D19-417A-A20A-B30CBE0D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55130-F238-4D90-8C6A-97AE21C7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F7B2E-B8D3-4639-B1AD-87D7ADCE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CC44B-EE16-4650-9264-552C865F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C9267-43AD-4C98-8776-6E955814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C8457-E080-417E-B630-0D059112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1BB52-DB45-492F-AF8F-6A305A5D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329E1-9FBA-4F42-B425-FC657EEA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A0956-B2C5-4C62-8D1D-B497DAE8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0AFCC-E515-4962-A798-7C285A85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3F05-A72F-42B3-B81B-1E1E172A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E374C-BB7D-4284-8124-014C7A31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08560-03B9-4BD2-9DD4-59E3FEC7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1888C-5E87-46BF-8574-B380CE35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F5844-A7F9-4E93-9469-13BE2C61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42EA2-7850-4593-801E-F38414F3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027F1-8652-41B9-B3F4-59BBFCDC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1AA55-99EF-4E0C-BB24-18F62164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B06CB-448D-45A1-A474-E1A71C8F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E008E-25B8-43A1-BDEA-3C23C7EC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5B805-F448-4AFE-965A-DB99DE3F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2893-766E-4D47-BA97-66AAF1D0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DE29A-40AE-483C-8FD2-B20A2EB9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5248-602A-4D6A-B013-AF8E6C53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0038-A4F2-4E13-A37F-459A0BAD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A087-AB6D-411E-86DB-31A25A9B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3D76-2929-47F8-8287-D04FB138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690D-F5AA-4364-8AA7-4FD32733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2614-50FE-46DB-A7E1-C17678A5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F63F-9946-48AA-91CD-B571F450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16AF-69B8-44DB-A375-CC7C2AD4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382F-3751-470C-A4B6-550F402C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1DC9-ABFC-4E62-BF6F-6573C036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1E51-4EE4-47C5-A5FD-D8699FD0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29BE-4ACF-4D72-8D7A-D3E56F2B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AD59-D68C-4B8B-975B-412FF5E2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CCF23-17D6-459A-9E8B-EACB8DB0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5A4FF-64BB-4973-844F-139BA7F9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2D2E8-FCE4-4F99-8289-1BAEAD15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7A964-AD66-4671-B106-23997989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B260B-592A-4D14-82CA-80D6F2CE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C651-1F29-44B2-AF4A-76DE1B27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2767E-A4B6-4B20-A294-F1403B58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57E1C-66A1-40C7-B5DB-9514C9F9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9DBBD-9EC7-495D-86EA-4FF7DC21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B86B5-7685-43C6-BF05-A964FE0C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5D424-A0C9-40CE-B5F2-96B09883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1742E-5E8A-4BDD-BD1A-1B6D9CBD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4FFE0-1A51-4627-95EA-2D0A5C7C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3E00F-5845-499C-9B90-F895384E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CE836-FF32-46CA-BCA9-F399561D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B44ED-1058-45D5-9EE5-34BB0C19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7C19-85C2-44DD-91BD-06E20A91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D8B27-C44B-4592-B041-6F6839C0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2ACE6-A61B-4E15-B9E7-D0CAA104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DE4AC-3DEE-4FCC-9A63-40D8F018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BE33A-19B7-4F1B-B148-E749CCA1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02026-879E-4730-AC4A-CC4FCEF9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398E2-6B3A-4E73-AF7D-22493C9A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415ED-0E93-42F5-A091-8553474B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1E7BC-1172-4CD4-95C4-257DCDB1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339D4-8ECA-4D42-AE7B-02335DA2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02677-1EDF-4C3E-A3C9-03E513E0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48ED-A78E-4408-B24D-486DA0FA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1D3A0-D0D3-4A4F-82C8-B81B221F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E7FC4-77A8-4ACD-B35F-38666F74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AFE3D-06D2-4251-A6CA-5AD7F96E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0AF85-10D3-46F3-A56B-F513FB37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98017-55F1-4903-866A-DD35451F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03361-E208-497D-B433-556469A0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454AF-BCB7-416D-8CCC-ABD65C4C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D809C-9295-441A-A8E7-2CDAD26E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706C2-F91B-495D-95CD-DE1E2D79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6A0A9-1610-4FAA-9AFC-EEF93FE9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BA12-835C-495F-80E0-96B91462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31C8B-734F-43E6-9C8C-F5DAFFF2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409F2-F90A-4632-816F-D8F3454A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9FCA9-0A2A-46DE-AF42-64F4FD14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CD414-628E-40CB-9465-06EF8647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7F576-C6A8-4B72-9C77-ABD960B3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E0D2A-AE58-4DDE-A010-49F8C1E6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518C4-82A4-489C-A7E4-704A8DA7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75AB1-CB86-4840-AE8F-3682B314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7C08B-421E-4906-9EA6-DD326295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0BDCC-E828-4253-AA69-1FEAA512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953-98DD-4DF8-A66D-158E6C9A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4A826-C81E-4A96-A818-1D00C3DE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F6C84-29C2-4AD9-A5C8-181CA517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2E449-029E-42EC-BDF2-B64158AD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C05F1-5D4A-404C-8D8E-131978DF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BB24D-1527-491F-922D-74BC1BBE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613F0-BDDF-477E-8BE0-B1DD3002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BED1D-E218-472A-8ADC-FA492E8F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E1404-3DFF-42BD-AB42-D1671B89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C66A8-6750-46EA-92D0-6737D0D8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B40AF-D580-4858-A857-7FA7304C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62E-A8EC-4653-8D70-B560DD05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C11CE-1A72-418B-88BE-836AE094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97BEB-B46A-4F6C-9415-8E73C75B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924B4-2A5D-4010-88B4-28BD7C94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08DF4-833C-4F4E-959D-E5F0E471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4026D-C4AB-4DE8-B87E-87F2D568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D423A-8646-4350-9E40-370FE0A8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DA149-3AC3-4953-8E48-CEB431E6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9441A-8A1A-4F20-9276-5F0CF58D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7918A-4D57-439D-B2EB-0F806B3B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F5B37-EF31-4034-B115-87D2A22D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81BE-4831-40FD-BF81-00BD0D22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17210-7D7A-4EDA-9F17-DF20DC7D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4D38E-5B55-4CDE-B461-58C4074D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3B536-619E-4D8A-8041-14E3C59B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B5CB3-B4FC-421D-90E3-83AF391B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5A0FB-A2A8-4C73-9C1C-32FC5B87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C435E-B7BD-4E8B-9A94-4167F213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ADDF4-18B3-41A1-8B08-A8B42738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797E3-A006-4C70-9E83-9538719A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8FE5F-5A4C-4F8D-AC07-112C29FF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671CB-B777-49F3-842D-0ED0AE2F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8DA6-8304-4210-ABD4-FCB66936A5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DE66-6107-46B2-A78C-CFD2AA8D39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4216-9AA2-4FAA-AC5D-CB09ED2956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3702-F8BF-4E32-BF58-25D6A7D422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8E0C-0400-47DB-AF02-C4EE00536C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A4AF-8FF1-4BAA-BB0A-D6DB336BD8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55A7-BF9D-46CD-A6F7-AA102C4098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1A82-6C7C-4524-A8BD-FDD5C148EE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8680-9180-4E59-9FA9-4B2B48D048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0AE8-A591-4451-B9A2-CD24EF5C1B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ovaná účetní závě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. Přednáška FU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vahový 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jakému datu je konsolidace provedena? K jakému datu jsou sestaveny výkaz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ůzné podniky (M a D) mohou mít různá účetní období (legislativa, geografie, obor podnik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 – mezitímní účetní závěr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, ale v povoleném časovém rozmezí (3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shodné rozvahové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ční pravi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závěrka D musí být sestavena podle stejných pravidel jako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není, D vyhotovuje dvě účetní závěrky – pro potřeby individuálního vykázání a pro potřeby konsolidace (např. dle ČR a dle IAS/IF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olidované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parát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statný v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řízení v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istor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výsledovky je zahrnuto zvýšení / snížení hodnoty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ostatních složek VK o takové vlivy, které neprošly výsledovkou (např. aplikace fair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děly ze zisku snižují hodnotu investice (souvztažně s pohledávkou za přiznané dividen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kazech zveřej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a, která ovlád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azky, které přebí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, které plynou ze spol. podnikání a podíl na výnosech ze spol.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68360" y="191628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Investice v 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468360" y="436896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ovéPole 9"/>
          <p:cNvSpPr/>
          <p:nvPr/>
        </p:nvSpPr>
        <p:spPr>
          <a:xfrm>
            <a:off x="5796000" y="3924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lfa vlastní 60% B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95280" y="1854360"/>
          <a:ext cx="8353440" cy="4457520"/>
        </p:xfrm>
        <a:graphic>
          <a:graphicData uri="http://schemas.openxmlformats.org/drawingml/2006/table">
            <a:tbl>
              <a:tblPr/>
              <a:tblGrid>
                <a:gridCol w="2049480"/>
                <a:gridCol w="1260360"/>
                <a:gridCol w="1260720"/>
                <a:gridCol w="1260360"/>
                <a:gridCol w="1262160"/>
                <a:gridCol w="1260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č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pra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solid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Maj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. 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ový podíl 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namená upevnění, ustálení, urovnání například zdravotního stavu pacienta po úrazu, politických poměrů nebo financí firmy či státu po období špatného hospodaření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sada „content over form“ – účetnictví zobrazuje realitu bez ohledu na (právní) for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kapitálově (i jinak) propojených společností, jak řešit účetní pohled na tuto skut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podíly (investice) mateřské firmy  (M) do dceřiné firmy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 nechce vědět pouze kolik bylo investováno, ale také do kterých podniků, jaká aktiva M kontroluje, jaký vliv má investice na finanční pozici 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čního celk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ovaných účetních výkazů, účetní závě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 – obecný k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Zástupný symbol pro obsah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4078080" cy="45226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 propojené fir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určit, kdo je M a kdo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, kdy už D zahrnout a kdy nezahrnout do konsolid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blematika konsolidačního cel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vlivu – vyjadřuje podíl na rozhodování Mateřské společnosti v Dceřiné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vliv (control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5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%, podstatný vliv 20% - 50% (significant influence), vyrovnaný vliv (spoluovládání, joint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 vli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upě podílu na základním kapit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zavřením smlouvy o podílu na hlasovacích práv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upy ke konsolid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obecně uživatel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o uživatelů účetních informací znát finanční pozici, výkonnost a změny ve finanční pozici za celou skupinu kapitálově propojených podniků – cílem konsolidace je vidět kapitálově propojené podniky jako j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jem vlastníka znát finanční pozici, výkonnost a změny ve finanční pozici podniku, do něhož investoval, cílem konsolidace je doplnit informace o finančních investi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schéma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ovéPole 3"/>
          <p:cNvSpPr/>
          <p:nvPr/>
        </p:nvSpPr>
        <p:spPr>
          <a:xfrm>
            <a:off x="1619280" y="5013360"/>
            <a:ext cx="180036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ovéPole 5"/>
          <p:cNvSpPr/>
          <p:nvPr/>
        </p:nvSpPr>
        <p:spPr>
          <a:xfrm>
            <a:off x="2627280" y="3573360"/>
            <a:ext cx="208908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at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ovéPole 6"/>
          <p:cNvSpPr/>
          <p:nvPr/>
        </p:nvSpPr>
        <p:spPr>
          <a:xfrm>
            <a:off x="4067280" y="5013360"/>
            <a:ext cx="180000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ovéPole 7"/>
          <p:cNvSpPr/>
          <p:nvPr/>
        </p:nvSpPr>
        <p:spPr>
          <a:xfrm>
            <a:off x="6588000" y="2133720"/>
            <a:ext cx="208764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solidační cel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Elipsa 8"/>
          <p:cNvSpPr/>
          <p:nvPr/>
        </p:nvSpPr>
        <p:spPr>
          <a:xfrm>
            <a:off x="539640" y="3357720"/>
            <a:ext cx="6480360" cy="33843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Šipka doprava 9"/>
          <p:cNvSpPr/>
          <p:nvPr/>
        </p:nvSpPr>
        <p:spPr>
          <a:xfrm rot="18978000">
            <a:off x="5857920" y="3252960"/>
            <a:ext cx="649080" cy="288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 rozhodující vliv v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kazy se agregují, řádek po řádku se sčítají shodné položky A, Z, VK, N, V všech podniků konsolidačního cel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 vyloučit vzájemné trans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stice M v každém D podniku a podíl na VK v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roskupinové trans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řejnění podílu menšinových akcionářů – specifický řádek VK v rozv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6:12:38Z</dcterms:created>
  <dc:creator>mensikm</dc:creator>
  <dc:description/>
  <dc:language>en-US</dc:language>
  <cp:lastModifiedBy>Menšík Michal</cp:lastModifiedBy>
  <dcterms:modified xsi:type="dcterms:W3CDTF">2012-03-30T05:07:11Z</dcterms:modified>
  <cp:revision>104</cp:revision>
  <dc:subject/>
  <dc:title>Mzdová agenda – účetní zobrazení a dopady na firmu</dc:title>
</cp:coreProperties>
</file>