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21104-B53E-4369-999D-9491BC7C7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F2A19-63BC-4337-8A0C-178B7A9B5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FBDFEB-751D-496F-B068-8C897F06D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4DD6F4-055C-4F7A-B6FB-388B17D59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CB9256-B99E-4287-8525-C991C3900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70E8B8-7E8E-4C0E-A82B-CC8ADB7CE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463151-8392-4D52-9F2C-6372B1804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D1F030-CBB4-437C-9964-040A1E6FC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6386B2-6DBE-4936-A718-147ED89D9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A3DFE6-75E3-4F6E-A4FF-18939091F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92701F-CEB5-444A-B158-DAF89E8CB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BDDD0F-9AFF-42B2-938D-8D64A0202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8E60F-5B9F-4D68-9ED0-03A278273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01B1B5-F6C8-4AA7-923B-524A80B08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8A07AE-18F4-403D-86E1-771C67731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051BF2-E6D7-4607-99E4-0B193EDCF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A008EC-4721-445B-9732-864BBCDF0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9582EB-B77A-4518-B2BA-E7CEC26D6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10E96C-0E1F-482C-901C-DD9D3B409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A4F66A-AA94-4489-A91C-C1FB5E0EF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49FD24-AA5D-4636-BF1B-EBA8641E8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EDA4F0-FA84-4859-953E-E5361055C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7C0A28-8BC5-4FC4-A2E4-702AA355F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BE523-D388-4308-99F6-767E25FB2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8963F2-6860-48AA-8382-599D7A9CC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C89E9B-B6B4-435E-A165-8F968212C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C84635-D097-41CC-A7F2-762016E20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F7E2AB-F895-47EB-9DA3-977B6604B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195E4D-56C9-4B21-A90E-031BD55D5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C0E191-FB85-44F3-B404-81BDED409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193787-3E6F-429C-A69C-A28B5F204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F968E2-016D-4CAD-B1FF-C95A71F10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788B28-FD07-44D5-89C6-A5515A3CD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C8686F-49F2-4E7E-8F13-83446674A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74892-589D-4B9C-91AC-8F0ECD1FB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630936-61F0-48D3-8506-6DDDD5DC0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912D1E-7667-404F-8120-6256CB70F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FD4481-F957-4955-BC04-82C8AA9C6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1BB48-4637-4D1E-980B-EB8FA45D1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88F19-7DA8-4CBF-B2A1-F1B4C6577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27B5F-3CB9-4E4A-BFBB-65B5533B1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0706D-DF2D-4190-9D6F-1199D61A5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D403B-5F8E-4C2C-B3E2-C5960A9FB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9CF3D-FC1B-4FFF-9CA3-0848E1A0D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AF828-6163-47A8-A2DD-CE7C3AC80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B3E48-5701-43D5-AAAD-B00731682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D0988-85FA-461B-B45E-1F34AE6E0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7FDE7-7477-463F-92BB-E4172A575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D5873-FDDE-44ED-AA5D-72C2BA8CA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DBB0B-A007-43B7-BA6F-F2B2C9204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84844E-E386-4E66-A119-90AB2BB8A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06C399-B2D8-472A-AC99-44046D35A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F9EDF7-7F19-44A8-8745-560672E9D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200B7C-3133-4368-9BCB-3CB73D0EC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373BD3-A71A-4D5B-83B4-F1CA118F2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047D6-C5FA-4826-8744-F0C2AF272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0AA456-A1D4-4A7F-9B3E-A6FBE18DD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66BB88-BDF7-4B21-B933-42BAA296A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FF1985-FDB8-4E1A-99C8-E5BE7C1F3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6B24F7-6D1B-4664-9192-DFCE97AD5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C1E86C-230A-4C44-91FC-1CAF396B4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C4B6E3-4C29-4A5B-9EA6-357C64D9B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348F3F-A95C-4B8F-A349-BEEF2880D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1EAF7F-17CC-4F9D-95B5-2542B96F4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DF0400-094A-4675-A303-384E86247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9F7345-AA18-47E2-9E7B-C5EDB4485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9D46C-1A77-4208-AF1E-73320C0CB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32666F-2DB7-4D90-9799-BFDEAF290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187577-04F3-4570-BC6B-1C84BCAE7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EDADD7-D066-4013-9A3E-BC1235DA0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4E4EC5-A3F5-4DBD-9200-8AB02F85F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C6F630-386A-4D05-9813-F342164A5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EB4365-D6DC-461C-89EE-CEE7DAE3B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CB436D-06D2-4A2F-91EE-9C52CCB5E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F47762-C976-400A-9E14-E7AA17C3E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660E27-FA6E-4865-9A35-BB5B8AFDD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C50A60-5AA0-411F-BA21-2B6D0D58A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B8F71-2B46-4DA8-83E5-3B8E119AE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5EBD66-8C22-48CB-AF4A-7DCAEC428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7FB5B8-00FF-4704-B0B6-E13C6BD2C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E5187B-55F2-450F-BE7E-C54B3E809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919A7F-A7CE-40F7-913A-83D356CD2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26614A-A922-4023-9407-6ABCF8EB5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E150AB-EB6D-4505-BF3E-7116E36CF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8D414D-CF86-480D-AA74-DA4EBB1DA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03C290-8AD4-4F78-9F24-CC7A32B13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69662A-5F5D-4BA5-80D8-D36467AF2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49E4A8-627A-4315-AF17-7B022C8EA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DEB3B-EADD-4B22-9CC3-A0DA0331F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1B0A83-9D6D-4138-84CF-54EB41F8D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888DEB-E49C-45D7-B33E-D3BA69A2D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CF14F2-1D38-468B-AD50-D2B109F18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C68658-3D91-4EED-A2E3-D636F3B42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5E514A-5481-4FE0-B2D3-4E29BC1C7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8581A0-E8D2-4565-BD10-16D14C5DC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5AE3EC-A165-47A1-9C0E-CC81C8D28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1C79BE-5CF0-42AF-BC1D-A23039370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0CBBD1-D1DA-45DE-9F94-DEDB999D4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9B83D6-8EC5-48CC-85BA-272A13450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9EF95-347E-40DB-8BBC-A9F991B4B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ED82EF-09CF-4798-A97B-C63DC2483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96BE01-F818-40FD-B154-2CFCBBB28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3B78E3-A720-4FCA-98C0-3B2489C86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FDBD31-EDD3-4D0E-84E1-AE16BA711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A2CDAB-0F15-4616-AF6C-DBB2295C9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F08E67-D826-433F-ABEB-CC331EB85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F28093-FAA9-4ACC-AD67-22D0B0D66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613261-3117-452D-A864-EBEE32A21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2307AF-B84A-48DA-8FB5-0EE455508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D870A9-7D3C-47B8-BB0B-45248CFBA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FBDB6-F5BA-4558-9691-1C7C3EA6A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594ECF-38BC-4ECB-A768-A533202F1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C8ABA7-D91C-40F5-AC91-FE9D18500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3ED44D-8087-4489-9820-E0DBC4446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41C6F4-FDD8-4238-9E37-6D82BA200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D313B3-1511-49EC-B755-34A2FF319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0279F4-99FB-49FF-AD9E-D9D7F69DE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1EB43B-88EF-4C97-AEBC-D047E6C6C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416DBB-317E-4EEE-BF41-7705534AB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6B7697-3E6B-46CE-848A-83C3AFF70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EDB7C7-84DA-481E-A016-1BEAC9043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01F18-299C-4E1D-986E-3E8C46B3A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EFA1AE-2A8F-43FC-BB17-D6B0D38FB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904CAF-1E09-46E5-976A-4E7528211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5D31FB-6BE8-4345-A9C5-B9B886B30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433ED5-8631-4F6C-8AC5-EB8BF7C5A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D0BD80-4302-4901-8142-72BAAE3AE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521136-7004-4A6A-B375-1285FCD8C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C13285-81BC-4830-8820-016E52D76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EAE7A5-05B2-40B5-B202-C9BED42B7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71B146-6807-47F3-8E0A-A85B39986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8ACBF0-9860-4A90-B165-8FA97021E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Times New Roman"/>
              </a:rPr>
              <a:t>Strana </a:t>
            </a:r>
            <a:fld id="{8F406AE2-8843-4895-98D5-0B1D6A57E78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20801-65AC-4CA9-8195-994BE5A927B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3BD59-A3A9-4AF4-83F5-12A3E4492A5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2FA68-928A-4065-8C1C-6A9CB504CDA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C7896-4B4C-4B47-80F2-9EC36168E36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F7CA7-2F1E-4FC1-9B1B-77684B43160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CFFD2-E072-40A3-ADA7-9D55AD4E84F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CFB72-9A93-49C3-ADDB-3FD43353BA0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0398A-4859-4AF4-9444-4A84F18CCCD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7040D-C374-44B7-ABCA-B8888F22868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8BFF8-A4FA-449A-AB8F-5F7C1AA8C96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Zobrazení podnikatelského proces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subTitle"/>
          </p:nvPr>
        </p:nvSpPr>
        <p:spPr>
          <a:xfrm>
            <a:off x="137160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800" spc="-1" strike="noStrike">
                <a:solidFill>
                  <a:srgbClr val="898989"/>
                </a:solidFill>
                <a:latin typeface="Calibri"/>
              </a:rPr>
              <a:t>5. Přednáška FU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Modely oceňování záso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FIFO – „potrubí“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LIFO – „truhla“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HIFO – nejdražš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SC – je to stál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ům. cena – všem stejn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Individuální oceněn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Výrob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stupem je technologie a materiál a lidská prá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Odrazem jsou odpisy, spotřeba materiálu a mzdové náklad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ýstupem jsou polotovary a finální výrobky, které se prodávají na trh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Odrazem jsou tržb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Účetní schéma výroby - druhově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5" name="Picture 7" descr=""/>
          <p:cNvPicPr/>
          <p:nvPr/>
        </p:nvPicPr>
        <p:blipFill>
          <a:blip r:embed="rId1"/>
          <a:stretch/>
        </p:blipFill>
        <p:spPr>
          <a:xfrm>
            <a:off x="179280" y="1743120"/>
            <a:ext cx="8785440" cy="45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Účetní schéma výroby - účelově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7" name="Picture 4" descr=""/>
          <p:cNvPicPr/>
          <p:nvPr/>
        </p:nvPicPr>
        <p:blipFill>
          <a:blip r:embed="rId1"/>
          <a:stretch/>
        </p:blipFill>
        <p:spPr>
          <a:xfrm>
            <a:off x="252360" y="1676520"/>
            <a:ext cx="8640720" cy="44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Cost x Expen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Co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Nevyčerpal svou užitečnost – rozvah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Expen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Vyčerpal svou užitečnost - výsledovk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Struktura přednášk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Opakován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Účetní zobrazení procesu, výkonem jso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Služb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Obchodování (zboží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Metody evidence záso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Metody oceňování záso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Výrob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Druhové zobrazen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Účelové zobrazen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12238-7B19-4623-88FA-145231078C8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Opakování 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Účetnictví je způsob myšlen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Učte se myslet, neučte se (jenom) účtov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Mějte na paměti hlavního uživatele účetních informac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ČR je malá, budeme světoví (IAS / IFRS, GAAP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Bez práce nejsou koláče“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Olivy vydávají olej jen když jsou drceny“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Účetní zobrazení podnikatelské činnosti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odnikání – transformace vstupů na výstup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Soustavná činnost, vlastním jménem na vlastní odpovědnost za účelem dosažení zisk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3 typy podnikán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Služb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Obcho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Výrob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Služb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stupem je pracovní síl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Odrazem jsou mzdové náklad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ýstupem je služb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Odrazem je tržb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Nehmotná povah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Obtížné skladování – nedokončená výroba či hotové výrobk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Účetní schéma služe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3" name="Picture 4" descr=""/>
          <p:cNvPicPr/>
          <p:nvPr/>
        </p:nvPicPr>
        <p:blipFill>
          <a:blip r:embed="rId1"/>
          <a:stretch/>
        </p:blipFill>
        <p:spPr>
          <a:xfrm>
            <a:off x="179280" y="1527120"/>
            <a:ext cx="8785440" cy="456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Obcho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stupem je zbož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Nakoupené a prodané zbož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ýstupem je zbož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ržba za zbo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oces / transformace je změna v místě a ča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Účetní schéma zboží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7" name="Picture 4" descr=""/>
          <p:cNvPicPr/>
          <p:nvPr/>
        </p:nvPicPr>
        <p:blipFill>
          <a:blip r:embed="rId1"/>
          <a:stretch/>
        </p:blipFill>
        <p:spPr>
          <a:xfrm>
            <a:off x="250920" y="1784520"/>
            <a:ext cx="8569080" cy="44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Metoda evidence záso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A – průběžn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Z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Nákupy na skal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Výdaje ze skald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KZ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B – periodick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Z do nákladů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Nákupy do nákladů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KZ dle evidence z nákladů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8T15:38:14Z</dcterms:created>
  <dc:creator>Mike</dc:creator>
  <dc:description/>
  <dc:language>en-US</dc:language>
  <cp:lastModifiedBy>Menšík Michal</cp:lastModifiedBy>
  <dcterms:modified xsi:type="dcterms:W3CDTF">2015-02-17T06:57:07Z</dcterms:modified>
  <cp:revision>12</cp:revision>
  <dc:subject/>
  <dc:title>Finanční účetnictví 1</dc:title>
</cp:coreProperties>
</file>