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notesMasterIdLst>
    <p:notesMasterId r:id="rId12"/>
  </p:notes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notesMaster" Target="notesMasters/notesMaster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dt" idx="3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 type="ftr" idx="3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 type="sldNum" idx="3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862D8-6C4F-45B3-AE35-6CAE42312764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6395D-A15A-4D89-B0B3-9862E0D2CD35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17BF0-2216-414B-8BCA-6533BD2768C8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5DBF1-D5CB-4B36-9612-E998E5358E54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6071F-A727-418F-A72A-D01640DF61EC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DA689-63D3-47D3-A845-FE1D97DDEA18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60C8C-7F36-4D09-AC16-6D64D052C53B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B2CB5-02F3-4069-BEDC-5AA4B90D4CE4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4109C-2BE6-41D9-8431-97C83FD70F02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560CF-6CCF-45DE-96DF-20176ECC5F48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D559E-A73B-4428-95BF-A18B2036D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D38F4-34C1-49D9-B1D4-BE3D9CFFC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DF71D7-063A-46D3-8552-AC7CD602E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61AFA4-118C-4E77-BFB9-7282F1A1E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4235C6-E021-4805-999B-E6D6A7BE1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096599-BEC0-4904-AF8E-AE1035490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184476-1655-4D8B-9026-82412F12E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CD03CE-D6AF-4AD2-BF78-FC7E2E1F1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C3DA22-FD59-45DB-8DF0-6A01DD523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5B4E36-B53D-4CDD-8B0A-4A43D6760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89008D-160A-465C-9547-499E06E26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90A37F-4ACB-4D87-ADCB-3205A86D0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F65A1-F222-49ED-9D08-AA38DE84A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F71518-CD2A-438A-9291-6FBD426EF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EA2853-7439-4D7F-ABB0-00CF1C58C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DB8772-B414-45D6-A7C2-D0BFF8B2F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F29747-8715-4009-87E8-02D4A7471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6DEBD3-224C-4685-8FED-9BCFBBC57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C95E94-4560-482E-BB71-B6B87C156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BC968D-B7B0-49AE-84BF-975F823CC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027EE6-C239-4DD8-B8D5-7957D0FD2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091D04-9499-425D-91B3-CD12E2B34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2E53A5-FA2C-417E-BD96-C9E42DA47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6D5F1-F582-41F6-A1FC-B81718811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49570F-736B-489E-A263-49CAA52E2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7B66D-FC27-4A8E-859E-54EB3AC68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ABA30-521B-4BF2-B584-56577CF22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CAFEF-D09E-4289-B22E-EDC06CBDD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93EE1-BCA8-4AB7-BFC3-851DE8F49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46E11-2678-4832-8B4F-29B370937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23B52-8CC6-4517-B766-104DD7844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EE9BA-0F07-4EB6-9F4C-E228E3EC2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AC247-0649-4A46-BA3C-CE13A9253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3D7C4-1522-4E8B-88E7-4FED53704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BDF43-0CC3-4EAC-A04B-E462EA883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C41BA-FFC5-4F51-B23D-D99660B12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0676F-48FE-4EE7-BEC8-16FE62398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23EC0-9525-4129-83BB-281F97048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681C7C-A703-4612-B794-72D6C5EA5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560B91-1B45-4208-BBED-6451E9834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C3D734-AF84-490C-B434-419959899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5F3550-6C8A-4339-8CBF-BE2A8F34C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1FA903-5AA0-4DDD-AFCD-A09BA2FD0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C5AE0-0FB0-4A41-AE39-07EE809E0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618B9F-875A-4A2E-A61F-C8ED320B0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259FD2-3EE3-46B7-A5B4-1B96FD9A8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D92ED0-1B63-4D67-BD9E-A11565A7E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AF0D96-86AD-42D8-BD3A-4295A3685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1E7242-5112-4412-B8AB-5EA6D30DF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613DCB-A2AE-487C-8026-E67464D30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3A46A3-192F-4E71-BE79-64202BFA2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693123-C07D-459A-9A3E-6BDC61875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ACEECE-E376-48F9-AF5E-5148FC568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98DBC3-2315-48B9-A08E-7BBAEA410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C5B79-8439-4D7D-AAEB-446426976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3D468F-CED3-4AC9-AD91-1DB507568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FBB8A2-D74C-4C02-BA28-B16901CDC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8C6EDC-BDDD-4ADE-89F7-86F44898F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60CF0E-B634-4A8C-B2D3-9584C7741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CCEDA4-64B5-45F4-B023-CD83D9497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6C5BE8-3AB4-42C4-99DF-D9B2C97D7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8708A1-8CFB-4290-816F-D75F84B36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0EE2AE-B2EC-4CE0-9C7C-8A6BB014C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4A68E0-A6B6-4817-A433-72623BF89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0B5BA5-1516-4DF3-BDA0-3328C4AF4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79F88-76F2-44CE-A37D-5D3FFD6F0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19F84D-924C-4BE7-A251-BC0679D5D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39DE77-F4F9-4FDF-ADCB-8648BB449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701C1D-DA84-446E-B0C6-D67C8C0ED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08D624-DFFE-48A7-B95C-0BC698740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0420FF-4D57-4F83-B1A6-526F0EDDC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A020C9-5B37-449F-8676-07BFA02C0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3280F4-E9BB-4E56-A967-42D6BADF5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6EF08E-214D-499C-BA4B-F594072BF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6A067D-DBA4-41DC-9500-977BFE4F1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3BDB06-C029-44F4-9B3F-E87E9CF47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9FFCB-C2CC-40A6-A4AC-BA8AC0EAE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445435-5A59-4EE7-BCB9-BBC605003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013BB2-C9D2-482A-8DF9-0C4BD4D03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B50927-64C3-4090-93FF-74E6307F3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1B2D4B-BE4C-45A9-B3D7-BF18829EE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2B77DF-10B8-4B54-9037-AC8BFC785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B1E3ED-214A-4E99-BF03-7DC9268E8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B0EFCE-7965-4B6C-A926-D6A23EEBA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D71CA9-9477-4F52-B8E1-A2869EABB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B6ED1F-CCDB-4724-9502-633A19DD4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93A9EF-F1A2-4667-940A-504644E3E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35A74-B134-4D14-B03C-7BC844BFA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9BEB23-E2FD-455C-B8B2-80ED4C444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1F85B9-C6CA-41D3-93BC-052E4AD41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801B9D-CF21-4EEB-8980-AB4A69AD6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03188D-1431-40FB-8789-353942854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937EA9-2BC5-448D-AB6E-7B8BEA21B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5580B3-CD66-4FA9-810F-BAF3E5122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CA6AE5-3BDB-4D1D-B400-BD51F9144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223253-9E26-4D97-A238-CC05B3D48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C056F3-1289-448C-B513-EC67B261C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CDD416-B496-41C1-A83A-6A1BA1B35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70522-3C79-4A39-B920-4F59BE916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F81A45-C451-4ECB-8EB9-181034ED5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C198BE-E78D-4F28-897C-D6399AEA3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E14772-EB6B-42B8-8FF6-2C2576880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1C435F-4EFE-439D-AE77-50E99A89A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166CC4-15AB-497A-9A8D-FCAFCC0F9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CB3EB4-0FF7-47A8-966C-744F69ACA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F8CADB-5B1E-4110-9A09-7191F4511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36D12E-C1FE-420B-8F1D-C1D816B8F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A675C3-50F5-4527-8FB7-75422B6D7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00656D-4376-4B5C-AF04-4E8816A52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5A676-B21A-40E4-BE2A-90F798F75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7B0C29-916C-4A35-B914-E1ECBE1AC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B43BB7-985F-4009-9FC3-ADD10690D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4C6875-698F-4DDE-AC47-61AD01D37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B38C0E-E3C6-4D3F-8A71-A2D37B0ED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77FA19-099E-4FC7-97E2-14BB48645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1EBF93-D446-4A76-A35A-ADC0A89B3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642231-7812-4CEF-B715-122B6FC02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FD2E0F-0557-4464-A602-90568D6DE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2C8972-5957-43BC-B7C6-90F8C7D31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541F7D-738C-4587-944F-B80F24F6E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Obdélník 6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Obdélník 7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40CF7-7791-42DD-BFB5-807942FFBA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Obdélník 6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Obdélník 7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Obrázek 8" descr=""/>
          <p:cNvPicPr/>
          <p:nvPr/>
        </p:nvPicPr>
        <p:blipFill>
          <a:blip r:embed="rId2"/>
          <a:stretch/>
        </p:blipFill>
        <p:spPr>
          <a:xfrm>
            <a:off x="8317080" y="44280"/>
            <a:ext cx="792000" cy="792360"/>
          </a:xfrm>
          <a:prstGeom prst="rect">
            <a:avLst/>
          </a:prstGeom>
          <a:ln w="0">
            <a:noFill/>
          </a:ln>
        </p:spPr>
      </p:pic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95D65-5168-443F-9919-5387FD9C34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bdélník 6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bdélník 7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bdélník 8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bdélník 9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Obrázek 8" descr=""/>
          <p:cNvPicPr/>
          <p:nvPr/>
        </p:nvPicPr>
        <p:blipFill>
          <a:blip r:embed="rId2"/>
          <a:stretch/>
        </p:blipFill>
        <p:spPr>
          <a:xfrm>
            <a:off x="3635280" y="115920"/>
            <a:ext cx="1878120" cy="18781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84AA0-12B1-453D-8FF0-584A5603F4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Obdélník 6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Obdélník 7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Obdélník 8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Obdélník 9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Obrázek 8" descr=""/>
          <p:cNvPicPr/>
          <p:nvPr/>
        </p:nvPicPr>
        <p:blipFill>
          <a:blip r:embed="rId2"/>
          <a:stretch/>
        </p:blipFill>
        <p:spPr>
          <a:xfrm>
            <a:off x="8317080" y="44280"/>
            <a:ext cx="792000" cy="79236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718BA-936B-426D-9B53-B31C342A23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Obdélník 6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Obdélník 7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Obrázek 8" descr=""/>
          <p:cNvPicPr/>
          <p:nvPr/>
        </p:nvPicPr>
        <p:blipFill>
          <a:blip r:embed="rId2"/>
          <a:stretch/>
        </p:blipFill>
        <p:spPr>
          <a:xfrm>
            <a:off x="8317080" y="44280"/>
            <a:ext cx="792000" cy="79236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C9B89-19C4-414F-B622-2D1E4A3B65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Obdélník 6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Obdélník 7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Obrázek 8" descr=""/>
          <p:cNvPicPr/>
          <p:nvPr/>
        </p:nvPicPr>
        <p:blipFill>
          <a:blip r:embed="rId2"/>
          <a:stretch/>
        </p:blipFill>
        <p:spPr>
          <a:xfrm>
            <a:off x="8317080" y="44280"/>
            <a:ext cx="792000" cy="792360"/>
          </a:xfrm>
          <a:prstGeom prst="rect">
            <a:avLst/>
          </a:prstGeom>
          <a:ln w="0">
            <a:noFill/>
          </a:ln>
        </p:spPr>
      </p:pic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16B3C-F1EC-4E82-86CD-5466C0C58C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Obdélník 6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Obdélník 7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Obrázek 8" descr=""/>
          <p:cNvPicPr/>
          <p:nvPr/>
        </p:nvPicPr>
        <p:blipFill>
          <a:blip r:embed="rId2"/>
          <a:stretch/>
        </p:blipFill>
        <p:spPr>
          <a:xfrm>
            <a:off x="8317080" y="44280"/>
            <a:ext cx="792000" cy="792360"/>
          </a:xfrm>
          <a:prstGeom prst="rect">
            <a:avLst/>
          </a:prstGeom>
          <a:ln w="0">
            <a:noFill/>
          </a:ln>
        </p:spPr>
      </p:pic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1D3E1-9E15-46E2-8B56-810E04D9A3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Obdélník 6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Obdélník 7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Obrázek 8" descr=""/>
          <p:cNvPicPr/>
          <p:nvPr/>
        </p:nvPicPr>
        <p:blipFill>
          <a:blip r:embed="rId2"/>
          <a:stretch/>
        </p:blipFill>
        <p:spPr>
          <a:xfrm>
            <a:off x="8317080" y="44280"/>
            <a:ext cx="792000" cy="792360"/>
          </a:xfrm>
          <a:prstGeom prst="rect">
            <a:avLst/>
          </a:prstGeom>
          <a:ln w="0">
            <a:noFill/>
          </a:ln>
        </p:spPr>
      </p:pic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2346B-C687-4AFE-B19F-6A26C6BC46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Obdélník 6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Obdélník 7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Obrázek 8" descr=""/>
          <p:cNvPicPr/>
          <p:nvPr/>
        </p:nvPicPr>
        <p:blipFill>
          <a:blip r:embed="rId2"/>
          <a:stretch/>
        </p:blipFill>
        <p:spPr>
          <a:xfrm>
            <a:off x="8317080" y="44280"/>
            <a:ext cx="792000" cy="792360"/>
          </a:xfrm>
          <a:prstGeom prst="rect">
            <a:avLst/>
          </a:prstGeom>
          <a:ln w="0">
            <a:noFill/>
          </a:ln>
        </p:spPr>
      </p:pic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391B7-E739-4C8F-AB1F-ACFE41F5AE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Obdélník 6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Obdélník 7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7" name="Obrázek 8" descr=""/>
          <p:cNvPicPr/>
          <p:nvPr/>
        </p:nvPicPr>
        <p:blipFill>
          <a:blip r:embed="rId2"/>
          <a:stretch/>
        </p:blipFill>
        <p:spPr>
          <a:xfrm>
            <a:off x="8317080" y="44280"/>
            <a:ext cx="792000" cy="792360"/>
          </a:xfrm>
          <a:prstGeom prst="rect">
            <a:avLst/>
          </a:prstGeom>
          <a:ln w="0">
            <a:noFill/>
          </a:ln>
        </p:spPr>
      </p:pic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8509E-D778-4B8F-98B1-0258C823FF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alýza účetních výkaz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subTitle"/>
          </p:nvPr>
        </p:nvSpPr>
        <p:spPr>
          <a:xfrm>
            <a:off x="137160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2. Přednáška FU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alýza účetních výkazů 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Účetnictví je proces (záznam, třídění, kontrola, prezentac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rcholem je analýza účetních informací, (metodicky obvykle analýza, syntéza, formulace závěrů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ílem je zvýšit informační potenciál účetních informac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zvědět se víc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alýza účetních výkazů 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ychází z účetních výkaz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S, PL, CF, ES, No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ledá vazby a souvisl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naha zhodnotit minulost a současnost a předvídat budouc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ředmět zájmu obvyk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ntabilita (výnosnos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ktivita (obrat prostředků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kvidita a solventnost (platební schopnos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damentální a Technická analýz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undamentální – rozsáhlé znalosti o souvislostech mikro / makro jevů a jejich dopadů, zkušenosti odborníků, zpracování kvalitativních informací (zejména), závěry vyvozuje obvykle bez použití algoritmizovaných postup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echnická – matematické, matematicko-statistické a další algoritmizované postupy, , kvantitativní informace, následné kvalitativní posouzení výsledk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zájemně komplemetnární, neexistuje vztah nadřazenosti či podřazen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chniky analýz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457200" y="182844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náte z jiných předmět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Účetnictví funguje jako zdroj informací zejména pro technickou analýz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Šipka doprava 3"/>
          <p:cNvSpPr/>
          <p:nvPr/>
        </p:nvSpPr>
        <p:spPr>
          <a:xfrm>
            <a:off x="1187280" y="3860640"/>
            <a:ext cx="1656000" cy="1368720"/>
          </a:xfrm>
          <a:prstGeom prst="rightArrow">
            <a:avLst>
              <a:gd name="adj1" fmla="val 50000"/>
              <a:gd name="adj2" fmla="val 4999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Účetnictví (závěrk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Šipka doprava 4"/>
          <p:cNvSpPr/>
          <p:nvPr/>
        </p:nvSpPr>
        <p:spPr>
          <a:xfrm>
            <a:off x="2843280" y="3860640"/>
            <a:ext cx="1657440" cy="1368720"/>
          </a:xfrm>
          <a:prstGeom prst="rightArrow">
            <a:avLst>
              <a:gd name="adj1" fmla="val 50000"/>
              <a:gd name="adj2" fmla="val 49991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alý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Šipka doprava 5"/>
          <p:cNvSpPr/>
          <p:nvPr/>
        </p:nvSpPr>
        <p:spPr>
          <a:xfrm>
            <a:off x="4500720" y="3860640"/>
            <a:ext cx="1655640" cy="1368720"/>
          </a:xfrm>
          <a:prstGeom prst="rightArrow">
            <a:avLst>
              <a:gd name="adj1" fmla="val 50000"/>
              <a:gd name="adj2" fmla="val 4998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živat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Šipka doprava 6"/>
          <p:cNvSpPr/>
          <p:nvPr/>
        </p:nvSpPr>
        <p:spPr>
          <a:xfrm>
            <a:off x="6156360" y="3860640"/>
            <a:ext cx="1800360" cy="1368720"/>
          </a:xfrm>
          <a:prstGeom prst="rightArrow">
            <a:avLst>
              <a:gd name="adj1" fmla="val 50000"/>
              <a:gd name="adj2" fmla="val 4999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ozhodnut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4" name="Tvar 8"/>
          <p:cNvCxnSpPr>
            <a:stCxn id="463" idx="0"/>
            <a:endCxn id="460" idx="0"/>
          </p:cNvCxnSpPr>
          <p:nvPr/>
        </p:nvCxnSpPr>
        <p:spPr>
          <a:xfrm flipV="1" rot="16200000">
            <a:off x="3886920" y="1843920"/>
            <a:ext cx="685080" cy="6085800"/>
          </a:xfrm>
          <a:prstGeom prst="bentConnector4">
            <a:avLst>
              <a:gd name="adj1" fmla="val -33385"/>
              <a:gd name="adj2" fmla="val 103756"/>
            </a:avLst>
          </a:prstGeom>
          <a:ln w="28440">
            <a:solidFill>
              <a:srgbClr val="b6dcdf"/>
            </a:solidFill>
            <a:miter/>
            <a:tailEnd len="med" type="arrow" w="med"/>
          </a:ln>
        </p:spPr>
      </p:cxnSp>
      <p:sp>
        <p:nvSpPr>
          <p:cNvPr id="465" name="TextovéPole 9"/>
          <p:cNvSpPr/>
          <p:nvPr/>
        </p:nvSpPr>
        <p:spPr>
          <a:xfrm>
            <a:off x="2843280" y="5435640"/>
            <a:ext cx="30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pětná vazb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ztah účetních informací a analýz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alýza (rozhodnutí) je výs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ýstup může být špatný, protož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sou špatné vstu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stupy jsou v pořádku, ale nebyly vybrány / byly vybrány nevhodn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bré vstupy, špatné zpracová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bré zpracování, špatná interpretace či prezent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ombinace uvedených faktor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chnická analýz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solutní (součet, rozdí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ní (podíl, inde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zipodnikové / vnitropodnikové souměř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rizontální analý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kální analý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ukturální / časový poh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určitost účetních d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edpoklady (GAAP) jsou idealistické, skutečnost realistick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Historical costs jsou“špatné“ imanentn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rostor pro kvalifikovaný úsudek účetního profesionála (Když dva dělají totéž 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ejistota ekonomického prospěchu (100% pohledávek nebude splaceno apod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istý a nejistý (podmíněný) závaze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ymezení základních pojmů ve vztahu k jiným disciplínám (daně apod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ejasnosti při formulaci účetních postupů a pravidel – různý výkl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eúmyslné a úmyslné chyby účetních profesionál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myly finančních analytik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uchařkovitý pohled „vezmi vzoreček a dosaď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edostatečná znalost systému účetnictv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neužívání poměrových ukazatelů (jsou nezávislé, existence doporučených hodnot, …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epochopení konstrukce vzorců a kontextu doby jejich vznik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6T05:31:13Z</dcterms:created>
  <dc:creator>dvorakf</dc:creator>
  <dc:description/>
  <dc:language>en-US</dc:language>
  <cp:lastModifiedBy>Mike</cp:lastModifiedBy>
  <dcterms:modified xsi:type="dcterms:W3CDTF">2012-05-16T05:53:48Z</dcterms:modified>
  <cp:revision>47</cp:revision>
  <dc:subject/>
  <dc:title>Vnitřní kontrolní systém účetnictví</dc:title>
</cp:coreProperties>
</file>