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6AC4-7EC2-41CF-BAA5-E9A692A29FA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6E17-13E1-400F-B478-13078C1E0D3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930C-09F5-4932-AA75-A05CDC3A7D4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64C9-9D6D-4CE6-939E-45B1341E9DB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4334-D088-4A03-9F43-4BFF7281219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B560-E270-4502-A34C-7DD6C71FF80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519C-960A-41E4-A8DF-8A091673F42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3322-F9D2-4B7B-9DE0-F93D8399723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4C9C-9681-470F-ABE5-E2CD5967B7E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6A44-AB9D-41E4-94C9-A572D3FD48B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1522-A209-4643-A423-97D6A9FF04D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5FEB-BE8F-4895-B7F3-60A2DADB8DA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5EDC-7E8A-48FD-A56C-619F9CA6243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DD6E-BD52-42AF-9175-4E437016924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F721-E9F3-4EAB-AF93-2D7983A47D3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A7F7-6011-4951-8591-C0FBC40FB9D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197B-102C-4B83-9250-12E54F4D5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2A3C-6BDB-45B1-9D2E-17FAA69A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8626FA-1F75-4EAC-8D0B-BEF6304A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DE5D2D-006A-46F5-AB26-9EF8E027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DC7B2C-1E67-46FD-B1C5-06C68F01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221D99-508A-4D0E-86D4-1B2EEC10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5E8314-F3C3-4061-B3BD-26F4FDB5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B4300D-18C3-4542-8417-D3C9BD5D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E9C34D-56A0-4BF2-8CAE-D97488D5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6664D8-5274-42F4-957B-8678E7BED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708EB4-6E70-41B1-97BE-D3F1A9996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7F0064-2A0E-4F82-9BB2-F4B0F2FA3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2B1F-2F01-461A-A4ED-2AFFB3D20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ABA0B0-AAC3-4D87-B7BD-BFDD4243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469400-EBAD-4F94-B96D-C16BD45B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DE29F7-5D68-4A5E-AAB5-934761B7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DB1584-69CA-49A1-89E1-B5D7D9C8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101EB3-0481-46BD-AFF2-CADF343D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F22294-1C62-4635-B5A9-7147C4E3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0AF308-4092-42C3-AA13-D027FAC4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0687D5-8396-46E9-B14C-684862C1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6D6425-7086-4BBB-99DF-13AD2257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AF581D-CBDD-4758-865D-28112DBB0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459F-7B12-4D4F-87B8-0188EF634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EE2FC4-54D8-4F2C-A3B8-933BCC2E8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BE5CB-D98F-4F71-87EB-CBF2C649C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ACAFD-E712-496E-9858-EDA52F9E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F90B-670B-43FC-A21C-0B6A8C3E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E81E-719D-473E-942C-65B29D00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7860-899F-4DBB-802E-336D763B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ED2D-63FD-4FCD-81BD-69590882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AB68-FD1F-4141-AD63-F235A922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D46C-655B-4EE5-904C-F761B85C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BE50-A94A-4140-BF5E-493074C8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D3E4-5E63-4313-8592-E5AAF2A7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67A1-D208-4FC8-8C5F-B5B517E8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522D-B102-43F1-830E-25D32F8DC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3B07-32ED-454D-9F25-EB62A098E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8FE08-8B33-4AF0-9859-732705B02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35A34-C8B0-4817-84F2-67C1E8EC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087A7-4F5D-4923-8EAA-32909127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DDCE8-7A0A-43AD-80AB-E8B86EA1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0453E-7434-4B6C-AF94-A2993EB9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EC6F-41E9-4BDB-9DCF-53E9792B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FE6DB-DF31-4DD9-B501-B12255B4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C0883-BCF7-459F-860C-AD2BA31E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79D0B-ACBB-4FBF-ABB6-366C4E3F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02AB1-5A93-4170-98F7-0E2B7AC5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0BB3F-7300-4C24-A605-CE489A19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3D0DC-A468-45A3-A558-E12385DF2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7552B-CDAF-429B-9711-0A65947DE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7D9C6-45EC-4D26-8C2A-990369673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50433-8EB7-473C-9905-63C03219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215AA-E55F-42B0-A66A-A3B28271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7699-2A01-47CF-9574-5EEA0C25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E8DDF-9ADE-48BC-A938-8B3A365B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AAD67-92F6-4741-8FC0-A17E671C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16309-6175-4EDF-8742-FDC1233B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EA9D9-43DE-4142-8DB9-10231080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4D25B-2D65-4058-988B-A06BBA0D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AC82A-A069-4261-A3D2-8EDA12DF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C6827-1802-4245-829C-2C91B4EF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E92AA-711C-4338-A093-ECD44DB7C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65034-212D-402A-B71B-95B9B7B7B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A9CB9-DE19-43B2-B2B8-F2EF22405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554F-15C9-4BB3-B789-5BCA34D7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22B7C-1066-41E3-9790-EF131289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195ED-206B-4E4B-BB47-6FA315F8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270DB-DA39-4DE2-9A2E-2F3F0D3C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3F7B2-CBDB-4DF4-8245-637C4C8A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39A1E-6416-482A-BA69-3F342CF6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463B3-8456-4EA6-B529-D888FC74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A0AD0-4BA4-4C62-8EAF-6645939A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D531B-8434-4A29-9BCF-FC8B8E11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A0CBC-FE12-4235-82AB-A40B1F8E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D2285-2C2E-449C-959B-C88DC8A20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DF33-D5D2-4C64-B2A1-FF2EE534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6EB47-E4CA-4379-A3F6-4A26D1CA2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11F0D-89A7-4F33-B7E6-886B5A5FA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D5BE3-8B6E-45C9-9D12-AD800C91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CFB3C-DC25-46FC-8285-7B148F9C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37D4E-F633-4775-8018-3C697CC3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A4B7F-0DB7-44EB-87EC-5001D3CE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8A020-5854-407C-A06E-EDA1B280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4C3C0-8EAC-4C0E-A0B1-8CAF40A5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302FA-8079-44C6-838A-846CFE7E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65D24-41D3-4629-9F16-1363AA89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BB1F-923A-4406-B01D-9F51BB0D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1F95E-33DE-4212-9B97-7AD81740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F64CA-C095-4044-8177-C842A5F6F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A9B7E-C859-49B5-93BA-5F79EE8BD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A4306-4C3D-48F8-ACBB-4B2FA0AC2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8439F-E86C-464F-995E-6E6A638E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12327-73B1-4B78-83D4-9E3C53AA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0BB33-306E-486B-B2D2-170D4EC9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B1028-D7DC-4C01-BA6B-37815D6C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9F340-EB1B-4330-8AAC-9781FDF5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A19F1-E332-48FD-B31B-B6F6B52E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8C58-F9B3-46F1-A095-866C55E1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19963-7789-49FA-9467-2AA63849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ADEE9-85AB-49BE-93F9-3D5FB239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6EB2B-8F1F-48B5-B761-FB057147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DFDF7-C7EA-467D-B7F4-82140D531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BDED8-240B-4880-955E-1FEC0C70D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0C5FA-E8B0-476B-ADCC-B7B7C0724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5202D-4ACD-4DEF-BD2E-5AC020AD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4BFFA-4D6D-4C82-8FB5-2D16B8C0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04CF8-6808-4A52-9072-593920A2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6E4B8-E55F-45BD-988A-FF9AFC8B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537C-8617-416F-9C52-35DB7C23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1C357-1B78-4C6D-8FF3-4F6D226E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7F7A9-C789-47B4-9B19-E0AF8BA3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1D3BA-6571-4D97-8DAA-924EB47E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57901-8A81-4F1A-8260-0C2A8A44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2B625-AFC8-4C2C-AEB8-3BDDAC96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A7DCF-F7E6-49AE-BE52-92C39E1FB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A7E33-C525-4354-B3E2-26FF63A86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9E3676-0F34-491F-AE95-CDB0E6D39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B04CBE-5F58-41B0-81FA-ED6FD877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CCC1A1-7983-4353-93D2-8612D350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B52A-A63F-450F-80C1-5DCAF61EB4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1EF9-E40E-4040-9252-87590E9693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Obrázek 8" descr=""/>
          <p:cNvPicPr/>
          <p:nvPr/>
        </p:nvPicPr>
        <p:blipFill>
          <a:blip r:embed="rId2"/>
          <a:stretch/>
        </p:blipFill>
        <p:spPr>
          <a:xfrm>
            <a:off x="3635280" y="115920"/>
            <a:ext cx="1878120" cy="1878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198E-5C16-4659-BA04-F74DAC8B14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0D71-7D8C-4C2C-AD3E-0E123B43D9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C181-A152-42AD-9306-C336D27BC8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47A5-1645-4849-8964-B74FB55A49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9CEE-A5F3-4413-B724-4FA4579828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2AB6-AFFF-45D8-A891-2F97BF9D15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DC38-8CB5-4446-B473-5E962B3537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9AC1-694C-4BE1-8B83-B9523538EC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,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ovaná účetní závěr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. Přednáška FU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vahový 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 jakému datu je konsolidace provedena? K jakému datu jsou sestaveny výkaz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ůzné podniky (M a D) mohou mít různá účetní období (legislativa, geografie, obor podniká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jiné rozvahové datum – mezitímní účetní závěr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jiné rozvahové datum, ale v povoleném časovém rozmezí (3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shodné rozvahové da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ční pravid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etní závěrka D musí být sestavena podle stejných pravidel jako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kud není, D vyhotovuje dvě účetní závěrky – pro potřeby individuálního vykázání a pro potřeby konsolidace (např. dle ČR a dle IAS/IF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dividuální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solidované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eparátní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ekvi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statný vl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řízení v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istorical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 výsledovky je zahrnuto zvýšení / snížení hodnoty inve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prava ostatních složek VK o takové vlivy, které neprošly výsledovkou (např. aplikace fair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děly ze zisku snižují hodnotu investice (souvztažně s pohledávkou za přiznané dividend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poměrné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oluovlád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 výkazech zveřej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ktiva, která ovlád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vazky, které přebír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klady, které plynou ze spol. podnikání a podíl na výnosech ze spol. podnik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lná konsolidace - přík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468360" y="1916280"/>
          <a:ext cx="4680000" cy="2228760"/>
        </p:xfrm>
        <a:graphic>
          <a:graphicData uri="http://schemas.openxmlformats.org/drawingml/2006/table">
            <a:tbl>
              <a:tblPr/>
              <a:tblGrid>
                <a:gridCol w="1690560"/>
                <a:gridCol w="820800"/>
                <a:gridCol w="1349280"/>
                <a:gridCol w="819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v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. Investice v 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. Výděl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az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ledov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468360" y="4368960"/>
          <a:ext cx="4680000" cy="2228760"/>
        </p:xfrm>
        <a:graphic>
          <a:graphicData uri="http://schemas.openxmlformats.org/drawingml/2006/table">
            <a:tbl>
              <a:tblPr/>
              <a:tblGrid>
                <a:gridCol w="1690560"/>
                <a:gridCol w="820800"/>
                <a:gridCol w="1349280"/>
                <a:gridCol w="819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v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. Výděl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az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ledov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" name="TextovéPole 9"/>
          <p:cNvSpPr/>
          <p:nvPr/>
        </p:nvSpPr>
        <p:spPr>
          <a:xfrm>
            <a:off x="5796000" y="3924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lfa vlastní 60% B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lná konsolidace - přík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395280" y="1854360"/>
          <a:ext cx="8353440" cy="4457520"/>
        </p:xfrm>
        <a:graphic>
          <a:graphicData uri="http://schemas.openxmlformats.org/drawingml/2006/table">
            <a:tbl>
              <a:tblPr/>
              <a:tblGrid>
                <a:gridCol w="2049480"/>
                <a:gridCol w="1260360"/>
                <a:gridCol w="1260720"/>
                <a:gridCol w="1260360"/>
                <a:gridCol w="1262160"/>
                <a:gridCol w="1260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č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pra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solid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. Maj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. 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 Kum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 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ový podíl H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a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namená upevnění, ustálení, urovnání například zdravotního stavu pacienta po úrazu, politických poměrů nebo financí firmy či státu po období špatného hospodaření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sada „content over form“ – účetnictví zobrazuje realitu bez ohledu na (právní) for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 kapitálově (i jinak) propojených společností, jak řešit účetní pohled na tuto skuteč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ýchodi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ategické podíly (investice) mateřské firmy  (M) do dceřiné firmy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živatel nechce vědět pouze kolik bylo investováno, ale také do kterých podniků, jaká aktiva M kontroluje, jaký vliv má investice na finanční pozici  ap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 tzv.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ačního celk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ovaných účetních výkazů, účetní závěr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 – obecný k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Zástupný symbol pro obsah 3" descr=""/>
          <p:cNvPicPr/>
          <p:nvPr/>
        </p:nvPicPr>
        <p:blipFill>
          <a:blip r:embed="rId1"/>
          <a:stretch/>
        </p:blipFill>
        <p:spPr>
          <a:xfrm>
            <a:off x="444600" y="1603440"/>
            <a:ext cx="4078080" cy="452268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rozpoznat propojené firm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určit, kdo je M a kdo 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rozpoznat, kdy už D zahrnout a kdy nezahrnout do konsolida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blematika konsolidačního cel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vlivu – vyjadřuje podíl na rozhodování Mateřské společnosti v Dceřiné společ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hodující vliv (control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 50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%, podstatný vliv 20% - 50% (significant influence), vyrovnaný vliv (spoluovládání, joint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nik vli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upě podílu na základním kapitá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zavřením smlouvy o podílu na hlasovacích práv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ístupy ke konsolida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šeobecně uživatels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ávo uživatelů účetních informací znát finanční pozici, výkonnost a změny ve finanční pozici za celou skupinu kapitálově propojených podniků – cílem konsolidace je vidět kapitálově propojené podniky jako j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lastnic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jem vlastníka znát finanční pozici, výkonnost a změny ve finanční pozici podniku, do něhož investoval, cílem konsolidace je doplnit informace o finančních investic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schéma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ovéPole 3"/>
          <p:cNvSpPr/>
          <p:nvPr/>
        </p:nvSpPr>
        <p:spPr>
          <a:xfrm>
            <a:off x="1619280" y="5013360"/>
            <a:ext cx="180036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cer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ovéPole 5"/>
          <p:cNvSpPr/>
          <p:nvPr/>
        </p:nvSpPr>
        <p:spPr>
          <a:xfrm>
            <a:off x="2627280" y="3573360"/>
            <a:ext cx="208908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at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ovéPole 6"/>
          <p:cNvSpPr/>
          <p:nvPr/>
        </p:nvSpPr>
        <p:spPr>
          <a:xfrm>
            <a:off x="4067280" y="5013360"/>
            <a:ext cx="180000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cer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ovéPole 7"/>
          <p:cNvSpPr/>
          <p:nvPr/>
        </p:nvSpPr>
        <p:spPr>
          <a:xfrm>
            <a:off x="6588000" y="2133720"/>
            <a:ext cx="208764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onsolidační cel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Elipsa 8"/>
          <p:cNvSpPr/>
          <p:nvPr/>
        </p:nvSpPr>
        <p:spPr>
          <a:xfrm>
            <a:off x="539640" y="3357720"/>
            <a:ext cx="6480360" cy="338436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Šipka doprava 9"/>
          <p:cNvSpPr/>
          <p:nvPr/>
        </p:nvSpPr>
        <p:spPr>
          <a:xfrm rot="18978000">
            <a:off x="5857920" y="3252960"/>
            <a:ext cx="649080" cy="28872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y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plné konsolid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ekviva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poměrné konsolid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plné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 rozhodující vliv v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kazy se agregují, řádek po řádku se sčítají shodné položky A, Z, VK, N, V všech podniků konsolidačního cel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třeba vyloučit vzájemné transak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vestice M v každém D podniku a podíl na VK v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nitroskupinové transak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eřejnění podílu menšinových akcionářů – specifický řádek VK v rozva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06:12:38Z</dcterms:created>
  <dc:creator>mensikm</dc:creator>
  <dc:description/>
  <dc:language>en-US</dc:language>
  <cp:lastModifiedBy>Menšík Michal</cp:lastModifiedBy>
  <dcterms:modified xsi:type="dcterms:W3CDTF">2012-03-30T05:07:11Z</dcterms:modified>
  <cp:revision>104</cp:revision>
  <dc:subject/>
  <dc:title>Mzdová agenda – účetní zobrazení a dopady na firmu</dc:title>
</cp:coreProperties>
</file>