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808-029C-4D58-A6D7-B9588FEA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0DE-621B-40F1-BC94-C1BABEE0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76796-9518-44AE-A62B-D0BF9665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E66F5-E3C5-4065-A0A0-DE8E28E0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C7417-B321-4CC9-A510-7B2CD4D0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3D4A6-F6A8-4B88-9733-E5C6AEF5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1D2DB-5562-4F6B-BE03-5CCD644E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0EB7C-15E2-4623-8518-8016AEA9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D8478-47B3-4ACB-8751-D401E196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3ABD6-88BF-4FB4-AB01-BB52E085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DE8FE-ADEF-4084-AD6A-9D981870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811CE-0951-4F00-B01A-575EF215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5314-EA16-4B1D-BFD7-8E4AC946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D80D4-E1B8-469E-BEC5-2422742A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6733A-5EF3-4160-8A75-1B507F94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AE51E-B81B-4E81-8438-499A0F42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24184-6F14-4880-9806-A406A517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74F49-9BCB-47DA-85C2-6960B0E1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C72FE-9893-4004-9824-42A204EB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DE0B9-B03F-4F20-AD92-88A52A1D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D36E2-7588-4969-A51B-5252E069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DAE17-B625-4AD0-B28D-41BBFF28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F63D4-847A-4098-9376-A6BF8A56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103-78AE-45EC-9A80-CCFE2277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9F99A-C652-4936-AD17-90FE76C3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0F574-0797-46C0-81FB-88AFD829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2CD8E-B720-4F7D-85C8-F5B6A33F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44D33-571E-4F5A-898B-ABB2C7A7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1EBE1-4B34-42B7-B175-434662E7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BFCB7-5555-4294-8937-9F10896E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A6E08-49F9-4157-807E-CCC258DF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06422-8C6E-40D7-AF0A-50E5641D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12E74-D8F9-4228-A084-409B7E8D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A55F9-D182-4AD5-BB94-DCE83017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DA52-7AC1-48C8-937F-27596678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3A7ED-8ABD-4964-8DDF-1AC42360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03211-43D8-48C4-9329-0021A80F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B9E2D-8A2B-4129-936D-44AD2A88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5455-4C10-4014-B7E2-58D54FE7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516B-7A53-49D8-A22E-EB7A60F4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701D-9A17-4957-9DB8-53164E61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E10F-87F5-446E-9682-0D2DBCD5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692B-CA2C-423B-B927-23C34BAC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EC2E-345F-44D3-B459-56E4E8F5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012F-5408-48EC-A8B7-678021F1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DCAC-E9F0-4017-A186-68A0F400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2CA1-7603-4742-8463-B38FED91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D4EA-9CF8-49D8-BD2D-42B782A2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0CFF-2054-4CCE-9C3D-233682ED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95E0-282B-4AE4-9916-532F9B32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F57D0-3C01-42C0-BDC0-6DFD1184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7EC6D-7F66-4610-801A-8362F9B5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CD503-1709-41B6-9E55-0C5F09EA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F00F9-56D0-417D-87DF-E07FD1CF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C502F-A2F4-476A-9AAC-691514DB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5C78-1C33-421B-9A15-3D4D871A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ED182-8D2B-467A-9AF4-159548B4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870D0-74D5-4169-973B-F360BD8F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49C99-966D-4951-8A26-D5A2FC24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D6814-8930-4898-BE75-1EDE791A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F0E1A-2276-43E9-BC7F-BEF9B1F6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A4B0A-B8AD-4D6F-8D2E-8E10E9D1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78504-CF60-422E-A38C-79D609BD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9F76C-A7D3-470F-B6B9-84D0AD61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6560E-C46F-4B80-B2C5-01502C15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BEC64-8EC3-4EF1-8606-D9117D3E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2C7C-58BD-419E-961D-0502DA2B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24999-B77A-47DF-AE8F-0AFF3894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F26F3-D861-42D0-841A-026F8B1F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B89E9-88C9-4DEE-89F5-29541B5F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AECCC-A2BC-4492-A92D-E553FA70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FA725-981C-43FD-9885-D8B81A60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52C67-29D6-469A-A3AF-D75543AD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8FA8F-7033-4129-BCB8-14FF7F2F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F51EC-BA35-49D2-BAE8-3E46BA86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CA9C5-FA70-4A1D-9D43-90FC3090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D2F67-F749-4C33-B2E0-2BEAB725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653-2350-4F79-9623-0847F33F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7CE58-A5C6-4763-9B92-5F4FBA22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A34E2-3DB0-4AAC-B198-9FB86EC2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90216-F59D-4073-A0EF-C29004CE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8A7C7-F82D-47EA-80B3-8D66D4F6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1CE0B-DE9B-4287-9515-EEDE9070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B04A3-DE9C-46A6-9284-FB48087B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BF20A-F640-4702-A760-AFD636E5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562AF-53DF-43D6-8509-83838D5E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0724F-BA84-4ABA-A5FF-52478EC9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9D808-4E54-42AB-B0E9-F0C83AB5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1FBC-E7DC-4DF3-8DF9-773CFC89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1DC8B-E06B-47B7-A052-AF045E07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B788E-CE79-4BAE-AEE9-54FC99F3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8AEEA-FD04-4925-AFEF-19AB2545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DDE9D-8C2C-4A49-9A61-1E7DEE00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3A7F7-9724-4B8B-B8CC-0A26B81C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A4E19-B448-446C-A467-5A4213F5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073D1-75A3-4BA4-87CE-978DA53C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6EFF4-CFF1-4524-8974-5FC2189A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AB5BA-38A0-4207-939B-8BABFD82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3A6C8-0171-46BC-8091-17557EC9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6AC8-F2C8-402A-8E01-B53A08A4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748B3-6A89-4FB8-BAEC-4E1ABB38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026B9-5B5C-47BC-BBFE-51A15E3F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516AD-D156-436D-8ADF-E0982300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ACE56-2B84-44B2-8F81-43739087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A2AED-9FEA-4C5B-88A3-5F481C3E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8739E-7631-4C59-8756-410427BD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DE5AA-26C5-47E2-9254-090473C6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68069-41EE-451E-9672-737E973B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87346-E0BF-44E7-9655-CEE21F1B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9DABC-C747-408F-8774-57B96A60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AD41-8947-4A6F-8068-D73C9190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18D2B-C2CD-49D1-95B5-717CA41D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5F7F5-5DA9-4E95-872E-65765814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3D92F-24B8-493E-88D7-FFE3D259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4280A-C4F4-4446-AABE-7C63D4E7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A0EDF-2FE5-465B-AFA3-4332A9FE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B9BFE-5B50-4023-9178-42986C3B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94273-462B-4B0D-9769-8AB2FEC9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71159-7D16-4E16-8915-C07571CF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DA21F-3252-403D-9635-909E0F71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B6D35-8D9C-449C-A5D8-AFAC685E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5774-0B8B-4804-AA19-70F07017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9B5A1-A0ED-4C7A-9C05-8B4DBE41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7CA15-46A4-4765-A45C-99383A27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571B7-3B5E-45BB-8127-2F47AD09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710E8-E8F6-40EB-92FA-D606547C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A7E53-CA6D-452F-96FC-0A22D39C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17499-167A-4F73-AC59-AB6F2338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7B907-0606-407C-99E0-A785548E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E5617-E270-4FFE-82AD-6349737A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931E3-7047-462A-A2A0-993A00A2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86C02-E49F-4787-94EF-BA54F272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trana </a:t>
            </a:r>
            <a:fld id="{676B37E3-9C7F-4E71-974E-461952BBDC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9BCB-ABA3-4BA4-92D8-E30FAF3120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4707-EA99-4EE4-94E0-011C44B0E3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3050-2FEE-49C6-A4FB-4980B8C3B5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E4DD-0A84-4FDA-95D5-AB8444C956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C35B-619A-407F-AC63-F13C052748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7BA0-5A89-42A8-8804-5418EEB7A6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B12D-DA40-445E-8738-21E3F683F6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35BB-C987-4682-8D8F-4B21E323F9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D0CE-FDC9-40CA-89D7-221A9204F9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AC1F-CE8D-4C6A-BE67-B6A48A4055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obrazení podnikatelského pro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Calibri"/>
              </a:rPr>
              <a:t>5. Přednáška F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ceňování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FO – „potrubí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FO – „truhl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FO – nejdra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SC – je to stá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. cena – všem stej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dividuální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technologie a materiál a lidská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odpisy, spotřeba materiálu a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sou polotovary a finální výrobky, které se prodávají na tr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tr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Účetní schéma výroby - druhov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79280" y="1743120"/>
            <a:ext cx="878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výroby - úče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252360" y="1676520"/>
            <a:ext cx="86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st x Exp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yčerpal svou užitečnost – rozva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čerpal svou užitečnost - výsledo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 zobrazení procesu, výkonem js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ování (zbo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evidence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oceňová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l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0A01-3FA0-485A-9282-D8F29050BB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ictví je způsob myš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te se myslet, neučte se (jenom) úč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ějte na paměti hlavního uživatele účetních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R je malá, budeme světoví (IAS / IFRS, GA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ez práce nejsou koláč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livy vydávají olej jen když jsou drceny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Účetní zobrazení podnikatelské čin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– transformace vstupů na výst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stavná činnost, vlastním jménem na vlastní odpovědnost za účelem dosažení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typy podnik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pracovní sí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e trž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motná po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tížné skladování – nedokončená výroba či hotové výrob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87854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koupené a prodané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žba za zbo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 / transformace je změna v místě a č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zbož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250920" y="1784520"/>
            <a:ext cx="8569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evidence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průběž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na sk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e ze skal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 – periodic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dle evidence z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5:38:14Z</dcterms:created>
  <dc:creator>Mike</dc:creator>
  <dc:description/>
  <dc:language>en-US</dc:language>
  <cp:lastModifiedBy>Menšík Michal</cp:lastModifiedBy>
  <dcterms:modified xsi:type="dcterms:W3CDTF">2015-02-17T06:57:07Z</dcterms:modified>
  <cp:revision>12</cp:revision>
  <dc:subject/>
  <dc:title>Finanční účetnictví 1</dc:title>
</cp:coreProperties>
</file>