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A2CA-1CB9-4344-927F-00693E7E8C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FEA6-B869-4EB5-A0CD-A06609C159F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01F5-9D93-4519-8C2B-8BD46A1CEFF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7B5F-9620-44FA-B860-4BC8C12DCF1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263D-6DEA-4FB8-9E37-0CECE9F6532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E853-1BC8-4FF2-9ED1-CDD557AD6F9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EFDD-0CD7-4F00-A5AD-B79A296EAAD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1A63-63FD-415A-A9C8-9EA6261DD86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91814-C7FA-48E3-B3F3-10F1786567E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62D4-FAFB-4600-8C5A-D08BE6351A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56B-F2E5-4714-92C3-3B9B68E6A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92A8-3A87-4538-BCB1-4A0D19E5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10DD5D-E083-4EA9-A656-4D2362FF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80097-41A1-4236-BA75-95C4BAFA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FBCDD-E47F-4556-BE07-7FB92144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D2876-5486-4ED7-9239-25622912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F7AE62-B77C-43D5-BDB3-9928BF06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8C63F-99EB-488A-9CB8-0E841464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CCC3E-9DDB-43AA-BD59-7DF1DFB0F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6DE4BC-D9A8-4933-8786-24552B890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71839-242D-44BE-94F8-6D42735F6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51B8B-37FE-47C3-AB06-E485FB612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14D4-4965-4745-A64F-69D2F557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C9E654-1685-4F5B-B936-3D138252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E1279-563B-42FB-A6E4-B8E1FC50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274FB-161B-42DD-9EEF-A608F5C9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075D2E-EAD4-4194-A6DD-7FC10ACFE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15A81-70C2-4764-B989-0AC9211C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1E8F7-FCE0-43D7-83B0-FD523C4B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16418-D4C4-4DD3-939E-589BE246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54ED8-DBDA-4847-9CD8-275C04CC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70D1A-FAA2-4466-9695-A091A6E5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EFA62C-31A7-470D-92E1-72CD62BDE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389-28B6-4849-9F08-73E8A7504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A7E4B-88A5-4018-8752-E9E741E30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2B74-36D4-484B-829B-32B1E4EB1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0B24-81A9-4B6A-AE3B-A99A2C8E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B47D0-AA9F-4690-AE60-D9443716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13CA-E56D-4CA7-89BA-4B4950F5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9E796-6FF5-4AD7-A9C5-84DA6004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AAB98-FE58-4C81-AA0A-2154327B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C4A75-73CB-4B4F-A04F-3AB33201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2810-AD57-4602-887D-A696F172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AA6D-E7E2-4B57-81EF-A9BBFCBF5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CDFE-BC9D-4DBD-8BF2-F61E11AA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6EC3-9AB6-4FC1-8040-BE28FC95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7AA2-E3BF-4B28-A9AC-66F28BF8F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0573-4C66-4DCC-9109-A60EA86F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6E4F6-2DBC-4735-8025-EB948AE4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B8476-4484-4A05-A5A8-E0FD0515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2A760-F4F8-47DF-832C-B747A411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B9407-5643-42C8-97CB-463F5D50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7C2C1-5EDC-4756-A7E9-4B78D9FF4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9F60-AA90-4876-94C9-AD370CC0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14F4B-DC63-4619-832E-514B343A3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68F31-6E24-4D57-9516-5EADD7EE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EDA4B-B095-4512-8FB6-2431E7B1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44643-EA1E-4CB7-A18E-933EA823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EA8CC-10CC-4695-BC22-72C3280F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0546E-DC8D-4FE2-B0AB-2B137D49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14DC3-7CA8-4551-A8D7-648ACEAE8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FB3C7-0DF1-4C2A-910E-566C45653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C419A-1CD6-4AE8-AAB1-C47993ED7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83798-6AAF-403F-AB90-EED8E918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A758-740D-4363-8FDD-C075410CB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D4C8B-7E01-4519-8710-E8F4FF29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4FA2E-48FC-4268-B0CF-B951C508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5B4BB-4414-4FD8-B048-74F56505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2C960-A155-4CB5-AB96-4641B8F4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7C338-CDA4-4555-9A77-1C9592988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B6094-E963-4820-A0C4-BBA21B31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DC529-6327-4F96-8D32-D3FAD0489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B51C5-9854-4945-AAA0-AC1D401F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58218-68B6-4D35-8702-AA576C6C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E08AA-78FD-4270-8FB2-07FD0989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7062-D34D-4996-A6A3-B2D04B37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CC12D-783F-4AB3-A1E3-856BA5C4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53785-D02D-41B2-B84F-D336326FE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58B9C-24D2-44D2-B729-6E9E40C9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F6507-66A2-4008-9CD4-40B6FE52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1AA16-ACF2-43B8-8DA0-BB03D319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C0E2A-34A7-4118-8BDB-36D5C828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D802D-81C5-41FB-80FC-5D908324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851EE-B6A1-40C8-83BB-78E5B2F0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717B1-1546-4B63-81AD-81094F72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1911C-BBCB-45B5-A9FA-71F34493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CF8-370F-40B8-A6DA-4D093D7B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C6CA8-F5C2-41B5-B4E4-E50B6314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15A86-C806-4A0F-BDB4-9EDD21FB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2D51A-0329-4B22-A7D3-83BF62958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BB76EC-82E5-47FD-9519-BAA31229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5743E-3704-4094-A18F-9713DB31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9BFF5-3340-43AF-86E5-B2011EEF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706BB-59C8-404F-AD29-39557F36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8D3FD-2A93-4588-A149-0B23C04E8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58326-EC1A-4C5C-A1F8-D2B2FF36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4013C-61FF-46FA-AA49-E593DF62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97BD-FC8E-4231-8C7C-19C54BB1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A0EC7-4C6F-4D1F-9613-5E2EBB047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5C0025-6B3B-4AFC-B7F6-24FAA2BBE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8C61C-D4CF-46E5-866A-09B78021F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C061E-DA1B-4150-953A-71C92AA74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B48DDC-0010-4295-862B-4EDBEF4C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4E57E-9EDE-4091-8106-39FF2E33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F202C-FECE-40D2-AD24-36FED704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6D025-8620-450A-8455-63A6B4C2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9C550-0E9D-4844-946B-DD686E59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11919-FDE2-4527-91E7-2139D89B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DAE-8D8D-4E5B-B352-8817DF52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A43F1F-2801-40A0-B99C-F37B85DA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FBFAE-CBC0-4FF6-A6C5-BDDB88E4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3F428-F237-4E67-9E36-0A1EEAB4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22792-4D3A-43B4-8CD8-0482B20A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A6C27-F604-4F11-9A96-EE68796A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C5EEC-CE16-4645-9010-0E468C5D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A305A-2285-4058-9A56-FF0135F7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224E1-61AA-497D-8B66-BC6C6D00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D8B5A-0F02-4D88-B0D7-C957AF40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34CAE-2D6B-4E09-A5E4-60DD469B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11C9-2A9E-4434-9F7E-2CE46D37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54505C-2A69-4226-A396-C6507A81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AC9E1-AAF7-479D-8036-97AF7237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D2D59-A818-4EEC-86FC-4ADBCAD7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A908BC-C414-4ED6-8FF1-3C0F0F98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B626E-A000-4069-B423-521612DBB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B44637-8EB5-4CE6-AB80-BA1C18BF3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498B2-33D3-4532-B04D-E37C89DE7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AC546-D7A6-403D-A567-4984DBFC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2C3D63-3B35-446D-BD97-73598727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D1E54-3309-4C58-8DF5-E5FF430E9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4C73-B2A4-4C9F-ADC1-7DF3529B7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59BC-54DC-4DCD-BD34-BC6CD88A84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7FFA-0DF3-4B61-85EB-62CD654D8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C47B-F234-450F-998F-1AA76AB90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84A0-480B-4F3A-BDBF-9D360A7CA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C6B8-E624-4B57-8AC2-683F83095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A1CD-87C7-4B2C-B912-E4645023C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2DD5-10BE-497E-8338-9FF61523A7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FDEB-7AA4-407D-BF96-504789839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48EE-D4B2-4014-9E27-126646B470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2. Přednáška FU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je proces (záznam, třídění, kontrola, prezent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rcholem je analýza účetních informací, (metodicky obvykle analýza, syntéza, formulace závěrů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ílem je zvýšit informační potenciál účetních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zvědět se víc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lýza účetních výkazů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ychází z účetních výkaz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S, PL, CF, ES,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edá vazby a souvis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ha zhodnotit minulost a současnost a předvídat budouc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ředmět zájmu obv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abilita (výnos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ktivita (obrat prostřed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vidita a solventnost (platební schopn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amentální a 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undamentální – rozsáhlé znalosti o souvislostech mikro / makro jevů a jejich dopadů, zkušenosti odborníků, zpracování kvalitativních informací (zejména), závěry vyvozuje obvykle bez použití algoritmizovaných postup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– matematické, matematicko-statistické a další algoritmizované postupy, , kvantitativní informace, následné kvalitativní posouzení výsledk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ájemně komplemetnární, neexistuje vztah nadřazenosti či podřaz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ky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828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áte z jiných předmě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četnictví funguje jako zdroj informací zejména pro technickou analý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Šipka doprava 3"/>
          <p:cNvSpPr/>
          <p:nvPr/>
        </p:nvSpPr>
        <p:spPr>
          <a:xfrm>
            <a:off x="1187280" y="3860640"/>
            <a:ext cx="1656000" cy="13687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Účetnictví (závěr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Šipka doprava 4"/>
          <p:cNvSpPr/>
          <p:nvPr/>
        </p:nvSpPr>
        <p:spPr>
          <a:xfrm>
            <a:off x="2843280" y="3860640"/>
            <a:ext cx="1657440" cy="1368720"/>
          </a:xfrm>
          <a:prstGeom prst="right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alý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Šipka doprava 5"/>
          <p:cNvSpPr/>
          <p:nvPr/>
        </p:nvSpPr>
        <p:spPr>
          <a:xfrm>
            <a:off x="4500720" y="3860640"/>
            <a:ext cx="1655640" cy="13687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ži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Šipka doprava 6"/>
          <p:cNvSpPr/>
          <p:nvPr/>
        </p:nvSpPr>
        <p:spPr>
          <a:xfrm>
            <a:off x="6156360" y="3860640"/>
            <a:ext cx="1800360" cy="13687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zhodnu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4" name="Tvar 8"/>
          <p:cNvCxnSpPr>
            <a:stCxn id="463" idx="0"/>
            <a:endCxn id="460" idx="0"/>
          </p:cNvCxnSpPr>
          <p:nvPr/>
        </p:nvCxnSpPr>
        <p:spPr>
          <a:xfrm flipV="1" rot="16200000">
            <a:off x="3886920" y="1843920"/>
            <a:ext cx="685080" cy="6085800"/>
          </a:xfrm>
          <a:prstGeom prst="bentConnector4">
            <a:avLst>
              <a:gd name="adj1" fmla="val -33385"/>
              <a:gd name="adj2" fmla="val 103756"/>
            </a:avLst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465" name="TextovéPole 9"/>
          <p:cNvSpPr/>
          <p:nvPr/>
        </p:nvSpPr>
        <p:spPr>
          <a:xfrm>
            <a:off x="2843280" y="543564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pětná vaz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ztah účetních informací a analýz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 (rozhodnutí) je výs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ýstup může být špatný, protož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ou špatné vstu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stupy jsou v pořádku, ale nebyly vybrány / byly vybrány nevhod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vstupy, špatné zpra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bré zpracování, špatná interpretace či prez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mbinace uvedených fak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ká analý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ní (součet, rozdí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ní (podíl,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podnikové / vnitropodnikové soumě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izont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kální 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kturální / časový poh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určitost účetních d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 (GAAP) jsou idealistické, skutečnost realistick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istorical costs jsou“špatné“ imanen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stor pro kvalifikovaný úsudek účetního profesionála (Když dva dělají totéž 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istota ekonomického prospěchu (100% pohledávek nebude splaceno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stý a nejistý (podmíněný) zá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ení základních pojmů ve vztahu k jiným disciplínám (daně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asnosti při formulaci účetních postupů a pravidel – různý výkl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úmyslné a úmyslné chyby účetních profesioná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myly finančních analyti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chařkovitý pohled „vezmi vzoreček a dosaď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dostatečná znalost systému účetnic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neužívání poměrových ukazatelů (jsou nezávislé, existence doporučených hodnot,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pochopení konstrukce vzorců a kontextu doby jejich vzn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5:31:13Z</dcterms:created>
  <dc:creator>dvorakf</dc:creator>
  <dc:description/>
  <dc:language>en-US</dc:language>
  <cp:lastModifiedBy>Mike</cp:lastModifiedBy>
  <dcterms:modified xsi:type="dcterms:W3CDTF">2012-05-16T05:53:48Z</dcterms:modified>
  <cp:revision>47</cp:revision>
  <dc:subject/>
  <dc:title>Vnitřní kontrolní systém účetnictví</dc:title>
</cp:coreProperties>
</file>