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BCF6-0000-47FC-8461-D6ABC5D095C6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1C89-4790-468B-8FE9-A982B2EAFFF1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1B0A-C798-4635-B112-D49C3AD369E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4FDC-63AE-44E7-AAD2-50510FE6811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714A-ED71-485A-BA01-E4621559E5A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A24F-A589-4B17-909D-511A5DF370C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24F3-400D-4C7E-AAFE-FF985BDFF78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2791-884A-460F-BCB3-72DC24EC59F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2C30-BFC5-4569-99B1-D6E6BE804D4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0ECE4-F7F8-4A12-AE09-0A9EA901A45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ECE8-F87C-40D8-BC85-E98CDF26F67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5BEA-CA0A-47D1-B543-9E596CC942E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48A1-4F0B-40E5-A6EA-92F64D42281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D67A-FFB1-46F8-8090-09B719CC510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0646-E0F8-427A-ACD1-F936FAE5D7B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BBC5-5764-491F-8977-617A05AD44D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E0FA-D823-47A8-B571-5451E487C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9F72-7DFD-47B8-A3B7-17869D9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85AC0-C694-49C0-84B0-6AEE8C7BA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CCF5F-AA93-478D-BFA2-4FA00EE9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25098-F144-4063-8F58-6CBB3320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A3135-DE9F-4576-849A-9C8DB4C2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47D94-56F6-448B-874B-42F037BF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1C6F0-76CB-4556-BE03-53479562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07B03-55E3-408E-B05B-A45CE539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CB40C-9640-4220-BC9A-BCF407B81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2EBA83-9644-4E3D-81A9-856B7DCA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EFEAE3-1E46-4162-B5A1-753CE510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336-AD42-42FD-8CB5-F212E993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4EE8A-0292-4D13-85EE-3023D664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4A1FF6-5CC5-4829-B60A-8C9A2F47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13C0DE-BF23-4959-B4E8-4F60D0B8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1A852-B31A-44F4-B7F5-DBFAA866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D07F1-A0B3-450D-A269-3C23B567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980F05-24F1-4FC0-B051-5B0984F2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0E5EFE-9483-41C9-8E0E-67FA7AC2D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C9B81-9E9E-4049-9237-66A9738D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C7092-3712-4A2E-BB2F-7C36A2F5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A5F9E3-C60D-481E-9CE3-C6FE66393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2FE9-8E38-43F4-B8EA-FE509424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84595-22C1-4320-B250-68F7B2EF2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57FF-6D24-494C-8B76-CE388CA76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2397-4E04-40DD-8A65-ADFAC192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49BC-CE06-419E-B2CF-1A143A06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F981-05AA-4E3D-99B9-A3B93685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BD69-3697-4977-8D8B-D3B6B999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BE71-DF3E-4923-8005-E2F113FE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1D5AD-4D38-48EF-94C9-A550057F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C78-A7CD-4ECD-B990-28E1C72A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8CB6-C378-4933-AFEA-6423084B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0C84C-7ED7-4DF8-A823-984300F52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65CB-9BAC-44C5-B5D7-07650102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4CE0-B628-4372-8670-181ADD18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380C-DF34-4644-873C-322CEA6E9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7DA9A-5667-46A7-A870-2ECBC2C1C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F73A-33A1-469C-9B68-50181648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232AF-D85C-48A9-A616-D2A2B65B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3936-0610-451E-9F71-A31C06DA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2D0D5-F3EA-4263-8BC0-F7F66526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14B3-528C-4950-B92D-6C40AA1D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181E3-ABF8-4EDA-BD4B-A4BDDC17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9894C-64B4-45C5-A3F5-BA5DCC04B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A8DE0-85B8-437B-943F-18652545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2E27E-2B1C-421E-8A4A-D6DF338B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E2346-DB93-446B-8A7A-1909DBD3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3E276-2CDB-486A-9F7D-55D5C41F8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9174A5-DE1A-46F3-8B87-0651DEAD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E23A4-81D3-4927-BBF0-DDBEE3E1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44C96-2991-452B-A9B5-C9DABA7D2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FB999-6D2C-442C-91D6-9B101F2D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B5E-C674-4B5D-87F9-2D087131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3ACCF-CC4E-4041-9146-59B311E8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04B56-F85B-4B58-986B-97DFF3472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B72B5-70C1-4D20-9E5A-23825BCA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B3B58-1B4C-4068-91C1-4F25EE40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7CA4F-C43E-4E0A-8D57-98586FE1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951BA-0FE3-4AD2-AB54-AC72ED77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AA9DB-8245-4A5A-9D58-5A5CFD10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ABA8-23DF-449D-A7EB-F63526A24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CD221-8749-4A6E-9C82-48D63469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2CF2-FF50-4FC3-80A3-739778BFD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D4C7-98AB-418D-B495-E5FBE82B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A2DB2-830B-4729-94A9-11CA0E0C5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1D6FA-7541-40F7-A6C9-29F11751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F8D97-D3D3-45EB-8D72-71A992FDF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3A801-6AAB-404B-848B-20A43C5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D38FE-1E8A-402D-8E83-493619EED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E8D95-6658-4475-9BA6-116461FF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1EEE1-28EC-4297-B804-8C187643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1AAA2-FB2D-4D13-AF44-AC5170E52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A7DA9-69D8-4AC3-B34E-1EBFF90D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74BC-1412-4134-8A83-35650D6E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6C8A-19EB-413A-9E94-DC069865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4D626-5D26-4EE0-B381-3D76F386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A7EF4-D54A-4E12-87B1-06137202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AC39-B9B2-4C67-9D7D-FCA8507D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8CAC9-A383-40BA-A95A-F2FD2DB5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7C38E2-F389-4607-8F2E-6799265F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6734B-70D7-42ED-AF61-4F147115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52183-6D33-461E-92B7-8F68CAF8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55614-7978-4AD2-8912-4618E790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56083-E2DB-461C-8833-14947A47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3F077-4246-429D-B693-4BE0A29B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B701-D76F-42B9-A9AD-38A25DA8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0FC5F3-FECA-447A-8E7D-6C058DF2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0CA9D-C356-40CB-B64F-A9F9EA1C6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EA621-E0AB-4D80-B0FF-F798F45B9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05CA2-C7DC-4B8F-94BA-65E89B2F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5D3AC4-2840-4691-B020-C88075AD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AB28B-48D2-464A-BEEC-CB9DD551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879E7-B866-4239-A6B5-1AC563CF2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B31B9-F30F-421F-9B82-58C075DF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C3841-B267-4BB3-A5AB-DFEFEF72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4C9DC-4F5C-4010-AB21-D738CBC6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B8BF-257F-4EAC-9DF0-81DAEBC1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FD61B-FE56-42A1-B1A3-0AA3C6C51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C351D-7D53-41A6-ACC7-50FCB7B4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C442E-5242-4756-9867-D263CDD5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613EB-BB13-4A2A-B82E-05CCA4AB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24A24-BAEB-4FF5-B715-1B0F5AB25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41424-BB37-40F6-B819-A5318E5B0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4E28F-CC30-4812-BCCB-5F634D992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C0FE1-3FA8-403D-B6F5-363DB578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A407B-F802-4274-B30A-B6E1B13A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EC1D8-8555-4155-B49E-84E7489B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3B9F-ED07-44E8-87FE-E71275D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9F35B-2EB1-4006-8E09-26242F74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0EF59D-3FC2-4C08-B4BD-226EA3C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F9C41-66FA-43F8-AD72-F47BCEEE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FD669-5933-4A28-919B-0BCCD7D7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FD279-ACB5-44F4-9E39-DF1A7DF7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47400-B61A-4DFA-912A-14575D83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DE00C-2AC3-4F23-888E-59D7094D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C99B8F-1587-444C-8752-39514ED22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17C3F-E3DB-4C8D-8B7D-322406209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EBD5C-742E-406C-BAA6-72687042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9CB4-D811-469F-8BC1-BC408BFAA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1C1B-3B5A-4902-B377-948249E065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Obrázek 8" descr=""/>
          <p:cNvPicPr/>
          <p:nvPr/>
        </p:nvPicPr>
        <p:blipFill>
          <a:blip r:embed="rId2"/>
          <a:stretch/>
        </p:blipFill>
        <p:spPr>
          <a:xfrm>
            <a:off x="3635280" y="115920"/>
            <a:ext cx="1878120" cy="1878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FDE9-83C7-4E15-A1ED-AB7AC46263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bdélník 8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bdélník 9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8333-8582-46A4-B0E7-B73D11DE8B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51216-9EED-4334-9659-21B481ED47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A73D-7431-49E4-9F71-B38BC605FD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CBB6-756C-42BC-A07C-DEE0C7C619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792D-F534-4075-AA18-F4FFEA7CEF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3393-BF4F-4595-969A-717E43F62D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bdélník 6"/>
          <p:cNvSpPr/>
          <p:nvPr/>
        </p:nvSpPr>
        <p:spPr>
          <a:xfrm rot="19349400">
            <a:off x="6129360" y="5635440"/>
            <a:ext cx="4319640" cy="431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bdélník 7"/>
          <p:cNvSpPr/>
          <p:nvPr/>
        </p:nvSpPr>
        <p:spPr>
          <a:xfrm rot="19349400">
            <a:off x="6200640" y="6118200"/>
            <a:ext cx="432144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Obrázek 8" descr=""/>
          <p:cNvPicPr/>
          <p:nvPr/>
        </p:nvPicPr>
        <p:blipFill>
          <a:blip r:embed="rId2"/>
          <a:stretch/>
        </p:blipFill>
        <p:spPr>
          <a:xfrm>
            <a:off x="8317080" y="44280"/>
            <a:ext cx="792000" cy="79236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5082-529E-4187-A65D-B96129B28D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ovaná účetní závěr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. Přednáška FU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vahový 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jakému datu je konsolidace provedena? K jakému datu jsou sestaveny výkaz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ůzné podniky (M a D) mohou mít různá účetní období (legislativa, geografie, obor podniká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 – mezitímní účetní závěr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jiné rozvahové datum, ale v povoleném časovém rozmezí (3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 má shodné rozvahové da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ční pravid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četní závěrka D musí být sestavena podle stejných pravidel jako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kud není, D vyhotovuje dvě účetní závěrky – pro potřeby individuálního vykázání a pro potřeby konsolidace (např. dle ČR a dle IAS/IF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dividuál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olidované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parátní účetní výka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statný vl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řízení v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istorical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 výsledovky je zahrnuto zvýšení / snížení hodnoty inves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rava ostatních složek VK o takové vlivy, které neprošly výsledovkou (např. aplikace fair val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děly ze zisku snižují hodnotu investice (souvztažně s pohledávkou za přiznané dividen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oluovlád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e výkazech zveřej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a, která ovlád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azky, které přebír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klady, které plynou ze spol. podnikání a podíl na výnosech ze spol. podnik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"/>
          <p:cNvGraphicFramePr/>
          <p:nvPr/>
        </p:nvGraphicFramePr>
        <p:xfrm>
          <a:off x="468360" y="191628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Investice v 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4" name=""/>
          <p:cNvGraphicFramePr/>
          <p:nvPr/>
        </p:nvGraphicFramePr>
        <p:xfrm>
          <a:off x="468360" y="4368960"/>
          <a:ext cx="4680000" cy="2228760"/>
        </p:xfrm>
        <a:graphic>
          <a:graphicData uri="http://schemas.openxmlformats.org/drawingml/2006/table">
            <a:tbl>
              <a:tblPr/>
              <a:tblGrid>
                <a:gridCol w="1690560"/>
                <a:gridCol w="820800"/>
                <a:gridCol w="1349280"/>
                <a:gridCol w="819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. Výdě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ov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5" name="TextovéPole 9"/>
          <p:cNvSpPr/>
          <p:nvPr/>
        </p:nvSpPr>
        <p:spPr>
          <a:xfrm>
            <a:off x="5796000" y="3924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lfa vlastní 60% B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lná konsolidace - příkl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95280" y="1854360"/>
          <a:ext cx="8353440" cy="4457520"/>
        </p:xfrm>
        <a:graphic>
          <a:graphicData uri="http://schemas.openxmlformats.org/drawingml/2006/table">
            <a:tbl>
              <a:tblPr/>
              <a:tblGrid>
                <a:gridCol w="2049480"/>
                <a:gridCol w="1260360"/>
                <a:gridCol w="1260720"/>
                <a:gridCol w="1260360"/>
                <a:gridCol w="1262160"/>
                <a:gridCol w="1260360"/>
              </a:tblGrid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f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č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pra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solida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. Maj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 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. Z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Kumu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 Zis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i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5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nos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3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nšinový podíl H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namená upevnění, ustálení, urovnání například zdravotního stavu pacienta po úrazu, politických poměrů nebo financí firmy či státu po období špatného hospodaření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sada „content over form“ – účetnictví zobrazuje realitu bez ohledu na (právní) for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kapitálově (i jinak) propojených společností, jak řešit účetní pohled na tuto skute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chodi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cké podíly (investice) mateřské firmy  (M) do dceřiné firmy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 nechce vědět pouze kolik bylo investováno, ale také do kterých podniků, jaká aktiva M kontroluje, jaký vliv má investice na finanční pozici 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ence tzv.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ačního celk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onsolidovaných účetních výkazů, účetní závě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solidace – obecný kon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Zástupný symbol pro obsah 3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4078080" cy="4522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 propojené firm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určit, kdo je M a kdo 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rozpoznat, kdy už D zahrnout a kdy nezahrnout do konsolida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blematika konsolidačního celk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vlivu – vyjadřuje podíl na rozhodování Mateřské společnosti v Dceřiné společ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odující vliv (control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 50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%, podstatný vliv 20% - 50% (significant influence), vyrovnaný vliv (spoluovládání, joint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nik vli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upě podílu na základním kapit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zavřením smlouvy o podílu na hlasovacích práv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stupy ke konsolida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šeobecně uživate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vo uživatelů účetních informací znát finanční pozici, výkonnost a změny ve finanční pozici za celou skupinu kapitálově propojených podniků – cílem konsolidace je vidět kapitálově propojené podniky jako j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jem vlastníka znát finanční pozici, výkonnost a změny ve finanční pozici podniku, do něhož investoval, cílem konsolidace je doplnit informace o finančních investic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schéma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ovéPole 3"/>
          <p:cNvSpPr/>
          <p:nvPr/>
        </p:nvSpPr>
        <p:spPr>
          <a:xfrm>
            <a:off x="1619280" y="5013360"/>
            <a:ext cx="180036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ovéPole 5"/>
          <p:cNvSpPr/>
          <p:nvPr/>
        </p:nvSpPr>
        <p:spPr>
          <a:xfrm>
            <a:off x="2627280" y="3573360"/>
            <a:ext cx="208908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Mat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ovéPole 6"/>
          <p:cNvSpPr/>
          <p:nvPr/>
        </p:nvSpPr>
        <p:spPr>
          <a:xfrm>
            <a:off x="4067280" y="5013360"/>
            <a:ext cx="180000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cer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ovéPole 7"/>
          <p:cNvSpPr/>
          <p:nvPr/>
        </p:nvSpPr>
        <p:spPr>
          <a:xfrm>
            <a:off x="6588000" y="2133720"/>
            <a:ext cx="2087640" cy="1191240"/>
          </a:xfrm>
          <a:prstGeom prst="rect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Konsolidační cele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Rozva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Výsledov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Elipsa 8"/>
          <p:cNvSpPr/>
          <p:nvPr/>
        </p:nvSpPr>
        <p:spPr>
          <a:xfrm>
            <a:off x="539640" y="3357720"/>
            <a:ext cx="6480360" cy="3384360"/>
          </a:xfrm>
          <a:prstGeom prst="ellipse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Šipka doprava 9"/>
          <p:cNvSpPr/>
          <p:nvPr/>
        </p:nvSpPr>
        <p:spPr>
          <a:xfrm rot="18978000">
            <a:off x="5857920" y="3252960"/>
            <a:ext cx="649080" cy="288720"/>
          </a:xfrm>
          <a:prstGeom prst="rightArrow">
            <a:avLst>
              <a:gd name="adj1" fmla="val 50000"/>
              <a:gd name="adj2" fmla="val 5002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y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ekviva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etoda poměrné konsolid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etoda plné konsolid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 rozhodující vliv v 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kazy se agregují, řádek po řádku se sčítají shodné položky A, Z, VK, N, V všech podniků konsolidačního cel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třeba vyloučit vzájemné transak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stice M v každém D podniku a podíl na VK v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nitroskupinové transa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eřejnění podílu menšinových akcionářů – specifický řádek VK v rozva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06:12:38Z</dcterms:created>
  <dc:creator>mensikm</dc:creator>
  <dc:description/>
  <dc:language>en-US</dc:language>
  <cp:lastModifiedBy>Menšík Michal</cp:lastModifiedBy>
  <dcterms:modified xsi:type="dcterms:W3CDTF">2012-03-30T05:07:11Z</dcterms:modified>
  <cp:revision>104</cp:revision>
  <dc:subject/>
  <dc:title>Mzdová agenda – účetní zobrazení a dopady na firmu</dc:title>
</cp:coreProperties>
</file>