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3151-6836-45C0-AB9E-8F8883E3E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8524-642F-437D-9ED5-3898574ED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C66687-E5F2-470E-86EC-7AEEE2B0F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827067-3C4D-4DCE-BDF2-8B5E62632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10C246-7FD3-47CC-98E2-1A8ADE231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AD38F0-D339-40DA-9F1A-729F843A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33A576-5AB1-42A4-8CAA-5EC40B5CA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99AC47-0F11-4E60-A342-314B8FEC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4263D0-22E3-49CA-B53B-D3F9F6562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C986C4-1BC7-47F2-BA4E-C27729BEA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A1EFBA-7EA2-44E3-9B52-38FD5B73E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F7B79D-6333-407C-8647-AC3CB82B9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7376-1552-4B94-B87D-2C71192AD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64F5C6-A763-419B-AD6E-51F5BCFEC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2C716D-1780-4CB4-915E-12D0D8F94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A2ADB7-9692-43AB-AB8A-3DF06502C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2FA4A4-AA74-46B2-84F6-3FCCA1295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08EFD2-EE15-494A-8BF5-3FBC3B295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71424F-8B1C-440D-902E-8D4A34FD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55DBC3-753E-435D-8CB6-A80A0047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A6B2E9-F0D9-4F16-9A56-7D01EC14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53C0F9-E5E6-4630-A4F1-B572D10ED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2A9485-185A-476F-9606-A11A3DD20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91B5-E070-400D-825A-937D7F3E2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060233-27C9-400B-B754-75D7EA4BE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AA5383-873C-4B02-851F-AFBF6ED42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C06206-B6BE-4BDC-AB6B-30A31AFAA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061738-0457-49F1-B7DA-41B3594F3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2440F8-B567-47B7-8673-B38F30FAC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20E09D-55A1-4CF9-94A5-FE384D951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E94CF5-A75F-49DC-9A28-0F3714174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51710E-3FDA-4AC7-AA91-2D46E9D1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9594A4-B2B5-467F-8465-983921FF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79E5F4-C81C-40BD-9C92-1C9CFE11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3A890-5662-41C7-8365-C7F7163AB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25BA33-DEBD-445B-8FC9-A8419C90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F97E80-0B44-4312-B432-6B7407485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0B7EFA-5F35-4AEA-BB40-8629CBEFB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1DE04-7A97-4F62-BCB0-0C01D28F0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FB6AE-6D50-47BE-B975-999B5A663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DCBCC-3A32-4CE9-BAEA-8D8868978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0888A-537C-42EC-8545-FBD1532E8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EF461-A6A9-4FB0-81DA-0CE15A679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BA6F5-6AD0-4161-9D60-6A35F088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DA56-1134-468B-9906-ED0F497DF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9F9C3-2F92-4D80-A5F5-6D85A286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6F111-BB53-4311-ADFE-2C86562B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282AA-6973-4D04-8858-8EE3AEF69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7577E-0070-4616-AB3C-F9CA17E99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BCE5F-122D-4695-8BB7-EF48FDB2C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2655C-3BCC-4F3F-B5C9-606636BDE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9EDA4-C220-46E0-B756-719873175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5D7F8-E69B-41F1-9ED5-DE5792726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19C8D-DB9F-450C-949A-B58E55B3E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0D371-17BC-431B-ACE3-8C82526E3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8B21-9627-4799-8D9F-D03E70043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67471-6494-4D62-9FFF-5421B9F88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3CF5A-1B85-48C0-998C-12649DCC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6A5BA-C02B-4889-8458-15F067BD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EA722-5164-48C0-9BB0-566B27C8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72D76-6650-4CEA-A0AB-4580E1772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123C6-2323-4C11-9CC8-D45269BB2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D8EC7-76F6-48B7-8A12-C356EACD6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D83CD-57C6-473D-9CF7-567C32B3E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64B91-E000-4EFA-AF80-DD9604093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29657-6277-469F-BA93-38639C851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94ED-58ED-42A1-9575-BC32EB9FC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ED58F-4855-4A08-84F8-6FB829FC1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ED334-33E8-4E18-A1D2-0A1864128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10F3E-C656-43A5-B0D4-D21AEB284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C53C5-731B-4BAA-A88B-F196AF87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AA67A-4C77-4754-9AAF-1091F5CC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59623-DA69-41CC-9579-84E32EB7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A95FB-A7C7-4E33-A377-F82423D56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6D87A-1189-4F99-A862-769076DC9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821FC-E9EA-48BE-9570-96204652F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D227F-1B65-4A17-9CC8-710A9B68B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4FD0-4D22-4D82-BEBC-9A6F14C9E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E8364-A53D-49C8-A25F-20A863C66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B2C7C-215F-4E3D-AA17-36B1C72FF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1039D-F4C5-43B2-B22A-EFA2839B2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37281-44AB-405D-AA50-459299850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10A13-BF18-4E82-BECF-6AE37E3C7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6A090-AD0B-434C-ADCA-4679ED65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A7FB5-6094-4EEC-BC01-392FB95E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423DBE-86EF-437E-9F95-007833C0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0CCC7-3208-4849-9044-AE28B27B9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66367-3420-48C0-86D5-0B7930C37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90B1-5D9D-4497-A547-A02AD8155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4AA9E-ABA0-455D-BA0E-EABDCC9F2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F1423-3794-4B80-818B-FE6461814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D4573-C136-43FC-AB40-047B99A6E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A476C-7D4D-463C-9CC5-CB0F8ED4E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D9D474-FDF9-4271-9F67-52F393B68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1CAD80-48F4-447B-9248-DE7C2CDB0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2B656B-31A6-4609-9B95-2B4C6BE60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27E25-409C-4017-82E2-DD2383DB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4F218-70D0-4D3A-ACDC-4E17D4A0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79664-5EDF-49D5-926F-7500FDC3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6932-E960-44BF-A9F4-9F1AFD39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9F6D9-944D-4319-AA05-581A8A4A1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8CB46-A65F-4B34-AE3F-27358F66F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A68A2-1041-49E8-BDF0-28A6B941A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66E6B-AF1E-4414-A43B-834E668A6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DD5611-6205-4160-BAA3-5F4FF5361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0CF266-77DD-4B2F-B47F-1E2C1B999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D3F8DB-1384-480E-A786-185E4526C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2DCA7-51EA-4443-B896-4EF08A48D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8A055-3F89-4DFC-99DA-31E38E64E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90044D-F23C-478D-8767-0E01A986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019C-2AAF-4004-83E9-BD187F06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57BF0-8BF6-42FD-8FBE-83235F405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E99C8-3B53-46F8-9ADA-CC168C70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B45CD9-0755-4DDC-9C3C-4C9D4AA3B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B3944-697B-4CAC-9B43-0D10ED782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46D40D-3413-4EF1-903D-DC2A1CAFE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36901E-C17D-4D3C-B447-90FFFFA10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2B7CE6-72D2-466E-A335-A23FAB9FC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DC585-6BD5-4553-A95A-1EEA63518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1B15A8-2E5B-4BAA-8942-E9737197B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7CBE59-E970-48CF-AA88-A77EEE550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6A84-0899-48C8-AA90-900C3F38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3EB606-A0D4-4A27-AEE3-50E0E6255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6BAA57-A06C-49F2-A312-AFAD24D8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AAADEC-D8C4-4DAB-8633-D66C1F97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757EFF-E302-4D93-BB7A-C39965D1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8D3F0A-42BE-4AB1-A895-9EBB789C5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76C37C-7C8F-4899-A61F-7999B5A14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56B876-959E-4C75-9856-A2C950897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A17456-2040-4685-896E-D48FEC26D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3B5726-E96B-4F6F-8B22-0B0E8B162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A533B0-1F44-4ABE-913F-D21120B3C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Times New Roman"/>
              </a:rPr>
              <a:t>Strana </a:t>
            </a:r>
            <a:fld id="{C75823BF-898C-472A-8F2C-4715FEB138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C4E3D-E2F9-4BD9-B9E7-AF2A16F3E9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D556D-8722-4094-8AD8-2C52396157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5EC2A-4140-4CB0-9AEF-7ED5CE79DB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FFB4A-2784-4E6C-AA08-BEF7F051C6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DF444-F53F-484D-A308-9E8B4DBCD6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3C336-18F7-421E-9A38-3165BD31BA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26029-3BFE-47C9-A22E-C1E12E2F97C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04B2D-B9FF-4B69-ACC1-EAAEE28BB9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9CD03-D652-4DBF-A3B7-453C90586F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3FC6C-A533-4661-A71E-233C597B89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obrazení podnikatelského proces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3716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898989"/>
                </a:solidFill>
                <a:latin typeface="Calibri"/>
              </a:rPr>
              <a:t>5. Přednáška FU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odely oceňování záso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IFO – „potrubí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LIFO – „truhla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IFO – nejdražš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SC – je to stál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ům. cena – všem stejn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dividuální oceně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ýrob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stupem je technologie a materiál a lidská prá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razem jsou odpisy, spotřeba materiálu a mzdové nákla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stupem jsou polotovary a finální výrobky, které se prodávají na trh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razem jsou trž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Účetní schéma výroby - druhov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7" descr=""/>
          <p:cNvPicPr/>
          <p:nvPr/>
        </p:nvPicPr>
        <p:blipFill>
          <a:blip r:embed="rId1"/>
          <a:stretch/>
        </p:blipFill>
        <p:spPr>
          <a:xfrm>
            <a:off x="179280" y="1743120"/>
            <a:ext cx="8785440" cy="45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Účetní schéma výroby - účelově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7" name="Picture 4" descr=""/>
          <p:cNvPicPr/>
          <p:nvPr/>
        </p:nvPicPr>
        <p:blipFill>
          <a:blip r:embed="rId1"/>
          <a:stretch/>
        </p:blipFill>
        <p:spPr>
          <a:xfrm>
            <a:off x="252360" y="1676520"/>
            <a:ext cx="8640720" cy="44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ost x Expen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vyčerpal svou užitečnost – rozva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xpen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yčerpal svou užitečnost - výsledov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ruktura přednáš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ak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Účetní zobrazení procesu, výkonem js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luž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chodování (zboží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etody evidence záso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etody oceňování záso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ro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ruhové zobraz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Účelové zobraz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43449-4191-4785-AACF-28AD51C3C32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pakování 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Účetnictví je způsob myšle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Učte se myslet, neučte se (jenom) účtov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ějte na paměti hlavního uživatele účetních informac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ČR je malá, budeme světoví (IAS / IFRS, GAA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Bez práce nejsou koláče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livy vydávají olej jen když jsou drceny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Účetní zobrazení podnikatelské činnost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nikání – transformace vstupů na výstu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oustavná činnost, vlastním jménem na vlastní odpovědnost za účelem dosažení zis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3 typy podnik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luž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c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ro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lužb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stupem je pracovní sí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razem jsou mzdové nákla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stupem je služ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drazem je tržb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hmotná pova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btížné skladování – nedokončená výroba či hotové výrob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Účetní schéma služe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3" name="Picture 4" descr=""/>
          <p:cNvPicPr/>
          <p:nvPr/>
        </p:nvPicPr>
        <p:blipFill>
          <a:blip r:embed="rId1"/>
          <a:stretch/>
        </p:blipFill>
        <p:spPr>
          <a:xfrm>
            <a:off x="179280" y="1527120"/>
            <a:ext cx="8785440" cy="45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bc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stupem je zbož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akoupené a prodané zbož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stupem je zbož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ržba za zbo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ces / transformace je změna v místě a č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Účetní schéma zbož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7" name="Picture 4" descr=""/>
          <p:cNvPicPr/>
          <p:nvPr/>
        </p:nvPicPr>
        <p:blipFill>
          <a:blip r:embed="rId1"/>
          <a:stretch/>
        </p:blipFill>
        <p:spPr>
          <a:xfrm>
            <a:off x="250920" y="1784520"/>
            <a:ext cx="8569080" cy="44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etoda evidence záso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 – průběžn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Z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kupy na ska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daje ze skald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Z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 – periodick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Z do náklad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kupy do náklad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Z dle evidence z náklad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8T15:38:14Z</dcterms:created>
  <dc:creator>Mike</dc:creator>
  <dc:description/>
  <dc:language>en-US</dc:language>
  <cp:lastModifiedBy>Menšík Michal</cp:lastModifiedBy>
  <dcterms:modified xsi:type="dcterms:W3CDTF">2015-02-17T06:57:07Z</dcterms:modified>
  <cp:revision>12</cp:revision>
  <dc:subject/>
  <dc:title>Finanční účetnictví 1</dc:title>
</cp:coreProperties>
</file>