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2D8B-A35F-4060-819D-FA776D04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1E3-5938-4314-9A7B-EDE487F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8A0-8590-4923-8107-95D7F0560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BAB1-4BD3-486E-954C-67C56F9D6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28F-5D75-42A5-91B5-87666F26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6C0-932A-4B75-8039-FCFD0217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05BF-12D6-4AF2-A2AC-08C72617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D0DB-7631-4545-AF96-3DB8FE14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343-26EA-4D5E-A320-2E1A38C4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0060-3402-4786-8B39-5963F34D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CF1-BF1E-407C-8D71-9EACA39C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D79B-E3A9-4128-AD13-7DDBC2EA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80C-BF20-4829-B8C5-9FBE5F4459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ash Fl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Calibri"/>
              </a:rPr>
              <a:t>4. Přednáška FU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ztah Rozvaha – Výsledovka - C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"/>
          <p:cNvPicPr/>
          <p:nvPr/>
        </p:nvPicPr>
        <p:blipFill>
          <a:blip r:embed="rId1"/>
          <a:stretch/>
        </p:blipFill>
        <p:spPr>
          <a:xfrm>
            <a:off x="214200" y="2421000"/>
            <a:ext cx="8713800" cy="2774880"/>
          </a:xfrm>
          <a:prstGeom prst="rect">
            <a:avLst/>
          </a:prstGeom>
          <a:ln w="0">
            <a:noFill/>
          </a:ln>
        </p:spPr>
      </p:pic>
      <p:sp>
        <p:nvSpPr>
          <p:cNvPr id="61" name="Line 8"/>
          <p:cNvSpPr/>
          <p:nvPr/>
        </p:nvSpPr>
        <p:spPr>
          <a:xfrm flipH="1">
            <a:off x="1692000" y="3573360"/>
            <a:ext cx="1655640" cy="43200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9"/>
          <p:cNvSpPr/>
          <p:nvPr/>
        </p:nvSpPr>
        <p:spPr>
          <a:xfrm>
            <a:off x="5292720" y="3213000"/>
            <a:ext cx="2087640" cy="7923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1"/>
          <p:cNvSpPr/>
          <p:nvPr/>
        </p:nvSpPr>
        <p:spPr>
          <a:xfrm>
            <a:off x="1835280" y="5300640"/>
            <a:ext cx="5472000" cy="949320"/>
          </a:xfrm>
          <a:custGeom>
            <a:avLst/>
            <a:gdLst/>
            <a:ahLst/>
            <a:rect l="l" t="t" r="r" b="b"/>
            <a:pathLst>
              <a:path w="3946" h="598">
                <a:moveTo>
                  <a:pt x="0" y="46"/>
                </a:moveTo>
                <a:cubicBezTo>
                  <a:pt x="669" y="322"/>
                  <a:pt x="1338" y="598"/>
                  <a:pt x="1996" y="590"/>
                </a:cubicBezTo>
                <a:cubicBezTo>
                  <a:pt x="2654" y="582"/>
                  <a:pt x="3621" y="98"/>
                  <a:pt x="3946" y="0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az CF a metoda výpoč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 metody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má - tokov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přímá – z rozvahových údaj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e vazbě na metodu je potom použit odpovídající výkaz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lýza účetních transak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tovostní transakce musí obsahovat údaj o kategorii CF (provoz, investice, finan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ovnává příjmy a výda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Přímá metoda – výkaz C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1"/>
          <a:stretch/>
        </p:blipFill>
        <p:spPr>
          <a:xfrm>
            <a:off x="538200" y="1268280"/>
            <a:ext cx="813744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ložena na bilanční rovnici (VK = A – Z) v dynamickém vyjád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K =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el-GR" sz="3200" spc="-1" strike="noStrike">
                <a:solidFill>
                  <a:srgbClr val="000000"/>
                </a:solidFill>
                <a:latin typeface="바탕"/>
                <a:ea typeface="바탕"/>
              </a:rPr>
              <a:t>Δ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klad hypotetických prodejů a nákupů, zadlužování a splác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ímá metoda výpočtu C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114640" y="692280"/>
            <a:ext cx="461808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truktura přednáš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mezení problematiky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tah Rozvaha – Výsledovka – Cash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az o peněžních tocích a metoda výpoč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nron case stu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+ budoucí ek. prospěch, kontrola, pří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vaz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ulost, - budoucí ek. prospěch, odtok, nevyhnute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lastní kapitá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tiva - závazk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no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výšení ek. prospěchu během úč. obd., + V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l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nížení ek. prospěchu během úč. obd., - V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pakování základních pojm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i jedna z definic nezmiňuje hotovostní toky (akruální báz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hodně aktiv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Mít zisk ≠ mít hodně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ýt ve ztrátě ≠ mít málo peně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otovost a její vývoj jsou pro firmu zásad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kvid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reasur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latební neschop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F sleduje vývoj a stav peněžních prostřed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jišťuje kde a proč jsou prostřed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ískávány – Příjmy (flow 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dány – Výdaje (flow ou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povídá vývoj a případnou finanční tíseň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ash Flow vymezení problema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měna hotovosti v kontextu 4 rozvahových změ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ová – vydělávám / utrácím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výsledková – půjčuju / splácím / investuju peníz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xe ukázala potřebu peněžní toky struktur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vozní / opera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vestiční / invest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Financování / financing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voz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ky v souvislosti s hlavní výdělečnou činností podn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dej výkonů a prodej finančních akti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kup vstupů (materiál, zboží, služby, mzdy, 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adné, pokud ne – firma prodělává nebo neumí inkasovat trž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vestiční C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řizování a pozbývání dlouhodobých akti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výda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apitál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ividendový příj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skytnutí dlouhodobé půjč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F z financ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krátk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é úvě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ry (zejména o NN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inancování dlouhodobého charakte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mise V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uhov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Emise dluhopis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ankovní / nebankovní úvě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plata divid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3T18:58:15Z</dcterms:created>
  <dc:creator>Mike</dc:creator>
  <dc:description/>
  <dc:language>en-US</dc:language>
  <cp:lastModifiedBy>mensikm</cp:lastModifiedBy>
  <dcterms:modified xsi:type="dcterms:W3CDTF">2014-03-03T06:56:03Z</dcterms:modified>
  <cp:revision>4</cp:revision>
  <dc:subject/>
  <dc:title>Cash Flow</dc:title>
</cp:coreProperties>
</file>