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C03-EEF2-4693-BB73-E71AC7C77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B375-523D-45F3-A902-5FA3E243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09A2-452A-4109-9464-A1E52FD00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3B9-B4E5-4232-AF40-19D49171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AD7C-EDFD-4B2A-A955-774FDA52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9CF-4726-48E1-AA47-C0F8FD50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32E-E3EB-4E79-9C42-DDACF2A5A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941-3CD4-47CB-B357-9EEC32DC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20C-4D6A-4415-88CE-C91D2085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C4D5-3BCF-4087-B572-97FC92D62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BBA-4EB9-4F47-BDAD-7D1C8F45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1BD-F1F1-45CA-9556-ED92C90D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A3B7-F851-439C-96FA-3565AD664CA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ákladní metodické prvky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6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nění na úrovni historical cost nebo tržní / realizační / reprodukční cena (cost of replac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írá se ni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razem principu opatrnosti (Prudence, conservatis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m projevem je opravná položka či jednorázový odp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klad nešťastně zvolen, leč vžit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– poctivý, spravedlivý, bezvadný, dobrý, přiměřený, správ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ena, která by se získala prodejem aktiva / by byla zaplacena za uhrazení závazku v rámci řádně uzavřené transakce mezi účastníky trhu k datu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brovolné, nezávislé, dobře informované strany, fungující (operující) tr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Fair Value / Reálná hodnota 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může hodnotit aktivum i na vyšší úroveň než je historical 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ouštění principu opatr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kazování dosud nerealizovaných zisků / výnosů – nevýsledkově (zisk v pojetí změny V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ta diskontovaných peněžních toků přijatých / vydaných v důsledku existence aktiva / závaz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kcentuje časovou hodnotu peně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 modelu (realita x mod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a A, Z, VK, N, V odpovídají realit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upravuje s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ní pro „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rue and fair view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(zákon a p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ditor má právo být přítomen či si vyžá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prv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tění jeho hodnoty v účetnictví (zůstatek, obra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stování hodno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vantifikace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ořádání inventarizačního rozdí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působy inventariza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yzická – zejména hmotná 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kladová – zejmén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hmotná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Finanční akti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kurzových rozdíl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počty současných hodnot (termínové operace apod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yčíslení rezerv (dovolená, záruční servi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/ Trial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používanější přehled při práci s účetními informacem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obrazuje účetní položky (dle účtového rozvrhu) ve struktu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M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 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/ souhrn obrat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edvaha - schematic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1"/>
          <a:stretch/>
        </p:blipFill>
        <p:spPr>
          <a:xfrm>
            <a:off x="108000" y="2041560"/>
            <a:ext cx="8856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sah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ventar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vě podmínky rozpoznání a vykázání prv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vděpodobnost (99,99%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ceniteln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voj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ký název – Podvojné účetnic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bilanční rovnice (dvě strany rovnice) A = VK + 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ynamické pojetí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+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prvek, umožňuje bilanc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kontrol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D =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Ʃ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áteční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ra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nečné zůst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vztaž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chází z podvoj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nsakce má dvě strany (MD, 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jsou voleny náhodn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jadřují obsah transak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ýkají se relevantních účtů, které jsou transakcí ovlivn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ožňuje věcnou kontro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ceňování aktiv a dluh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istence více možností / alternativ jak prvky oce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běr alternativy s ohledem na GAAP a „true and fair view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ceňování chronologic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ocenění / Initial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sledné ocenění / Subsequent measu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votní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(HC) částka, která byla vyplacená nebo přijatá v řádně uzavřené transak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na poříz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ominální hodno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eprodukční pořizovací ce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ásledné ocen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vykle ke konci rozvahového d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otní ocenění nesplňuje GAAP / true and fair 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ower of cost or market (LC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ir value / reál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asná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mortizovaná ce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storical cost upravená 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rávk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skont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émii at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rávky ve smysl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mortiz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c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le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8:21:53Z</dcterms:created>
  <dc:creator>Mike</dc:creator>
  <dc:description/>
  <dc:language>en-US</dc:language>
  <cp:lastModifiedBy>Menšík Michal</cp:lastModifiedBy>
  <dcterms:modified xsi:type="dcterms:W3CDTF">2015-02-17T06:58:36Z</dcterms:modified>
  <cp:revision>3</cp:revision>
  <dc:subject/>
  <dc:title>Základní metodické prvky účetnictví</dc:title>
</cp:coreProperties>
</file>