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06EC7-F549-49B5-A3BE-2B9F427D6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78A9-3193-4F98-8D98-36A3718756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2B92-38FD-4684-8D5B-52272E41E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B714F-CB6A-4B22-9902-133AA87BD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6B6B-C667-4497-A604-E41A1B284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B21C-FA49-402A-AC82-79ACD5AE0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F78E-FBF3-4156-BBF0-C041F03C3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B7278-ABD3-41D5-B63D-FEB5F3117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95160"/>
            <a:ext cx="4568760" cy="3426120"/>
          </a:xfrm>
          <a:prstGeom prst="rect">
            <a:avLst/>
          </a:prstGeom>
          <a:ln w="0">
            <a:noFill/>
          </a:ln>
        </p:spPr>
      </p:sp>
      <p:sp>
        <p:nvSpPr>
          <p:cNvPr id="117"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48394-3950-4584-8830-11265B170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95160"/>
            <a:ext cx="4568760" cy="3426120"/>
          </a:xfrm>
          <a:prstGeom prst="rect">
            <a:avLst/>
          </a:prstGeom>
          <a:ln w="0">
            <a:noFill/>
          </a:ln>
        </p:spPr>
      </p:sp>
      <p:sp>
        <p:nvSpPr>
          <p:cNvPr id="120"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AEC3-B2CC-4DFA-B06C-293BB25B0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D6578-C355-48E6-8261-DA252E5E4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6C6F7-0CA1-4B0D-9972-EDC174F5B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3E9F4-B2C4-4070-B062-878CD74D3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7FB1-E023-4AA0-9FC5-62A2FA290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9A31A-1A92-44A4-80D2-EDEC839C8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7C324-5D9D-4EF7-A79E-B05540C2B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C385A-29F0-4F58-BAFD-11A998624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E964C-778A-4E67-A337-FE0E35796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8D748-71E2-42DC-8CEA-1E03790A7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510F8-803E-40DA-AD1E-5A8C2CE25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F9C0A-289A-4BF9-9E8D-4143B7F68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EFDF5-49B5-44EC-BF56-16E13ABC7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AA8FC-A393-4CDF-88BA-A94CAB07A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B6E44-4C75-476E-AFD9-6186B4AD2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A71D7-A530-4E9A-A041-2097204AB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0BA9A-731A-4AF2-BCB0-ABF5B9B9E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6DF3F-4E2E-47DA-8D27-6C9BC98CFF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GAA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0. Přednáška FU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nderlying Assump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8228160" cy="47419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ramework sets out the underlying assumptions of financial statements: </a:t>
            </a:r>
            <a:endParaRPr b="0" lang="en-US" sz="32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Accrual Basis.</a:t>
            </a:r>
            <a:r>
              <a:rPr b="0" lang="cs-CZ" sz="2400" spc="-1" strike="noStrike">
                <a:solidFill>
                  <a:srgbClr val="000000"/>
                </a:solidFill>
                <a:latin typeface="Arial"/>
              </a:rPr>
              <a:t> The effects of transactions and other events are recognised when they occur, rather than when cash or its equivalent is received or paid, and they are reported in the financial statements of the periods to which they relate.</a:t>
            </a:r>
            <a:endParaRPr b="0" lang="en-US" sz="24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Going Concern.</a:t>
            </a:r>
            <a:r>
              <a:rPr b="0" lang="cs-CZ" sz="2400" spc="-1" strike="noStrike">
                <a:solidFill>
                  <a:srgbClr val="000000"/>
                </a:solidFill>
                <a:latin typeface="Arial"/>
              </a:rPr>
              <a:t> The financial statements presume that an enterprise will continue in operation indefinitely or, if that presumption is not valid, disclosure and a different basis of reporting are required.</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5240"/>
            <a:ext cx="8228160" cy="11811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Qualitative Characteristics of Financial Statement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se characteristics are the attributes that make the information in financial statements useful to investors, creditors, and others. The Framework identifies four principal qualitative characteristics</a:t>
            </a:r>
            <a:endParaRPr b="0" lang="en-US" sz="32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Understand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Comparabil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Understandability</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Information should be presented in a way that is readily understandable by users who have a reasonable knowledge of business and economic activities and accounting and who are willing to study the information diligentl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ev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4880"/>
            <a:ext cx="8228160" cy="4786560"/>
          </a:xfrm>
          <a:prstGeom prst="rect">
            <a:avLst/>
          </a:prstGeom>
          <a:noFill/>
          <a:ln w="0">
            <a:noFill/>
          </a:ln>
        </p:spPr>
        <p:txBody>
          <a:bodyPr lIns="0" rIns="0" tIns="22680" bIns="0" anchor="t">
            <a:normAutofit fontScale="87000"/>
          </a:bodyPr>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Information in financial statements is relevant when it influences the economic decisions of users. It can do that both by </a:t>
            </a:r>
            <a:endParaRPr b="0" lang="en-US" sz="28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a) helping them evaluate past, present, or future events relating to an enterprise and by </a:t>
            </a:r>
            <a:endParaRPr b="0" lang="en-US" sz="20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b) confirming or correcting past evaluations they have made.</a:t>
            </a:r>
            <a:endParaRPr b="0" lang="en-US" sz="20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Materiality is a component of relevance. Information is material if its omission or misstatement could influence the economic decisions of users. </a:t>
            </a:r>
            <a:endParaRPr b="0" lang="en-US" sz="28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Timeliness is another component of relevance. To be useful, information must be provided to users within the time period in which it is most likely to bear on their decis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iability</a:t>
            </a:r>
            <a:endParaRPr b="0" lang="en-US" sz="4400" spc="-1" strike="noStrike">
              <a:solidFill>
                <a:srgbClr val="000000"/>
              </a:solidFill>
              <a:latin typeface="Arial"/>
            </a:endParaRPr>
          </a:p>
        </p:txBody>
      </p:sp>
      <p:sp>
        <p:nvSpPr>
          <p:cNvPr id="75" name="PlaceHolder 2"/>
          <p:cNvSpPr>
            <a:spLocks noGrp="1"/>
          </p:cNvSpPr>
          <p:nvPr>
            <p:ph/>
          </p:nvPr>
        </p:nvSpPr>
        <p:spPr>
          <a:xfrm>
            <a:off x="457200" y="1506600"/>
            <a:ext cx="8228160" cy="5240160"/>
          </a:xfrm>
          <a:prstGeom prst="rect">
            <a:avLst/>
          </a:prstGeom>
          <a:noFill/>
          <a:ln w="0">
            <a:noFill/>
          </a:ln>
        </p:spPr>
        <p:txBody>
          <a:bodyPr lIns="0" rIns="0" tIns="15840" bIns="0" anchor="t">
            <a:normAutofit fontScale="87000"/>
          </a:bodyPr>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Information in financial statements is reliable if it is free from material error and bias and can be depended upon by users to represent events and transactions faithfully. Information is not reliable when it is purposely designed to influence users' decisions in a particular direction. </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There is sometimes a tradeoff between relevance and reliability - and judgement is required to provide the appropriate balance.</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eliability is affected by the use of estimates and by uncertainties associated with items recognised and measured in financial statements. These uncertainties are dealt with, in part, by disclosure and, in part, by exercising prudence in preparing financial statements. Prudence is the inclusion of a degree of caution in the exercise of the judgements needed in making the estimates required under conditions of uncertainty, such that assets or income are not overstated and liabilities or expenses are not understated. However, prudence can only be exercised within the context of the other qualitative characteristics in the Framework, particularly relevance and the faithful representation of transactions in financial statements. Prudence does not justify deliberate overstatement of liabilities or expenses or deliberate understatement of assets or income, because the financial statements would not be neutral and, therefore, not have the quality of reliability.</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Comparability</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Users must be able to compare the financial statements of an enterprise over time so that they can identify trends in its financial position and performance. Users must also be able to compare the financial statements of different enterprises. Disclosure of accounting policies is essential for comparabilit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31040" cy="4471920"/>
          </a:xfrm>
          <a:prstGeom prst="rect">
            <a:avLst/>
          </a:prstGeom>
          <a:noFill/>
          <a:ln w="0">
            <a:noFill/>
          </a:ln>
        </p:spPr>
        <p:txBody>
          <a:bodyPr lIns="0" rIns="0" tIns="25560" bIns="0" anchor="t">
            <a:normAutofit fontScale="95000"/>
          </a:bodyPr>
          <a:p>
            <a:pPr marL="649800" indent="-6487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Koncept účetní jednotky (Business entity)</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trvání podniku (Going concern)</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Akruální koncept (Accrual concep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Oceňování peň. Jednotkou (Money Measuremen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stabilního dolaru (Stable Dollar)</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eriodicita (Periodicit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I</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31040" cy="4529160"/>
          </a:xfrm>
          <a:prstGeom prst="rect">
            <a:avLst/>
          </a:prstGeom>
          <a:noFill/>
          <a:ln w="0">
            <a:noFill/>
          </a:ln>
        </p:spPr>
        <p:txBody>
          <a:bodyPr lIns="0" rIns="0" tIns="25560" bIns="0" anchor="t">
            <a:normAutofit fontScale="90000"/>
          </a:bodyPr>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Historické náklady (Historical cost)</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patrnost (Prudence, Conservatism)</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uznání výnosů (Revenue recognition)</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řiřazování nákladů výnosům (Matching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eridická alokace (Periodic allocation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věcné a časové souvislosti (Relevanc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Konzistence (Conzistency)</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bsah před formou (Substance over form)</a:t>
            </a:r>
            <a:endParaRPr b="0" lang="en-US" sz="2400" spc="-1" strike="noStrike">
              <a:solidFill>
                <a:srgbClr val="000000"/>
              </a:solidFill>
              <a:latin typeface="Arial"/>
            </a:endParaRPr>
          </a:p>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True and Fair vie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bsah přednášk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akování základních pojm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cepční rámec IAS / IF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pakování pojmů</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etnictví je nástroj pro poskytování informací na podporu ekonomických rozhod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živatel potřebuje vědět, jak výstupy z účetnictví vznik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ředpoklad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rincip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ncepční rámec IAS/IF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objective of financial statements;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dentifies the qualitative characteristics that make information in financial statements useful; and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basic elements of financial statements and the concepts for recognising and measuring them in financia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sers and their Information Nee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principal classes of users of financial statements are present and potential investors, employees, lenders, suppliers and other trade creditors, customers, governments and their agencies and the general public. </a:t>
            </a:r>
            <a:endParaRPr b="0" lang="en-US" sz="3200" spc="-1" strike="noStrike">
              <a:solidFill>
                <a:srgbClr val="000000"/>
              </a:solidFill>
              <a:latin typeface="Arial"/>
            </a:endParaRPr>
          </a:p>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All of these categories of users rely on financial statements to help them in decision mak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5600"/>
            <a:ext cx="8228160" cy="11793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The Objective of Financial Statem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objective of financial statements is to provide information about the financial position, performance and changes in financial position of an enterprise that is useful to a wide range of users in making economic decision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Financial Posi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inancial position of an enterprise is affected by the economic resources it controls, its financial structure, its liquidity and solvency, and its capacity to adapt to changes in the environment in which it operates. </a:t>
            </a:r>
            <a:endParaRPr b="0" lang="en-US" sz="3200" spc="-1" strike="noStrike">
              <a:solidFill>
                <a:srgbClr val="000000"/>
              </a:solidFill>
              <a:latin typeface="Arial"/>
            </a:endParaRPr>
          </a:p>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balance sheet presents this kind of information.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Performance</a:t>
            </a: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8160" cy="5124600"/>
          </a:xfrm>
          <a:prstGeom prst="rect">
            <a:avLst/>
          </a:prstGeom>
          <a:noFill/>
          <a:ln w="0">
            <a:noFill/>
          </a:ln>
        </p:spPr>
        <p:txBody>
          <a:bodyPr lIns="0" rIns="0" tIns="25560" bIns="0" anchor="t">
            <a:normAutofit fontScale="85000"/>
          </a:bodyPr>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Performance is the ability of an enterprise to earn a profit on the resources that have been invested in it. Information about the amounts and variability of profits helps in forecasting future cash flows from the enterprise's existing resources and in forecasting potential additional cash flows from additional resources that might be invested in the enterpris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Framework states that information about performance is primarily provided in an income statement. (Fourth basic financial statement, the statement showing changes in equity.)</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Changes in Financial Position</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6000"/>
          </a:bodyPr>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Users of financial statements seek information about the investing, financing and operating activities that an enterprise has undertaken during the reporting period. This information helps in assessing how well the enterprise is able to generate cash and cash equivalents and how it uses those cash flo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cash flow statement provides this kind of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8:16:38Z</dcterms:created>
  <dc:creator>Mike</dc:creator>
  <dc:description/>
  <dc:language>en-US</dc:language>
  <cp:lastModifiedBy>mensikm</cp:lastModifiedBy>
  <dcterms:modified xsi:type="dcterms:W3CDTF">2012-12-11T05:51:38Z</dcterms:modified>
  <cp:revision>3</cp:revision>
  <dc:subject/>
  <dc:title>GAAP</dc:title>
</cp:coreProperties>
</file>