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3AA98-14A7-4E6C-A066-6CFFDD137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45DBA-BB45-47A5-B585-5DF106B65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F32C18-4B08-4406-BC49-B8F5573AA4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30558C-D379-4490-9923-170EE67707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18514B-E7BC-4FDC-B3D6-E6CA46B247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CFAF1D-595D-4A71-B87C-7DE25E1858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C31568-BC2F-4F09-8BAB-70733B0ACA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E629A4-487E-4605-875F-21CBECE4BD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D7D03D-1FCE-4D5C-ACD8-6E8407F1E5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FA3FE2-DB5B-4D60-9D53-0076FF4D36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718538-2C03-47EE-812B-F257F45CFA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8F08B42-675E-4058-8A3F-863B242F717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A6827-A5AC-4FE3-B580-413C9A591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361670-180E-4A3E-B205-6D6E17386C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EC0144-5320-414B-AEA1-7E0E14A9C4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02742B-2B1C-4FDB-B62F-D59EC221B7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7909B2-23FD-4D3C-BF9B-06B3BF542B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E9C619-023E-4C9E-BE74-634E1760E9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E3B660-A9C1-49EA-91A1-710A2E6001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58FD0B-2D78-4785-9A2B-205C3ABF04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134CFB-447F-48BC-AE52-08795F2781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4B6DF9-B127-4E07-A098-4A06C41490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4A7DADD-34CF-4ACF-A8F4-3BB37DD6B2A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64DBA-50F0-4DA1-9B8C-5582F10D3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DE55539-1956-4B8B-9A6F-D2CCF6F9857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A39CBBD-BF1F-4C6F-BCA7-B73DAF83B41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08DD87-A9E5-42ED-ACF2-809441E28A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B37476-5A1A-48DF-90B5-891A2CEF81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BA2D7B-874D-4CDA-88C1-5C8CFEE5ED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426C50-04D6-4F5D-9071-937D5D455F7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464F51-F904-4A7B-B0A1-94DA7B388E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4A39D3-63C1-4316-B1AD-AAEB5F6633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4D39BE-CAFB-408F-9C94-1FB7903020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568C38-4DF9-4B5A-A670-AFD3508531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E9C282-67C8-4C9E-9C54-8CC6F52C56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8644A4-7A56-4DB7-B54E-01B67161AB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79665A1-458F-4A6B-B9D0-95FD9DADC2F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80FC9E0-8B56-4E4B-B88A-044BA8BC0FA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866FF08-CCC0-4A7A-8575-45A401F5DEE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FADE657-1A0A-4B82-A58B-F2B1D63D54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31B7009-9186-4562-95EF-BDC1A6B953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50F98E-BBE1-43C5-9FBE-D98658B30B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99FE639-A830-4D2E-836C-E61DCA02D2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9956EC-EA55-4075-A6F9-5966DB36CF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E42EA5-BD38-41A9-811E-5071DD8F28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04FFE-FF66-4F17-9FFF-E232E9C09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958F53-12D3-4410-918C-CD97FA2DBC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CAC4DE-F90B-4B94-B9E9-C301D1F186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72B1D08-85EE-4A80-8788-B5AA225F0E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51164BF-DA58-4E2A-8385-0DB312102C3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BE440E5-E438-41DB-9BFC-0ECB600DFF8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4F70A3E-B509-491B-B3EC-4DDFFCB3026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0D921F-512C-44B3-B6BC-AC85FA9E466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D16A11E-4209-4A90-A5C5-F156144D0FB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A9DD8FD-6C4D-4482-B2A7-C602B2F7FDE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28A0477-0F7B-4CD6-802C-0A83D77D1E3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92D2F-0F1C-4FEB-BC60-2F4783D2C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FDD0DD7-E693-421E-88EE-1DE6C32FA48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CCFC91-AB6F-49C7-9133-FE769B40B87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49C53C-6CCC-42CA-BCE5-04697C7D4A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92A6BA0-CE94-4F1C-8E90-1481B9EFBA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905560B-7444-40E1-A10F-3B3693E3597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025798F-FD20-492C-878A-2AFFE1D5C8F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9B410E5-2E85-4B05-83D0-C61920B9B0D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C6722C3-07D4-4249-B281-2E9253844E0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AE6F8C5-358C-4D66-ADB2-2E8CEECBD12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F14CBA8-C5CD-495C-8C2E-C90369B7D57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E2571-4336-452F-860D-4B177C4AC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87430F4-8BB6-455A-B6B5-ED116B5A05C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1D780F-4D3F-451D-99E5-1E77BD3D428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42F1D44-036E-4695-957E-D9E2A4E4FD9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D61CDBA-A95D-4A57-AC2B-245BFAC6296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0290514-04B7-45D7-9F7B-AF00A84E67F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4D5FCA6-F436-46F2-87DD-0DE21265D5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BA603AF-041C-4C15-9833-2E63436649B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FFECBC6-E19A-4F7B-AE8F-595873C75F7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3239CFB-B98E-4A22-9457-3AD0A57AB60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ECE1396-DE35-4155-9EFC-1C731F49104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E3A44-BF72-439D-8DBF-8FC9766F3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7889375-19EE-4FE9-8CD1-A57047AC999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F597196-C7F4-4A8E-885F-58BD2A03FDE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932FE72-AE74-4F05-A317-16213F53CF5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28BE958-5056-468E-B94E-E1DFA56FBB4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D42908E-F24C-4BC4-A840-7490CEBA1A2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C5C85DA-4DBA-4504-A653-70392FA5339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2D634A9-42AF-4665-923B-8EAF2D628FF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0FB0BCE-C0FC-4309-9C39-A6F9C415F54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E7EA754-8735-4971-AF70-2EB2F8928A1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0109610-D2E8-4828-ADC5-6B643A51B9A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3E659-9BDE-4D18-9C60-FB26CFDFE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5DF982D-A2A4-47AC-A94B-304CD006499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FD3F9B6-8991-43A0-93C9-9F062D19DE9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F986EC1-0179-4AC0-A66D-82679AA62E3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87FAEC9-2E0B-4709-95AA-60C83E5BF43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FFFE284-241D-4DBD-AE79-23212DC3B10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5CE5EE0-17C2-4AE3-BD42-73AC553739A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AA57642-BEC1-49C8-AF8D-F5821F3D2F6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A6C7FF8-7F0C-4DB8-8BAD-3CEF920C3E8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9F6AE4A-953E-4F13-8A13-8C42FF0039B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A5D806D-A821-4CA9-ACDA-C902C068CE4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953EE-57C6-4E98-BEF3-5294A34AD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94BB4C1-0C4D-4220-9604-2C9BC3D9771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E7E8AD6-454F-4D9E-BF5F-D7C8A397F36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D10C5EC-E68B-465B-8BCC-FE0DF363C45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E13F0DD-61FC-4A81-B1BE-8A8A7C33692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1EF46BB-2BB7-4372-B99E-5C83087901E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0D7DBF1-24E2-45DF-928D-5E574F2E0D2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5C46364-B500-45D4-9E2F-58910021F2C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4D42031-7099-4E96-AEAA-25D9F7245EA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5D7CF8A-B50A-439B-87FE-D319A41FCFC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E692CAF-6995-402E-BEAF-212B2455B00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F8415-B357-475A-BABC-44B080A9B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6EA68-DF85-457F-9BF9-CAB0FF1D3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8B2F19D-48DB-4591-8773-D85BE7330E5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0DAD5F2-78B2-467F-A8A8-DB3E097A1D6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1AA15AC-9595-4E10-BA5B-DA5A141AAC1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69E48BE-1354-49D0-ABAF-7EBD33EAFD6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060161C-515E-470A-8619-7771C647963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C7D82-4172-43B9-BEE2-A8BCF70BF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BE68C-7E77-4972-8672-4C9119894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7A7344-4DA1-46E5-A17A-18584698BC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8EBD6D-C01C-48C2-A715-12C876CFF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7A1E81-BA9E-486E-AD9A-FD8955793D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6CA8D5-9C05-4CFD-A416-8FB43855A3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A8284C-44F4-4811-A20C-007C61E571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1E891F-2D87-45DF-A359-82E3B95C62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E62303-45E2-4AE8-953F-6CAA64C47C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6EF89-ED80-4AAD-A424-E104C98F0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919C8C-DF68-4065-9317-0AB4136176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2170D8-1B7E-48FB-893B-43D6B1E29D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A518EF-E14E-4CDE-A50A-DA2E0B8E0D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F56D86-D509-41D4-9266-55C92BF355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4B89C4-3EA9-4249-AEC7-900D670527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8333F0-1FCA-4FFC-B243-F527D34763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EF15B9-68A4-4DDB-A07E-6C588D7616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921080-7CEA-43D0-92E5-45D80B7BF6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05560B-DD09-49A5-B974-3BC2E3E5F8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5C338D-E087-45DE-ACD7-49CE8617D1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4115C-F9BA-4D62-8257-A8A1C76C2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E4E768-2C6B-4059-B09C-FD5B3CE14B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C2CD85-4BFC-4CAA-8A80-DFF330D41F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B712A7-EE05-423E-8057-C95D9156BD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8151DF-72D2-44D9-A33A-8A87B3F0C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235DD7-6609-4EBF-B3D2-532833F8AD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D3108F-8B44-4AE4-BC62-D85E29A4CF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CF0CE8-497E-4055-89C9-7130355E44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BD3389-EF93-4770-B6BC-EEA2F381CB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45083D-4C31-4D5B-9501-DB3D94A9A7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2CF537-E8D4-4BA5-B8AC-E8F7F8FBF0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61B6C-7CAE-4D5E-9F8A-68464635D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DD2633-5DBB-4AF4-BBA5-71C89CBAAD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C61B36-7341-4046-B606-AD78F1FF4F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A18DB1-B9DB-4CE6-AFAC-CD1A240593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7A5395-D832-4E59-B4B7-4C4F252F14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2B936C-E43A-4102-B6A7-5BA260A148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618177-A8A6-4CF1-8BE5-1DCDDA9635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C81093-5ED3-42CE-BA7B-1EA8E27E68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412B4C-7FC2-47E1-B1B4-31090B9BD4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D7BB74-1F0A-4590-A6DD-F83912C749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CE3F98-9E57-4255-BB72-BDDF81A29F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A565C-F29A-4AFB-8027-8F0F337CB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0797E9-7EBD-4DD2-82CA-AC6C4D76FD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DB770D-C60B-450D-B377-65CCA5FE7A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DFB5A6-9301-42CC-A3F0-37B8F04AE1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44B4A1-BA57-47EA-A67C-D031F8BE50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16118D-99C2-4839-A0F3-774F1FF7C8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91F272-FF79-4B24-8A08-E9B05B26BE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7B8028-1DF9-462A-8B6D-184B815494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FF299D-0DC7-4B48-A1F0-09BC4CCFE2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F844CE-5A1B-4072-82DA-25520CA254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32B0B4-00D2-44C8-A82A-4A14E82C93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382D0-7110-4430-869E-2763695F2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842D83-E2C9-4FF6-9B8C-09EBBA6038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A38CA8-5CE1-4F8A-B3F3-4CF1192E01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EDE95A-0B46-4031-A580-64D8806893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05FD0C-A51F-4D98-AE86-08CCED7066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F8AEF3-D723-484D-A9B8-FCD9CA9561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F9CD56-17DA-4A1E-8F3E-99DE1EB924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82DBAE-8E7C-4255-B916-7D19804A12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F72DA7-6D8F-47B6-99D3-4EA26CEACD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F83F48-A096-4403-8202-CAB0BBDDB2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2F4A4F-69BB-4AD6-A264-4AEAE32754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276BB-B094-4A76-9BC2-03AEE179A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A9008E-1CB9-4E3E-8DBB-11FAA664F9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5740BC-4EC6-43BF-9312-B4EDABED9D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14EB68-D420-4B1F-8067-9DA6881E6C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515F19-F144-4799-9658-541BCE95B9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184D7C-AAC9-4089-8B24-493DCB2CD6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DF5949-00ED-40E5-8AEF-BED59BC738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3B5F7B-C565-4307-AD67-466E2601CC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A24B9C-0B02-4F49-ABF0-92D1552035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0AB8A4-A6A1-4887-940C-CE9440A628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F15253-82F5-4200-8B63-BA24395644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61E86-9810-4A72-B9D7-A6978EED5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0CD46E-0E2C-457B-9636-FB9639CD6A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1D020D-B297-47B0-8AF8-C2CBD30D63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C86ADC-7A56-42CD-887E-6530A2F766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0B52F8-88AE-4486-B345-6DA2A755CD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107795-C64A-4886-BB2D-911FD25D39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DBB8F4-2E11-4201-A6A2-CA96A98350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5328AF-7964-4CBC-A732-D3EF3B0D0A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C9D6EF-4972-4D91-B42B-86D7024669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DA5327-B77A-4CCE-9462-154D1B30D8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3B0E5D-BEA8-4B20-B043-3232E47626C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Obrázek 8" descr=""/>
          <p:cNvPicPr/>
          <p:nvPr/>
        </p:nvPicPr>
        <p:blipFill>
          <a:blip r:embed="rId2"/>
          <a:stretch/>
        </p:blipFill>
        <p:spPr>
          <a:xfrm>
            <a:off x="3635280" y="115920"/>
            <a:ext cx="1878120" cy="1878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86F0C-1F14-41CB-BABE-202A4E827D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1760-B870-47C6-8705-08F2CF04B6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A71D-2363-4452-A140-23ED1C4DA4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5E0AC-32EF-4197-9F10-4A1B6CB76E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080D5-DF0E-4085-8005-87B8253D44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90B50-6B85-494C-A467-57BC55ABA4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Obrázek 8" descr=""/>
          <p:cNvPicPr/>
          <p:nvPr/>
        </p:nvPicPr>
        <p:blipFill>
          <a:blip r:embed="rId2"/>
          <a:stretch/>
        </p:blipFill>
        <p:spPr>
          <a:xfrm>
            <a:off x="8317080" y="44280"/>
            <a:ext cx="792000" cy="792360"/>
          </a:xfrm>
          <a:prstGeom prst="rect">
            <a:avLst/>
          </a:prstGeom>
          <a:ln w="0">
            <a:noFill/>
          </a:ln>
        </p:spPr>
      </p:pic>
      <p:pic>
        <p:nvPicPr>
          <p:cNvPr id="583" name="Obrázek 12" descr=""/>
          <p:cNvPicPr/>
          <p:nvPr/>
        </p:nvPicPr>
        <p:blipFill>
          <a:blip r:embed="rId3"/>
          <a:stretch/>
        </p:blipFill>
        <p:spPr>
          <a:xfrm>
            <a:off x="0" y="5938920"/>
            <a:ext cx="1763640" cy="919080"/>
          </a:xfrm>
          <a:prstGeom prst="rect">
            <a:avLst/>
          </a:prstGeom>
          <a:ln w="0">
            <a:noFill/>
          </a:ln>
        </p:spPr>
      </p:pic>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75C3-0E66-4372-AFD7-8C5BC7194D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Obrázek 8" descr=""/>
          <p:cNvPicPr/>
          <p:nvPr/>
        </p:nvPicPr>
        <p:blipFill>
          <a:blip r:embed="rId2"/>
          <a:stretch/>
        </p:blipFill>
        <p:spPr>
          <a:xfrm>
            <a:off x="8317080" y="44280"/>
            <a:ext cx="792000" cy="792360"/>
          </a:xfrm>
          <a:prstGeom prst="rect">
            <a:avLst/>
          </a:prstGeom>
          <a:ln w="0">
            <a:noFill/>
          </a:ln>
        </p:spPr>
      </p:pic>
      <p:pic>
        <p:nvPicPr>
          <p:cNvPr id="628" name="Obrázek 12" descr=""/>
          <p:cNvPicPr/>
          <p:nvPr/>
        </p:nvPicPr>
        <p:blipFill>
          <a:blip r:embed="rId3"/>
          <a:stretch/>
        </p:blipFill>
        <p:spPr>
          <a:xfrm>
            <a:off x="0" y="5938920"/>
            <a:ext cx="1763640" cy="919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3B67E-D7D2-4C49-A98C-6A5CC42F99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0" name="Obrázek 12" descr=""/>
          <p:cNvPicPr/>
          <p:nvPr/>
        </p:nvPicPr>
        <p:blipFill>
          <a:blip r:embed="rId3"/>
          <a:stretch/>
        </p:blipFill>
        <p:spPr>
          <a:xfrm>
            <a:off x="0" y="5938920"/>
            <a:ext cx="1763640" cy="91908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E1A8-A082-4A62-BD5B-7DEC2BA9021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rana </a:t>
            </a:r>
            <a:fld id="{592B3302-F148-4D17-9820-47C0EF989C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ázek 8" descr=""/>
          <p:cNvPicPr/>
          <p:nvPr/>
        </p:nvPicPr>
        <p:blipFill>
          <a:blip r:embed="rId2"/>
          <a:stretch/>
        </p:blipFill>
        <p:spPr>
          <a:xfrm>
            <a:off x="8317080" y="44280"/>
            <a:ext cx="792000" cy="792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1487-C573-44BB-A5AC-B441BD768F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66802-A2FE-4824-8A59-9872519825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DEC3-9D02-4A54-9628-85399C7042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AFAD9-3325-4800-B557-860E23736B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1D41-6AB6-44E3-836F-A3134EBB3C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8904-6D43-4E32-B517-EA97730A0B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26D2-C3C4-4807-AE5B-70E802179C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 rozvahové účetnictví</a:t>
            </a:r>
            <a:endParaRPr b="0" lang="en-US" sz="4400" spc="-1" strike="noStrike">
              <a:solidFill>
                <a:srgbClr val="000000"/>
              </a:solidFill>
              <a:latin typeface="Calibri"/>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2.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prvky</a:t>
            </a:r>
            <a:endParaRPr b="0" lang="en-US" sz="4400" spc="-1" strike="noStrike">
              <a:solidFill>
                <a:srgbClr val="000000"/>
              </a:solidFill>
              <a:latin typeface="Calibri"/>
            </a:endParaRPr>
          </a:p>
        </p:txBody>
      </p:sp>
      <p:sp>
        <p:nvSpPr>
          <p:cNvPr id="7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 pravděpodobné, že nastanou (99,99</a:t>
            </a:r>
            <a:r>
              <a:rPr b="0" lang="en-US" sz="3200" spc="-1" strike="noStrike">
                <a:solidFill>
                  <a:srgbClr val="000000"/>
                </a:solidFill>
                <a:latin typeface="Calibri"/>
              </a:rPr>
              <a:t>%</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sou spolehlivě ocenitelné</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kud není splněno, nelze rozpoznat a vykázat – pro účetnictví daný jev neexistuj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lovní komentář (příloha, Management Le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Zcela mimo zřetel účetnictv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Bilanční rovnice</a:t>
            </a:r>
            <a:endParaRPr b="0" lang="en-US" sz="4400" spc="-1" strike="noStrike">
              <a:solidFill>
                <a:srgbClr val="000000"/>
              </a:solidFill>
              <a:latin typeface="Calibri"/>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a:t>
            </a:r>
            <a:r>
              <a:rPr b="0" lang="cs-CZ" sz="3200" spc="-1" strike="noStrike">
                <a:solidFill>
                  <a:srgbClr val="000000"/>
                </a:solidFill>
                <a:latin typeface="Calibri"/>
              </a:rPr>
              <a:t>	</a:t>
            </a:r>
            <a:r>
              <a:rPr b="0" lang="cs-CZ" sz="3200" spc="-1" strike="noStrike">
                <a:solidFill>
                  <a:srgbClr val="000000"/>
                </a:solidFill>
                <a:latin typeface="Calibri"/>
              </a:rPr>
              <a:t>- statick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000000"/>
                </a:solidFill>
                <a:latin typeface="바탕"/>
                <a:ea typeface="바탕"/>
              </a:rPr>
              <a:t>Δ</a:t>
            </a:r>
            <a:r>
              <a:rPr b="0" lang="cs-CZ" sz="3200" spc="-1" strike="noStrike">
                <a:solidFill>
                  <a:srgbClr val="000000"/>
                </a:solidFill>
                <a:latin typeface="Calibri"/>
              </a:rPr>
              <a:t> A = </a:t>
            </a:r>
            <a:r>
              <a:rPr b="0" lang="el-GR" sz="3200" spc="-1" strike="noStrike">
                <a:solidFill>
                  <a:srgbClr val="000000"/>
                </a:solidFill>
                <a:latin typeface="바탕"/>
                <a:ea typeface="바탕"/>
              </a:rPr>
              <a:t>Δ</a:t>
            </a:r>
            <a:r>
              <a:rPr b="0" lang="cs-CZ" sz="3200" spc="-1" strike="noStrike">
                <a:solidFill>
                  <a:srgbClr val="000000"/>
                </a:solidFill>
                <a:latin typeface="Calibri"/>
              </a:rPr>
              <a:t> (VK + Z)</a:t>
            </a:r>
            <a:r>
              <a:rPr b="0" lang="cs-CZ" sz="3200" spc="-1" strike="noStrike">
                <a:solidFill>
                  <a:srgbClr val="000000"/>
                </a:solidFill>
                <a:latin typeface="Calibri"/>
              </a:rPr>
              <a:t>	</a:t>
            </a:r>
            <a:r>
              <a:rPr b="0" lang="cs-CZ" sz="3200" spc="-1" strike="noStrike">
                <a:solidFill>
                  <a:srgbClr val="000000"/>
                </a:solidFill>
                <a:latin typeface="Calibri"/>
              </a:rPr>
              <a:t>- dynami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rozvahové změny</a:t>
            </a:r>
            <a:endParaRPr b="0" lang="en-US" sz="32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 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A</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P –P</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Založena na bilanční rovn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Informace o A, Z a V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financial position of an enterprise is affected by the economic resources it controls, its financial structure, its liquidity and solvency, and its capacity to adapt to changes in the environment in which it opera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balance sheet presents this kind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a:t>
            </a:r>
            <a:endParaRPr b="0" lang="en-US" sz="44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zice = sta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je statická, okamžikov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a k určitému datu (rozvahový 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Běžný (počátek účetního období, kone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ezitímní (např. čtvrtlet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imořádný (konsolidace, likvida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I</a:t>
            </a: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Horizont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t>
            </a:r>
            <a:r>
              <a:rPr b="0" lang="cs-CZ" sz="2400" spc="-1" strike="noStrike">
                <a:solidFill>
                  <a:srgbClr val="000000"/>
                </a:solidFill>
                <a:latin typeface="Calibri"/>
              </a:rPr>
              <a:t>T“ forma, levá a pravá stra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Vyrovnano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Kontinentální pohl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Vertik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Rozdílová for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Důraz na V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nglo-saský pohled</a:t>
            </a:r>
            <a:endParaRPr b="0" lang="en-US" sz="2400" spc="-1" strike="noStrike">
              <a:solidFill>
                <a:srgbClr val="000000"/>
              </a:solidFill>
              <a:latin typeface="Calibri"/>
            </a:endParaRPr>
          </a:p>
        </p:txBody>
      </p:sp>
      <p:pic>
        <p:nvPicPr>
          <p:cNvPr id="740" name="Picture 34" descr=""/>
          <p:cNvPicPr/>
          <p:nvPr/>
        </p:nvPicPr>
        <p:blipFill>
          <a:blip r:embed="rId1"/>
          <a:stretch/>
        </p:blipFill>
        <p:spPr>
          <a:xfrm>
            <a:off x="5076720" y="4448160"/>
            <a:ext cx="2087640" cy="1717560"/>
          </a:xfrm>
          <a:prstGeom prst="rect">
            <a:avLst/>
          </a:prstGeom>
          <a:ln w="0">
            <a:noFill/>
          </a:ln>
        </p:spPr>
      </p:pic>
      <p:sp>
        <p:nvSpPr>
          <p:cNvPr id="741" name="Line 4"/>
          <p:cNvSpPr/>
          <p:nvPr/>
        </p:nvSpPr>
        <p:spPr>
          <a:xfrm>
            <a:off x="5148360" y="198900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156360" y="1959120"/>
            <a:ext cx="0" cy="175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Text Box 6"/>
          <p:cNvSpPr/>
          <p:nvPr/>
        </p:nvSpPr>
        <p:spPr>
          <a:xfrm>
            <a:off x="4932360" y="162864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744" name="Text Box 7"/>
          <p:cNvSpPr/>
          <p:nvPr/>
        </p:nvSpPr>
        <p:spPr>
          <a:xfrm>
            <a:off x="5148360" y="24876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45" name="Line 8"/>
          <p:cNvSpPr/>
          <p:nvPr/>
        </p:nvSpPr>
        <p:spPr>
          <a:xfrm>
            <a:off x="6156360" y="26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9"/>
          <p:cNvSpPr/>
          <p:nvPr/>
        </p:nvSpPr>
        <p:spPr>
          <a:xfrm>
            <a:off x="5148360" y="335772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0"/>
          <p:cNvSpPr/>
          <p:nvPr/>
        </p:nvSpPr>
        <p:spPr>
          <a:xfrm>
            <a:off x="6372360" y="21337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K</a:t>
            </a:r>
            <a:endParaRPr b="0" lang="en-US" sz="1800" spc="-1" strike="noStrike">
              <a:solidFill>
                <a:srgbClr val="000000"/>
              </a:solidFill>
              <a:latin typeface="Arial"/>
            </a:endParaRPr>
          </a:p>
        </p:txBody>
      </p:sp>
      <p:sp>
        <p:nvSpPr>
          <p:cNvPr id="748" name="Text Box 11"/>
          <p:cNvSpPr/>
          <p:nvPr/>
        </p:nvSpPr>
        <p:spPr>
          <a:xfrm>
            <a:off x="6372360" y="277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749" name="Text Box 12"/>
          <p:cNvSpPr/>
          <p:nvPr/>
        </p:nvSpPr>
        <p:spPr>
          <a:xfrm>
            <a:off x="4932360" y="32860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Ʃ</a:t>
            </a: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Ʃ</a:t>
            </a:r>
            <a:r>
              <a:rPr b="0" lang="cs-CZ" sz="1800" spc="-1" strike="noStrike">
                <a:solidFill>
                  <a:srgbClr val="000000"/>
                </a:solidFill>
                <a:latin typeface="Arial"/>
                <a:ea typeface="Arial"/>
              </a:rPr>
              <a:t>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Formální náležitosti rozvahy</a:t>
            </a:r>
            <a:endParaRPr b="0" lang="en-US" sz="4400" spc="-1" strike="noStrike">
              <a:solidFill>
                <a:srgbClr val="000000"/>
              </a:solidFill>
              <a:latin typeface="Calibri"/>
            </a:endParaRPr>
          </a:p>
        </p:txBody>
      </p:sp>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o? – identifikace účetní jednotk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y? – datum sestaven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olik? – peněžní jednotky (tis. CZK, mil E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rozvahy</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ritériem obvykle čas (likvidita či splat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Evropa (obvykle) – Od dlouhodobých / stálých ke krátkodobým / oběžný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SA – Od krátkodobých / oběžných k dlouhodobým / stálý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4" descr=""/>
          <p:cNvPicPr/>
          <p:nvPr/>
        </p:nvPicPr>
        <p:blipFill>
          <a:blip r:embed="rId1"/>
          <a:stretch/>
        </p:blipFill>
        <p:spPr>
          <a:xfrm>
            <a:off x="179280" y="189000"/>
            <a:ext cx="6913800" cy="61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179280" y="189000"/>
            <a:ext cx="639468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aktiv dle IFRS</a:t>
            </a:r>
            <a:endParaRPr b="0" lang="en-US" sz="4400" spc="-1" strike="noStrike">
              <a:solidFill>
                <a:srgbClr val="000000"/>
              </a:solidFill>
              <a:latin typeface="Calibri"/>
            </a:endParaRPr>
          </a:p>
        </p:txBody>
      </p:sp>
      <p:sp>
        <p:nvSpPr>
          <p:cNvPr id="757" name=""/>
          <p:cNvSpPr txBox="1"/>
          <p:nvPr/>
        </p:nvSpPr>
        <p:spPr>
          <a:xfrm>
            <a:off x="457200" y="1197000"/>
            <a:ext cx="8229600" cy="54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Calibri"/>
              </a:rPr>
              <a:t>Ass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sh and Cash Equival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Receivable (Debtors) </a:t>
            </a:r>
            <a:r>
              <a:rPr b="0" i="1" lang="en-US" sz="2000" spc="-1" strike="noStrike">
                <a:solidFill>
                  <a:srgbClr val="000000"/>
                </a:solidFill>
                <a:latin typeface="Calibri"/>
              </a:rPr>
              <a:t>Less : Allowances for Doubtful Accou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nto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id Expen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Held for trad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Asse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Assets</a:t>
            </a:r>
            <a:r>
              <a:rPr b="1" lang="cs-CZ" sz="2000" spc="-1" strike="noStrike">
                <a:solidFill>
                  <a:srgbClr val="000000"/>
                </a:solidFill>
                <a:latin typeface="Calibri"/>
              </a:rPr>
              <a:t> </a:t>
            </a:r>
            <a:r>
              <a:rPr b="1" lang="en-US" sz="2000" spc="-1" strike="noStrike">
                <a:solidFill>
                  <a:srgbClr val="000000"/>
                </a:solidFill>
                <a:latin typeface="Calibri"/>
              </a:rPr>
              <a:t>(Fixed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perty, Plant and Equipment (PPE) </a:t>
            </a:r>
            <a:r>
              <a:rPr b="0" i="1" lang="en-US" sz="2000" spc="-1" strike="noStrike">
                <a:solidFill>
                  <a:srgbClr val="000000"/>
                </a:solidFill>
                <a:latin typeface="Calibri"/>
              </a:rPr>
              <a:t>Less : Accumulated De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Available for sale/Held-to-maturit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s in Associat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angible Assets (Patent, Copyright, Trademark, etc.) </a:t>
            </a:r>
            <a:r>
              <a:rPr b="0" i="1" lang="en-US" sz="2000" spc="-1" strike="noStrike">
                <a:solidFill>
                  <a:srgbClr val="000000"/>
                </a:solidFill>
                <a:latin typeface="Calibri"/>
              </a:rPr>
              <a:t>Less : Accumulated Amortiz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oodw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Assets, e.g. Deferred Tax Assets, Lease Receiv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bsah přednášky</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hrnutí role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stavební prvky rozva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závazků dle IFRS</a:t>
            </a:r>
            <a:endParaRPr b="0" lang="en-US" sz="44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ABILIT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Liabilities (Creditors: amounts falling due withi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Income Tax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portion of 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rt-term Provis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Liabilities, e.g. Unearned Revenue, Deposi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Liabilities (Creditors: amounts falling due after more tha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ssued Debt Securities, e.g. Notes/Bond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ferred Tax Liabilit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sions, e.g. Pension Obliga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Liabilities, e.g. Lease Oblig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Struktura vlastního kapitálu dle IFRS</a:t>
            </a:r>
            <a:endParaRPr b="0" lang="en-US" sz="38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HAREHOLDERS' EQU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id-in Capita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Capital (Ordinary Shares, Preference Sha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Premiu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Less: Treasury Sha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tained Earning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valuation Reserv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cumulated Other Comprehensive Income</a:t>
            </a:r>
            <a:r>
              <a:rPr b="0" lang="en-US" sz="2800" spc="-1" strike="noStrike">
                <a:solidFill>
                  <a:srgbClr val="000000"/>
                </a:solidFill>
                <a:latin typeface="Calibri"/>
              </a:rPr>
              <a:t> </a:t>
            </a:r>
            <a:r>
              <a:rPr b="1" lang="en-US" sz="2800" spc="-1" strike="noStrike">
                <a:solidFill>
                  <a:srgbClr val="000000"/>
                </a:solidFill>
                <a:latin typeface="Calibri"/>
              </a:rPr>
              <a:t>Non-Controlling Interes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ové účetnictví</a:t>
            </a:r>
            <a:endParaRPr b="0" lang="en-US" sz="4400" spc="-1" strike="noStrike">
              <a:solidFill>
                <a:srgbClr val="000000"/>
              </a:solidFill>
              <a:latin typeface="Calibri"/>
            </a:endParaRPr>
          </a:p>
        </p:txBody>
      </p:sp>
      <p:sp>
        <p:nvSpPr>
          <p:cNvPr id="7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ednodušen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aloženo na 4 základních změná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ůraz na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nořadá teorie účtů – rozvahové účty (dvoustranné) – stavové úč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ají počáteční a konečný zůstate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nterpretují se k určitému okamži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MD (C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MD –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aktiva a jejich dynamiku (statické účty rozvíjí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I</a:t>
            </a:r>
            <a:endParaRPr b="0" lang="en-US" sz="4400" spc="-1" strike="noStrike">
              <a:solidFill>
                <a:srgbClr val="000000"/>
              </a:solidFill>
              <a:latin typeface="Calibri"/>
            </a:endParaRPr>
          </a:p>
        </p:txBody>
      </p:sp>
      <p:sp>
        <p:nvSpPr>
          <p:cNvPr id="767"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7"/>
          <p:cNvSpPr/>
          <p:nvPr/>
        </p:nvSpPr>
        <p:spPr>
          <a:xfrm>
            <a:off x="3203640" y="162864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um – např. Stroj</a:t>
            </a:r>
            <a:endParaRPr b="0" lang="en-US" sz="1800" spc="-1" strike="noStrike">
              <a:solidFill>
                <a:srgbClr val="000000"/>
              </a:solidFill>
              <a:latin typeface="Arial"/>
            </a:endParaRPr>
          </a:p>
        </p:txBody>
      </p:sp>
      <p:sp>
        <p:nvSpPr>
          <p:cNvPr id="770"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71"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72" name="Text Box 10"/>
          <p:cNvSpPr/>
          <p:nvPr/>
        </p:nvSpPr>
        <p:spPr>
          <a:xfrm>
            <a:off x="1619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1 000</a:t>
            </a:r>
            <a:endParaRPr b="0" lang="en-US" sz="1800" spc="-1" strike="noStrike">
              <a:solidFill>
                <a:srgbClr val="000000"/>
              </a:solidFill>
              <a:latin typeface="Arial"/>
            </a:endParaRPr>
          </a:p>
        </p:txBody>
      </p:sp>
      <p:sp>
        <p:nvSpPr>
          <p:cNvPr id="773" name="Text Box 11"/>
          <p:cNvSpPr/>
          <p:nvPr/>
        </p:nvSpPr>
        <p:spPr>
          <a:xfrm>
            <a:off x="154764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200</a:t>
            </a:r>
            <a:endParaRPr b="0" lang="en-US" sz="1800" spc="-1" strike="noStrike">
              <a:solidFill>
                <a:srgbClr val="000000"/>
              </a:solidFill>
              <a:latin typeface="Arial"/>
            </a:endParaRPr>
          </a:p>
        </p:txBody>
      </p:sp>
      <p:sp>
        <p:nvSpPr>
          <p:cNvPr id="774" name="Text Box 12"/>
          <p:cNvSpPr/>
          <p:nvPr/>
        </p:nvSpPr>
        <p:spPr>
          <a:xfrm>
            <a:off x="471636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50</a:t>
            </a:r>
            <a:endParaRPr b="0" lang="en-US" sz="1800" spc="-1" strike="noStrike">
              <a:solidFill>
                <a:srgbClr val="000000"/>
              </a:solidFill>
              <a:latin typeface="Arial"/>
            </a:endParaRPr>
          </a:p>
        </p:txBody>
      </p:sp>
      <p:sp>
        <p:nvSpPr>
          <p:cNvPr id="775" name="Text Box 13"/>
          <p:cNvSpPr/>
          <p:nvPr/>
        </p:nvSpPr>
        <p:spPr>
          <a:xfrm>
            <a:off x="1619280" y="45021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1 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a:t>
            </a:r>
            <a:endParaRPr b="0" lang="en-US" sz="4000" spc="-1" strike="noStrike">
              <a:solidFill>
                <a:srgbClr val="000000"/>
              </a:solidFill>
              <a:latin typeface="Calibri"/>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asivní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D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D –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vlastní kapitál a závazky a jejich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I</a:t>
            </a:r>
            <a:endParaRPr b="0" lang="en-US" sz="4000" spc="-1" strike="noStrike">
              <a:solidFill>
                <a:srgbClr val="000000"/>
              </a:solidFill>
              <a:latin typeface="Calibri"/>
            </a:endParaRPr>
          </a:p>
        </p:txBody>
      </p:sp>
      <p:sp>
        <p:nvSpPr>
          <p:cNvPr id="779"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
          <p:cNvSpPr/>
          <p:nvPr/>
        </p:nvSpPr>
        <p:spPr>
          <a:xfrm>
            <a:off x="2916360" y="1628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lastní kapitál / Závazek -  Úvěr</a:t>
            </a:r>
            <a:endParaRPr b="0" lang="en-US" sz="1800" spc="-1" strike="noStrike">
              <a:solidFill>
                <a:srgbClr val="000000"/>
              </a:solidFill>
              <a:latin typeface="Arial"/>
            </a:endParaRPr>
          </a:p>
        </p:txBody>
      </p:sp>
      <p:sp>
        <p:nvSpPr>
          <p:cNvPr id="782"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83"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84" name="Text Box 10"/>
          <p:cNvSpPr/>
          <p:nvPr/>
        </p:nvSpPr>
        <p:spPr>
          <a:xfrm>
            <a:off x="471636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3 000</a:t>
            </a:r>
            <a:endParaRPr b="0" lang="en-US" sz="1800" spc="-1" strike="noStrike">
              <a:solidFill>
                <a:srgbClr val="000000"/>
              </a:solidFill>
              <a:latin typeface="Arial"/>
            </a:endParaRPr>
          </a:p>
        </p:txBody>
      </p:sp>
      <p:sp>
        <p:nvSpPr>
          <p:cNvPr id="785" name="Text Box 11"/>
          <p:cNvSpPr/>
          <p:nvPr/>
        </p:nvSpPr>
        <p:spPr>
          <a:xfrm>
            <a:off x="478800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800</a:t>
            </a:r>
            <a:endParaRPr b="0" lang="en-US" sz="1800" spc="-1" strike="noStrike">
              <a:solidFill>
                <a:srgbClr val="000000"/>
              </a:solidFill>
              <a:latin typeface="Arial"/>
            </a:endParaRPr>
          </a:p>
        </p:txBody>
      </p:sp>
      <p:sp>
        <p:nvSpPr>
          <p:cNvPr id="786" name="Text Box 12"/>
          <p:cNvSpPr/>
          <p:nvPr/>
        </p:nvSpPr>
        <p:spPr>
          <a:xfrm>
            <a:off x="161928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 600</a:t>
            </a:r>
            <a:endParaRPr b="0" lang="en-US" sz="1800" spc="-1" strike="noStrike">
              <a:solidFill>
                <a:srgbClr val="000000"/>
              </a:solidFill>
              <a:latin typeface="Arial"/>
            </a:endParaRPr>
          </a:p>
        </p:txBody>
      </p:sp>
      <p:sp>
        <p:nvSpPr>
          <p:cNvPr id="787" name="Text Box 13"/>
          <p:cNvSpPr/>
          <p:nvPr/>
        </p:nvSpPr>
        <p:spPr>
          <a:xfrm>
            <a:off x="4716360" y="45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2 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Rozvinuté rozvahové účetnictví I</a:t>
            </a:r>
            <a:endParaRPr b="0" lang="en-US" sz="4000" spc="-1" strike="noStrike">
              <a:solidFill>
                <a:srgbClr val="000000"/>
              </a:solidFill>
              <a:latin typeface="Calibri"/>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se „rozpadá“ na jednotlivé rozvahové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en účet pro vlastní kapitá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V (zisk, ztráta) zjišťován jako změna VK po vyloučení vlastnických transakc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ické transak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klady vlastníka (posílení firmy, úhrada ztrá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běry vlastníka (dividendy, podíly na Zis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4280"/>
            <a:ext cx="8229600" cy="41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Calibri"/>
              </a:rPr>
              <a:t>Rozvinuté rozvahové účetnictví II</a:t>
            </a:r>
            <a:endParaRPr b="0" lang="en-US" sz="2000" spc="-1" strike="noStrike">
              <a:solidFill>
                <a:srgbClr val="000000"/>
              </a:solidFill>
              <a:latin typeface="Calibri"/>
            </a:endParaRPr>
          </a:p>
        </p:txBody>
      </p:sp>
      <p:pic>
        <p:nvPicPr>
          <p:cNvPr id="791" name="Picture 739" descr=""/>
          <p:cNvPicPr/>
          <p:nvPr/>
        </p:nvPicPr>
        <p:blipFill>
          <a:blip r:embed="rId1"/>
          <a:stretch/>
        </p:blipFill>
        <p:spPr>
          <a:xfrm>
            <a:off x="1530360" y="404640"/>
            <a:ext cx="5994360" cy="638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tevření účetních knih</a:t>
            </a:r>
            <a:endParaRPr b="0" lang="en-US" sz="4400" spc="-1" strike="noStrike">
              <a:solidFill>
                <a:srgbClr val="000000"/>
              </a:solidFill>
              <a:latin typeface="Calibri"/>
            </a:endParaRPr>
          </a:p>
        </p:txBody>
      </p:sp>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yužití počáteční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any zrcadlově oproti rozv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avedení počátečních zůstatků rozvahových účt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počítačová forma to řeší jin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hrnutí role účetnictví</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formace pro podporu ekonomických rozhodován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lavním uživatelem je poskytovatel kapitál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oučasn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otenciální</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y zejména v podnikatelských subjek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ní zobrazení</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r>
              <a:rPr b="0" lang="cs-CZ" sz="3200" spc="-1" strike="noStrike">
                <a:solidFill>
                  <a:srgbClr val="000000"/>
                </a:solidFill>
                <a:latin typeface="Calibri"/>
              </a:rPr>
              <a:t>účtování“ – zachycování jevů, událostí v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le charakteristiky účtů (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vojně a souvztažně (viz přednáška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Uzavření účetních knih</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í konečné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a a uspořádání shodné s rozvah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 počítačová forma řeší jinak (databázov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polečnost Shadow Mouse zahajuje podnikání, víme o 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50 000 v poklad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200 000 v b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Úvěr u banky 220 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a:t>
            </a: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zahajovací rozvahu</a:t>
            </a:r>
            <a:endParaRPr b="0" lang="en-US" sz="2800" spc="-1" strike="noStrike">
              <a:solidFill>
                <a:srgbClr val="000000"/>
              </a:solidFill>
              <a:latin typeface="Calibri"/>
            </a:endParaRPr>
          </a:p>
        </p:txBody>
      </p:sp>
      <p:pic>
        <p:nvPicPr>
          <p:cNvPr id="802" name="Picture 4" descr=""/>
          <p:cNvPicPr/>
          <p:nvPr/>
        </p:nvPicPr>
        <p:blipFill>
          <a:blip r:embed="rId1"/>
          <a:stretch/>
        </p:blipFill>
        <p:spPr>
          <a:xfrm>
            <a:off x="682560" y="2687760"/>
            <a:ext cx="7777080" cy="203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I</a:t>
            </a:r>
            <a:endParaRPr b="0" lang="en-US" sz="4400" spc="-1" strike="noStrike">
              <a:solidFill>
                <a:srgbClr val="000000"/>
              </a:solidFill>
              <a:latin typeface="Calibri"/>
            </a:endParaRPr>
          </a:p>
        </p:txBody>
      </p:sp>
      <p:sp>
        <p:nvSpPr>
          <p:cNvPr id="804" name="PlaceHolder 2"/>
          <p:cNvSpPr>
            <a:spLocks noGrp="1"/>
          </p:cNvSpPr>
          <p:nvPr>
            <p:ph/>
          </p:nvPr>
        </p:nvSpPr>
        <p:spPr>
          <a:xfrm>
            <a:off x="456840" y="1600200"/>
            <a:ext cx="8218440" cy="1036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Otevřete účetní knihy (naveďte počáteční zůstatky)</a:t>
            </a:r>
            <a:endParaRPr b="0" lang="en-US" sz="2800" spc="-1" strike="noStrike">
              <a:solidFill>
                <a:srgbClr val="000000"/>
              </a:solidFill>
              <a:latin typeface="Calibri"/>
            </a:endParaRPr>
          </a:p>
        </p:txBody>
      </p:sp>
      <p:pic>
        <p:nvPicPr>
          <p:cNvPr id="805" name="Picture 4" descr=""/>
          <p:cNvPicPr/>
          <p:nvPr/>
        </p:nvPicPr>
        <p:blipFill>
          <a:blip r:embed="rId1"/>
          <a:stretch/>
        </p:blipFill>
        <p:spPr>
          <a:xfrm>
            <a:off x="179280" y="3081240"/>
            <a:ext cx="8713800" cy="221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V</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následující události</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Nákup automobilu (placeno v hotovosti) 3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Z banky poslána záloha dodavateli 5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šla faktura za telefony  3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zaslal zboží v hodnotě 45 000, fakturu započetl proti záloz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vrátil co dluž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Společnost prodala zboží v nákupní hodnotě 25 000 za cenu 60000 Kč - hotově</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Uhrazena faktura za telefon z bank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Vlastník vybral ze společnosti 10 000 v hotov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V</a:t>
            </a: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8291520" cy="60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konečnou rozvahu a vyčíslete HV</a:t>
            </a:r>
            <a:endParaRPr b="0" lang="en-US" sz="2800" spc="-1" strike="noStrike">
              <a:solidFill>
                <a:srgbClr val="000000"/>
              </a:solidFill>
              <a:latin typeface="Calibri"/>
            </a:endParaRPr>
          </a:p>
        </p:txBody>
      </p:sp>
      <p:pic>
        <p:nvPicPr>
          <p:cNvPr id="810" name="Picture 4" descr=""/>
          <p:cNvPicPr/>
          <p:nvPr/>
        </p:nvPicPr>
        <p:blipFill>
          <a:blip r:embed="rId1"/>
          <a:stretch/>
        </p:blipFill>
        <p:spPr>
          <a:xfrm>
            <a:off x="684360" y="2133720"/>
            <a:ext cx="7416720" cy="3052800"/>
          </a:xfrm>
          <a:prstGeom prst="rect">
            <a:avLst/>
          </a:prstGeom>
          <a:ln w="0">
            <a:noFill/>
          </a:ln>
        </p:spPr>
      </p:pic>
      <p:sp>
        <p:nvSpPr>
          <p:cNvPr id="811" name="Rectangle 6"/>
          <p:cNvSpPr/>
          <p:nvPr/>
        </p:nvSpPr>
        <p:spPr>
          <a:xfrm>
            <a:off x="425520" y="5300640"/>
            <a:ext cx="829152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VK1 – VK0 +- V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 52 000 – 30 000 + 10 000 = 32 000 K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adings</a:t>
            </a:r>
            <a:endParaRPr b="0" lang="en-US" sz="44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come statement, Expense, Cost, Income, Gain, Loss (conceptual framework – framework.pdf, 1-GAAP-IFRS_Mladek.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teorie účtů, otevření účetních knih, výsledovka, účet Z/Z (Abeceda – Kovanicov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Balance Sheet) – písemný přehled pro vlastní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k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vaz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í kapitá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a - Assets</a:t>
            </a:r>
            <a:endParaRPr b="0" lang="en-US" sz="4400" spc="-1" strike="noStrike">
              <a:solidFill>
                <a:srgbClr val="000000"/>
              </a:solidFill>
              <a:latin typeface="Calibri"/>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 asset is a resource </a:t>
            </a:r>
            <a:r>
              <a:rPr b="1" lang="cs-CZ" sz="3200" spc="-1" strike="noStrike">
                <a:solidFill>
                  <a:srgbClr val="000000"/>
                </a:solidFill>
                <a:latin typeface="Calibri"/>
              </a:rPr>
              <a:t>controlled</a:t>
            </a:r>
            <a:r>
              <a:rPr b="0" lang="cs-CZ" sz="3200" spc="-1" strike="noStrike">
                <a:solidFill>
                  <a:srgbClr val="000000"/>
                </a:solidFill>
                <a:latin typeface="Calibri"/>
              </a:rPr>
              <a:t> by the enterprise as a result of </a:t>
            </a:r>
            <a:r>
              <a:rPr b="1" lang="cs-CZ" sz="3200" spc="-1" strike="noStrike">
                <a:solidFill>
                  <a:srgbClr val="000000"/>
                </a:solidFill>
                <a:latin typeface="Calibri"/>
              </a:rPr>
              <a:t>past</a:t>
            </a:r>
            <a:r>
              <a:rPr b="0" lang="cs-CZ" sz="3200" spc="-1" strike="noStrike">
                <a:solidFill>
                  <a:srgbClr val="000000"/>
                </a:solidFill>
                <a:latin typeface="Calibri"/>
              </a:rPr>
              <a:t> </a:t>
            </a:r>
            <a:r>
              <a:rPr b="1" lang="cs-CZ" sz="3200" spc="-1" strike="noStrike">
                <a:solidFill>
                  <a:srgbClr val="000000"/>
                </a:solidFill>
                <a:latin typeface="Calibri"/>
              </a:rPr>
              <a:t>events</a:t>
            </a:r>
            <a:r>
              <a:rPr b="0" lang="cs-CZ" sz="3200" spc="-1" strike="noStrike">
                <a:solidFill>
                  <a:srgbClr val="000000"/>
                </a:solidFill>
                <a:latin typeface="Calibri"/>
              </a:rPr>
              <a:t> and from which </a:t>
            </a:r>
            <a:r>
              <a:rPr b="1" lang="cs-CZ" sz="3200" spc="-1" strike="noStrike">
                <a:solidFill>
                  <a:srgbClr val="000000"/>
                </a:solidFill>
                <a:latin typeface="Calibri"/>
              </a:rPr>
              <a:t>future</a:t>
            </a:r>
            <a:r>
              <a:rPr b="0" lang="cs-CZ" sz="3200" spc="-1" strike="noStrike">
                <a:solidFill>
                  <a:srgbClr val="000000"/>
                </a:solidFill>
                <a:latin typeface="Calibri"/>
              </a:rPr>
              <a:t> </a:t>
            </a:r>
            <a:r>
              <a:rPr b="1" lang="cs-CZ" sz="3200" spc="-1" strike="noStrike">
                <a:solidFill>
                  <a:srgbClr val="000000"/>
                </a:solidFill>
                <a:latin typeface="Calibri"/>
              </a:rPr>
              <a:t>economic</a:t>
            </a:r>
            <a:r>
              <a:rPr b="0" lang="cs-CZ" sz="3200" spc="-1" strike="noStrike">
                <a:solidFill>
                  <a:srgbClr val="000000"/>
                </a:solidFill>
                <a:latin typeface="Calibri"/>
              </a:rPr>
              <a:t> </a:t>
            </a:r>
            <a:r>
              <a:rPr b="1" lang="cs-CZ" sz="3200" spc="-1" strike="noStrike">
                <a:solidFill>
                  <a:srgbClr val="000000"/>
                </a:solidFill>
                <a:latin typeface="Calibri"/>
              </a:rPr>
              <a:t>benefits</a:t>
            </a:r>
            <a:r>
              <a:rPr b="0" lang="cs-CZ" sz="3200" spc="-1" strike="noStrike">
                <a:solidFill>
                  <a:srgbClr val="000000"/>
                </a:solidFill>
                <a:latin typeface="Calibri"/>
              </a:rPr>
              <a:t> are expected to </a:t>
            </a:r>
            <a:r>
              <a:rPr b="1" lang="cs-CZ" sz="3200" spc="-1" strike="noStrike">
                <a:solidFill>
                  <a:srgbClr val="000000"/>
                </a:solidFill>
                <a:latin typeface="Calibri"/>
              </a:rPr>
              <a:t>flow</a:t>
            </a:r>
            <a:r>
              <a:rPr b="0" lang="cs-CZ" sz="3200" spc="-1" strike="noStrike">
                <a:solidFill>
                  <a:srgbClr val="000000"/>
                </a:solidFill>
                <a:latin typeface="Calibri"/>
              </a:rPr>
              <a:t> </a:t>
            </a:r>
            <a:r>
              <a:rPr b="1" lang="cs-CZ" sz="3200" spc="-1" strike="noStrike">
                <a:solidFill>
                  <a:srgbClr val="000000"/>
                </a:solidFill>
                <a:latin typeface="Calibri"/>
              </a:rPr>
              <a:t>to</a:t>
            </a:r>
            <a:r>
              <a:rPr b="0" lang="cs-CZ" sz="3200" spc="-1" strike="noStrike">
                <a:solidFill>
                  <a:srgbClr val="000000"/>
                </a:solidFill>
                <a:latin typeface="Calibri"/>
              </a:rPr>
              <a:t> </a:t>
            </a:r>
            <a:r>
              <a:rPr b="1" lang="cs-CZ" sz="3200" spc="-1" strike="noStrike">
                <a:solidFill>
                  <a:srgbClr val="000000"/>
                </a:solidFill>
                <a:latin typeface="Calibri"/>
              </a:rPr>
              <a:t>the</a:t>
            </a:r>
            <a:r>
              <a:rPr b="0" lang="cs-CZ" sz="3200" spc="-1" strike="noStrike">
                <a:solidFill>
                  <a:srgbClr val="000000"/>
                </a:solidFill>
                <a:latin typeface="Calibri"/>
              </a:rPr>
              <a:t> </a:t>
            </a:r>
            <a:r>
              <a:rPr b="1" lang="cs-CZ" sz="3200" spc="-1" strike="noStrike">
                <a:solidFill>
                  <a:srgbClr val="000000"/>
                </a:solidFill>
                <a:latin typeface="Calibri"/>
              </a:rPr>
              <a:t>enterp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vazky - Liabilities</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A liability is a </a:t>
            </a:r>
            <a:r>
              <a:rPr b="1" lang="cs-CZ" sz="2800" spc="-1" strike="noStrike">
                <a:solidFill>
                  <a:srgbClr val="000000"/>
                </a:solidFill>
                <a:latin typeface="Calibri"/>
              </a:rPr>
              <a:t>present obligation</a:t>
            </a:r>
            <a:r>
              <a:rPr b="0" lang="cs-CZ" sz="2800" spc="-1" strike="noStrike">
                <a:solidFill>
                  <a:srgbClr val="000000"/>
                </a:solidFill>
                <a:latin typeface="Calibri"/>
              </a:rPr>
              <a:t> of the enterprise arising from </a:t>
            </a:r>
            <a:r>
              <a:rPr b="1" lang="cs-CZ" sz="2800" spc="-1" strike="noStrike">
                <a:solidFill>
                  <a:srgbClr val="000000"/>
                </a:solidFill>
                <a:latin typeface="Calibri"/>
              </a:rPr>
              <a:t>past events</a:t>
            </a:r>
            <a:r>
              <a:rPr b="0" lang="cs-CZ" sz="2800" spc="-1" strike="noStrike">
                <a:solidFill>
                  <a:srgbClr val="000000"/>
                </a:solidFill>
                <a:latin typeface="Calibri"/>
              </a:rPr>
              <a:t>, the settlement of which is </a:t>
            </a:r>
            <a:r>
              <a:rPr b="1" lang="cs-CZ" sz="2800" spc="-1" strike="noStrike">
                <a:solidFill>
                  <a:srgbClr val="000000"/>
                </a:solidFill>
                <a:latin typeface="Calibri"/>
              </a:rPr>
              <a:t>expected</a:t>
            </a:r>
            <a:r>
              <a:rPr b="0" lang="cs-CZ" sz="2800" spc="-1" strike="noStrike">
                <a:solidFill>
                  <a:srgbClr val="000000"/>
                </a:solidFill>
                <a:latin typeface="Calibri"/>
              </a:rPr>
              <a:t> to result in an </a:t>
            </a:r>
            <a:r>
              <a:rPr b="1" lang="cs-CZ" sz="2800" spc="-1" strike="noStrike">
                <a:solidFill>
                  <a:srgbClr val="000000"/>
                </a:solidFill>
                <a:latin typeface="Calibri"/>
              </a:rPr>
              <a:t>outflow from the enterprise</a:t>
            </a:r>
            <a:r>
              <a:rPr b="0" lang="cs-CZ" sz="2800" spc="-1" strike="noStrike">
                <a:solidFill>
                  <a:srgbClr val="000000"/>
                </a:solidFill>
                <a:latin typeface="Calibri"/>
              </a:rPr>
              <a:t> of resources embodying economic benefi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lastní kapitál - Equity</a:t>
            </a:r>
            <a:endParaRPr b="0" lang="en-US" sz="4400" spc="-1" strike="noStrike">
              <a:solidFill>
                <a:srgbClr val="000000"/>
              </a:solidFill>
              <a:latin typeface="Calibri"/>
            </a:endParaRPr>
          </a:p>
        </p:txBody>
      </p:sp>
      <p:sp>
        <p:nvSpPr>
          <p:cNvPr id="725"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Equity is the residual interest in the assets of the enterprise after deducting all its li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 / Accounting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K = A – Z     /     E = A – 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     /     A = E + 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ezinárodní účetní standardy pojem pasiva či zdroje nepoužíva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Podmínka rozpoznání a vykázání</a:t>
            </a:r>
            <a:endParaRPr b="0" lang="en-US" sz="4000" spc="-1" strike="noStrike">
              <a:solidFill>
                <a:srgbClr val="000000"/>
              </a:solidFill>
              <a:latin typeface="Calibri"/>
            </a:endParaRPr>
          </a:p>
        </p:txBody>
      </p:sp>
      <p:sp>
        <p:nvSpPr>
          <p:cNvPr id="7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ecognition is the process of incorporating in the balance sheet an item that meets the definition of an element and satisfies the following criteria for recogn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t is </a:t>
            </a:r>
            <a:r>
              <a:rPr b="1" lang="cs-CZ" sz="2800" spc="-1" strike="noStrike">
                <a:solidFill>
                  <a:srgbClr val="000000"/>
                </a:solidFill>
                <a:latin typeface="Calibri"/>
              </a:rPr>
              <a:t>probable</a:t>
            </a:r>
            <a:r>
              <a:rPr b="0" lang="cs-CZ" sz="2800" spc="-1" strike="noStrike">
                <a:solidFill>
                  <a:srgbClr val="000000"/>
                </a:solidFill>
                <a:latin typeface="Calibri"/>
              </a:rPr>
              <a:t> that any future economic benefit associated with the item will flow to or from the enterprise;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The item's cost or value can be </a:t>
            </a:r>
            <a:r>
              <a:rPr b="1" lang="cs-CZ" sz="2800" spc="-1" strike="noStrike">
                <a:solidFill>
                  <a:srgbClr val="000000"/>
                </a:solidFill>
                <a:latin typeface="Calibri"/>
              </a:rPr>
              <a:t>measured with reliability</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cognition</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n asset</a:t>
            </a:r>
            <a:r>
              <a:rPr b="0" lang="cs-CZ" sz="2800" spc="-1" strike="noStrike">
                <a:solidFill>
                  <a:srgbClr val="000000"/>
                </a:solidFill>
                <a:latin typeface="Calibri"/>
              </a:rPr>
              <a:t> is recognised in the balance sheet when it is p</a:t>
            </a:r>
            <a:r>
              <a:rPr b="1" lang="cs-CZ" sz="2800" spc="-1" strike="noStrike">
                <a:solidFill>
                  <a:srgbClr val="000000"/>
                </a:solidFill>
                <a:latin typeface="Calibri"/>
              </a:rPr>
              <a:t>robable</a:t>
            </a:r>
            <a:r>
              <a:rPr b="0" lang="cs-CZ" sz="2800" spc="-1" strike="noStrike">
                <a:solidFill>
                  <a:srgbClr val="000000"/>
                </a:solidFill>
                <a:latin typeface="Calibri"/>
              </a:rPr>
              <a:t> that the future economic benefits will flow to the enterprise and the asset </a:t>
            </a:r>
            <a:r>
              <a:rPr b="1" lang="cs-CZ" sz="2800" spc="-1" strike="noStrike">
                <a:solidFill>
                  <a:srgbClr val="000000"/>
                </a:solidFill>
                <a:latin typeface="Calibri"/>
              </a:rPr>
              <a:t>has a cost or value </a:t>
            </a:r>
            <a:r>
              <a:rPr b="0" lang="cs-CZ" sz="2800" spc="-1" strike="noStrike">
                <a:solidFill>
                  <a:srgbClr val="000000"/>
                </a:solidFill>
                <a:latin typeface="Calibri"/>
              </a:rPr>
              <a:t>that can be measured reliab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 liability</a:t>
            </a:r>
            <a:r>
              <a:rPr b="0" lang="cs-CZ" sz="2800" spc="-1" strike="noStrike">
                <a:solidFill>
                  <a:srgbClr val="000000"/>
                </a:solidFill>
                <a:latin typeface="Calibri"/>
              </a:rPr>
              <a:t> is recognised in the balance sheet when it is </a:t>
            </a:r>
            <a:r>
              <a:rPr b="1" lang="cs-CZ" sz="2800" spc="-1" strike="noStrike">
                <a:solidFill>
                  <a:srgbClr val="000000"/>
                </a:solidFill>
                <a:latin typeface="Calibri"/>
              </a:rPr>
              <a:t>probable</a:t>
            </a:r>
            <a:r>
              <a:rPr b="0" lang="cs-CZ" sz="2800" spc="-1" strike="noStrike">
                <a:solidFill>
                  <a:srgbClr val="000000"/>
                </a:solidFill>
                <a:latin typeface="Calibri"/>
              </a:rPr>
              <a:t> that an outflow of resources embodying economic benefits will result from the settlement of a present obligation and the amount at which the settlement will take place </a:t>
            </a:r>
            <a:r>
              <a:rPr b="1" lang="cs-CZ" sz="2800" spc="-1" strike="noStrike">
                <a:solidFill>
                  <a:srgbClr val="000000"/>
                </a:solidFill>
                <a:latin typeface="Calibri"/>
              </a:rPr>
              <a:t>can be measured reliab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9:33:06Z</dcterms:created>
  <dc:creator>Mike</dc:creator>
  <dc:description/>
  <dc:language>en-US</dc:language>
  <cp:lastModifiedBy>Menšík Michal</cp:lastModifiedBy>
  <dcterms:modified xsi:type="dcterms:W3CDTF">2015-02-17T06:56:20Z</dcterms:modified>
  <cp:revision>8</cp:revision>
  <dc:subject/>
  <dc:title>Základní stavební prvky rozvahy, rozvahové účetnictví</dc:title>
</cp:coreProperties>
</file>