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78064-CFA3-4E1A-9C95-3E8DD698942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B0AAE-92A1-4F4B-9C45-191A4177D83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0013F-B2AE-4391-B287-DC7B6898095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5511A-774D-4D00-97B1-95236543ED8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697E2-6C29-4B5C-B16F-4A5EF2E14BC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E41B5-83D9-45D1-952D-DF7C0B0E1B6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213E7-1FBA-47CB-9792-9320E256A71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A82DB-A8D3-4658-965C-B577A318ECA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EBC38-8660-4709-B035-560882080C5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CDC9A-9243-4163-A8D3-60883D35E12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41AFA-1B57-490B-912C-D7A3C2C08D7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AEF2F-A528-40FB-9EA6-5AC2DE30428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D20AB-27D8-4AAE-A773-ABB7BB13754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4067-E921-4160-AB58-C20FFBE5B86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71320-ADA6-4FFE-9082-50D1D16B5D6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7C166-F7FF-482B-B8B2-4B6ACE3FB46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7136-F7BD-4788-967C-4184A32CF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1AEC-6861-49D7-8A00-22B86174E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C013DE-122E-43F1-A878-59347FC05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E61951-538C-483D-8567-0A2E9F421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A68A6E-BD35-4351-889C-756E009D9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35B78A-F958-4567-8205-B6976A97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431562-78DE-447A-8FE5-B3CC3E8A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4C3FF5-8935-41C7-9F1C-3E4225F0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A36EA8-680F-4560-8FEC-2424FE3B7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C89FEC-417C-46DE-BF18-955295B61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9F8D10-EDC7-4A06-A4FA-4D1F5565D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18CB60-E86B-447E-A8D6-40CB25B84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4671-17F1-4F75-A450-0034ECF67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8E8024-E735-45BD-8F8E-CE5573AE5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D2A1F8-A620-411B-966D-54DE9DCC2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ACD8E9-D972-4214-946D-C9BC0F821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3B9FA7-7BCC-4118-88E0-E96C9274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BB7535-E901-4FBF-A48E-43D1F6965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2C160F-183F-43ED-930C-F74BB237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B1E49B-78AB-45BE-9B68-5E2DFFE9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8E098C-85B0-4EA9-B4D4-F1E1485F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DD59A8-68D5-41C5-8DB8-1F9E567D1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DF3975-5E53-4581-8359-D570C9B10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F75F-B36F-4068-8471-D3BCF390B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A9FF76-0607-46C9-9061-2A8441F6F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80CD9-F944-49D0-AF72-274E9F5A3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A8F0D-3190-408B-B158-7D56AA457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2EFC7-087F-4D33-BCDC-16CC1E03B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33469-CAC8-46E5-8F95-EBC8FC5BE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9C4E3-69B6-4804-A4A3-E866EE5E2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77A7E-D464-4538-8779-4FBB2D73E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44D6D-4212-4CA0-8867-A0A4AA6B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9754-76F8-4238-897B-B0EE30651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4B213-067A-4BDA-86EF-A7EFD57C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C44C8-972E-4D78-BE1B-FDF625F6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DBBD9-F5D4-4F10-917F-C58E9038C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96459-EBBD-4767-A9E5-4A8C282AF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1B9DA-A832-4530-9F7F-667352897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E3AC8-18D9-4EF7-A844-2FAC49E4E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27F88-8D5D-4D77-B482-000792070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98852-0486-417F-9746-8D551B6F8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42EC6-0E18-43A2-87A8-AD45EEEEA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4C940-DBAD-4A3C-B1F2-0AB798662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62A2-F2BF-428B-B154-CFF7DE3AB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FA26E-DF9E-4F6C-92CC-7869A9B67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7906B-B636-464F-82D4-63530DBE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049E3-7592-4A78-94B8-52648E20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839D7-C8AD-4C85-9E88-525B0EDD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F6DFF-0379-4602-A8F4-DD98F4531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37DBC-7C9E-4A26-AD4F-356F41C9F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FE1A9-FCAF-4028-ACF8-B0EBDD056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EC7F5-06E5-42B4-8A30-1EDDF250A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3C7EC-697F-4E6A-9397-C25E0D73A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58E11-F36D-43FE-A9B4-F061F8F52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DA1B-C576-4B18-B979-0435F6AFC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A09EF-95B0-4B9A-9F4E-226F54C78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212D9-4AC5-41B8-A9EF-ACDAACDC0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68388-4073-4203-B188-085230308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10F6E-9D74-4B90-9930-DDB87A6B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9E367-4E1D-4B76-8595-8090E86D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EA0AE-5909-4FEC-8DA2-76E1E896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0407F-4164-4EEE-87E0-82F15CF5E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FDA82-3AD2-4E8D-9D87-7C2277CD7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C3272-2522-4DDC-AFD3-49EEBB3FE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5C2A9-9EC9-43CB-9A14-DA2ACE2B6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4139-B34A-4D91-A208-1801156AA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4813E-3DF5-44B3-8A3B-48906FD5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1CD46-7A26-4CF0-BFE9-463511569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B8B60-9F92-4F67-9814-1DEBEAAE1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1C9A5-CBB0-4400-B7A6-C1E5298AC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E7811-0A2B-4532-9C37-5C907F89D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B5FFB-D9EF-41FF-9129-B285F44E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C5C9C-7185-42B8-BC2D-2965A732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A0A23-0694-48B5-A69B-30338B0A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71927-44CC-4ED1-A6B9-2AAAC06D5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5AE60-3D28-4B68-9FF7-392A8210D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0061-0E48-4783-B5FC-778E2D193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45569-DFCC-406D-8034-8F04F5AD9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FC8E3-6EB3-4E24-A74D-84A0EE9D9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27FF0-B770-4658-9C10-5B4FB1EDC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67B84-E167-4F56-A542-E19BAFC49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8B3CA-5816-433D-9A2A-1E94F8B4A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9C78C-B4FB-43A6-BC43-0A88398FE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51C39C-FCA5-4AAD-AA26-25E17EDE0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98C26-0894-42B3-ADAD-C4EE6615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804B9-CDFE-492F-9CFD-44D6E2C8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1B4ECC-570B-4088-9A87-EE4D4B24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6B51-1E22-4472-B42E-3DE376F8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5E90C-3804-472B-A2C0-1DF802424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C3444-58D6-4CFC-8F1E-C04B76B50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4206E-635E-4CE9-BE81-8E1F0B2BF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AEF80-3009-405F-8D6A-2C4F6C591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E6BC2-6E05-41EC-9BEE-C43987A26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261D4-D058-47FF-813D-213B0E67A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EADCB-B320-451B-AE14-E6021D6A7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F2AD4-F2C5-44BA-B0C9-1F0BF1AA4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694CD-CB94-458E-B415-BDDD757CA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CCE19-8ADE-4E21-BD2F-A192155E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7969-882F-41F3-93D4-4CE6AA63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228A0-D63A-482E-A149-21CEA834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AEF391-670D-4E2C-B6BF-10F0A9F9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41B151-5F94-4016-978F-1665DC0B7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DB2714-98FC-48D1-A4EA-E4055609B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F63FF-4102-4CCB-9305-1FAAD3D29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B0A98D-382A-4081-8159-D162F0C72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E7545C-C588-4CE5-8661-29C81D58E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1C2484-394F-4398-9C33-44DABA294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FD876B-F0F8-4AEC-B24B-F174EBABB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A0119-FB91-4E31-95DD-588170BDD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5FDB-1617-4949-929D-622C8AEE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28A00E-69AA-48B8-88D5-957CD7037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1A50BF-36C0-4657-811A-FCC8E3C9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3060E5-AECD-4DF7-A3A5-E231A074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1FBEFE-1DCB-49FA-AC76-BB68C6B8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F1EC29-70FE-4E32-82DA-9A2748A3A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E49CF3-7B12-4EAE-AE7C-6DD1076C6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596040-9547-4E24-B223-D58512E90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00F12F-1733-4BB8-815D-68FF404CF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7874E2-0AEA-455A-B7A3-BE3A5AD5B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8ADAF6-7081-4F23-8A01-BE36008FD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07BF1-F731-4941-A602-518B475896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F148D-D172-4BD2-96B1-8FE8D256650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Obdélník 8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Obdélník 9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Obrázek 8" descr=""/>
          <p:cNvPicPr/>
          <p:nvPr/>
        </p:nvPicPr>
        <p:blipFill>
          <a:blip r:embed="rId2"/>
          <a:stretch/>
        </p:blipFill>
        <p:spPr>
          <a:xfrm>
            <a:off x="3635280" y="115920"/>
            <a:ext cx="1878120" cy="18781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37E74-126C-4EFD-AE0D-9FC49EEF59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Obdélník 8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bdélník 9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75853-2761-4CA1-AB2B-5EC634CE391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54725-B836-4EDC-84E6-876817AE688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7A8AC-9047-4DD0-AA2B-22BE05BAF2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6448E-0AAE-4305-9AE4-CE007DD42ED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35E83-0111-4D10-B992-4447730539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30042-47BD-4C52-8B09-FF33EDA548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A15D0-0EC1-44FD-A27D-4393EBDC1B1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ace, 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ovaná účetní závěr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I. Přednáška FU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vahový 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 jakému datu je konsolidace provedena? K jakému datu jsou sestaveny výkaz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ůzné podniky (M a D) mohou mít různá účetní období (legislativa, geografie, obor podnikán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 má jiné rozvahové datum – mezitímní účetní závěr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 má jiné rozvahové datum, ale v povoleném časovém rozmezí (3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 má shodné rozvahové da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ační pravid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etní závěrka D musí být sestavena podle stejných pravidel jako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kud není, D vyhotovuje dvě účetní závěrky – pro potřeby individuálního vykázání a pro potřeby konsolidace (např. dle ČR a dle IAS/IF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dividuální účetní výka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solidované účetní výka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eparátní účetní výka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etoda ekviva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statný vl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řízení v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historical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 výsledovky je zahrnuto zvýšení / snížení hodnoty inves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prava ostatních složek VK o takové vlivy, které neprošly výsledovkou (např. aplikace fair 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děly ze zisku snižují hodnotu investice (souvztažně s pohledávkou za přiznané dividend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etoda poměrné 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poluovlád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e výkazech zveřej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ktiva, která ovlád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vazky, které přebír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klady, které plynou ze spol. podnikání a podíl na výnosech ze spol. podnik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lná konsolidace - přík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3" name=""/>
          <p:cNvGraphicFramePr/>
          <p:nvPr/>
        </p:nvGraphicFramePr>
        <p:xfrm>
          <a:off x="468360" y="1916280"/>
          <a:ext cx="4680000" cy="2228760"/>
        </p:xfrm>
        <a:graphic>
          <a:graphicData uri="http://schemas.openxmlformats.org/drawingml/2006/table">
            <a:tbl>
              <a:tblPr/>
              <a:tblGrid>
                <a:gridCol w="1690560"/>
                <a:gridCol w="820800"/>
                <a:gridCol w="1349280"/>
                <a:gridCol w="819360"/>
              </a:tblGrid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f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va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. Investice v B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mul. Výděl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vaz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f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sledov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no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468360" y="4368960"/>
          <a:ext cx="4680000" cy="2228760"/>
        </p:xfrm>
        <a:graphic>
          <a:graphicData uri="http://schemas.openxmlformats.org/drawingml/2006/table">
            <a:tbl>
              <a:tblPr/>
              <a:tblGrid>
                <a:gridCol w="1690560"/>
                <a:gridCol w="820800"/>
                <a:gridCol w="1349280"/>
                <a:gridCol w="819360"/>
              </a:tblGrid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va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mul. Výděl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vaz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sledov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no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5" name="TextovéPole 9"/>
          <p:cNvSpPr/>
          <p:nvPr/>
        </p:nvSpPr>
        <p:spPr>
          <a:xfrm>
            <a:off x="5796000" y="39243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lfa vlastní 60% Be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lná konsolidace - přík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395280" y="1854360"/>
          <a:ext cx="8353440" cy="4457520"/>
        </p:xfrm>
        <a:graphic>
          <a:graphicData uri="http://schemas.openxmlformats.org/drawingml/2006/table">
            <a:tbl>
              <a:tblPr/>
              <a:tblGrid>
                <a:gridCol w="2049480"/>
                <a:gridCol w="1260360"/>
                <a:gridCol w="1260720"/>
                <a:gridCol w="1260360"/>
                <a:gridCol w="1262160"/>
                <a:gridCol w="1260360"/>
              </a:tblGrid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f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č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prav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solid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. Maj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m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šin. Z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šin Kum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šin 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i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no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šinový podíl H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nsolida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znamená upevnění, ustálení, urovnání například zdravotního stavu pacienta po úrazu, politických poměrů nebo financí firmy či státu po období špatného hospodaření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sada „content over form“ – účetnictví zobrazuje realitu bez ohledu na (právní) for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ence kapitálově (i jinak) propojených společností, jak řešit účetní pohled na tuto skuteč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ýchodi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rategické podíly (investice) mateřské firmy  (M) do dceřiné firmy (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živatel nechce vědět pouze kolik bylo investováno, ale také do kterých podniků, jaká aktiva M kontroluje, jaký vliv má investice na finanční pozici  ap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ence tzv.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nsolidačního celk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nsolidovaných účetních výkazů, účetní závěr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ace – obecný kon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Zástupný symbol pro obsah 3" descr=""/>
          <p:cNvPicPr/>
          <p:nvPr/>
        </p:nvPicPr>
        <p:blipFill>
          <a:blip r:embed="rId1"/>
          <a:stretch/>
        </p:blipFill>
        <p:spPr>
          <a:xfrm>
            <a:off x="444600" y="1603440"/>
            <a:ext cx="4078080" cy="452268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 rozpoznat propojené firm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 určit, kdo je M a kdo 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 rozpoznat, kdy už D zahrnout a kdy nezahrnout do konsolida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oblematika konsolidačního cel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vlivu – vyjadřuje podíl na rozhodování Mateřské společnosti v Dceřiné společ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hodující vliv (control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 50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%, podstatný vliv 20% - 50% (significant influence), vyrovnaný vliv (spoluovládání, joint contr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znik vli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upě podílu na základním kapitá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zavřením smlouvy o podílu na hlasovacích práv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ístupy ke konsolida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šeobecně uživatelsk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ávo uživatelů účetních informací znát finanční pozici, výkonnost a změny ve finanční pozici za celou skupinu kapitálově propojených podniků – cílem konsolidace je vidět kapitálově propojené podniky jako j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lastnick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jem vlastníka znát finanční pozici, výkonnost a změny ve finanční pozici podniku, do něhož investoval, cílem konsolidace je doplnit informace o finančních investicí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schéma 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ovéPole 3"/>
          <p:cNvSpPr/>
          <p:nvPr/>
        </p:nvSpPr>
        <p:spPr>
          <a:xfrm>
            <a:off x="1619280" y="5013360"/>
            <a:ext cx="1800360" cy="119124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cer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ozva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Výsledov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ovéPole 5"/>
          <p:cNvSpPr/>
          <p:nvPr/>
        </p:nvSpPr>
        <p:spPr>
          <a:xfrm>
            <a:off x="2627280" y="3573360"/>
            <a:ext cx="2089080" cy="119124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at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ozva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Výsledov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ovéPole 6"/>
          <p:cNvSpPr/>
          <p:nvPr/>
        </p:nvSpPr>
        <p:spPr>
          <a:xfrm>
            <a:off x="4067280" y="5013360"/>
            <a:ext cx="1800000" cy="119124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cera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ozva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Výsledov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ovéPole 7"/>
          <p:cNvSpPr/>
          <p:nvPr/>
        </p:nvSpPr>
        <p:spPr>
          <a:xfrm>
            <a:off x="6588000" y="2133720"/>
            <a:ext cx="2087640" cy="119124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onsolidační cel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ozva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Výsledov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Elipsa 8"/>
          <p:cNvSpPr/>
          <p:nvPr/>
        </p:nvSpPr>
        <p:spPr>
          <a:xfrm>
            <a:off x="539640" y="3357720"/>
            <a:ext cx="6480360" cy="338436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Šipka doprava 9"/>
          <p:cNvSpPr/>
          <p:nvPr/>
        </p:nvSpPr>
        <p:spPr>
          <a:xfrm rot="18978000">
            <a:off x="5857920" y="3252960"/>
            <a:ext cx="649080" cy="28872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etody 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toda plné konsolid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toda ekviva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toda poměrné konsolid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etoda plné 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 rozhodující vliv v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kazy se agregují, řádek po řádku se sčítají shodné položky A, Z, VK, N, V všech podniků konsolidačního cel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třeba vyloučit vzájemné transak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vestice M v každém D podniku a podíl na VK v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nitroskupinové transak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eřejnění podílu menšinových akcionářů – specifický řádek VK v rozva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06:12:38Z</dcterms:created>
  <dc:creator>mensikm</dc:creator>
  <dc:description/>
  <dc:language>en-US</dc:language>
  <cp:lastModifiedBy>Menšík Michal</cp:lastModifiedBy>
  <dcterms:modified xsi:type="dcterms:W3CDTF">2012-03-30T05:07:11Z</dcterms:modified>
  <cp:revision>104</cp:revision>
  <dc:subject/>
  <dc:title>Mzdová agenda – účetní zobrazení a dopady na firmu</dc:title>
</cp:coreProperties>
</file>