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D03A-DCCC-40D0-BF33-417C4B017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9084-609B-4756-ADDB-AFE4B2FE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FD308-B6D8-427D-A73D-A8E8F9BB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6BB86-DAD9-4D31-A601-1D68C6D9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08981-AC71-4F4F-B202-FF76E9BE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C81C8-19EC-437F-A1A5-870D4F03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43C1C-8A17-45D4-92F0-B346B3B6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90BF53-6A09-47BE-A5BA-B5ADC9AF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88798-7CB2-49CF-B54D-0BE74A48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9F23E-06B2-47B4-9637-26E7CF3C5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A05B82-132C-40AC-8941-B89C23E0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8128B-66E7-460E-BC7A-EF59A4421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814C-71DA-459B-B813-D38E30030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5D021-3F91-4588-9133-9507CF71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F09E8-DB1F-4051-AE0C-F49289DE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942C1-159D-4CA3-8A2F-DDC40CFD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4B8D2-B989-4371-8E25-4FA112EC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C0A3B2-A002-4C39-AF3A-B0A1E7F4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77EE15-4212-433D-AB48-CBBB2FB3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3F593-DB91-4877-B161-F042706B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6F1BD3-1306-4B41-B003-CCEEE116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184DE1-00A1-41C0-8F91-87DE60A1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CA34D1-47F8-4008-95F9-584DFEC97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0FF5-1905-451B-9744-3CCA22646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175DE-0410-4025-83D2-DBCE5693C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82D7D-A816-4BC5-99C7-1070C43E5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3C2ED-BB7B-432B-A79C-B5F84808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BD841-2159-4FD7-8A38-097A4131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BDEAC-7AA4-4A6C-8DFD-AEA85A36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31DC7-42AB-4C39-B019-5E460A56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F6266-002D-4CCF-BC0E-FB91F09D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1120E-87BC-4EB4-9BCE-D006D74E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593C6-FE24-4FE0-BF88-04E52669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4F8E6-96A0-4573-8E34-D4AAE8F7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7213-DEFB-4C49-B6DC-808ECB5E7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47F23-70EB-4CD1-9F9C-B9EB2AEE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DF120-56BF-4865-BEE0-8D0DEF170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EED8E-83F7-4FA2-B115-B549C291C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FDDE-80C4-4AB8-8D40-D012FFF1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F11E-96D2-43DB-9BBC-82C634F3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4244-3E03-4609-BB38-7DFF23DA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82DC-26A6-4268-8FA0-C248B1B5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D0CE-24C4-482C-AE15-91DB4CD3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8370-07D4-429C-ACD2-5291FB50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18B9-2E76-4A37-A60B-23E722DE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B517-F2FE-413F-88CA-73327D86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0D41-80E4-4AA9-84AC-A5EC2656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8742-9442-45FA-98EE-C7E59469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31BD-DD96-4A68-810D-10751CA8B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D215-12B7-4D9E-9A38-B03C0A37D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7516C-046B-47D1-8B92-83F8DCC99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01B0E-0566-4BA5-9388-CBDC9816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B2CC2-16E9-43E9-AC82-FB6AB4CB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0B484-98E1-4406-B7E0-720DAD74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71910-2EFD-43D1-B410-C7D24280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A3D4-0A78-4E93-A48B-742E80A9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C9A31-F938-419D-A995-F5DB9EA3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5E30A-504C-4635-B8C8-1DB7E752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158EE-43B6-40C5-B652-67CA69DD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2CE70-EE70-4C3C-A2B3-ED4A0528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8C29C-1464-480D-A0F7-B353D10F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B56EA-F36C-4987-90D9-C24EBF3D7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A9B60-A42F-496E-B7B9-E56EED569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D810B-5381-4B15-9107-DE78E475D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9C38A-C2C8-415E-94DD-67CAEA76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97383-23C0-45DA-929A-8648B264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A72A-531C-4791-9BC5-381433B7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2A7FE-9FF5-4E50-9BEA-4DBDA867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3AC8B-2E6E-4434-9F76-6A2A54D7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E62E4-AACF-4C37-81C3-33D3ECCE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F357F-D47E-48A9-B995-AEB83C83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BA402-2DCC-4E47-BE3A-E589756B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A4923-1B39-4B29-AA2F-1B6BFFF9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23512-A963-474D-ABC5-47697F93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FBA50-A923-4057-87A8-52CCC357D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EF241-F981-4686-AA42-0CE91005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72801-34B1-4631-AA51-303B0C6EF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BEF9-9483-4C23-BE9C-A7283838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78029-28E5-4599-8D5A-96495862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1C040-0C33-4E4A-A57A-5A16F8FC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2006E-06A8-404C-9F80-25F39CE0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68EE5-98FE-45A9-8F66-AA005801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5C4D3-26BA-46E4-9DA0-F47E2DD3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ECF2C-7FFD-475D-AE08-79D3BCD3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EC82A-0B84-4340-B56A-BF023BB6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B91F7-17F5-4402-9EB8-807F8F03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885AF-F195-449D-8561-5AE019DD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64B33-B791-4A69-BFB5-C92E19668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232B-52E0-4604-BDE5-0EDA9409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8B650-590D-45D0-9B2C-DBFF31CE4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7C6DA-9105-4821-BAF3-0613E62F5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9FA38-D4A7-400D-BA90-2897B9E9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3D637-20FB-45B0-B247-0AAE21D0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B34A6-8286-4E80-B251-85CEA237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90FBB-2BEE-4D0E-815C-27753A45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4CA13-5494-40E6-9D35-FA09473F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CED06-7442-480D-B4EF-F5BF0535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A8B83-EAFE-463A-95BF-1DFD104E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3D000-3F20-463E-8701-2A95525C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9497-9AA8-4510-84E4-235F7FFC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6EC13-F2A1-4B3A-BD9D-54A1AC47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AD7E8-5CE3-4624-AF1F-AD18AB5E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92D47-4FF1-46DA-B25E-902ED66E0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58C9B-4AAA-4815-BAA5-F31E879E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594E8-9B3A-407D-B829-716F792C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21584-71B2-4331-852D-4FFC9611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39DBA-679A-4F41-B90E-E988BE5E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F8A88-C6BE-4695-AA0F-0A7D9F55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CF110-9988-4FA2-9A4E-4E7B0E10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65623-4392-4B98-9680-9DED1AB5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A5B5-851D-4B36-86DC-2D6951C0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F0A22-184D-42EF-899F-CAE7B2CC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779EF-F376-4C16-B9EC-675D1B26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01FEC-D10E-4735-A087-E8FC425E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E2C6D-FA89-4C82-A572-9E22024F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7C55B-9AEC-4E45-BAAA-1B788F1C7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C8E92-FEBE-4516-A5F9-5D04FDDED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9E762-A4C0-49F9-A7F0-2862DBAC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6C847-3360-48C9-B728-5C94025A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27E09-CA16-4585-963D-2F76E48C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D2C03-CC8A-4E13-B20C-67ECBD94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2BBB-EB7E-4BB7-B02F-33F70375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0E718-36D8-4987-A919-307831AC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45287-9D30-4087-9DE0-394C803A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DEE82-06C2-4945-ACF7-452E2F70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CED28-B7A0-44CA-A086-0F7E9EC6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D0B06-C795-47D0-A080-634B506A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EBEF3-22FF-4448-A1A0-4D933B9AD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16516-984A-4C28-BBFA-79001FF6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E56964-4F1D-4C8D-A2DF-03CE417FE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F102E-C0FD-4714-9D44-0C234083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2E98E-6B44-4F14-8ECA-DC54F468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Strana </a:t>
            </a:r>
            <a:fld id="{582B27BC-E4F4-4E44-8B66-D3A0432489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7B43-E8D9-4F85-B9C1-70EB0760CD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050F-C57D-48D2-BF2B-24B78C2755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1989-10FD-4FBB-85EC-3EB1CF4B45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C5C9-7906-414C-8645-CE1C50CBAE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C4DC-266F-406D-B3B7-C3686A5805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C034-D831-42C9-8C5E-6F20D59F0B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D592-5FD5-487C-8E37-C1B42D8789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A7F7-6C8F-42C1-B8C4-294025D8CE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DAC3-F07C-4B40-9571-C648E1AF8B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AAD2-83E1-4764-BD06-E347C78168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obrazení podnikatelského proces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898989"/>
                </a:solidFill>
                <a:latin typeface="Calibri"/>
              </a:rPr>
              <a:t>5. Přednáška FU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odely oceňování záso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FO – „potrubí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IFO – „truhla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FO – nejdražš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SC – je to stál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m. cena – všem stej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dividuální oce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technologie a materiál a lidská prá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odpisy, spotřeba materiálu a mzdové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sou polotovary a finální výrobky, které se prodávají na tr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tr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Účetní schéma výroby - druhov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7" descr=""/>
          <p:cNvPicPr/>
          <p:nvPr/>
        </p:nvPicPr>
        <p:blipFill>
          <a:blip r:embed="rId1"/>
          <a:stretch/>
        </p:blipFill>
        <p:spPr>
          <a:xfrm>
            <a:off x="179280" y="1743120"/>
            <a:ext cx="878544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výroby - účelov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7" name="Picture 4" descr=""/>
          <p:cNvPicPr/>
          <p:nvPr/>
        </p:nvPicPr>
        <p:blipFill>
          <a:blip r:embed="rId1"/>
          <a:stretch/>
        </p:blipFill>
        <p:spPr>
          <a:xfrm>
            <a:off x="252360" y="1676520"/>
            <a:ext cx="86407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ost x Expe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vyčerpal svou užitečnost – rozva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xpe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čerpal svou užitečnost - výsledov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uktura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í zobrazení procesu, výkonem js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chodování (zbož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tody evidence zás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tody oceňování zás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ruhové zobra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Účelové zobra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703A-65FF-498C-8646-AB8719A960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ictví je způsob myšl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čte se myslet, neučte se (jenom) účtov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ějte na paměti hlavního uživatele účetních informa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R je malá, budeme světoví (IAS / IFRS, GAA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Bez práce nejsou koláče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livy vydávají olej jen když jsou drceny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Účetní zobrazení podnikatelské činnos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nikání – transformace vstupů na výstu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stavná činnost, vlastním jménem na vlastní odpovědnost za účelem dosažení zis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3 typy podnik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c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pracovní sí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mzdové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e služ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e trž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hmotná pov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tížné skladování – nedokončená výroba či hotové výrob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služ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Picture 4" descr=""/>
          <p:cNvPicPr/>
          <p:nvPr/>
        </p:nvPicPr>
        <p:blipFill>
          <a:blip r:embed="rId1"/>
          <a:stretch/>
        </p:blipFill>
        <p:spPr>
          <a:xfrm>
            <a:off x="179280" y="1527120"/>
            <a:ext cx="878544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c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koupené a prodané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e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žba za zbo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ces / transformace je změna v místě a č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zbož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250920" y="1784520"/>
            <a:ext cx="856908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toda evidence záso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– průběž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y na ska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daje ze skal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 – periodick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 do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y do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dle evidence z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5:38:14Z</dcterms:created>
  <dc:creator>Mike</dc:creator>
  <dc:description/>
  <dc:language>en-US</dc:language>
  <cp:lastModifiedBy>Menšík Michal</cp:lastModifiedBy>
  <dcterms:modified xsi:type="dcterms:W3CDTF">2015-02-17T06:57:07Z</dcterms:modified>
  <cp:revision>12</cp:revision>
  <dc:subject/>
  <dc:title>Finanční účetnictví 1</dc:title>
</cp:coreProperties>
</file>