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A77-C16D-4DDA-AF3F-7453A578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4EE-AD0B-4A43-B85B-ED7B6CE9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A91-422D-4C5C-84A8-E26EBC5C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9C72-17F1-4114-A94A-67007BE2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6BD4-B5EA-4B0A-B112-C5D1123E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CF62-8E59-4A2D-B7C6-8A86ED44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82F-0642-4BAD-92CE-2F8A28D4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890B-80CF-499F-A578-4A68BE1F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51E-5CE6-47BA-9D00-1D2E3711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5D47-B155-4317-8599-FC2F2695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6A3-4ADA-4C02-BAB9-73C3EE36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385-85F2-431E-8DAE-CCDCD8E6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76FA-BFBC-4C65-8AE8-865FC3A14CB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metodické prvky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6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nění na úrovni historical cost nebo tržní / realizační / reprodukční cena (cost of repla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írá se ni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razem principu opatrnosti (Prudence, conservat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m projevem je opravná položka či jednorázový od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lad nešťastně zvolen, leč vžit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– poctivý, spravedlivý, bezvadný, dobrý, přiměřený, správ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, která by se získala prodejem aktiva / by byla zaplacena za uhrazení závazku v rámci řádně uzavřené transakce mezi účastníky trhu k datu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volné, nezávislé, dobře informované strany, fungující (operující) 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může hodnotit aktivum i na vyšší úroveň než je historical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ouštění principu opatr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kazování dosud nerealizovaných zisků / výnosů – nevýsledkově (zisk v pojetí změny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a diskontovaných peněžních toků přijatých / vydaných v důsledku existence aktiva / záva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centuje časovou hodnotu peně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 modelu (realita x mo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a A, Z, VK, N, V odpovídají reali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upravuje s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ní pro „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ue and fair view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(zákon a p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ditor má právo být přítomen či si vyžá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pr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tění jeho hodnoty v účetnictví (zůstatek, obr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ová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fikace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řádání inventarizačního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působy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á – zejména hmotná 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ová – ze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hmotná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kurzových rozd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současných hodnot (termínové operace apod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číslení rezerv (dovolená, záruční servi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/ Trial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používanější přehled při práci s účetními informac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obrazuje účetní položky (dle účtového rozvrhu) ve strukt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/ souhrn obr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- schemati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8000" y="2041560"/>
            <a:ext cx="8856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 podmínky rozpoznání a vykázání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 (99,99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cenitel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ký název – Podvojné účetnic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bilanční rovnice (dvě strany rovnice) A = VK + 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ynamické pojetí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+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prvek, umožňuje bilanc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kontrol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áteční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ečné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podvoj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nsakce má dvě strany (MD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jsou voleny náhod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jadřují obsah trans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kají se relevantních účtů, které jsou transakcí ovlivn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e věcnou kontr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ňování aktiv a dluh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více možností / alternativ jak prvky oc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lternativy s ohledem na GAAP a „true and fair view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 chronolog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ocenění / Initial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ledné ocenění / Subsequent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otní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(HC) částka, která byla vyplacená nebo přijatá v řádně uzavřené transa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a po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minální hodn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produkční 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sledné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vykle ke konci rozvahového 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otní ocenění nesplňuje GAAP / true and fair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/ reál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upravená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ráv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sko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émii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rávky ve smy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mor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1:53Z</dcterms:created>
  <dc:creator>Mike</dc:creator>
  <dc:description/>
  <dc:language>en-US</dc:language>
  <cp:lastModifiedBy>Menšík Michal</cp:lastModifiedBy>
  <dcterms:modified xsi:type="dcterms:W3CDTF">2015-02-17T06:58:36Z</dcterms:modified>
  <cp:revision>3</cp:revision>
  <dc:subject/>
  <dc:title>Základní metodické prvky účetnictví</dc:title>
</cp:coreProperties>
</file>