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846C-AFB1-4CD0-A964-F28C554603E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EAA5-3A4D-4CE4-B660-CAC2FEE7B5C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C203-0AB2-476E-B47D-93F68C72C8C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B7A4-BD79-4462-A642-7EC6C9AEDC0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5D15-034F-4A45-8EDE-094D9CCDED1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9387-5377-4E5B-8516-E9C24994703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F080-7CC3-485E-853F-CF5E6E792F6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05D3-825B-4901-BCC9-3C641362A91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E048-445F-4468-A084-EDFAF3ACE07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A4E5-B9A7-41B3-8294-AB313231BF8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185F-B28A-4FA2-A638-1B63872E4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110D-C5CA-47FA-A5F6-9ABAFDDD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98332-BD72-4C25-B139-C060758F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67E06-9C64-48F5-9E1B-BEFE7DA7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80441-DE4B-40F9-8C1E-E2C5296A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E406A-F00F-40C5-8D55-F0DC5962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89E03-3C53-41C4-9028-2D46927A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05607-C7EA-4FA4-9F6F-B3C087FB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1753A-CBA6-4FAD-9D77-AE30953A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7C6698-CB1B-4581-9B80-55AE67BC2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C47CD-B4AE-440E-A992-F1CEA2F3D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1274E8-F888-46EF-BE1A-CBB2A512B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C99C-5BEA-455C-9440-E7C65FE68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453A7-4AE0-401B-B026-E227581C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00E53C-18CB-48A6-8A6C-A4A0F69C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51C6D-470B-4202-98BF-B3ADFBD9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E19DC9-3819-4158-9622-B71AE1E6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3296A-2A58-4940-96A1-357641CC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B101D9-46B8-41C1-B258-809329CC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708758-46BB-4FF8-8E49-71D2F5C6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87356F-4267-4C8D-A17D-9590BE1A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397E9A-A703-48E4-8F21-B10B5CBB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540C79-209A-402C-90C4-67ED0EA6B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3899-1411-4660-844F-A149BD7D8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C5625D-7505-4FDD-874B-1721C7388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DB53-66E3-4028-A08F-AB7CF4986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0392-1A41-4DB4-BC09-5E27C2AA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D7AE-67D3-4686-ADEB-64CF2E82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16CD-9EE4-4BD6-AA30-39B308C1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FB36-15D4-4F4B-A668-DCEB5399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A6C1-7177-420A-8C3E-6D38855B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AEBE-0D9B-4E16-A41E-6CF43C5B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64A3-D68F-473A-9E28-E106EE9E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599C-1F62-4F3F-8221-A36C7B2B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3A50-155A-464E-BCD7-0D0E30E5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E07B-BE2D-4788-9E24-65DDA304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D0C2-66C3-4311-92F6-3E9777128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95DD-E0C2-495A-8CF7-1765C39AE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BAEBF-855B-498C-AF0A-3FCD0F477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3D6C0-1610-4616-87B0-54EEA057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B377E-786A-4130-9DC1-A721F4F1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B13A9-475B-4CB3-8088-396E1AC7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0B3AB-C18C-4069-8134-D4BED80B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22C6-4F67-443D-BEDF-5C387DC9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E9989-3BA8-4C47-84EF-DED1E6E3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199EB-5838-4CFA-AB56-09356291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C1A82-155E-4014-ADAD-E4B12F4F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20F9A-4152-4A6F-A0A8-AC877570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C4C33-433F-4972-B145-653045E7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3574E-7554-48E5-904E-E1021B16A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36DC1-54D8-472F-B002-4F9EC9DB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57E20-FA1A-4CEE-B365-9367816AD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DA54B-7C59-4695-B511-8F1C1AA5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9542F-5183-468B-A417-E0EC1C9F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4E7D-51B3-42F6-8735-3054B9AC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35A01-E95E-4500-88AE-D05822E1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C7057-4ECB-4B8A-96DA-FC592F4E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29B0C-3C34-496E-BF58-B5405E54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A6F9F-F36F-4295-B382-02F68BB8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24684-F592-40F2-B5F7-C7BDBA11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75E80-2BDC-4B07-8858-4E55D5CF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D47DD-9FCB-4706-A07C-81C8F2AD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BC87B-243D-46C4-BFF6-3C670BCAE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79F17-80CE-4D21-A09C-6DB113802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33A21-9353-414B-81F8-DE6886BB5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6187-38AF-4A9F-9398-9F9F90C9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ECD6B-085C-418B-A9E0-22BCE2AA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A52D7-0E94-4DFF-AED1-991E5BC5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E61A9-1B99-4BAC-8CFD-2D52A614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E280F-4845-4A8C-982A-9D2E389A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43FA3-C36B-40CB-8F7E-69A1E408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9E297-749C-4117-89D7-A73F4CB2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A06A2-B39E-4CAE-B377-BAFA5832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02F6B-1A8F-450F-809C-DACB7EE1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894C0-E0F6-4472-B197-DE8074D3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A361B-FD88-4EA1-824B-BF76E587F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14F1-1B9E-42B3-81C8-D2478C94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2C78C-8920-4CE6-9200-CE1525D5A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E162F-8DB3-47AD-A002-A39AD476C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B72C4-B0D1-475D-8403-B64A2B65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CC094-1600-4567-9961-BFC668B5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39932-0E11-452C-BB85-326A4BA8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17FD0-3F65-4722-B730-C8C25553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FF662-6932-4D95-877B-80194312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74A9C-C62B-4A68-A1E1-C35EDDE1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163AA-B7DE-4469-9CFB-344974EA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0896C-A94F-403E-B40E-932C16D2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C1D6-C4CA-461A-BFDA-16E3867E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0F48C-7B2C-4758-9C81-E28FDF26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E090D-F9EA-4403-9633-69DA5A283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E8C97-9B68-41CE-B8EE-70A0AF6FB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23D45-E6D9-4765-B4C5-54B0CE19C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CA95F-E6A3-4540-9264-4215B015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60584-BCE2-463E-986C-04C2B735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7B0B5-D412-4835-8F2A-D6815FE5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7743E-9457-4D4E-BACA-5225C9C5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B5590-8EE4-4D10-88DC-7A5CDDE4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AFD4D-7A5A-4F44-9B9D-25451948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1C37-8691-441B-8B51-4C1B850F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63E35-DD98-40B1-BC2F-098140EB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32655-E012-4F1F-9555-4B1DC312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53600-185B-4C96-BA0F-3C8989E6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A2950-D274-4B0F-AF76-43BE71388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82F92-1C21-416B-AD65-100F707C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73E1C-F098-45D8-BAB2-88991D038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5CE01-D2F7-4F3A-9C1F-6F766EDF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B3707-4385-4DD7-8048-720DBC34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DF57C-A289-4A6E-A774-F38EBEB9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904F8-704B-4148-9501-EF4208FE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7C5A-4892-441A-B800-F8468C28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162E2-64B9-496D-A08F-DE311525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72BB0-454F-4756-B66B-6B38E0F6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3AF91-050A-48C3-89A2-5EBE428F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777CE-EE91-4A25-A69B-302460DD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02919-AEE2-4623-90EC-861D781F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DB141-101D-417B-B1F0-D2711EF62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F6836-5714-4922-9EA8-E1BE5EE11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883BD-AAD8-4C43-AC77-70AF1D446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A909F-576E-4A8A-B729-863FAE67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C417FE-C562-450A-AAD0-2D536276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1AB4-388C-488C-ACDF-8D0AB02DA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7DBD-3E20-4148-BCCB-9777C8065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Obrázek 8" descr=""/>
          <p:cNvPicPr/>
          <p:nvPr/>
        </p:nvPicPr>
        <p:blipFill>
          <a:blip r:embed="rId2"/>
          <a:stretch/>
        </p:blipFill>
        <p:spPr>
          <a:xfrm>
            <a:off x="3635280" y="115920"/>
            <a:ext cx="1878120" cy="1878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F9C5-14FA-4458-923B-5B191A3AB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0267-9882-43AE-B1DA-EC8606608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3AF9-BB6B-424C-BD79-9F90EACBA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5DED-1333-41A3-A48B-0E313D668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A46E-57CB-49A7-AA04-728BD2302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ACAE-3101-4771-AC3A-CB512E4FE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CFE5-4CB5-41C2-8A91-9977CFB5C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D1A3-DB33-4470-AF99-C69ABF5C9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2. Přednáška FU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tnictví je proces (záznam, třídění, kontrola, prezent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cholem je analýza účetních informací, (metodicky obvykle analýza, syntéza, formulace závěr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ílem je zvýšit informační potenciál účetních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zvědět se víc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chází z účetních výkaz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, PL, CF, ES,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ledá vazby a souvis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aha zhodnotit minulost a současnost a předvídat budouc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edmět zájmu obvy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tabilita (výnos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tivita (obrat prostřed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vidita a solventnost (platební schop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amentální a Technická analý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undamentální – rozsáhlé znalosti o souvislostech mikro / makro jevů a jejich dopadů, zkušenosti odborníků, zpracování kvalitativních informací (zejména), závěry vyvozuje obvykle bez použití algoritmizovaných postup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– matematické, matematicko-statistické a další algoritmizované postupy, , kvantitativní informace, následné kvalitativní posouzení výsled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ájemně komplemetnární, neexistuje vztah nadřazenosti či podřaz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ky analý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8284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áte z jiných předmě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tnictví funguje jako zdroj informací zejména pro technickou analý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Šipka doprava 3"/>
          <p:cNvSpPr/>
          <p:nvPr/>
        </p:nvSpPr>
        <p:spPr>
          <a:xfrm>
            <a:off x="1187280" y="3860640"/>
            <a:ext cx="1656000" cy="13687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tnictví (závěr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Šipka doprava 4"/>
          <p:cNvSpPr/>
          <p:nvPr/>
        </p:nvSpPr>
        <p:spPr>
          <a:xfrm>
            <a:off x="2843280" y="3860640"/>
            <a:ext cx="1657440" cy="13687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Šipka doprava 5"/>
          <p:cNvSpPr/>
          <p:nvPr/>
        </p:nvSpPr>
        <p:spPr>
          <a:xfrm>
            <a:off x="4500720" y="3860640"/>
            <a:ext cx="1655640" cy="13687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živa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Šipka doprava 6"/>
          <p:cNvSpPr/>
          <p:nvPr/>
        </p:nvSpPr>
        <p:spPr>
          <a:xfrm>
            <a:off x="6156360" y="3860640"/>
            <a:ext cx="1800360" cy="13687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zhodnu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4" name="Tvar 8"/>
          <p:cNvCxnSpPr>
            <a:stCxn id="463" idx="0"/>
            <a:endCxn id="460" idx="0"/>
          </p:cNvCxnSpPr>
          <p:nvPr/>
        </p:nvCxnSpPr>
        <p:spPr>
          <a:xfrm flipV="1" rot="16200000">
            <a:off x="3886920" y="1843920"/>
            <a:ext cx="685080" cy="6085800"/>
          </a:xfrm>
          <a:prstGeom prst="bentConnector4">
            <a:avLst>
              <a:gd name="adj1" fmla="val -33385"/>
              <a:gd name="adj2" fmla="val 103756"/>
            </a:avLst>
          </a:prstGeom>
          <a:ln w="2844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465" name="TextovéPole 9"/>
          <p:cNvSpPr/>
          <p:nvPr/>
        </p:nvSpPr>
        <p:spPr>
          <a:xfrm>
            <a:off x="2843280" y="543564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pětná vaz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ztah účetních informací a analý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ýza (rozhodnutí) je výs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stup může být špatný, protož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ou špatné vstu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tupy jsou v pořádku, ale nebyly vybrány / byly vybrány nevhod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ré vstupy, špatné zprac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ré zpracování, špatná interpretace či prez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mbinace uvedených fakt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ká analý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ní (součet, rozdí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ní (podíl,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zipodnikové / vnitropodnikové soum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izontální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kální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kturální / časový poh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čitost účetních 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 (GAAP) jsou idealistické, skutečnost realistic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istorical costs jsou“špatné“ imanent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stor pro kvalifikovaný úsudek účetního profesionála (Když dva dělají totéž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istota ekonomického prospěchu (100% pohledávek nebude splaceno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stý a nejistý (podmíněný) záva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mezení základních pojmů ve vztahu k jiným disciplínám (daně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asnosti při formulaci účetních postupů a pravidel – různý výk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úmyslné a úmyslné chyby účetních profesioná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myly finančních analytik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uchařkovitý pohled „vezmi vzoreček a dosaď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dostatečná znalost systému účetnic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neužívání poměrových ukazatelů (jsou nezávislé, existence doporučených hodnot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pochopení konstrukce vzorců a kontextu doby jejich vzn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5:31:13Z</dcterms:created>
  <dc:creator>dvorakf</dc:creator>
  <dc:description/>
  <dc:language>en-US</dc:language>
  <cp:lastModifiedBy>Mike</cp:lastModifiedBy>
  <dcterms:modified xsi:type="dcterms:W3CDTF">2012-05-16T05:53:48Z</dcterms:modified>
  <cp:revision>47</cp:revision>
  <dc:subject/>
  <dc:title>Vnitřní kontrolní systém účetnictví</dc:title>
</cp:coreProperties>
</file>