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0C7E-B6B2-4E95-8786-8B9174C269D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6DA4-29C4-4648-ADFC-B7EDE219FB1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8662-AA55-4B73-8DF4-726560E01E3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6BDC-0DB1-4216-B573-FBEE8C5AE20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92E9-C6A3-4D1E-A320-158F5132D2D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6320-CFCA-468C-9A82-BC5E5EECAC2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F1C8-B35F-4207-B940-C3F31F03DD6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FF26-1E11-4F1A-9B57-40B886242B7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755A-6082-4F53-B5F7-ED56EE5EB71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9E60-7377-4D7C-B075-E561EE00D4B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42ED-A4EC-4E15-906A-B1D0BF81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B882-4390-4CA4-B3C0-E7EB2084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B8DE1-06B3-48EB-A749-E13B6492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4CFCD-E048-4076-88B5-78FA87BA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C9125-5B35-4F1C-B580-97D67CA8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24C74-FCA8-4ABC-96E5-499DE0EB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9B53C-3C86-4416-8E80-151E940B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CF72D-AE42-4B5C-AF43-E536FA54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7C4D9-4D4F-4C8A-BD30-B08F8F94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1ECD6-8B91-469B-8BDB-D5256F9B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4EA09-EAAE-4D18-9EB3-3630A76FC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531B5-FE65-44CF-A4BF-5D108D75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D118-AE86-4348-B0B2-29497CF2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7948A-5AD0-4C6B-AD32-6326B11E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C2B64-45C6-4DFC-9AA3-67CACEBB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533E2-EE42-4525-9C4C-4E9C9472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B92A8-2CAC-4822-B912-12D09931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D9BE4F-1DA7-4ADC-9754-D451ABCE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CC658-04D3-4650-B31D-026DED78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0FA10-5B14-47C0-B136-A9611081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62B27A-B01F-44CF-872C-B5903CE9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C01AB-BC71-4FAE-8A0D-6030850D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5ECBB-F662-4F7F-A0DA-ED6639605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0A8D-749B-4824-BFA6-E42BA7FEC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238241-85EA-455E-96CF-EA74EB4D0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9CE7-DF6F-4D65-A077-745F3E2E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29F9-49AA-4D31-9D37-8E555947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2292-B51F-447B-AD11-38743608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A34C-A616-4BAC-ACEC-3AACEB9D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18B3-0DB4-4858-95B6-608D647D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95D6-20D9-44A0-8042-BD7D76ED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77C7-2116-49E3-BC4E-8EF1699F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343A-A790-463A-BF38-4D1D8D8E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DC80-3124-414B-8E8E-C4F58BB5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E3AE-DC06-461F-9A12-DAC9A482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BCC3-3AA3-4C5E-8C92-8BD51B8E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B450-31A7-4262-99E8-FCEBD330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AF83-2A12-4DFD-B4B3-5CBBD9E7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F1D0E-9630-4A04-841D-83A5E2F5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E968A-DAEC-4C65-BF9E-511F03DA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99278-5732-4BAA-B05A-FFF747CF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A6E38-A24F-4EE1-80A7-7FCC4524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BDA75-C80F-4337-814E-0B712A5B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7F58-DDDD-40BD-9D25-C35642A7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10E74-6452-426A-B036-D5BD70AD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17719-D032-48F7-A20D-55DA9648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D8954-B7E5-4A54-8048-E0825D78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457B5-FDB6-433F-A59F-648DCE42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D6E28-C07D-45FD-A314-E14DB8C7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CC9B9-6D23-4497-9302-805BC97F5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DB773-0018-46FA-BFDE-8968C7C7F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546CA-03D2-46F0-8483-D8F239870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1188C-A106-41CF-A1A8-3F09ED69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CAEF3-491C-4D64-9EA2-B218BC66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A211-D520-43C1-B5FB-AAF69FF3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97B03-172C-461A-8485-7D156F5D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E13E7-5434-4A70-9740-A8EB9011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10DD1-2303-47EE-B52A-F958059C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A3D08-F2C6-438A-81DA-F375EC2E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11BAC-ED2E-4830-9457-467F5DAD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75242-EB2A-4142-88A5-70B756DE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61783-7A58-4462-93EE-91621572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66575-13B4-4B3A-B7BC-AE7685A2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B6F86-C378-4BC5-B4C0-4F146B6F9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E881F-A730-48DA-8835-13E18D90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E40C-EAA8-4A28-AE46-D4BB7D5A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AD6F9-454E-4F23-9D6C-BC61C4C4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2A8D8-578D-4184-95EB-75219B0C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42216-1703-40B3-AD9F-6FF29CB7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0FBC7-118F-41A5-90AC-ADC71CD0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3080B-174C-4AE0-B1D3-F25F0A35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BD09A-C544-49EF-8E15-ED0182E5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92A48-48A5-4E19-80DB-F2232C90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0FA97-C321-4B4A-8AAF-32886F3B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E1D6E-AE53-4B36-AE1A-E26E458B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E4125-5709-413D-8D67-E3DE2E28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CF8E-6AF4-4820-8B9D-507E7C8F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69AB4-A120-4C4D-BCB1-5CE8E01B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2C1D7-590D-458D-B146-96A3F6B0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60749-A945-4A05-9525-932BE18D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05BA8-82A5-47F1-BB97-799A5E63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72EE8-0133-4376-AC28-8129EE8C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09209-6B73-4DC9-8CAC-AA55677E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6E252-37AD-4A54-9997-1086FDA8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81D88-9DFC-41E8-BC46-A6B16C82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0C43A-8F69-47DD-9D91-B8FD2EBF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1B1AF-692A-4A57-B4E5-D9D7E02D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54E3-8439-4024-9A5F-CE804517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BE1B1-5669-4D0D-B90C-6A785677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093AD-77B6-4191-A3ED-41658472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DB509-EAA1-4F03-8F66-CA598035F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93283-CC1E-43D6-AFFA-3A82F911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9E952-CE36-4E2F-AEB5-F1288D78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DBFFD-3F2F-479B-8A24-6B0A7131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A8E8A-8F0C-408B-BEAD-4CDF5EEF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BAD7A-A31A-4806-903B-AB9D65E7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22DAE-589D-49D3-B2F5-F05E2010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7DDCC-B34C-4055-85A7-9CDD4F2E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5503-B27B-4475-A7DF-B974F0FE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74A75-5607-472D-A73C-737971BC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94091-8645-460D-A90D-BA72378F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79389-75C6-40BB-9B5C-A1EF2A73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3D4E7-4EFB-4EA0-8900-A2681043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22061-6B01-4764-ACD7-CE8AAF884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EEEA5-5A6C-44A1-97EB-99BE44E2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B94A8-F2BE-45C0-9500-A835D9A3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6B49D-F56C-4CD4-B261-3843E9F3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18B0E-ADBA-4714-B4E4-A9B10439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D097F-A52A-4D26-BD31-42D77D5A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0D96-AD8A-4546-ABA6-66A1E972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A9DE1-9321-406C-AC4A-E49CACAD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B04EA-A063-44A3-BE5D-EB6E927C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60843-E386-4FBF-9154-023C8AF1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10431-16FC-43F4-8DEF-C64DA526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ED48D-89FF-4EFD-A015-18E4119F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B1549-6008-4738-A5F4-E9F19E45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31491-A939-4CA3-932D-B1F45F7C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0F621-2347-45EA-AB41-DAA90A26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7D5A8-2148-4994-A49E-E36A2301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6B507-F296-4BF0-94EF-FE403594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62EA-B564-4F27-A4BE-9CAAF65EB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D3A5-F7B9-401A-A02A-507F3CCB8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DE6D-55D9-4D0C-9F40-555622025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6C02-B532-4645-B0A9-0D549BF57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64A3-1411-4364-A8EC-37FBEFBFB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33A1-771A-4835-BECB-AA963BF5B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026F-0D04-4B8A-AF0F-1FD782696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CB0A-992D-4E4D-9459-083A6DE6D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4F64-4E0C-4422-9931-1B5763EA5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080B-40A7-4729-9766-2E5332D10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2. Přednáška FU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je proces (záznam, třídění, kontrola, prezent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cholem je analýza účetních informací, (metodicky obvykle analýza, syntéza, formulace závěr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ílem je zvýšit informační potenciál účetních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zvědět se víc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chází z účetních výkaz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, PL, CF, ES,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ledá vazby a souvis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aha zhodnotit minulost a současnost a předvídat budouc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edmět zájmu obvy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abilita (výnos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tivita (obrat prostřed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vidita a solventnost (platební schop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amentální a 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undamentální – rozsáhlé znalosti o souvislostech mikro / makro jevů a jejich dopadů, zkušenosti odborníků, zpracování kvalitativních informací (zejména), závěry vyvozuje obvykle bez použití algoritmizovaných postup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– matematické, matematicko-statistické a další algoritmizované postupy, , kvantitativní informace, následné kvalitativní posouzení výsled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ájemně komplemetnární, neexistuje vztah nadřazenosti či podřaz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ky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828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áte z jiných předmě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funguje jako zdroj informací zejména pro technickou analý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Šipka doprava 3"/>
          <p:cNvSpPr/>
          <p:nvPr/>
        </p:nvSpPr>
        <p:spPr>
          <a:xfrm>
            <a:off x="1187280" y="3860640"/>
            <a:ext cx="1656000" cy="13687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tnictví (závěr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Šipka doprava 4"/>
          <p:cNvSpPr/>
          <p:nvPr/>
        </p:nvSpPr>
        <p:spPr>
          <a:xfrm>
            <a:off x="2843280" y="3860640"/>
            <a:ext cx="1657440" cy="13687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Šipka doprava 5"/>
          <p:cNvSpPr/>
          <p:nvPr/>
        </p:nvSpPr>
        <p:spPr>
          <a:xfrm>
            <a:off x="4500720" y="3860640"/>
            <a:ext cx="1655640" cy="13687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živa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Šipka doprava 6"/>
          <p:cNvSpPr/>
          <p:nvPr/>
        </p:nvSpPr>
        <p:spPr>
          <a:xfrm>
            <a:off x="6156360" y="3860640"/>
            <a:ext cx="1800360" cy="13687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zhodnu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4" name="Tvar 8"/>
          <p:cNvCxnSpPr>
            <a:stCxn id="463" idx="0"/>
            <a:endCxn id="460" idx="0"/>
          </p:cNvCxnSpPr>
          <p:nvPr/>
        </p:nvCxnSpPr>
        <p:spPr>
          <a:xfrm flipV="1" rot="16200000">
            <a:off x="3886920" y="1843920"/>
            <a:ext cx="685080" cy="6085800"/>
          </a:xfrm>
          <a:prstGeom prst="bentConnector4">
            <a:avLst>
              <a:gd name="adj1" fmla="val -33385"/>
              <a:gd name="adj2" fmla="val 103756"/>
            </a:avLst>
          </a:prstGeom>
          <a:ln w="2844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465" name="TextovéPole 9"/>
          <p:cNvSpPr/>
          <p:nvPr/>
        </p:nvSpPr>
        <p:spPr>
          <a:xfrm>
            <a:off x="2843280" y="543564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pětná vaz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ztah účetních informací a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ýza (rozhodnutí) je vý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stup může být špatný, protož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ou špatné vst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tupy jsou v pořádku, ale nebyly vybrány / byly vybrány nevhod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vstupy, špatné zpra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zpracování, špatná interpretace či prez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binace uvedených fak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ní (součet, rozdí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ní (podíl,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zipodnikové / vnitropodnikové soum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t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k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kturální / časový poh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čitost účetních 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 (GAAP) jsou idealistické, skutečnost realist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storical costs jsou“špatné“ imanent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stor pro kvalifikovaný úsudek účetního profesionála (Když dva dělají totéž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istota ekonomického prospěchu (100% pohledávek nebude splaceno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stý a nejistý (podmíněný) zá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mezení základních pojmů ve vztahu k jiným disciplínám (daně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asnosti při formulaci účetních postupů a pravidel – různý výk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úmyslné a úmyslné chyby účetních profesioná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myly finančních analytik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chařkovitý pohled „vezmi vzoreček a dosaď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dostatečná znalost systému účetnic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eužívání poměrových ukazatelů (jsou nezávislé, existence doporučených hodnot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pochopení konstrukce vzorců a kontextu doby jejich vz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5:31:13Z</dcterms:created>
  <dc:creator>dvorakf</dc:creator>
  <dc:description/>
  <dc:language>en-US</dc:language>
  <cp:lastModifiedBy>Mike</cp:lastModifiedBy>
  <dcterms:modified xsi:type="dcterms:W3CDTF">2012-05-16T05:53:48Z</dcterms:modified>
  <cp:revision>47</cp:revision>
  <dc:subject/>
  <dc:title>Vnitřní kontrolní systém účetnictví</dc:title>
</cp:coreProperties>
</file>