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5D17C-A089-45D8-8D78-815606618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24166-2261-4C14-B24D-29E90DA55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B9896-B99D-4F40-BBBE-D742D585D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38B2C-B5BA-4ED3-BDF0-1E0BED9EA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7D64F-869D-42F1-9130-742F69B15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4E5EF-106A-4B36-BB7F-EB7BB6946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C3D05-EE32-4675-9A2D-67B4A1941D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FA8EE-8AE2-48D6-9E32-50A307154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AFA9-FA6D-4A01-B934-0E3E6AEF7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35AD3-F409-4F89-9A81-F7433BE91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D3972-D346-492C-96F8-BB47119A6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39917-3892-4CF6-8F43-E37952D1D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E870-1082-4089-AA44-1FD2423295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ční systém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jeho využití v řízen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konkrétních podmínek činnost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řízení nákladů výkon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harakter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ganická x heterogenní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yp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mogenní x heterogen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itost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členitý (technologicky uzavřený) x členitý proc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ztah výkonu k zákazníkov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romadná x sériová x kusov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istence nedokončené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existující x stabilní x kolísají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druženost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družená x nesdružen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5913B-E5DA-46D6-9644-B6504B4575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evidence a kalkulace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áz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upň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káz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15646-3CB9-4660-9C86-C4A2B83E41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vykle pokud kompletní provedení jednoho druhu finálního výkonu tvoří nepřetržitý a místně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zavřen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29242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34290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7040" y="3400560"/>
            <a:ext cx="2374920" cy="15825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7" idx="3"/>
            <a:endCxn id="209" idx="1"/>
          </p:cNvCxnSpPr>
          <p:nvPr/>
        </p:nvCxnSpPr>
        <p:spPr>
          <a:xfrm>
            <a:off x="2124000" y="4184640"/>
            <a:ext cx="4737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9" idx="3"/>
            <a:endCxn id="208" idx="1"/>
          </p:cNvCxnSpPr>
          <p:nvPr/>
        </p:nvCxnSpPr>
        <p:spPr>
          <a:xfrm flipV="1">
            <a:off x="4971960" y="4184280"/>
            <a:ext cx="4644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8748720" y="40482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8" idx="3"/>
            <a:endCxn id="212" idx="1"/>
          </p:cNvCxnSpPr>
          <p:nvPr/>
        </p:nvCxnSpPr>
        <p:spPr>
          <a:xfrm>
            <a:off x="7594560" y="41846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7740720" y="3789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2454C-2C55-4CFC-BD5F-4B2E336689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áz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áz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é se liší charakterem činností, objemem prováděných výkonů v jednotlivých časových úsecích a většinou i místem provádě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fází, výkony předávané mezi fázemi však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e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680" y="35290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22960" y="40338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386160"/>
            <a:ext cx="237492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36040" y="46530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8" idx="3"/>
            <a:endCxn id="220" idx="1"/>
          </p:cNvCxnSpPr>
          <p:nvPr/>
        </p:nvCxnSpPr>
        <p:spPr>
          <a:xfrm>
            <a:off x="7481880" y="47894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7628040" y="43941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4394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5402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7" idx="3"/>
            <a:endCxn id="223" idx="1"/>
          </p:cNvCxnSpPr>
          <p:nvPr/>
        </p:nvCxnSpPr>
        <p:spPr>
          <a:xfrm>
            <a:off x="2010960" y="478908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6" name=""/>
          <p:cNvCxnSpPr/>
          <p:nvPr/>
        </p:nvCxnSpPr>
        <p:spPr>
          <a:xfrm>
            <a:off x="200808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/>
          <p:nvPr/>
        </p:nvCxnSpPr>
        <p:spPr>
          <a:xfrm>
            <a:off x="2022120" y="580500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9" idx="2"/>
            <a:endCxn id="223" idx="0"/>
          </p:cNvCxnSpPr>
          <p:nvPr/>
        </p:nvCxnSpPr>
        <p:spPr>
          <a:xfrm>
            <a:off x="3598560" y="4178160"/>
            <a:ext cx="1080" cy="21672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9" name=""/>
          <p:cNvCxnSpPr>
            <a:stCxn id="223" idx="2"/>
            <a:endCxn id="224" idx="0"/>
          </p:cNvCxnSpPr>
          <p:nvPr/>
        </p:nvCxnSpPr>
        <p:spPr>
          <a:xfrm>
            <a:off x="3598560" y="5186160"/>
            <a:ext cx="1080" cy="21636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30" name=""/>
          <p:cNvCxnSpPr>
            <a:stCxn id="219" idx="3"/>
            <a:endCxn id="218" idx="1"/>
          </p:cNvCxnSpPr>
          <p:nvPr/>
        </p:nvCxnSpPr>
        <p:spPr>
          <a:xfrm>
            <a:off x="4785840" y="3782880"/>
            <a:ext cx="537480" cy="10072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31" name=""/>
          <p:cNvCxnSpPr>
            <a:stCxn id="223" idx="3"/>
            <a:endCxn id="218" idx="1"/>
          </p:cNvCxnSpPr>
          <p:nvPr/>
        </p:nvCxnSpPr>
        <p:spPr>
          <a:xfrm flipV="1">
            <a:off x="4785840" y="4788720"/>
            <a:ext cx="537480" cy="252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32" name=""/>
          <p:cNvCxnSpPr>
            <a:stCxn id="224" idx="3"/>
            <a:endCxn id="218" idx="1"/>
          </p:cNvCxnSpPr>
          <p:nvPr/>
        </p:nvCxnSpPr>
        <p:spPr>
          <a:xfrm flipV="1">
            <a:off x="4785840" y="4788720"/>
            <a:ext cx="537480" cy="101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5410080" y="5734080"/>
            <a:ext cx="3492720" cy="64764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naturální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hodnotové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0760" y="5886360"/>
            <a:ext cx="432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30760" y="6173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50ED4-888F-439E-9A84-C42A3DDFD0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pň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upň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výstupem každého stupně (kromě posledního)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loto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může být dále spotřebován nebo prod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stupňů, výkony předávané mezi stupn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0960" y="3529080"/>
            <a:ext cx="144000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9960" y="4438800"/>
            <a:ext cx="1830600" cy="1511280"/>
          </a:xfrm>
          <a:prstGeom prst="hexagon">
            <a:avLst>
              <a:gd name="adj" fmla="val 30282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0920" y="3386160"/>
            <a:ext cx="180036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34480" y="5057640"/>
            <a:ext cx="209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39" idx="3"/>
            <a:endCxn id="241" idx="1"/>
          </p:cNvCxnSpPr>
          <p:nvPr/>
        </p:nvCxnSpPr>
        <p:spPr>
          <a:xfrm>
            <a:off x="7810560" y="519444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7953480" y="4799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164772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4211640" y="3198960"/>
            <a:ext cx="1873080" cy="115236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otov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0" idx="3"/>
            <a:endCxn id="245" idx="1"/>
          </p:cNvCxnSpPr>
          <p:nvPr/>
        </p:nvCxnSpPr>
        <p:spPr>
          <a:xfrm flipV="1">
            <a:off x="3850920" y="3774600"/>
            <a:ext cx="3610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3851280" y="4797360"/>
            <a:ext cx="180036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5" idx="2"/>
            <a:endCxn id="247" idx="0"/>
          </p:cNvCxnSpPr>
          <p:nvPr/>
        </p:nvCxnSpPr>
        <p:spPr>
          <a:xfrm flipH="1">
            <a:off x="4750560" y="4350960"/>
            <a:ext cx="397800" cy="44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7" idx="3"/>
            <a:endCxn id="239" idx="1"/>
          </p:cNvCxnSpPr>
          <p:nvPr/>
        </p:nvCxnSpPr>
        <p:spPr>
          <a:xfrm>
            <a:off x="5651640" y="5194080"/>
            <a:ext cx="3290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7223040" y="364500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2040" y="3386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5" idx="3"/>
            <a:endCxn id="250" idx="1"/>
          </p:cNvCxnSpPr>
          <p:nvPr/>
        </p:nvCxnSpPr>
        <p:spPr>
          <a:xfrm>
            <a:off x="6084720" y="3774960"/>
            <a:ext cx="1139040" cy="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4A497-E3CE-459F-A2FD-0B28336CEB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akázk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39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při tvorbě jedinečných individuálních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akáz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iřaz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iž při vznik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 zakáz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umulují na účtech rež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té je podle řešené rozhodovací úlohy rozhodnuto o jejich alokac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zakázkově orientovaném typu výroby má výkonově orientované účetnictví daleko šir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ýznam pro řízení nákladů a zis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2000" y="3529080"/>
            <a:ext cx="1440000" cy="177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přímé náklady zakáz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3040" y="3971880"/>
            <a:ext cx="1830240" cy="1511280"/>
          </a:xfrm>
          <a:prstGeom prst="hexagon">
            <a:avLst>
              <a:gd name="adj" fmla="val 30276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zakáz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07200" y="4591080"/>
            <a:ext cx="209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6" idx="3"/>
            <a:endCxn id="257" idx="1"/>
          </p:cNvCxnSpPr>
          <p:nvPr/>
        </p:nvCxnSpPr>
        <p:spPr>
          <a:xfrm>
            <a:off x="6983280" y="472752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7126200" y="433224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92320" y="350028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000" y="5373720"/>
            <a:ext cx="1440000" cy="100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nepřímé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92320" y="436572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92320" y="522936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2" idx="3"/>
            <a:endCxn id="256" idx="1"/>
          </p:cNvCxnSpPr>
          <p:nvPr/>
        </p:nvCxnSpPr>
        <p:spPr>
          <a:xfrm>
            <a:off x="4505040" y="4726080"/>
            <a:ext cx="6483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5" name=""/>
          <p:cNvCxnSpPr>
            <a:stCxn id="255" idx="3"/>
            <a:endCxn id="260" idx="1"/>
          </p:cNvCxnSpPr>
          <p:nvPr/>
        </p:nvCxnSpPr>
        <p:spPr>
          <a:xfrm flipV="1">
            <a:off x="2232000" y="3859920"/>
            <a:ext cx="761040" cy="554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6" name=""/>
          <p:cNvCxnSpPr>
            <a:stCxn id="255" idx="3"/>
            <a:endCxn id="262" idx="1"/>
          </p:cNvCxnSpPr>
          <p:nvPr/>
        </p:nvCxnSpPr>
        <p:spPr>
          <a:xfrm>
            <a:off x="2232000" y="4414320"/>
            <a:ext cx="761040" cy="311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7" name=""/>
          <p:cNvCxnSpPr>
            <a:stCxn id="255" idx="3"/>
            <a:endCxn id="263" idx="1"/>
          </p:cNvCxnSpPr>
          <p:nvPr/>
        </p:nvCxnSpPr>
        <p:spPr>
          <a:xfrm>
            <a:off x="2232000" y="4414680"/>
            <a:ext cx="761040" cy="117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8" name=""/>
          <p:cNvCxnSpPr>
            <a:stCxn id="261" idx="3"/>
            <a:endCxn id="260" idx="1"/>
          </p:cNvCxnSpPr>
          <p:nvPr/>
        </p:nvCxnSpPr>
        <p:spPr>
          <a:xfrm flipV="1">
            <a:off x="2232000" y="3859920"/>
            <a:ext cx="761040" cy="201708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69" name=""/>
          <p:cNvCxnSpPr>
            <a:stCxn id="261" idx="3"/>
            <a:endCxn id="262" idx="1"/>
          </p:cNvCxnSpPr>
          <p:nvPr/>
        </p:nvCxnSpPr>
        <p:spPr>
          <a:xfrm flipV="1">
            <a:off x="2232000" y="4725360"/>
            <a:ext cx="761040" cy="115164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70" name=""/>
          <p:cNvCxnSpPr>
            <a:stCxn id="261" idx="3"/>
            <a:endCxn id="263" idx="1"/>
          </p:cNvCxnSpPr>
          <p:nvPr/>
        </p:nvCxnSpPr>
        <p:spPr>
          <a:xfrm flipV="1">
            <a:off x="2232000" y="5589360"/>
            <a:ext cx="761040" cy="28800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sp>
        <p:nvSpPr>
          <p:cNvPr id="271" name=""/>
          <p:cNvSpPr/>
          <p:nvPr/>
        </p:nvSpPr>
        <p:spPr>
          <a:xfrm>
            <a:off x="2233440" y="6237360"/>
            <a:ext cx="59058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60" idx="3"/>
            <a:endCxn id="256" idx="1"/>
          </p:cNvCxnSpPr>
          <p:nvPr/>
        </p:nvCxnSpPr>
        <p:spPr>
          <a:xfrm>
            <a:off x="4505040" y="3860640"/>
            <a:ext cx="648360" cy="867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73" name=""/>
          <p:cNvCxnSpPr>
            <a:stCxn id="263" idx="3"/>
            <a:endCxn id="256" idx="1"/>
          </p:cNvCxnSpPr>
          <p:nvPr/>
        </p:nvCxnSpPr>
        <p:spPr>
          <a:xfrm flipV="1">
            <a:off x="4505040" y="4726800"/>
            <a:ext cx="648360" cy="86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B5B21-0D6C-4540-971C-1DFBFFF519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6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á-l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 kombin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loženýc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stupů více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omezeně ovlivnitelném poměr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šechny náklady jso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epřím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sdružené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ě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lavní výkony – hlavní cíl činnosti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dlejší výkony – nejsou hlavním cílem činnosti, ale mají hodnot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dpad – nutné důsledky činnosti s minimální hodnoto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ížné nalezení vazby mezi sdruženými náklady a jednotlivými výkon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alokace obvykle n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incipu únos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důvod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zásob ve finančním účetnic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hajoby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výkonů pro hodnotové řízení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0F947-3DD3-4151-87CA-85C1431A77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okace nákladů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hlav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hodnotový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prodejní cena, příspěvek k tržbám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naturální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objem, hmotnost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cenění a zobraz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vedlejš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roz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edlejší výkony zachyceny obdobně jako hlav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od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ýnosy z prodeje vedlejších výkonů považovány za snížení nákladů vynaložených na hlav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36C26-E1E4-40F8-910D-425AE114B8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lišnosti kalkulací ve vztah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horizon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třeba sestavova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roveň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operativní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takt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strateg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i řídicího cyk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fázi plánování a kontro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běž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průběhu či po skončení tvorby a prodeje výkonů → výsled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ílem je poskytnou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formace pro řízení hodno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u po celou dobu jeho exist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alkulace jsou významné nejen samostatně ale zejména jako ucelený systém 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č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39F5E-7CCD-4260-8BCB-1E13CF9923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87280" y="2083680"/>
            <a:ext cx="6984360" cy="3411720"/>
            <a:chOff x="1187280" y="2083680"/>
            <a:chExt cx="6984360" cy="3411720"/>
          </a:xfrm>
        </p:grpSpPr>
        <p:cxnSp>
          <p:nvCxnSpPr>
            <p:cNvPr id="164" name="_s56328"/>
            <p:cNvCxnSpPr>
              <a:stCxn id="165" idx="3"/>
              <a:endCxn id="166" idx="2"/>
            </p:cNvCxnSpPr>
            <p:nvPr/>
          </p:nvCxnSpPr>
          <p:spPr>
            <a:xfrm flipV="1">
              <a:off x="4639320" y="4124160"/>
              <a:ext cx="384120" cy="1142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6329"/>
            <p:cNvCxnSpPr>
              <a:stCxn id="168" idx="3"/>
              <a:endCxn id="166" idx="2"/>
            </p:cNvCxnSpPr>
            <p:nvPr/>
          </p:nvCxnSpPr>
          <p:spPr>
            <a:xfrm flipV="1">
              <a:off x="4639320" y="4123800"/>
              <a:ext cx="384120" cy="45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6330"/>
            <p:cNvCxnSpPr>
              <a:stCxn id="166" idx="0"/>
              <a:endCxn id="170" idx="2"/>
            </p:cNvCxnSpPr>
            <p:nvPr/>
          </p:nvCxnSpPr>
          <p:spPr>
            <a:xfrm flipV="1" rot="16200000">
              <a:off x="4237200" y="2881080"/>
              <a:ext cx="228960" cy="134352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56331"/>
            <p:cNvCxnSpPr>
              <a:stCxn id="172" idx="0"/>
              <a:endCxn id="170" idx="2"/>
            </p:cNvCxnSpPr>
            <p:nvPr/>
          </p:nvCxnSpPr>
          <p:spPr>
            <a:xfrm flipH="1" flipV="1" rot="5400000">
              <a:off x="2894400" y="2881800"/>
              <a:ext cx="228960" cy="134280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" name="_s56332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627520" y="1806480"/>
              <a:ext cx="228960" cy="21214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56333"/>
            <p:cNvCxnSpPr>
              <a:stCxn id="170" idx="0"/>
              <a:endCxn id="175" idx="2"/>
            </p:cNvCxnSpPr>
            <p:nvPr/>
          </p:nvCxnSpPr>
          <p:spPr>
            <a:xfrm flipH="1" flipV="1" rot="5400000">
              <a:off x="4066560" y="2366280"/>
              <a:ext cx="228960" cy="10022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5" name="_s56334"/>
            <p:cNvSpPr/>
            <p:nvPr/>
          </p:nvSpPr>
          <p:spPr>
            <a:xfrm>
              <a:off x="3531240" y="2083680"/>
              <a:ext cx="2298960" cy="669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KALKULA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ÁKLADŮ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6335"/>
            <p:cNvSpPr/>
            <p:nvPr/>
          </p:nvSpPr>
          <p:spPr>
            <a:xfrm>
              <a:off x="231120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ŘEDBĚŽ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56336"/>
            <p:cNvSpPr/>
            <p:nvPr/>
          </p:nvSpPr>
          <p:spPr>
            <a:xfrm>
              <a:off x="543348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VÝSLED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56337"/>
            <p:cNvSpPr/>
            <p:nvPr/>
          </p:nvSpPr>
          <p:spPr>
            <a:xfrm>
              <a:off x="118728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ROPOČT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56338"/>
            <p:cNvSpPr/>
            <p:nvPr/>
          </p:nvSpPr>
          <p:spPr>
            <a:xfrm>
              <a:off x="387252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ORM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6339"/>
            <p:cNvSpPr/>
            <p:nvPr/>
          </p:nvSpPr>
          <p:spPr>
            <a:xfrm>
              <a:off x="2337840" y="43531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LÁN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56340"/>
            <p:cNvSpPr/>
            <p:nvPr/>
          </p:nvSpPr>
          <p:spPr>
            <a:xfrm>
              <a:off x="2337840" y="503856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OPERATIVNÍ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B107-5FF4-49D9-BD80-642E48FABA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čt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 hromadné a sériové výrobě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ýzkumu a vývoj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ého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osouzení účinnost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vého výrobku ve srovnání s cen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limitem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technické příprav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i zakázkové čin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pravy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zpracování cenové nabídk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jednání o ceně se zákazník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výchozí úrovní nákladové náročnosti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zajišťující přípravu a realiza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" y="4581360"/>
            <a:ext cx="8064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 z informac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 podobných výkonech, z normativů obecnější platnosti a z odborných odh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ační vzorec se sestavuj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tj. včetně prodejní a 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hodný typ kalkulačního vzorce –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trográdní kalkulační vzor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73022-1229-4E6C-B91C-A137ED3180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án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507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yjadřuje úroveň nákladů výkonu, které by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rozpočtového obdob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á význam u výkonů, jejichž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a se opakuj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 hodnotových velič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a středních a vyšších úrovních řízení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odklad pro hlavní podnikový rozpoč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nákladů v rozpočtové výsledovc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výdajů v rozpočtu peněžních tok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zásob vlastní výroby v rozpočtové rozvaz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technické příprav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 existujících podmínek a uvažovaných změ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dílčího období – váže na předpokládaný průběh změ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celého rozpočtového období – průměr dílčích kalkulací vážený plánova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jednicov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řípadně vč. variabilní reži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8BBA0-7038-4167-AF80-5C8EF9C537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v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e úroveň nákladů, které by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při stávajících technologických a konstrukčních podmínkách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vazbě na plán. kalkulac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přesňuje předem stanovenou výši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: posouzen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držení úkol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útvary zajišťujícími podmínky tvorby výkonu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technická příprava výrob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zajišťující tvorbu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z konkrétních konstrukčních a technologických podmínek činn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dílčího období – odráží skutečný průběh změn podmínek činnosti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celého sledovaného období – průměr dílčích kalkulací vážený plánovaným či skuteč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jednicových náklad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 základě aktuálních norem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orm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ovená cen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7145E-310F-4F39-A5A5-C3C7D8A130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n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průběhu či po skončen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e úroveň nákladů výkonu, které ve skutečnosti či v průměru byly vynaloženy na jednotku výkonu vyrobenou v určitém období či dáv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různé využití na jednotlivých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rovních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znamné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u hospodár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ápravná opatření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→ při výrobách s dal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alýza příčin a odpovědnosti za vznik odchylek (→ ve výrobách s krat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dle potřeby se sestavuje v různém obsahu i struktuře položek (od jednicových nákladů po plné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FFE46-EF72-40F6-A415-D77B910D27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zakázkov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PC – V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(PC – PrK) + (PrK – OK) + (OK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isk (marže) = kalkulovaný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propočt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propočtové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podmínky tvorb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operativní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tvorb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41480" y="2781360"/>
            <a:ext cx="71928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78136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2708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CEA6A-4E44-4BF0-A1B7-103D9D7C51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hromadn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ke konkrétnímu okamž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dodržení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b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ve vztahu k hodnoceném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(např. ročnímu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(PC – 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 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kalkul.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iv změny objem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859280" y="2492280"/>
            <a:ext cx="6494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20000" y="2421000"/>
            <a:ext cx="36036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19280" y="4653000"/>
            <a:ext cx="28872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03640" y="4653000"/>
            <a:ext cx="28872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651280" y="4581360"/>
            <a:ext cx="21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465300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8D8A-32E0-4CF0-84F6-1D34DE5F26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4Z</dcterms:modified>
  <cp:revision>12</cp:revision>
  <dc:subject/>
  <dc:title>Snímek 1</dc:title>
</cp:coreProperties>
</file>