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AE2C9-4545-48D4-943F-198931843F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41435-9045-47A4-BA46-532F6A8F01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32F09-57BF-4D08-BABE-5DE0AA0070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19FB4-68F4-4FEB-93F2-A45488B05C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3E38A-2E18-4B81-9FA9-49EC14FEF6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20878-B8FB-4C98-8216-5E79F7C9D7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A2F45-31A9-40AA-AFDB-4ECB0B5F7E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B6BBF-B46A-402F-8ED2-DF9AD18517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8BFA8-4031-4BF6-B954-A92FB95C09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B41E7-7856-4C5D-BCD1-EAA66246F9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5A908-D587-4DF3-887D-27A06FB5E5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00015-A564-461E-B65B-F67449C783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4D4D9-5B6D-4AD6-9230-6982ED7C62D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ffff"/>
              </a:buClr>
              <a:buFont typeface="Arial"/>
              <a:buChar char="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nformační nástroje pro řízení po linii výkonu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okační fáz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užití metod alokace závisí 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zbách mezi útvar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řiřazování nákladů probíhá v řadě na sebe navazujících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alokačních fáz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stu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vní fáze: přiřazení nákladů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bjektu aloka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který je vyvolal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(jednice výkonu, druh výkonu, útvar ...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vazné fáze -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erozdělová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ákladů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ezi objekt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 cílem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přerozdělit náklady útvarů servisní činnosti na ostatní útva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přerozdělit náklady útvarů hlavní činnosti na externí výkon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příp. přiřadit náklady útvarů správy a řízení útvarům hlavní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edpokladem je správné urče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ílů jednotlivých útvar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34F60-9F0A-4FD9-8C13-1DD5A77450E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– alokační fáze v softwarové firmě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ganizační struktura firmy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ývoj software – hlavní činnost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mplementace software – hlavní činnost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práva budov – servisní činnost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práva sítě a údržba hardware – servisní činnost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práva a řízení – správní činnost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formace o vztazích mezi útvary pro alokaci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457200" y="3560760"/>
          <a:ext cx="8229600" cy="2351160"/>
        </p:xfrm>
        <a:graphic>
          <a:graphicData uri="http://schemas.openxmlformats.org/drawingml/2006/table">
            <a:tbl>
              <a:tblPr/>
              <a:tblGrid>
                <a:gridCol w="2386080"/>
                <a:gridCol w="2089080"/>
                <a:gridCol w="1933560"/>
                <a:gridCol w="1820880"/>
              </a:tblGrid>
              <a:tr h="62100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Útv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odíl na pronaj. prostorác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očet hodin práce správy sítě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očet hodin přímé prá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ývoj softwa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0,4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 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Implementace softwar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0,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 6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Správa budov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Správa sítě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0,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Správa a řízení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0,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0" name=""/>
          <p:cNvSpPr/>
          <p:nvPr/>
        </p:nvSpPr>
        <p:spPr>
          <a:xfrm>
            <a:off x="452520" y="5965920"/>
            <a:ext cx="7921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 na správu a řízení se alokují na útvary hlavní činnosti podle hodin prá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75C72-62E3-442F-B6E3-4F5D343A238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000"/>
                            </p:stCondLst>
                            <p:childTnLst>
                              <p:par>
                                <p:cTn id="3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3000"/>
                            </p:stCondLst>
                            <p:childTnLst>
                              <p:par>
                                <p:cTn id="34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4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084320" y="333360"/>
            <a:ext cx="1800000" cy="503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ráva budo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951360" y="1571760"/>
            <a:ext cx="1800000" cy="503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ráva sí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08360" y="3911760"/>
            <a:ext cx="1800360" cy="502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ráva a říze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5280" y="4265640"/>
            <a:ext cx="1800360" cy="503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plement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149960" y="4251240"/>
            <a:ext cx="1800360" cy="503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ývo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082520" y="83340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7 20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7" name=""/>
          <p:cNvCxnSpPr>
            <a:stCxn id="196" idx="2"/>
            <a:endCxn id="198" idx="1"/>
          </p:cNvCxnSpPr>
          <p:nvPr/>
        </p:nvCxnSpPr>
        <p:spPr>
          <a:xfrm>
            <a:off x="1982880" y="1197000"/>
            <a:ext cx="1969200" cy="145152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cxnSp>
        <p:nvCxnSpPr>
          <p:cNvPr id="199" name=""/>
          <p:cNvCxnSpPr>
            <a:stCxn id="196" idx="2"/>
            <a:endCxn id="200" idx="1"/>
          </p:cNvCxnSpPr>
          <p:nvPr/>
        </p:nvCxnSpPr>
        <p:spPr>
          <a:xfrm>
            <a:off x="1982520" y="1197000"/>
            <a:ext cx="2626200" cy="37965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201" name=""/>
          <p:cNvSpPr/>
          <p:nvPr/>
        </p:nvSpPr>
        <p:spPr>
          <a:xfrm>
            <a:off x="395280" y="477036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13 56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51360" y="2076480"/>
            <a:ext cx="180000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8 40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608360" y="441648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2 50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149960" y="4756320"/>
            <a:ext cx="180036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12 45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951360" y="2465280"/>
            <a:ext cx="180000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1 08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951360" y="2854440"/>
            <a:ext cx="180000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= 9 48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95280" y="516096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2 16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95280" y="554040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4 74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608360" y="480996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72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608360" y="519912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948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149960" y="514656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3 24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149960" y="553392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3792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5280" y="592452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2 209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149960" y="592128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1 959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608360" y="558792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= 4 168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4" name=""/>
          <p:cNvCxnSpPr>
            <a:stCxn id="196" idx="2"/>
          </p:cNvCxnSpPr>
          <p:nvPr/>
        </p:nvCxnSpPr>
        <p:spPr>
          <a:xfrm>
            <a:off x="1982880" y="1197000"/>
            <a:ext cx="4534560" cy="21672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</a:ln>
        </p:spPr>
      </p:cxnSp>
      <p:cxnSp>
        <p:nvCxnSpPr>
          <p:cNvPr id="215" name=""/>
          <p:cNvCxnSpPr>
            <a:endCxn id="209" idx="1"/>
          </p:cNvCxnSpPr>
          <p:nvPr/>
        </p:nvCxnSpPr>
        <p:spPr>
          <a:xfrm>
            <a:off x="6516360" y="1413000"/>
            <a:ext cx="633960" cy="391680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cxnSp>
        <p:nvCxnSpPr>
          <p:cNvPr id="216" name=""/>
          <p:cNvCxnSpPr>
            <a:stCxn id="205" idx="2"/>
            <a:endCxn id="207" idx="3"/>
          </p:cNvCxnSpPr>
          <p:nvPr/>
        </p:nvCxnSpPr>
        <p:spPr>
          <a:xfrm flipH="1">
            <a:off x="2194920" y="3218040"/>
            <a:ext cx="2656440" cy="250560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cxnSp>
        <p:nvCxnSpPr>
          <p:cNvPr id="217" name=""/>
          <p:cNvCxnSpPr>
            <a:stCxn id="205" idx="2"/>
            <a:endCxn id="208" idx="1"/>
          </p:cNvCxnSpPr>
          <p:nvPr/>
        </p:nvCxnSpPr>
        <p:spPr>
          <a:xfrm rot="5400000">
            <a:off x="3647160" y="4178160"/>
            <a:ext cx="2164320" cy="243720"/>
          </a:xfrm>
          <a:prstGeom prst="curvedConnector5">
            <a:avLst>
              <a:gd name="adj1" fmla="val 23240"/>
              <a:gd name="adj2" fmla="val 97041"/>
              <a:gd name="adj3" fmla="val 23240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cxnSp>
        <p:nvCxnSpPr>
          <p:cNvPr id="218" name=""/>
          <p:cNvCxnSpPr>
            <a:stCxn id="205" idx="2"/>
          </p:cNvCxnSpPr>
          <p:nvPr/>
        </p:nvCxnSpPr>
        <p:spPr>
          <a:xfrm>
            <a:off x="4851360" y="3218040"/>
            <a:ext cx="1737360" cy="559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</a:ln>
        </p:spPr>
      </p:cxnSp>
      <p:cxnSp>
        <p:nvCxnSpPr>
          <p:cNvPr id="219" name=""/>
          <p:cNvCxnSpPr>
            <a:endCxn id="210" idx="1"/>
          </p:cNvCxnSpPr>
          <p:nvPr/>
        </p:nvCxnSpPr>
        <p:spPr>
          <a:xfrm>
            <a:off x="6587640" y="3789000"/>
            <a:ext cx="562680" cy="192780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95280" y="631188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= 22 669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149960" y="6321600"/>
            <a:ext cx="180036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= 21 441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2" name=""/>
          <p:cNvCxnSpPr>
            <a:stCxn id="213" idx="2"/>
            <a:endCxn id="211" idx="3"/>
          </p:cNvCxnSpPr>
          <p:nvPr/>
        </p:nvCxnSpPr>
        <p:spPr>
          <a:xfrm rot="5400000">
            <a:off x="3773880" y="4372560"/>
            <a:ext cx="155880" cy="3313800"/>
          </a:xfrm>
          <a:prstGeom prst="curvedConnector2">
            <a:avLst/>
          </a:prstGeom>
          <a:ln cap="rnd" w="2556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223" name=""/>
          <p:cNvCxnSpPr>
            <a:stCxn id="213" idx="2"/>
            <a:endCxn id="212" idx="1"/>
          </p:cNvCxnSpPr>
          <p:nvPr/>
        </p:nvCxnSpPr>
        <p:spPr>
          <a:xfrm flipH="1" rot="16200000">
            <a:off x="6252120" y="5206680"/>
            <a:ext cx="153000" cy="1641960"/>
          </a:xfrm>
          <a:prstGeom prst="curvedConnector2">
            <a:avLst/>
          </a:prstGeom>
          <a:ln cap="rnd" w="2556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24" name=""/>
          <p:cNvSpPr/>
          <p:nvPr/>
        </p:nvSpPr>
        <p:spPr>
          <a:xfrm>
            <a:off x="4356000" y="404640"/>
            <a:ext cx="2305080" cy="576360"/>
          </a:xfrm>
          <a:prstGeom prst="wedgeRoundRectCallout">
            <a:avLst>
              <a:gd name="adj1" fmla="val -48898"/>
              <a:gd name="adj2" fmla="val 92699"/>
              <a:gd name="adj3" fmla="val 16667"/>
            </a:avLst>
          </a:prstGeom>
          <a:solidFill>
            <a:srgbClr val="ffffcc">
              <a:alpha val="30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0" bIns="0" anchor="b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7 200 000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  <a:ea typeface="Arial"/>
              </a:rPr>
              <a:t>*</a:t>
            </a:r>
            <a:r>
              <a:rPr b="0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 podíl na pronajaté ploš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838920" y="2637000"/>
            <a:ext cx="2305080" cy="576000"/>
          </a:xfrm>
          <a:prstGeom prst="wedgeRoundRectCallout">
            <a:avLst>
              <a:gd name="adj1" fmla="val -74722"/>
              <a:gd name="adj2" fmla="val 114736"/>
              <a:gd name="adj3" fmla="val 16667"/>
            </a:avLst>
          </a:prstGeom>
          <a:solidFill>
            <a:srgbClr val="ffffcc">
              <a:alpha val="30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0" bIns="0" anchor="b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(9 480 000 / 1 000) </a:t>
            </a:r>
            <a:r>
              <a:rPr b="0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  <a:ea typeface="Arial"/>
              </a:rPr>
              <a:t>*</a:t>
            </a:r>
            <a:r>
              <a:rPr b="0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 hodiny prá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500720" y="6243480"/>
            <a:ext cx="2447640" cy="576360"/>
          </a:xfrm>
          <a:prstGeom prst="wedgeRoundRectCallout">
            <a:avLst>
              <a:gd name="adj1" fmla="val -80481"/>
              <a:gd name="adj2" fmla="val -66527"/>
              <a:gd name="adj3" fmla="val 16667"/>
            </a:avLst>
          </a:prstGeom>
          <a:solidFill>
            <a:srgbClr val="ffffcc">
              <a:alpha val="30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0" bIns="0" anchor="b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(4 168 000 / 20 000) </a:t>
            </a:r>
            <a:r>
              <a:rPr b="0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  <a:ea typeface="Arial"/>
              </a:rPr>
              <a:t>*</a:t>
            </a:r>
            <a:r>
              <a:rPr b="0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 hodiny přímé prá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7" name=""/>
          <p:cNvCxnSpPr>
            <a:stCxn id="196" idx="2"/>
            <a:endCxn id="206" idx="3"/>
          </p:cNvCxnSpPr>
          <p:nvPr/>
        </p:nvCxnSpPr>
        <p:spPr>
          <a:xfrm flipH="1" rot="16200000">
            <a:off x="15120" y="3163680"/>
            <a:ext cx="4147200" cy="213480"/>
          </a:xfrm>
          <a:prstGeom prst="curvedConnector5">
            <a:avLst>
              <a:gd name="adj1" fmla="val 47773"/>
              <a:gd name="adj2" fmla="val 103716"/>
              <a:gd name="adj3" fmla="val 47773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3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3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3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3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3000"/>
                            </p:stCondLst>
                            <p:childTnLst>
                              <p:par>
                                <p:cTn id="4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0"/>
                            </p:stCondLst>
                            <p:childTnLst>
                              <p:par>
                                <p:cTn id="4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0"/>
                            </p:stCondLst>
                            <p:childTnLst>
                              <p:par>
                                <p:cTn id="41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7000"/>
                            </p:stCondLst>
                            <p:childTnLst>
                              <p:par>
                                <p:cTn id="4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7500"/>
                            </p:stCondLst>
                            <p:childTnLst>
                              <p:par>
                                <p:cTn id="4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8000"/>
                            </p:stCondLst>
                            <p:childTnLst>
                              <p:par>
                                <p:cTn id="41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8" dur="3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3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3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3000"/>
                            </p:stCondLst>
                            <p:childTnLst>
                              <p:par>
                                <p:cTn id="4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3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6000"/>
                            </p:stCondLst>
                            <p:childTnLst>
                              <p:par>
                                <p:cTn id="4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8000"/>
                            </p:stCondLst>
                            <p:childTnLst>
                              <p:par>
                                <p:cTn id="4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8500"/>
                            </p:stCondLst>
                            <p:childTnLst>
                              <p:par>
                                <p:cTn id="4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8" dur="3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3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3000"/>
                            </p:stCondLst>
                            <p:childTnLst>
                              <p:par>
                                <p:cTn id="4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5000"/>
                            </p:stCondLst>
                            <p:childTnLst>
                              <p:par>
                                <p:cTn id="46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5500"/>
                            </p:stCondLst>
                            <p:childTnLst>
                              <p:par>
                                <p:cTn id="4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6500"/>
                            </p:stCondLst>
                            <p:childTnLst>
                              <p:par>
                                <p:cTn id="4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ákladní průřezy vnitropodnikové struktury (opakování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 linii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Jaké jsou náklady výkonů a jak řídit jejich hospodárnost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Jak měřit přínos z prodeje konkrétních výkonů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konové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kalkulačně – výkonové)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ástroj: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kalkulace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nákladů (marže, ceny) výkon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 linii odpověd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Jak zainteresovat útvary na chování v souladu s cíli a plány podniku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Jak včas změřit přínos útvarů k podnikovým výsledkům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Jak snižovat režijní náklady útvarů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dpovědnostní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ástroje: plány,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rozpočty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vnitropodnikové cen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08720" y="1728720"/>
            <a:ext cx="151128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9900"/>
                </a:solidFill>
                <a:latin typeface="Wingdings"/>
                <a:ea typeface="Wingdings"/>
              </a:rPr>
              <a:t></a:t>
            </a: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0920" y="1411200"/>
            <a:ext cx="7129440" cy="2376720"/>
          </a:xfrm>
          <a:prstGeom prst="rect">
            <a:avLst/>
          </a:prstGeom>
          <a:solidFill>
            <a:srgbClr val="ffffc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9B472-CEBF-4E25-8477-BC14B261F3E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5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alkul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iřaz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propočet) nákladů, marže, zisku, ceny nebo ji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hodnotové veličin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aturálně vyjádřenou jednotku výkon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výrobek, práci nebo službu, na činnost nebo operaci, kterou je třeba v souvislosti s procesem tvorby výkonu provést)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ní otázky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Ja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řiřadit náklady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oč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řiřazovat náklady výkonu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Které náklady přiřadit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V jaké struktuře uvádět kalkulované položky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B819C-915E-459F-8CC1-B1E41871CD2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500"/>
                            </p:stCondLst>
                            <p:childTnLst>
                              <p:par>
                                <p:cTn id="84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– přiřazení dopravní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olečná doprava 40 kg karotky za 30 F a 60 kg pórku za 20 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pravní náklady: 50 F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Jak přiřadit náklady na karotku a pórek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553000" y="2852640"/>
            <a:ext cx="1619280" cy="30862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7353360" y="2852640"/>
            <a:ext cx="1619280" cy="30862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152280" y="2852640"/>
            <a:ext cx="1619280" cy="30862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1952640" y="2852640"/>
            <a:ext cx="1619280" cy="30862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3753000" y="2852640"/>
            <a:ext cx="1619280" cy="3086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E6D70-E585-4A51-B01D-79530BB074E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0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6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yužití kalkulace v rozhodovacích úlohách („proč“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28560"/>
            <a:ext cx="86868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zhodování o změnách v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bjemu a struktuře sortimen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souze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dlouhodobé ziskov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ýkonů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na základě propočtu plných nákladů výkonů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tanove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hranice cen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základního a doplňkového sortimen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ceně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vnitropodnikových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osouzení schopnosti výkonů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unést správní a strategické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náklady   (→ tzv. reprodukční úlohy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--------------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obhajoba cen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při jednání se zákazník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oceňová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vnitropodnikových výkonů v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finančním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4000" y="5892840"/>
            <a:ext cx="8496000" cy="50328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existuje univerzálně správný či špatný postup přiřazení nákladů !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B65FC-B9E3-4297-B0EF-8FF71A3FF2A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oda kalkul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visí na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meze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edmětu kalkula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šechny nebo vybrané druhy dílčích (interních) i finálních (externích)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utno určit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kalkulační jednici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kalkulované množstv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ruktuře nákladových položek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ariantní podle rozhodovacích úloh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yjádřeno v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kalkulačním vzorc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působ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iřazování náklad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edmětu kalkulac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ýchodiskem členění nákladů na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přímé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nepřímé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05495-8E6D-44C1-826A-79C1953DCAB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ody přiřazování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mé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ahrnují všechny jednicové náklady (kromě sdružených výkonů) a část režijních nákladů související s druhem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iřazení pomocí dělení kalkulovaným množství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přímé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olečné náklady skupiny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iřazení pomocí metody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9900"/>
                </a:solidFill>
                <a:latin typeface="Arial"/>
              </a:rPr>
              <a:t>dělením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Font typeface="Arial"/>
              <a:buChar char="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st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Font typeface="Arial"/>
              <a:buChar char="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 poměrovými (ekvivalenčními čísl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9900"/>
                </a:solidFill>
                <a:latin typeface="Arial"/>
              </a:rPr>
              <a:t>přirážková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Font typeface="Arial"/>
              <a:buChar char="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mač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Font typeface="Arial"/>
              <a:buChar char="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ferencovan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228F7-3439-4175-A88F-96779B32469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450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ncipy přiřazování nepřímý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incip příčinné souvisl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ákladní otázka: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Jaký je příčinný vztah mezi kalkulovanými náklady a výkony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incip únos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ákladní otázka: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Kolik nákladů unese výkon v prodejní ceně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11B9E-348B-4EA6-A104-8B818C323B1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irážková metoda kalkul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yužívá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rozvrhové základny, klíč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odle počt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využitých rozvrhových základen je možné rozlišit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sumač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řirážkovou kalkulaci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→ využití jedné základn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diferencovano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přirážkovou kalkulaci → využití různých rozvrhových základen podle analýzy vztahu nákladů, základen a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2001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odle charakter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je možné rozlišit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naturál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rozvrhové základny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→ výpočet sazby režie (Kč / natur. j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sazba režie = nepřímé režijní náklady / rozvrhová základn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peněž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rozvrhové základny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→ výpočet přirážky v procent. vyjádř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procentní přirážka = nepřímé režijní náklady / rozvrhová základna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100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4476600" y="3219480"/>
                <a:ext cx="1908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F2BFA-DEDD-4A85-8E06-3B1BEC4C5D3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5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500"/>
                            </p:stCondLst>
                            <p:childTnLst>
                              <p:par>
                                <p:cTn id="2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mensikm</cp:lastModifiedBy>
  <dcterms:modified xsi:type="dcterms:W3CDTF">2009-10-21T09:11:12Z</dcterms:modified>
  <cp:revision>10</cp:revision>
  <dc:subject/>
  <dc:title>Snímek 1</dc:title>
</cp:coreProperties>
</file>