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D695D-7B84-4734-AE26-CACC017D04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A61AF-73FA-4B99-A552-E2332ABCC6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D93CA-FB6D-4F46-8396-F97395E496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0784B-3E0F-4FE3-93E0-3F5A4C140E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2A2E1-DE22-4385-AFB8-584FA37031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0749B-EE77-492F-B7ED-72241375EC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3373E-5D39-480E-BCFC-7DE87D40BA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3DED6-F42C-4830-AD79-41BE98939E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5F284-488B-46DA-97E7-85E58F68C2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BE0BF-1C31-4332-995A-69AB99CA43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9A4D8-5338-42EC-95AF-635DFF5FE6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D176C-8888-4FCB-B52E-910218A98A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1EA0-631B-4F73-BC92-36DB160F0C19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ztah finančního, nákladového a manažerského účetnictv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manažerského a nákladov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50920" y="1413000"/>
          <a:ext cx="8569080" cy="5316480"/>
        </p:xfrm>
        <a:graphic>
          <a:graphicData uri="http://schemas.openxmlformats.org/drawingml/2006/table">
            <a:tbl>
              <a:tblPr/>
              <a:tblGrid>
                <a:gridCol w="4282920"/>
                <a:gridCol w="4286160"/>
              </a:tblGrid>
              <a:tr h="585000">
                <a:tc gridSpan="2"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Manažerské účetnictví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systém účetních informací pro řízení a rozhodování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740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Nákladové účetnictví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účetnictví pro 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odnikat.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rocesu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o jehož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arametrech již bylo rozhodnuto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Manažerské účetnictví  </a:t>
                      </a:r>
                      <a:r>
                        <a:rPr b="1" i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účetnictví pro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rozhodování</a:t>
                      </a:r>
                      <a:r>
                        <a:rPr b="0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 budoucích alternativách činnosti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604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operativní řízení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v bezprostřední návaznosti na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taktické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plán, porovnání se skutečností, běžná a preventivní kontrola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ariantní rozhodová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na existující kapacitě a o budoucí kapacitě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po linii útvarů,  výkonů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roces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omplexní informace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rcholové řízení a rozhodová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ejména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hospodárnosti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zejména účinnosti a efektivnos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 vyhodnocení  vlivu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změn 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 objemu a  sortimentu  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konů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dod. na tr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zásadní změny činnosti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strategický marketing, výzkum a vývoj, investiční   rozhodování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0680">
                <a:tc gridSpan="2"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dnikové rozpočty  - 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Rozpočtová výsledovka, rozvaha, rozpočet peněžních tok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932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tah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odnikového rozpočtu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nitropodnikových rozpočtů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ředisek,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kalkulačního systému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nitropodnik. c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odnikové střednědobé a dlouhodobé rozpoč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32116-E179-4507-8C54-F7A4438E94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ční zajištění řídicího cyk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68360" y="1557360"/>
            <a:ext cx="3238560" cy="915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LÁNOVÁ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tanovit cí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rčit požadované hodno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68360" y="2851200"/>
            <a:ext cx="3238560" cy="915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ORGANIZ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adat úk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tivov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66920" y="5176800"/>
            <a:ext cx="3238560" cy="987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ONTR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jistit skutečné hodno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orovnat skutečnost a plá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66920" y="4148280"/>
            <a:ext cx="3238560" cy="6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ALIZ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ovést/ vykon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0" name=""/>
          <p:cNvCxnSpPr>
            <a:stCxn id="237" idx="2"/>
            <a:endCxn id="239" idx="0"/>
          </p:cNvCxnSpPr>
          <p:nvPr/>
        </p:nvCxnSpPr>
        <p:spPr>
          <a:xfrm flipH="1">
            <a:off x="3885840" y="3766680"/>
            <a:ext cx="2160" cy="381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6" idx="2"/>
            <a:endCxn id="237" idx="0"/>
          </p:cNvCxnSpPr>
          <p:nvPr/>
        </p:nvCxnSpPr>
        <p:spPr>
          <a:xfrm>
            <a:off x="3887280" y="2473200"/>
            <a:ext cx="1080" cy="378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39" idx="2"/>
            <a:endCxn id="238" idx="0"/>
          </p:cNvCxnSpPr>
          <p:nvPr/>
        </p:nvCxnSpPr>
        <p:spPr>
          <a:xfrm>
            <a:off x="3885840" y="4795920"/>
            <a:ext cx="10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38" idx="1"/>
            <a:endCxn id="236" idx="1"/>
          </p:cNvCxnSpPr>
          <p:nvPr/>
        </p:nvCxnSpPr>
        <p:spPr>
          <a:xfrm flipH="1" rot="10800000">
            <a:off x="2266560" y="2015280"/>
            <a:ext cx="2160" cy="365544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724360" y="2781360"/>
            <a:ext cx="576360" cy="3456000"/>
          </a:xfrm>
          <a:custGeom>
            <a:avLst/>
            <a:gdLst>
              <a:gd name="textAreaLeft" fmla="*/ 0 w 576360"/>
              <a:gd name="textAreaRight" fmla="*/ 208080 w 576360"/>
              <a:gd name="textAreaTop" fmla="*/ 90000 h 3456000"/>
              <a:gd name="textAreaBottom" fmla="*/ 3366000 h 34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2924280"/>
            <a:ext cx="4330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Náklad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48360" y="1557360"/>
            <a:ext cx="576360" cy="4751280"/>
          </a:xfrm>
          <a:custGeom>
            <a:avLst/>
            <a:gdLst>
              <a:gd name="textAreaLeft" fmla="*/ 0 w 576360"/>
              <a:gd name="textAreaRight" fmla="*/ 208080 w 576360"/>
              <a:gd name="textAreaTop" fmla="*/ 123840 h 4751280"/>
              <a:gd name="textAreaBottom" fmla="*/ 4627440 h 475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812000" y="2276640"/>
            <a:ext cx="4334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7D612-E5B4-4581-AEB8-069F816F2F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5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450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ztah manažerského účetnictví </a:t>
            </a: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a controlling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istoricky rozvoj v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anglosaské obla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controlling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d 70. let rozvoj v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germanofonní obla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četnictví historicky spojováno se zobrazením skuteč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loha účetnictví pro manažery – pouze analytické členění nákladů a výnos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ontrolling =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etoda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informační podpora řízení (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unkce manažerského účetnictví) je součástí funkcí controlling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rientuje se nejen na hodnotové řízení (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finanční a nákladový controlling), ale i na věcnou stránku řízení (→ naturální controlling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v praxi –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controllingové odděle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(→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controller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15B4C-93DC-4BFB-BD39-FE78CB565A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ztah controllera a řídicího pracovní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CONTROLL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pravuje podklady pro plánování a rozhodová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informuje o odchylkác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pravuje metodiku kalkulací, rozpočtování, systém kalkulací a rozpočt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informuje o změnách v okolí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je poradce management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ŘÍDICÍ PRACOVNÍ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lánuje, rozhoduj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reaguje na zjištěné odchylk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osazuje a využívá informace připravených systémů kalkulací, rozpočt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reaguje, aby udržel dlouho-dobou rovnováhu s okolí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akceptuje controlling v procesu říz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25EE6-9D9C-482A-8983-A91385ED66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5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75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8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95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 je účetnictví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uspořádan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ysté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formac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který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něžním vyjádř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zobraz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nikatelský proc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hodnotovou stránku podnikatelského proces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delové zobrazení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ali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incipy a metody účetního zobrazení, „rozpoznání“ podstaty hospodářských transakcí, pravidla jejich ocenění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stroj komplexního mě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 pozi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nost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měny ve finanční pozic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E0BAA-63E7-4466-84DD-011DBC2B8B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nanční pozice, výkonnost a změn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 finanční situaci v účetních výkaze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247840" y="2509920"/>
            <a:ext cx="4469040" cy="3022560"/>
            <a:chOff x="2247840" y="2509920"/>
            <a:chExt cx="4469040" cy="3022560"/>
          </a:xfrm>
        </p:grpSpPr>
        <p:sp>
          <p:nvSpPr>
            <p:cNvPr id="164" name=""/>
            <p:cNvSpPr/>
            <p:nvPr/>
          </p:nvSpPr>
          <p:spPr>
            <a:xfrm>
              <a:off x="2247840" y="2509920"/>
              <a:ext cx="2235240" cy="3022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AKTIVA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louhodobá aktiv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Krátkodobá aktiv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Zásob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hledávk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Peněžní prostředky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peněžní ekvivalent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81640" y="2509920"/>
              <a:ext cx="2235240" cy="3022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9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cs-CZ" sz="1900" spc="-1" strike="noStrike">
                  <a:solidFill>
                    <a:srgbClr val="ffffff"/>
                  </a:solidFill>
                  <a:latin typeface="Arial"/>
                </a:rPr>
                <a:t>PASIVA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Arial"/>
                </a:rPr>
                <a:t>Vlastní kapitá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Základní kapitá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Kapitálové fond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9900"/>
                  </a:solidFill>
                  <a:latin typeface="Arial"/>
                </a:rPr>
                <a:t>   </a:t>
              </a:r>
              <a:r>
                <a:rPr b="1" lang="cs-CZ" sz="1600" spc="-1" strike="noStrike">
                  <a:solidFill>
                    <a:srgbClr val="ff9900"/>
                  </a:solidFill>
                  <a:latin typeface="Arial"/>
                </a:rPr>
                <a:t>Hospodářský výsl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Arial"/>
                </a:rPr>
                <a:t>Cizí kapitá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320920" y="2870280"/>
            <a:ext cx="20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52920" y="2870280"/>
            <a:ext cx="20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74760" y="1844640"/>
            <a:ext cx="4608720" cy="37609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ZVA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4957920"/>
            <a:ext cx="1584360" cy="93636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KAZ PENĚŽNÍCH TOK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189920" y="3517920"/>
            <a:ext cx="1800000" cy="936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SLEDOV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834920" y="5318280"/>
            <a:ext cx="215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877080" y="4021200"/>
            <a:ext cx="21600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577D2-0B2A-4F2D-8C6B-2684C09431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živatelé účetní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19640" y="2997360"/>
            <a:ext cx="3024000" cy="1512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DNIKATELSK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1268280"/>
            <a:ext cx="1656000" cy="64800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AZNÍ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56000" y="1413000"/>
            <a:ext cx="165564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ONKU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2060640"/>
            <a:ext cx="165600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ĚŘI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84360" y="2205000"/>
            <a:ext cx="165600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LASTNÍ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00720" y="1341360"/>
            <a:ext cx="1655640" cy="792360"/>
          </a:xfrm>
          <a:prstGeom prst="wedgeRoundRectCallout">
            <a:avLst>
              <a:gd name="adj1" fmla="val -51726"/>
              <a:gd name="adj2" fmla="val 78856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tamp"/>
              </a:rPr>
              <a:t>EX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5023440" y="2227680"/>
            <a:ext cx="608040" cy="648000"/>
          </a:xfrm>
          <a:custGeom>
            <a:avLst/>
            <a:gdLst>
              <a:gd name="textAreaLeft" fmla="*/ 88560 w 608040"/>
              <a:gd name="textAreaRight" fmla="*/ 519480 w 608040"/>
              <a:gd name="textAreaTop" fmla="*/ 158400 h 648000"/>
              <a:gd name="textAreaBottom" fmla="*/ 4896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5280"/>
                </a:moveTo>
                <a:lnTo>
                  <a:pt x="15443" y="5280"/>
                </a:lnTo>
                <a:lnTo>
                  <a:pt x="15443" y="0"/>
                </a:lnTo>
                <a:lnTo>
                  <a:pt x="21600" y="10800"/>
                </a:lnTo>
                <a:lnTo>
                  <a:pt x="15443" y="21600"/>
                </a:lnTo>
                <a:lnTo>
                  <a:pt x="15443" y="16320"/>
                </a:lnTo>
                <a:lnTo>
                  <a:pt x="0" y="16320"/>
                </a:lnTo>
                <a:lnTo>
                  <a:pt x="3147" y="10800"/>
                </a:lnTo>
                <a:lnTo>
                  <a:pt x="0" y="528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4797360"/>
            <a:ext cx="165600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N. ÚŘ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92360" y="5518080"/>
            <a:ext cx="165564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ČS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4360" y="4654440"/>
            <a:ext cx="2808000" cy="16560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24360" y="5013360"/>
            <a:ext cx="1655640" cy="792000"/>
          </a:xfrm>
          <a:prstGeom prst="wedgeRoundRectCallout">
            <a:avLst>
              <a:gd name="adj1" fmla="val -67449"/>
              <a:gd name="adj2" fmla="val 44791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tamp"/>
              </a:rPr>
              <a:t>STÁ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75640" y="4005360"/>
            <a:ext cx="1655640" cy="10094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ŘÍDIC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ACOVNÍ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88000" y="3789360"/>
            <a:ext cx="2374920" cy="15843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77080" y="5661000"/>
            <a:ext cx="1576440" cy="865080"/>
          </a:xfrm>
          <a:prstGeom prst="wedgeRoundRectCallout">
            <a:avLst>
              <a:gd name="adj1" fmla="val -44763"/>
              <a:gd name="adj2" fmla="val -63759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tamp"/>
              </a:rPr>
              <a:t>IN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20090400">
            <a:off x="2646360" y="3841560"/>
            <a:ext cx="608040" cy="647640"/>
          </a:xfrm>
          <a:custGeom>
            <a:avLst/>
            <a:gdLst>
              <a:gd name="textAreaLeft" fmla="*/ 88560 w 608040"/>
              <a:gd name="textAreaRight" fmla="*/ 519480 w 608040"/>
              <a:gd name="textAreaTop" fmla="*/ 158400 h 647640"/>
              <a:gd name="textAreaBottom" fmla="*/ 4896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280"/>
                </a:moveTo>
                <a:lnTo>
                  <a:pt x="15443" y="5280"/>
                </a:lnTo>
                <a:lnTo>
                  <a:pt x="15443" y="0"/>
                </a:lnTo>
                <a:lnTo>
                  <a:pt x="21600" y="10800"/>
                </a:lnTo>
                <a:lnTo>
                  <a:pt x="15443" y="21600"/>
                </a:lnTo>
                <a:lnTo>
                  <a:pt x="15443" y="16320"/>
                </a:lnTo>
                <a:lnTo>
                  <a:pt x="0" y="16320"/>
                </a:lnTo>
                <a:lnTo>
                  <a:pt x="3147" y="10800"/>
                </a:lnTo>
                <a:lnTo>
                  <a:pt x="0" y="528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2879600">
            <a:off x="5886000" y="4345920"/>
            <a:ext cx="608040" cy="647640"/>
          </a:xfrm>
          <a:custGeom>
            <a:avLst/>
            <a:gdLst>
              <a:gd name="textAreaLeft" fmla="*/ 88560 w 608040"/>
              <a:gd name="textAreaRight" fmla="*/ 519480 w 608040"/>
              <a:gd name="textAreaTop" fmla="*/ 158400 h 647640"/>
              <a:gd name="textAreaBottom" fmla="*/ 4896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280"/>
                </a:moveTo>
                <a:lnTo>
                  <a:pt x="15443" y="5280"/>
                </a:lnTo>
                <a:lnTo>
                  <a:pt x="15443" y="0"/>
                </a:lnTo>
                <a:lnTo>
                  <a:pt x="21600" y="10800"/>
                </a:lnTo>
                <a:lnTo>
                  <a:pt x="15443" y="21600"/>
                </a:lnTo>
                <a:lnTo>
                  <a:pt x="15443" y="16320"/>
                </a:lnTo>
                <a:lnTo>
                  <a:pt x="0" y="16320"/>
                </a:lnTo>
                <a:lnTo>
                  <a:pt x="3147" y="10800"/>
                </a:lnTo>
                <a:lnTo>
                  <a:pt x="0" y="528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2852640"/>
            <a:ext cx="180036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MĚSTNAN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1125360"/>
            <a:ext cx="4105080" cy="2590920"/>
          </a:xfrm>
          <a:custGeom>
            <a:avLst/>
            <a:gdLst/>
            <a:ahLst/>
            <a:rect l="l" t="t" r="r" b="b"/>
            <a:pathLst>
              <a:path w="2586" h="1632">
                <a:moveTo>
                  <a:pt x="2586" y="0"/>
                </a:moveTo>
                <a:lnTo>
                  <a:pt x="0" y="0"/>
                </a:lnTo>
                <a:lnTo>
                  <a:pt x="0" y="1632"/>
                </a:lnTo>
                <a:lnTo>
                  <a:pt x="1225" y="1632"/>
                </a:lnTo>
                <a:lnTo>
                  <a:pt x="2586" y="1088"/>
                </a:lnTo>
                <a:lnTo>
                  <a:pt x="2586" y="0"/>
                </a:lnTo>
                <a:close/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73AE9-AC66-44DF-BD7C-EB9E31A543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52" dur="2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2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živatelé účetních informac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jejich informační potřeb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842840"/>
            <a:ext cx="5483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piny uživatel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řeší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hodovací úlo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pro které potřebuj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inform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a proto maj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 požadavky n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obraz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dnikatelského proces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16640" y="1841400"/>
            <a:ext cx="2160720" cy="36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 KOH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Č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AK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C88D1-709A-440C-A859-42D712AF85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systémy účetních informac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jejich uživatelé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9640" y="1557360"/>
            <a:ext cx="216072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ční úř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(základ daně z příjmu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62200" y="1557360"/>
            <a:ext cx="216072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(finanční stabilita a výkonno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13480" y="1557360"/>
            <a:ext cx="216072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In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9900"/>
                </a:solidFill>
                <a:latin typeface="Arial"/>
              </a:rPr>
              <a:t>(hodnotové řízení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40000" y="2637000"/>
            <a:ext cx="4608360" cy="223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Odlišné požadavky n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jetí (vymezení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eně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uktu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aktiv, vlastního kapitálu, závazků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nákladů, výnosů, zisku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říjmů a výdajů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1000" y="5157720"/>
            <a:ext cx="259236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Ň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EVIDE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46560" y="5157720"/>
            <a:ext cx="259236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13320" y="5157720"/>
            <a:ext cx="259272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ANAŽERSK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196" idx="2"/>
            <a:endCxn id="199" idx="0"/>
          </p:cNvCxnSpPr>
          <p:nvPr/>
        </p:nvCxnSpPr>
        <p:spPr>
          <a:xfrm>
            <a:off x="1620360" y="2276280"/>
            <a:ext cx="3025080" cy="36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4" name=""/>
          <p:cNvCxnSpPr>
            <a:stCxn id="197" idx="2"/>
            <a:endCxn id="199" idx="0"/>
          </p:cNvCxnSpPr>
          <p:nvPr/>
        </p:nvCxnSpPr>
        <p:spPr>
          <a:xfrm>
            <a:off x="4642920" y="2276280"/>
            <a:ext cx="2520" cy="36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5" name=""/>
          <p:cNvCxnSpPr>
            <a:stCxn id="198" idx="2"/>
            <a:endCxn id="199" idx="0"/>
          </p:cNvCxnSpPr>
          <p:nvPr/>
        </p:nvCxnSpPr>
        <p:spPr>
          <a:xfrm flipH="1">
            <a:off x="4644360" y="2276280"/>
            <a:ext cx="2950200" cy="36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6" name=""/>
          <p:cNvCxnSpPr>
            <a:stCxn id="199" idx="2"/>
            <a:endCxn id="200" idx="0"/>
          </p:cNvCxnSpPr>
          <p:nvPr/>
        </p:nvCxnSpPr>
        <p:spPr>
          <a:xfrm flipH="1">
            <a:off x="1647360" y="4869000"/>
            <a:ext cx="2998080" cy="2894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7" name=""/>
          <p:cNvCxnSpPr>
            <a:stCxn id="199" idx="2"/>
            <a:endCxn id="201" idx="0"/>
          </p:cNvCxnSpPr>
          <p:nvPr/>
        </p:nvCxnSpPr>
        <p:spPr>
          <a:xfrm flipH="1">
            <a:off x="4642560" y="4869000"/>
            <a:ext cx="2520" cy="2894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8" name=""/>
          <p:cNvCxnSpPr>
            <a:stCxn id="199" idx="2"/>
            <a:endCxn id="202" idx="0"/>
          </p:cNvCxnSpPr>
          <p:nvPr/>
        </p:nvCxnSpPr>
        <p:spPr>
          <a:xfrm>
            <a:off x="4644720" y="4869000"/>
            <a:ext cx="2966040" cy="2894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CD22F-4D8D-4764-AAAD-9ED4A3F89D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7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8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finančního a manažersk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ference stabilního vývoj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držování pravidel zabezpečuje spolehlivé a srovnatelné inform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ntetické inform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ientace na výsledky dosažené v minulosti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ce vykazované v pravidelných intervalec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stupy (výkazy) veřejně přístupné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71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ritické informace o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cifické informace podle potřeb managementu umožňující aktivně měnit chování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ytický pohled na podni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rovnání skutečnosti s předem stanoveným vývoj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ce s minimálním zpožděním za skutečným průběh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tajené inform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7FC40-A98F-4A30-A8D5-EFBF37F4AE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innosti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lavní výděleč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dstatou je transformace vynaložených zdrojů na výstupy (výkon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6560" y="256536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STU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oběť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27640" y="256536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ÝSTU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prospě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2536920"/>
            <a:ext cx="2663640" cy="71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FORM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214" idx="6"/>
            <a:endCxn id="216" idx="1"/>
          </p:cNvCxnSpPr>
          <p:nvPr/>
        </p:nvCxnSpPr>
        <p:spPr>
          <a:xfrm>
            <a:off x="2914560" y="2889360"/>
            <a:ext cx="36252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16" idx="3"/>
            <a:endCxn id="215" idx="2"/>
          </p:cNvCxnSpPr>
          <p:nvPr/>
        </p:nvCxnSpPr>
        <p:spPr>
          <a:xfrm flipV="1">
            <a:off x="5940360" y="2889000"/>
            <a:ext cx="28800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466560" y="352908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27640" y="352908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ÝNO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3500280"/>
            <a:ext cx="266364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FORM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2" name=""/>
          <p:cNvCxnSpPr>
            <a:stCxn id="219" idx="6"/>
            <a:endCxn id="221" idx="1"/>
          </p:cNvCxnSpPr>
          <p:nvPr/>
        </p:nvCxnSpPr>
        <p:spPr>
          <a:xfrm>
            <a:off x="2914560" y="3852720"/>
            <a:ext cx="36252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21" idx="3"/>
            <a:endCxn id="220" idx="2"/>
          </p:cNvCxnSpPr>
          <p:nvPr/>
        </p:nvCxnSpPr>
        <p:spPr>
          <a:xfrm flipV="1">
            <a:off x="5940360" y="3852360"/>
            <a:ext cx="28800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55760" y="4508640"/>
            <a:ext cx="8229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anční a investiční činn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dstatou je zhodnocení zdrojů poskytnutím kapit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36680" y="5402160"/>
            <a:ext cx="244764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DRO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97760" y="5402160"/>
            <a:ext cx="244764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DMĚ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46480" y="5373720"/>
            <a:ext cx="266364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KYTNU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PIT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8" name=""/>
          <p:cNvCxnSpPr>
            <a:stCxn id="225" idx="6"/>
            <a:endCxn id="227" idx="1"/>
          </p:cNvCxnSpPr>
          <p:nvPr/>
        </p:nvCxnSpPr>
        <p:spPr>
          <a:xfrm>
            <a:off x="2884320" y="5726160"/>
            <a:ext cx="36252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27" idx="3"/>
            <a:endCxn id="226" idx="2"/>
          </p:cNvCxnSpPr>
          <p:nvPr/>
        </p:nvCxnSpPr>
        <p:spPr>
          <a:xfrm flipV="1">
            <a:off x="5909760" y="5725800"/>
            <a:ext cx="28836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0" name=""/>
          <p:cNvSpPr/>
          <p:nvPr/>
        </p:nvSpPr>
        <p:spPr>
          <a:xfrm>
            <a:off x="5867280" y="1125360"/>
            <a:ext cx="3025800" cy="719280"/>
          </a:xfrm>
          <a:prstGeom prst="wedgeRoundRectCallout">
            <a:avLst>
              <a:gd name="adj1" fmla="val -43754"/>
              <a:gd name="adj2" fmla="val 66115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C93E7-5E63-437A-BA40-B4200B4101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5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8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90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4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0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íle, obsah a struktura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žersk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íl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jišť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říd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ezent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vykázání) informací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 to takovým způsobem, který umožní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řídicím pracovníkům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evědomě ovládat podnikatelskou činnost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ah: závisí na hierarchii a návaznosti cíl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ategického, taktického a operativního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ystém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četní informace pro ří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atelského procesu, o jehož parametrech bylo již v zásadě rozhodnuto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nákladové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četní informace pro rozhodová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taktické a strategické) o variantách budoucího vývoje podnikatelského proces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manažerské účetnictv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v užším pojet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AE039-92D8-4450-89D8-C3D43C58E5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5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15Z</dcterms:modified>
  <cp:revision>16</cp:revision>
  <dc:subject/>
  <dc:title>Snímek 1</dc:title>
</cp:coreProperties>
</file>