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52D2C-59DB-4A9A-8C6A-7B49867598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5C292-A601-41E2-AE3B-7A63D9AFEC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3ED13-A078-4A45-84BC-C2451F398E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A920E-C0B9-4FF8-9449-0893B3193F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6B462-A379-4DCB-A18B-9A2713307C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9A53F-7682-4E17-B727-58EDFE6143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284F3-E964-4D1A-8CDD-403261C393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EA581-FF47-4A96-ACFE-9D31150387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54C80-9B3B-4A36-A894-1C76732EF5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F226E-AD74-4D13-B3BC-F790AED710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F5FC7-A4F2-400E-8DCF-8D79F38BDE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AE322-78DB-4A87-BB40-D5CE856D50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FF120-DC22-4098-8ACD-88D0FCB758C8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Účetní informace pro řízení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o linii odpovědnosti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vestiční středis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Investiční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předpoklad: delegovaná pravomoc a odpovědnost v investičním rozhodování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ovlivňují výši a způsob využití investic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orientace na ekonomickou efektivnost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nejvyšší úroveň ekonomické struktury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→ často je investičním střediskem pouze vrcholové vede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v případě velkých firem s širokým spektrem činnosti tzv. strategické podnikatelské jednotky (strategic business units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C03CA-6E0F-4ABF-BBF7-E80D8D192E7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500"/>
                            </p:stCondLst>
                            <p:childTnLst>
                              <p:par>
                                <p:cTn id="27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dnotová kritéria řízení středis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ákladní otázk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Kter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droj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e vynakládají 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ůsledku rozhodnutí střediska nebo činností, jejíž průběh středisko ovlivňuje, a jak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klad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jejich vynaložení vyvolává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Jakým způsobem měřit a hodnotit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no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řediska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Jak vymezit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sledek hospodař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řediska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A597E-6C18-44D8-9875-C89D8360B91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4000"/>
                            </p:stCondLst>
                            <p:childTnLst>
                              <p:par>
                                <p:cTn id="29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áklady odpovědnostních středis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ákladní princip: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vlivnitel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Otázka: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do je odpovědný za spotřebu zdrojů, a kterému středisku by tudíž měl být náklad odpovědnostně přiřazen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áklady střediska = ovlivnitelné interní a externí náklady (skutečné i kalkulační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zor: „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ísto vzniku nákladů = odpovědnost za vznik nákladů“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mus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ždy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lati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např.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áklady vzniklé důsledkem rozhodnutí jiného středisk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eovlivnitelné pohyby cen vstup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eúčelné vynaložení zdrojů zapříčiněné činností jiného středisk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A33EF-FC92-4D72-AC3B-9F70E0C0048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nos střediska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→ střediskové výnos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ávisí 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typu odpovědnostního středisk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na míře delegova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ravomoci a odpověd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ákladní situace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. výkony střediska určeny převážně pro externí zákazník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třediskové výnosy = </a:t>
            </a:r>
            <a:r>
              <a:rPr b="0" i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externí výnosy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z prodeje za tržní cen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. výkony střediska určeny převážně pro ostatní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třediskové výnosy = </a:t>
            </a:r>
            <a:r>
              <a:rPr b="0" i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interní výnosy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na základě vnitropodnikových ce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3. výkony střediska není možné vymezit a měři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třediskové výnosy = úkolem střediska je dodržet </a:t>
            </a:r>
            <a:r>
              <a:rPr b="0" i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ředem stanovené náklady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podle </a:t>
            </a:r>
            <a:r>
              <a:rPr b="0" i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rozpoč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E1287-97C1-4493-831F-CF2E868B700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000"/>
                            </p:stCondLst>
                            <p:childTnLst>
                              <p:par>
                                <p:cTn id="34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500"/>
                            </p:stCondLst>
                            <p:childTnLst>
                              <p:par>
                                <p:cTn id="35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4500"/>
                            </p:stCondLst>
                            <p:childTnLst>
                              <p:par>
                                <p:cTn id="35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70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nitropodnikové cen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unkce vnitropodnikových ce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otivovat k rozhodování a chování prospěšnému pro středisko i podnik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yjádřit úroveň pravomoci a odpovědnosti a oddělit přínos střediska k výsledkům podnik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ajistit informace pro měření výkonnost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edpoklady účinného využit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anovení předem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álost v čas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oulad s ostatními nástroji vnitropodnikového řízení 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kalkulace, rozpočty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rozumitelnost pro dodávající i odebírající středisko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anovení na stejné úrovni pro stejnorodý výkon bez ohledu na odběratel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35529-1827-4666-AE0C-95E84C9100F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000"/>
                            </p:stCondLst>
                            <p:childTnLst>
                              <p:par>
                                <p:cTn id="39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500"/>
                            </p:stCondLst>
                            <p:childTnLst>
                              <p:par>
                                <p:cTn id="3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00"/>
                            </p:stCondLst>
                            <p:childTnLst>
                              <p:par>
                                <p:cTn id="39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ypy vnitropodnikových c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alože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a náklade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a úrovni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variabilních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a úrovni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plných střediskových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a úrovni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plných střediskových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nákladů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s připočtení ziskové přirážk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alože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a tržní ceně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alože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a dohodě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mezi středisk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2F225-F501-42DD-8B80-479B7BF4CDF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000"/>
                            </p:stCondLst>
                            <p:childTnLst>
                              <p:par>
                                <p:cTn id="4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ýsledek hospodaření středis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funkce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1. kriteriál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kritérium (měřítko) pro hodnocení úspěšnosti hospodaření střediska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2. stimulač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stimulace k zajištění souladu cílů střediska a podniku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podnět pro rozvoj jednání, které zvyšuje efektivnost činnosti střediska, a tím i efektivnost podniku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klíčové je propojení s vhodnou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formou odměny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obsah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výsledku hospodaření závisí na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typu odpovědnostního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88E68-E40F-45C7-966B-B9A926B4846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2500"/>
                            </p:stCondLst>
                            <p:childTnLst>
                              <p:par>
                                <p:cTn id="4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bsah výsledku hospodaře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ákladová (výdajová)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úspora nebo překročení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ovlivnitelných střediskových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ýnosová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objem výnosů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porovnání s rozpočtem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isková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ovlivnitelný zisk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porovnání s rozpočtem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ntabilitní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zisk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po zohlednění kalkulačních úroků z čistého pracovního kapitálu nebo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rentabilita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čistého pracovního kapitál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vestiční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ekonomický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(residuální)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zisk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nebo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rentabilita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vázaného kapitál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95114-D027-4AD2-8AF5-906A78FE638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ýkaz hospodářského výsledku nákladového střediska (výkaz odchylek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457200" y="1600200"/>
          <a:ext cx="8229240" cy="4530240"/>
        </p:xfrm>
        <a:graphic>
          <a:graphicData uri="http://schemas.openxmlformats.org/drawingml/2006/table">
            <a:tbl>
              <a:tblPr/>
              <a:tblGrid>
                <a:gridCol w="2472480"/>
                <a:gridCol w="1917720"/>
                <a:gridCol w="1918080"/>
                <a:gridCol w="1920960"/>
              </a:tblGrid>
              <a:tr h="14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Střediskové náklad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„skutečnost“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Interní výnos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„rozpočet“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Odchylk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úspora/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řekročení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4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Jednicový materiá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4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Jednicové mzd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ariabilní rež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4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Fixní rež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4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Celk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32D67-B1EF-4E0D-AA36-F8D539637E2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ýsledovka ziskového středis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2340000" y="1557360"/>
          <a:ext cx="4608360" cy="4319280"/>
        </p:xfrm>
        <a:graphic>
          <a:graphicData uri="http://schemas.openxmlformats.org/drawingml/2006/table">
            <a:tbl>
              <a:tblPr/>
              <a:tblGrid>
                <a:gridCol w="4608360"/>
              </a:tblGrid>
              <a:tr h="42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Výnosy z prodeje výkon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Variabilní náklady výkonů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Marže (příspěvek na úhradu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Ovlivnitelné fixní náklady středisk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Ovlivnitelný výsledek středis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Neovlivnitelné fixní náklady středisk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Výsledek hospodaření středis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Alokované náklady na správu a řízení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Výsledek střediska po alokaci správních n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6" name=""/>
          <p:cNvSpPr/>
          <p:nvPr/>
        </p:nvSpPr>
        <p:spPr>
          <a:xfrm>
            <a:off x="2411280" y="2421000"/>
            <a:ext cx="44308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411280" y="3386160"/>
            <a:ext cx="44308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411280" y="4394160"/>
            <a:ext cx="44308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411280" y="5373720"/>
            <a:ext cx="44308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707EF-D127-492A-83B5-EB90EA1662F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0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povědnostní říze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ákladní cí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sažení takového dlouhodobého stavu, kdy jednání každého útvaru a pracovníka v podniku přispívá k dosažení strategických cílů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incipy odpovědnostního říze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881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 ovlivnitelnost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pravomoc a odpověd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ceš-li výsledky, musíš dát příležitos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. transformace cílů na úkoly → měřitelná kritéri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o chceš řídit, musíš umět měři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3. přínos k výsledkům → zainteresova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řekni mi, jak mě budeš měřit, a já ti řeknu, jak se budu chovat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6B661-18D1-4856-BE9B-DE9BA4E57C6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500"/>
                            </p:stCondLst>
                            <p:childTnLst>
                              <p:par>
                                <p:cTn id="31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povědnostní účetnictv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ákladní cí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formační podpora odpovědnostního řízení v oblasti hodnotových informac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koly odpovědnostního účetnictv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 rozčlenit hodnotové informace podle odpověd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do je odpovědný za vývoj nákladů, výnosů, aktiv, závazků, příjmů, výdaj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 zobrazit vztahy mezi středisky 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interní výnosy a náklady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jaký je přínos střediska k výsledkům podnik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yjádřit přímo v účetním systému rozdíly či odchylky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o je příčinou a kdo je zodpovědný za rozdíly skutečnosti oproti očekávanému stav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C279F-97D8-43E7-AAFC-D5F40491303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5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500"/>
                            </p:stCondLst>
                            <p:childTnLst>
                              <p:par>
                                <p:cTn id="63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0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000"/>
                            </p:stCondLst>
                            <p:childTnLst>
                              <p:par>
                                <p:cTn id="69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rukturální předpoklady odpovědnostního říze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řešení organizační struktury podniku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novení míry centralizace a decentralizac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ytvoření ekonomické struktury podniku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8D879-508B-4961-84BC-4F6C3EC0F1E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0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rganizační struktura podnik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mezu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ěcnou náplň čin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rvků podnikové struktury 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zb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zi nimi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vorba organizační struktury určuj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horizontální vztah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ělba činností a koopera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ředmětné uspořádání (od nákupu po prodej ...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chnologické uspořádání (specializace činností ...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vertikální vztahy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ozložení pravomoci a odpověd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entraliz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ecentraliz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14C39-B1EE-4F7B-B065-E16369CCD56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3500"/>
                            </p:stCondLst>
                            <p:childTnLst>
                              <p:par>
                                <p:cTn id="116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De)centralizace řízení podnik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entralizac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působ řízení podniku, kdy rozhodovací pravomoc i odpovědnost je soustředěna na vrcholové úrovni řízení; nižší úrovně řízení mají pouze výkonné funk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rientace na přesné, včasné, kvalitní a hospodárné splnění příkaz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irektivní nástroje říze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řevážně naturální kritéria výkonnost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kontrola odchylek od stanoveného úkolu v krátkých intervalech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Decentralizac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ces přenášení pravomoci a odpovědnosti z nadřazené úrovně řízení na úrovně podřízené; nižší úrovně řízení disponují rozhodovacími i výkonnými funkcem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rientace na přínos k zhodnocení zdrojů (účinnosti) a finanční pozic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anovení rámcových podmínek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očekává se iniciativ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ojné využití hodnotových kritéri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odnocení skutečných výsledků za delší obdob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9D428-CB7F-47E5-8873-39CDE6F7718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30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5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400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5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400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konomická struktura podnik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vazuje na organizační strukturu a doplňuje věcné nástroje řízení o využit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otivačně účinných hodnotových nástroj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dpovědnostního řízení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ní prvek ekonomické struktury –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dpovědnostní středisk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y odpovědnostních středisek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ákladní rozliše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kročilé rozliš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ákladové/výnosové středisko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nákladové/výnosové středisk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ýdajové středisk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iskové středisko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ziskové středisk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rentabilitní středisk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nvestiční středisko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investiční středisk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03098-6480-4770-8046-943CF7E9995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ákladová, výdajová, výnosová středis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kladová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rientace na hospodárné vynakládání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ředpoklad: vymezení nákladů ovlivnitelných činností středisk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odnocení: srovnání skutečné a předem stanovené výše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dajová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rientace na zvyšování budoucího potenciálu firmy (vzdělávání, výzkum a vývoj, strategický marketing ...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odnocení: převážně věcné posouzení činnosti doplněné o srovnání skutečné a předem stanovené výše nákladů 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výdajů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nosová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tupují do vztahů se zákazníky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ovlivňují objem a strukturu prodeje (obchodní zastoupení, útvary prodeje, oddělení obchodního domu ...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rientace na maximalizaci výnos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7A210-2152-4F53-84C3-B08B4C6CF09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isková, rentabilitní středis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isková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ředpoklad: řídí celý proces od nákupu, přes tvorbu výkonu po prodej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vstupují do vztahů s dodavateli i zákazník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vlivňují náklady, výnosy a zisk střediska → orientace na účinnost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odnocení: skutečně dosažená úroveň zisk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zastřešují několik nákladových a výnosových středisek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entabilitní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blém orientace ziskových středisek: zvyšování zisku bez ohledu na výši čistého pracovního kapitálu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vázanost zdrojů ovlivňuje finanční pozic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ntabilitní středisko → zahrnutí čistého pracovního kapitálu (pohledávky, zásoby, závazky z obchodního styku ...) do odpovědnosti středisk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851EE-3599-4C89-AF15-CBCB5BCDAD8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00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7:30:03Z</dcterms:created>
  <dc:creator>NOBODY</dc:creator>
  <dc:description/>
  <dc:language>en-US</dc:language>
  <cp:lastModifiedBy>NOBODY</cp:lastModifiedBy>
  <dcterms:modified xsi:type="dcterms:W3CDTF">2007-09-04T08:35:00Z</dcterms:modified>
  <cp:revision>8</cp:revision>
  <dc:subject/>
  <dc:title>Odpovědnostní účetnictví</dc:title>
</cp:coreProperties>
</file>