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63FA7-C368-4523-A4A0-0EFA388656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DC2C2-325B-4CC8-9656-B32B32BF5B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D6EEE-C9E5-4BC1-9FCD-C46B53B9C4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277AC-C31A-4594-A917-5BC444EB20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754E0-CAFC-4917-BBA9-B37AEBDFF4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C8643-80A9-4680-A7CA-A0477E2021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639D8-E536-4286-9844-F5C5F7CC81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CD0FF-4FA8-43F5-9792-A303ABF59C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614A5-BCF0-453B-985B-0CE1B6988F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EE5D0-F7C1-45A2-8931-9C3D536D34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DA745-38C2-4A7E-943C-0AE71E6FE3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B612F-D422-406C-9503-A67F2FFBD5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CA34-C036-41D6-819F-FA90ABB7DC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Základní průřezy vnitropodnikové struktur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71560" y="4653000"/>
            <a:ext cx="2979720" cy="1512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Jedno- a dvouokruhová soustava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VOUOKRUHOVÁ SOUSTAV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ddělené okruhy informac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odlišném zobrazení v FÚ a NÚ se využívají účty rozdíl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záznamu informací do obou okruhů se využívají spojovací úč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OKRUHOVÁ SOUSTAV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den okruh se systematickou analytickou evidenc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odlišném zobrazení v FÚ a MÚ se využívají účty rozdíl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3920" y="5445000"/>
            <a:ext cx="2519280" cy="936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24040" y="4508640"/>
            <a:ext cx="2519280" cy="93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3843360" y="5324040"/>
            <a:ext cx="648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871560" y="5427720"/>
            <a:ext cx="648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05360" y="4148280"/>
            <a:ext cx="3745080" cy="2447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53000" y="4219560"/>
            <a:ext cx="2449440" cy="1368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(hlavní výděl. č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161BB-CCCE-44D4-93DF-A07F5C61B7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alokace nákladů na drobný dlouhodobý majetek do HV (zadán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útvaru Komunikace se zákazníky pořízen nábytek a počítač celkem za 276 000 Kč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účely FÚ zachyceno jako náklad běžného období (nevýznamnost položky z hlediska podnik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účely NÚ odepisováno (významnost položky z hlediska útvaru Komunikace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pis v měsíci květnu pro účely NÚ = 3 000 Kč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8965D-8B9B-4E11-87FF-BFB076019D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klad – řešení v dvouokruhové soustav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072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28720" y="2421000"/>
            <a:ext cx="1436760" cy="1152360"/>
            <a:chOff x="828720" y="2421000"/>
            <a:chExt cx="1436760" cy="1152360"/>
          </a:xfrm>
        </p:grpSpPr>
        <p:sp>
          <p:nvSpPr>
            <p:cNvPr id="207" name=""/>
            <p:cNvSpPr/>
            <p:nvPr/>
          </p:nvSpPr>
          <p:spPr>
            <a:xfrm>
              <a:off x="828720" y="24210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46200" y="2421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684360" y="20606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da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16360" y="24922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422520" y="2421000"/>
            <a:ext cx="1440000" cy="1152360"/>
            <a:chOff x="3422520" y="2421000"/>
            <a:chExt cx="1440000" cy="1152360"/>
          </a:xfrm>
        </p:grpSpPr>
        <p:sp>
          <p:nvSpPr>
            <p:cNvPr id="212" name=""/>
            <p:cNvSpPr/>
            <p:nvPr/>
          </p:nvSpPr>
          <p:spPr>
            <a:xfrm>
              <a:off x="3422520" y="2421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41800" y="2421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3059280" y="2060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třeba materi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5760" y="3719520"/>
            <a:ext cx="8229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19280" y="4952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26920" y="4881600"/>
            <a:ext cx="1436760" cy="1152360"/>
            <a:chOff x="826920" y="4881600"/>
            <a:chExt cx="1436760" cy="1152360"/>
          </a:xfrm>
        </p:grpSpPr>
        <p:sp>
          <p:nvSpPr>
            <p:cNvPr id="218" name=""/>
            <p:cNvSpPr/>
            <p:nvPr/>
          </p:nvSpPr>
          <p:spPr>
            <a:xfrm>
              <a:off x="826920" y="48816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44400" y="48816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82560" y="4235400"/>
            <a:ext cx="18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jovací účet 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87640" y="494172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a)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494160" y="4870440"/>
            <a:ext cx="1439640" cy="1152360"/>
            <a:chOff x="3494160" y="4870440"/>
            <a:chExt cx="1439640" cy="1152360"/>
          </a:xfrm>
        </p:grpSpPr>
        <p:sp>
          <p:nvSpPr>
            <p:cNvPr id="223" name=""/>
            <p:cNvSpPr/>
            <p:nvPr/>
          </p:nvSpPr>
          <p:spPr>
            <a:xfrm>
              <a:off x="3494160" y="487044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13080" y="487044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030480" y="4221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útvaru  Komunik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626080" y="494172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b)  27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132600" y="4870440"/>
            <a:ext cx="1439640" cy="1152360"/>
            <a:chOff x="6132600" y="4870440"/>
            <a:chExt cx="1439640" cy="1152360"/>
          </a:xfrm>
        </p:grpSpPr>
        <p:sp>
          <p:nvSpPr>
            <p:cNvPr id="228" name=""/>
            <p:cNvSpPr/>
            <p:nvPr/>
          </p:nvSpPr>
          <p:spPr>
            <a:xfrm>
              <a:off x="6132600" y="487044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51520" y="487044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5594400" y="4221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zdíly mezi FÚ a N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DAF7C-DD0E-4278-88C3-8BD776D587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řešení v jednookruhové soustav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19280" y="319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26920" y="3124080"/>
            <a:ext cx="1436760" cy="1152360"/>
            <a:chOff x="826920" y="3124080"/>
            <a:chExt cx="1436760" cy="1152360"/>
          </a:xfrm>
        </p:grpSpPr>
        <p:sp>
          <p:nvSpPr>
            <p:cNvPr id="234" name=""/>
            <p:cNvSpPr/>
            <p:nvPr/>
          </p:nvSpPr>
          <p:spPr>
            <a:xfrm>
              <a:off x="826920" y="312408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44400" y="312408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682560" y="2763720"/>
            <a:ext cx="18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da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987640" y="31989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a)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494160" y="3127320"/>
            <a:ext cx="1439640" cy="1152360"/>
            <a:chOff x="3494160" y="3127320"/>
            <a:chExt cx="1439640" cy="1152360"/>
          </a:xfrm>
        </p:grpSpPr>
        <p:sp>
          <p:nvSpPr>
            <p:cNvPr id="239" name=""/>
            <p:cNvSpPr/>
            <p:nvPr/>
          </p:nvSpPr>
          <p:spPr>
            <a:xfrm>
              <a:off x="3494160" y="31273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13080" y="31273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2757600" y="24782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potřeba m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útv. Komunik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69160" y="3198960"/>
            <a:ext cx="11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b)  27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6475320" y="3127320"/>
            <a:ext cx="1440000" cy="1152360"/>
            <a:chOff x="6475320" y="3127320"/>
            <a:chExt cx="1440000" cy="1152360"/>
          </a:xfrm>
        </p:grpSpPr>
        <p:sp>
          <p:nvSpPr>
            <p:cNvPr id="244" name=""/>
            <p:cNvSpPr/>
            <p:nvPr/>
          </p:nvSpPr>
          <p:spPr>
            <a:xfrm>
              <a:off x="6475320" y="312732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94600" y="31273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649840" y="2478240"/>
            <a:ext cx="311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třeba mat.             Rozdíly mezi FÚ a N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2CFE7-6212-4F4E-BA50-22B34A5531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vorba systému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existu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dardní systé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formací manažerského účetnictví, jeho tvorba závisí n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rakteru činnosti podniku a stylu jeho říze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likosti podniku, jeho struktuře a historickém vývoj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nkurenčním prostředí a pozicí podniku na trhu 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em účinného hodnotového řízení i tvorby systému MÚ je detail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znání struktury podnikatelsk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ruktur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ýkonů, útvarů, činností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rocesů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uvnitř podniku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kazuje na příčiny vzniku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nákladů a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tázky hodnotovéh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o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zniku nákladů a ja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do je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zodpověd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ývoj nákladů a výnosů, aktiv a závazků, příjmů a výdajů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9CFA9-0316-4963-B69D-E37764E3B6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linie nákladov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o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zniku nákladů a ja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dpověď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výsledek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 pro řízení p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ii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lkulačně-výkonov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do je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zodpověd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ývoj nákladů a výnosů, aktiv a závazků, příjmů a výdajů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dpověď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prvek organizační struktury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 pro řízení p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ii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8CBAA-FE31-4CA5-8F55-4506868F3B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nikové výkony a jejich členění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10800" bIns="10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Externí výkony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- finální výkony prodávané externím zákazníkům za trž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členění: výrobky, služby, zboží, podrobněji podle skupin, druhů a jak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dále i podle zákazníků a obchodních podmín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íklad – mlékárenská společ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 Tvarohy, 601 2 Jogurty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 Tvarohy bez příchuti, 601 12 Tvarohy s příchut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 Tvarohy bez příchuti ČR, 601 112 Tvarohy bez příchutí Vývoz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1 Tvarohy bez příchuti ČR – supermarket Hypernov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2 Tvarohy bez příchuti ČR – supermarket Omeg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87B8F-A428-4B48-A8EC-B7BCC379D6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nikové výkony a jejich členění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terní výkon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sledek činnosti vnitropodnikového útvaru, který ho předává ostatním útvarům uvnitř podniku v podobě určené technologií procesu tvorby fináln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kol NÚ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znat hodnotové vaz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vnitř podni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klad – dopravní útvar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pravní útvar najezdil v září 2007 12 000 km, z toho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) 3 000 km pro útvar Náku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) 7 000 km pro útvar Prode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) 2 000 km pro útvar Vedení společ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950F7-49F9-4248-88D8-3C47F55BE0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411280" y="3213000"/>
            <a:ext cx="4321440" cy="3384720"/>
          </a:xfrm>
          <a:prstGeom prst="ellipse">
            <a:avLst/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DNIKATELSK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24000" y="3141720"/>
            <a:ext cx="4564080" cy="3600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nitropodnikové útvary a jejich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3960" y="1413000"/>
            <a:ext cx="8229600" cy="16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ždý útvar m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ý charakter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působ, jakým se podíl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ělbě činnost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vnitř podniku včetně rozsah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avomoci a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erarchie a provázanost vymeze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rganizační struktur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68360" y="3141720"/>
            <a:ext cx="4678560" cy="3525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3213000"/>
            <a:ext cx="51850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práva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rategický 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ýzkum a vývo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nvest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ogistika, distribuční sí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munikace se zákazník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říprava výro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ýro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istribu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prodejní služ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4292640"/>
            <a:ext cx="1511280" cy="1297080"/>
          </a:xfrm>
          <a:prstGeom prst="rightArrow">
            <a:avLst>
              <a:gd name="adj1" fmla="val 50000"/>
              <a:gd name="adj2" fmla="val 29129"/>
            </a:avLst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378560" y="4292640"/>
            <a:ext cx="1511280" cy="1297080"/>
          </a:xfrm>
          <a:prstGeom prst="rightArrow">
            <a:avLst>
              <a:gd name="adj1" fmla="val 50000"/>
              <a:gd name="adj2" fmla="val 29129"/>
            </a:avLst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ÝNOS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72360" y="609300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253840" y="6578280"/>
            <a:ext cx="61920" cy="38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920" bIns="-792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08720" y="3645000"/>
            <a:ext cx="122400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48360" y="4005360"/>
            <a:ext cx="1584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16360" y="4292640"/>
            <a:ext cx="201636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35640" y="4869000"/>
            <a:ext cx="1297080" cy="7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211640" y="5084640"/>
            <a:ext cx="25210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995640" y="5229360"/>
            <a:ext cx="273708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572000" y="5373720"/>
            <a:ext cx="2160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3B0ED-B49A-4E52-8F83-9D941ADD7E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útvarů podle charakteru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 hlavní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ezprostředně se podílejí na tvorbě externí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m je přispívat k tvorbě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ervis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bslužné)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skytují služby ostatním útvarů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m je pohotově zajišťovat (často specializované) interní služby s nižšími náklady než na externí zajiště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 správy 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bývají se správou a řízením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ízení nákladů je obvykle v kompetenci vlastní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peciální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jišťují sociální program podniku a služby pro zaměstnan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0640D-549D-4A49-8C41-E635B6B88E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 funkční k profesní organizac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 tradičníh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uspořád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pod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pecializovaných činnost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funkční organizace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přechází k uspořádání pod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ce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procesní organizac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c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řada věcně a časově návazných činností, které se standardně uskutečňují v daném pořadí a vedou k realizaci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vorba procesu často vychází z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y potřeb zákaz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ktivi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článek procesu, který je elementární příčinou vzniku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1CA3A-30BC-450C-9CBA-9594CD9145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zace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ozdílnost požadavk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řešených rozhodovacích úloh) uživatelů účetních informac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vlivňu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bsah, formu a časovou orientac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informací, které přito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obrazují jeden podnikatelský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tázka: Jak vhodně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pracováva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účetní informac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řeš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omplexní ekonomické informační systémy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ři jejich tvorbě se vychází ze dvou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oncepčních přístupů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jednookruhová soustav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ích informa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dvouokruhová soustav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ích informa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9FA9A-DCF9-466E-9003-A5E9E2563F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18:43Z</dcterms:modified>
  <cp:revision>12</cp:revision>
  <dc:subject/>
  <dc:title>Snímek 1</dc:title>
</cp:coreProperties>
</file>