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DDC5A-631F-4CF6-8A9A-F828DCEEB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C7936-F25E-444B-8F65-91BF74D3C3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FD559-0BA6-4660-A531-963BEF711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62765-336B-4EDD-8A67-38EE79848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8966B-AE0A-4261-9001-9DD2A1151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2FB1C-D686-45AB-816D-92700EF74D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9FA6B-D1DF-4609-A969-6198B3967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EE453-B767-44F2-8F29-40385D61C4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EB225-D54F-484B-A53C-F02745F14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22745-11B9-4551-8F18-EF210E94F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F00FA-40F9-4470-80D4-C61DF1A856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75DFF-B719-477D-BA80-332357BBDE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E185-3EBA-46C1-BA28-40C55CB6300E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alkulace plných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 variabilních náklad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57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85840" y="5367240"/>
            <a:ext cx="2246040" cy="609480"/>
            <a:chOff x="285840" y="5367240"/>
            <a:chExt cx="2246040" cy="609480"/>
          </a:xfrm>
        </p:grpSpPr>
        <p:sp>
          <p:nvSpPr>
            <p:cNvPr id="261" name=""/>
            <p:cNvSpPr/>
            <p:nvPr/>
          </p:nvSpPr>
          <p:spPr>
            <a:xfrm>
              <a:off x="285840" y="5367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5840" y="5671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285840" y="5013360"/>
            <a:ext cx="224640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62600" y="5013360"/>
            <a:ext cx="1584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62600" y="63928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51680" y="596592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56000" y="5038560"/>
            <a:ext cx="215640" cy="936720"/>
          </a:xfrm>
          <a:custGeom>
            <a:avLst/>
            <a:gdLst>
              <a:gd name="textAreaLeft" fmla="*/ 0 w 215640"/>
              <a:gd name="textAreaRight" fmla="*/ 77760 w 215640"/>
              <a:gd name="textAreaTop" fmla="*/ 24120 h 936720"/>
              <a:gd name="textAreaBottom" fmla="*/ 912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1" name=""/>
          <p:cNvCxnSpPr>
            <a:stCxn id="270" idx="1"/>
            <a:endCxn id="264" idx="1"/>
          </p:cNvCxnSpPr>
          <p:nvPr/>
        </p:nvCxnSpPr>
        <p:spPr>
          <a:xfrm>
            <a:off x="2784600" y="5506560"/>
            <a:ext cx="39787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2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4" name=""/>
          <p:cNvCxnSpPr>
            <a:stCxn id="254" idx="3"/>
            <a:endCxn id="272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6" name=""/>
          <p:cNvCxnSpPr>
            <a:stCxn id="255" idx="3"/>
            <a:endCxn id="275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3"/>
            <a:endCxn id="273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9" name=""/>
          <p:cNvCxnSpPr>
            <a:stCxn id="273" idx="3"/>
            <a:endCxn id="278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33EC8-2B65-47EE-B152-42E884285B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280" y="-27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jišťování hospodářského výsled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 oceňování na úrovni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105264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66326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naložené náklad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H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85840" y="26812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5840" y="350028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ilní prodej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745320" y="1511280"/>
            <a:ext cx="1601640" cy="2493720"/>
            <a:chOff x="6745320" y="1511280"/>
            <a:chExt cx="1601640" cy="2493720"/>
          </a:xfrm>
        </p:grpSpPr>
        <p:sp>
          <p:nvSpPr>
            <p:cNvPr id="285" name=""/>
            <p:cNvSpPr/>
            <p:nvPr/>
          </p:nvSpPr>
          <p:spPr>
            <a:xfrm>
              <a:off x="6745320" y="1511280"/>
              <a:ext cx="1601640" cy="5450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NOS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45320" y="2418120"/>
              <a:ext cx="1601640" cy="1586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ariabil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áklady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dan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ýkon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08920" y="1925280"/>
              <a:ext cx="94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285840" y="5556240"/>
            <a:ext cx="2246040" cy="609480"/>
            <a:chOff x="285840" y="5556240"/>
            <a:chExt cx="2246040" cy="609480"/>
          </a:xfrm>
        </p:grpSpPr>
        <p:sp>
          <p:nvSpPr>
            <p:cNvPr id="289" name=""/>
            <p:cNvSpPr/>
            <p:nvPr/>
          </p:nvSpPr>
          <p:spPr>
            <a:xfrm>
              <a:off x="285840" y="5556240"/>
              <a:ext cx="224604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ixní prodejní 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5840" y="5860440"/>
              <a:ext cx="224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 na správu a říze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85840" y="4970520"/>
            <a:ext cx="2198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Fixní výrobní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62600" y="5013360"/>
            <a:ext cx="158436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praven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 aktivované fixní výrobní 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62600" y="65181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51680" y="44942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051680" y="60912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15000" y="4363920"/>
            <a:ext cx="198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lková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051680" y="39686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14560" y="249228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788000" y="249228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0" name=""/>
          <p:cNvCxnSpPr>
            <a:stCxn id="282" idx="3"/>
            <a:endCxn id="298" idx="1"/>
          </p:cNvCxnSpPr>
          <p:nvPr/>
        </p:nvCxnSpPr>
        <p:spPr>
          <a:xfrm flipV="1">
            <a:off x="2484000" y="2851920"/>
            <a:ext cx="430920" cy="3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6732720" y="350028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283" idx="3"/>
            <a:endCxn id="301" idx="1"/>
          </p:cNvCxnSpPr>
          <p:nvPr/>
        </p:nvCxnSpPr>
        <p:spPr>
          <a:xfrm flipV="1">
            <a:off x="2484000" y="3674880"/>
            <a:ext cx="42490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3" name=""/>
          <p:cNvCxnSpPr>
            <a:stCxn id="298" idx="3"/>
            <a:endCxn id="299" idx="1"/>
          </p:cNvCxnSpPr>
          <p:nvPr/>
        </p:nvCxnSpPr>
        <p:spPr>
          <a:xfrm>
            <a:off x="4427280" y="285228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6732720" y="2682720"/>
            <a:ext cx="2198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299" idx="3"/>
            <a:endCxn id="304" idx="1"/>
          </p:cNvCxnSpPr>
          <p:nvPr/>
        </p:nvCxnSpPr>
        <p:spPr>
          <a:xfrm>
            <a:off x="6300720" y="2852640"/>
            <a:ext cx="432720" cy="57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2914560" y="4797360"/>
            <a:ext cx="151308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Nedokončen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88000" y="4797360"/>
            <a:ext cx="1512720" cy="720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Hotové výkon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8" name=""/>
          <p:cNvCxnSpPr>
            <a:stCxn id="306" idx="3"/>
            <a:endCxn id="307" idx="1"/>
          </p:cNvCxnSpPr>
          <p:nvPr/>
        </p:nvCxnSpPr>
        <p:spPr>
          <a:xfrm>
            <a:off x="4427280" y="5157360"/>
            <a:ext cx="361080" cy="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9" name=""/>
          <p:cNvCxnSpPr>
            <a:stCxn id="291" idx="3"/>
            <a:endCxn id="306" idx="1"/>
          </p:cNvCxnSpPr>
          <p:nvPr/>
        </p:nvCxnSpPr>
        <p:spPr>
          <a:xfrm>
            <a:off x="2484000" y="5146200"/>
            <a:ext cx="430920" cy="118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6732720" y="498492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7" idx="3"/>
            <a:endCxn id="310" idx="1"/>
          </p:cNvCxnSpPr>
          <p:nvPr/>
        </p:nvCxnSpPr>
        <p:spPr>
          <a:xfrm>
            <a:off x="6300720" y="5157360"/>
            <a:ext cx="432720" cy="252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6732720" y="5734080"/>
            <a:ext cx="2198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4360" y="558972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4" name=""/>
          <p:cNvCxnSpPr>
            <a:stCxn id="313" idx="1"/>
            <a:endCxn id="312" idx="1"/>
          </p:cNvCxnSpPr>
          <p:nvPr/>
        </p:nvCxnSpPr>
        <p:spPr>
          <a:xfrm flipV="1">
            <a:off x="2639520" y="5907960"/>
            <a:ext cx="4093560" cy="54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FBCD3-AF0E-4AEA-8861-C6E4679400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vliv kalkulace na hospodářský výsledek (homogenní výrobek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457200" y="2060640"/>
          <a:ext cx="8002440" cy="200484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Položk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Celkem na 500 000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Na 1 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ý materiá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Jednicové mz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ní režijní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z toho variabil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7" name=""/>
          <p:cNvSpPr/>
          <p:nvPr/>
        </p:nvSpPr>
        <p:spPr>
          <a:xfrm>
            <a:off x="395280" y="14842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é náklady pro 1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4149720"/>
            <a:ext cx="8137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období 1. – 3. stabilní objem výroby = 500 000 ks / obdob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jemy prodeje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období = 5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období = 3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období = 700 000 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dochází k absolutní úspoře ani překročení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dejní cena = 18 Kč / ks (stabiln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393CA-69E4-443A-A5C2-2DCDE2533D0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95280" y="11592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plný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457200" y="608040"/>
          <a:ext cx="8147160" cy="240984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7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8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4 8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1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6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1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395280" y="3098880"/>
            <a:ext cx="8137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jištění HV při ocenění výkonů na úrovni variabilních nákla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468360" y="3602160"/>
          <a:ext cx="8147160" cy="3047760"/>
        </p:xfrm>
        <a:graphic>
          <a:graphicData uri="http://schemas.openxmlformats.org/drawingml/2006/table">
            <a:tbl>
              <a:tblPr/>
              <a:tblGrid>
                <a:gridCol w="2287440"/>
                <a:gridCol w="2003400"/>
                <a:gridCol w="2001960"/>
                <a:gridCol w="1854360"/>
              </a:tblGrid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Obdob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Náklady prodaných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5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7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7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4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5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2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ovnání rozdílu HV ve 2. období při ocenění kalkulací variabilních nákladů a plných náklad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468360" y="1773360"/>
          <a:ext cx="8136000" cy="4109760"/>
        </p:xfrm>
        <a:graphic>
          <a:graphicData uri="http://schemas.openxmlformats.org/drawingml/2006/table">
            <a:tbl>
              <a:tblPr/>
              <a:tblGrid>
                <a:gridCol w="2957400"/>
                <a:gridCol w="2590920"/>
                <a:gridCol w="2587680"/>
              </a:tblGrid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variabilní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Kalkulace plných náklad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rob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rodej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nosy z prodeje výrobků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8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(10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0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0 0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Marže I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 4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vynaložené v období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 3 0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664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Aktivované fixní náklady v zásobách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1 2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89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Zisk (Kč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-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+ 60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E881C-0D6F-42CD-BD9D-96D0FCA3C1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0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ntnost sestavení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se sestav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ohledem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osti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sa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alkulovaných nákladů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ložek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lenění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součtů, vztahu ke kalkulac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přístup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všechny náklady vynaložené při jeho vytvoř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přímých a nepřím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alkulac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ychází z odlišení variabilních a fixní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řiřazuje výkonu buď pouze variabilní náklady nebo odděleně variabilní a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C38E3-7093-4E8C-8594-0921946606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nosti a omez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pln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tick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odpovídá pouze jedné variantě objemu a sortiment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arbitrá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přiřazuje i náklady bez zřetelné příčinné vazby k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kutečnou výš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ů je možné zjistit až s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poždění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e nutná informace o objemu a struktuře výkonů vytvořený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východisk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ovou polit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ejména z dlouhodobého hl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podklad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ení konkurenceschop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v rámci sektor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pr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u a porovnání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a služe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h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možňuje kvantifikovat vliv využití fixních nákladů na vývoj zis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E435E-0E7B-4D67-90FE-F74825AB77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920" y="27756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457200" y="1798560"/>
          <a:ext cx="8002080" cy="2005200"/>
        </p:xfrm>
        <a:graphic>
          <a:graphicData uri="http://schemas.openxmlformats.org/drawingml/2006/table">
            <a:tbl>
              <a:tblPr/>
              <a:tblGrid>
                <a:gridCol w="2979360"/>
                <a:gridCol w="2608560"/>
                <a:gridCol w="241416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Cena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Objem výroby a prodeje v roce 200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 gridSpan="3"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Zisk podniku = 30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+ 1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- 25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000 - 16</a:t>
                      </a: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 000 = 30 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468360" y="3848040"/>
            <a:ext cx="81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platí se vyrábět a prodávat ztrátový výrobek B i v roce 2008, pokud máte k dispozici následující podrobnější informace o kalkulaci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víte, že fixní náklady jsou společné oběma výkonům a nejsou v roce 2008 ovlivnitelné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68360" y="5040360"/>
          <a:ext cx="8002440" cy="1384200"/>
        </p:xfrm>
        <a:graphic>
          <a:graphicData uri="http://schemas.openxmlformats.org/drawingml/2006/table">
            <a:tbl>
              <a:tblPr/>
              <a:tblGrid>
                <a:gridCol w="2979720"/>
                <a:gridCol w="2608200"/>
                <a:gridCol w="2414520"/>
              </a:tblGrid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Výrobe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ariabil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Fixní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lné náklady (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7931F-794F-4EE9-9684-ED486F91649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772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2775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omezení kalkulace plných nákladů při rozhodování o struktuře výkonů (II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orovnání podl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lné nákladové nároč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15 Kč (cena)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&lt;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16 Kč (plné náklad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NE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ctr"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----------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porovnání př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odlišení variabilních a fixních nákladů</a:t>
            </a:r>
            <a:r>
              <a:rPr b="1" i="1" lang="cs-CZ" sz="2000" spc="-1" strike="noStrike">
                <a:solidFill>
                  <a:srgbClr val="ff9900"/>
                </a:solidFill>
                <a:latin typeface="Arial"/>
                <a:ea typeface="Arial Unicode MS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A = (30-20)* 10 000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0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</a:rPr>
              <a:t>Marže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 B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Fixní náklady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1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Zisk / ztráta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i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= - 10 00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1800360"/>
                <a:tab algn="l" pos="51148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VYRÁBĚT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4E85E-6C3B-4016-AE6A-BC18938635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uje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le příčin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yvolané výkonem 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yvolané časem (→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dporuje řešení ř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rozhodovacích úlo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změnách v objemu a struktuř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limitu prodejních cen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 posouzení přínosu výkonu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2D9CB-FFC9-4271-B0AC-9B5E9FB802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vzor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200" y="1341360"/>
            <a:ext cx="2160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ční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11280" y="1341360"/>
            <a:ext cx="2376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ynamická kalkulace plný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1341360"/>
            <a:ext cx="2232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1341360"/>
            <a:ext cx="2556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trográdní kalkulace se stupňovitým čl.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19861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98756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ý materiá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43280" y="198900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77080" y="1989000"/>
            <a:ext cx="201600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506680"/>
            <a:ext cx="201636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římé mz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25066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77080" y="250668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30402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Ostatní přímé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43280" y="302580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77080" y="30258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výkonu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Výrobní režie nep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354348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77080" y="3543480"/>
            <a:ext cx="2016000" cy="31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výkon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11280" y="508644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Prodej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43280" y="406224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77080" y="38638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579920"/>
            <a:ext cx="2016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6095880"/>
            <a:ext cx="201636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Správní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77080" y="419400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99"/>
                </a:solidFill>
                <a:latin typeface="Times New Roman"/>
              </a:rPr>
              <a:t>- FN skupiny vý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77" idx="3"/>
            <a:endCxn id="178" idx="1"/>
          </p:cNvCxnSpPr>
          <p:nvPr/>
        </p:nvCxnSpPr>
        <p:spPr>
          <a:xfrm>
            <a:off x="2195280" y="2238480"/>
            <a:ext cx="216360" cy="2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1" idx="3"/>
            <a:endCxn id="182" idx="1"/>
          </p:cNvCxnSpPr>
          <p:nvPr/>
        </p:nvCxnSpPr>
        <p:spPr>
          <a:xfrm>
            <a:off x="2195280" y="275904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5" idx="3"/>
            <a:endCxn id="186" idx="1"/>
          </p:cNvCxnSpPr>
          <p:nvPr/>
        </p:nvCxnSpPr>
        <p:spPr>
          <a:xfrm>
            <a:off x="2195280" y="3278160"/>
            <a:ext cx="216360" cy="15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03" name=""/>
          <p:cNvSpPr/>
          <p:nvPr/>
        </p:nvSpPr>
        <p:spPr>
          <a:xfrm>
            <a:off x="2411280" y="347184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376092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11280" y="44942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47829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11280" y="5504040"/>
            <a:ext cx="201636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variabil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5792760"/>
            <a:ext cx="2016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fix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89" idx="3"/>
            <a:endCxn id="190" idx="1"/>
          </p:cNvCxnSpPr>
          <p:nvPr/>
        </p:nvCxnSpPr>
        <p:spPr>
          <a:xfrm>
            <a:off x="2195280" y="379584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0" name=""/>
          <p:cNvCxnSpPr>
            <a:stCxn id="193" idx="3"/>
            <a:endCxn id="194" idx="1"/>
          </p:cNvCxnSpPr>
          <p:nvPr/>
        </p:nvCxnSpPr>
        <p:spPr>
          <a:xfrm>
            <a:off x="2195280" y="4314960"/>
            <a:ext cx="216360" cy="1024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1" name=""/>
          <p:cNvCxnSpPr>
            <a:stCxn id="197" idx="3"/>
            <a:endCxn id="198" idx="1"/>
          </p:cNvCxnSpPr>
          <p:nvPr/>
        </p:nvCxnSpPr>
        <p:spPr>
          <a:xfrm>
            <a:off x="2195280" y="4831920"/>
            <a:ext cx="216360" cy="1516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212" name=""/>
          <p:cNvSpPr/>
          <p:nvPr/>
        </p:nvSpPr>
        <p:spPr>
          <a:xfrm>
            <a:off x="6877080" y="4524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77080" y="484344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„závodu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77080" y="517536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Marže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77080" y="5505480"/>
            <a:ext cx="2016000" cy="31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- FN podni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77080" y="5837400"/>
            <a:ext cx="2016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= Průměrný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178" idx="3"/>
            <a:endCxn id="183" idx="1"/>
          </p:cNvCxnSpPr>
          <p:nvPr/>
        </p:nvCxnSpPr>
        <p:spPr>
          <a:xfrm>
            <a:off x="4427280" y="2239920"/>
            <a:ext cx="216360" cy="5198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8" name=""/>
          <p:cNvCxnSpPr>
            <a:stCxn id="182" idx="3"/>
            <a:endCxn id="183" idx="1"/>
          </p:cNvCxnSpPr>
          <p:nvPr/>
        </p:nvCxnSpPr>
        <p:spPr>
          <a:xfrm flipV="1">
            <a:off x="4427280" y="2758680"/>
            <a:ext cx="216360" cy="8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19" name=""/>
          <p:cNvCxnSpPr>
            <a:stCxn id="203" idx="3"/>
            <a:endCxn id="183" idx="1"/>
          </p:cNvCxnSpPr>
          <p:nvPr/>
        </p:nvCxnSpPr>
        <p:spPr>
          <a:xfrm flipV="1">
            <a:off x="4427280" y="2758320"/>
            <a:ext cx="216360" cy="8578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0" name=""/>
          <p:cNvCxnSpPr>
            <a:stCxn id="205" idx="3"/>
            <a:endCxn id="183" idx="1"/>
          </p:cNvCxnSpPr>
          <p:nvPr/>
        </p:nvCxnSpPr>
        <p:spPr>
          <a:xfrm flipV="1">
            <a:off x="4427280" y="2758320"/>
            <a:ext cx="216360" cy="18802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1" name=""/>
          <p:cNvCxnSpPr>
            <a:stCxn id="207" idx="3"/>
            <a:endCxn id="183" idx="1"/>
          </p:cNvCxnSpPr>
          <p:nvPr/>
        </p:nvCxnSpPr>
        <p:spPr>
          <a:xfrm flipV="1">
            <a:off x="4427280" y="2758680"/>
            <a:ext cx="216360" cy="2890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2" name=""/>
          <p:cNvCxnSpPr>
            <a:stCxn id="204" idx="3"/>
            <a:endCxn id="191" idx="1"/>
          </p:cNvCxnSpPr>
          <p:nvPr/>
        </p:nvCxnSpPr>
        <p:spPr>
          <a:xfrm flipV="1">
            <a:off x="4427280" y="3795480"/>
            <a:ext cx="216360" cy="1101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3" name=""/>
          <p:cNvCxnSpPr>
            <a:stCxn id="206" idx="3"/>
            <a:endCxn id="191" idx="1"/>
          </p:cNvCxnSpPr>
          <p:nvPr/>
        </p:nvCxnSpPr>
        <p:spPr>
          <a:xfrm flipV="1">
            <a:off x="4427280" y="3795480"/>
            <a:ext cx="216360" cy="113256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4" name=""/>
          <p:cNvCxnSpPr>
            <a:stCxn id="208" idx="3"/>
            <a:endCxn id="191" idx="1"/>
          </p:cNvCxnSpPr>
          <p:nvPr/>
        </p:nvCxnSpPr>
        <p:spPr>
          <a:xfrm flipV="1">
            <a:off x="4427280" y="3795840"/>
            <a:ext cx="216360" cy="2141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5" name=""/>
          <p:cNvCxnSpPr>
            <a:stCxn id="198" idx="3"/>
            <a:endCxn id="191" idx="1"/>
          </p:cNvCxnSpPr>
          <p:nvPr/>
        </p:nvCxnSpPr>
        <p:spPr>
          <a:xfrm flipV="1">
            <a:off x="4427280" y="3795480"/>
            <a:ext cx="216360" cy="2553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6" name=""/>
          <p:cNvCxnSpPr>
            <a:stCxn id="179" idx="3"/>
            <a:endCxn id="180" idx="1"/>
          </p:cNvCxnSpPr>
          <p:nvPr/>
        </p:nvCxnSpPr>
        <p:spPr>
          <a:xfrm>
            <a:off x="6659640" y="224136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7" name=""/>
          <p:cNvCxnSpPr>
            <a:stCxn id="183" idx="3"/>
            <a:endCxn id="184" idx="1"/>
          </p:cNvCxnSpPr>
          <p:nvPr/>
        </p:nvCxnSpPr>
        <p:spPr>
          <a:xfrm>
            <a:off x="6659640" y="275868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8" name=""/>
          <p:cNvCxnSpPr>
            <a:stCxn id="187" idx="3"/>
            <a:endCxn id="188" idx="1"/>
          </p:cNvCxnSpPr>
          <p:nvPr/>
        </p:nvCxnSpPr>
        <p:spPr>
          <a:xfrm>
            <a:off x="6659640" y="3277800"/>
            <a:ext cx="218160" cy="1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29" name=""/>
          <p:cNvCxnSpPr>
            <a:stCxn id="191" idx="3"/>
            <a:endCxn id="192" idx="1"/>
          </p:cNvCxnSpPr>
          <p:nvPr/>
        </p:nvCxnSpPr>
        <p:spPr>
          <a:xfrm flipV="1">
            <a:off x="6659640" y="3701160"/>
            <a:ext cx="218160" cy="946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0" name=""/>
          <p:cNvCxnSpPr>
            <a:stCxn id="191" idx="3"/>
            <a:endCxn id="199" idx="1"/>
          </p:cNvCxnSpPr>
          <p:nvPr/>
        </p:nvCxnSpPr>
        <p:spPr>
          <a:xfrm>
            <a:off x="6659640" y="3795480"/>
            <a:ext cx="218160" cy="55764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1" name=""/>
          <p:cNvCxnSpPr>
            <a:stCxn id="191" idx="3"/>
            <a:endCxn id="213" idx="1"/>
          </p:cNvCxnSpPr>
          <p:nvPr/>
        </p:nvCxnSpPr>
        <p:spPr>
          <a:xfrm>
            <a:off x="6659640" y="3795480"/>
            <a:ext cx="218160" cy="120708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32" name=""/>
          <p:cNvCxnSpPr>
            <a:stCxn id="191" idx="3"/>
            <a:endCxn id="215" idx="1"/>
          </p:cNvCxnSpPr>
          <p:nvPr/>
        </p:nvCxnSpPr>
        <p:spPr>
          <a:xfrm>
            <a:off x="6659640" y="3795840"/>
            <a:ext cx="218160" cy="1869120"/>
          </a:xfrm>
          <a:prstGeom prst="straightConnector1">
            <a:avLst/>
          </a:prstGeom>
          <a:ln w="5076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A135B-8E90-4129-96E8-B921CAF7F2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45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95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5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15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71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7000"/>
                            </p:stCondLst>
                            <p:childTnLst>
                              <p:par>
                                <p:cTn id="3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90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3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0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3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2500"/>
                            </p:stCondLst>
                            <p:childTnLst>
                              <p:par>
                                <p:cTn id="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5500"/>
                            </p:stCondLst>
                            <p:childTnLst>
                              <p:par>
                                <p:cTn id="361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0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6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7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0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42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432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5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7500"/>
                            </p:stCondLst>
                            <p:childTnLst>
                              <p:par>
                                <p:cTn id="443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6" nodeType="afterEffect" fill="hold" presetClass="exit" presetID="5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tivační důsledky kalkulace plných a variabil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ředem stanovených plných nákladech výkonu je započt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stantní část průměrných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porovnání lineárně přepočtených nákladů s jejich absolutní výší dochází 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ativní úspoře/překročení fixní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(resp. překročené/nedostatečné úhradě fixních náklad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hodné při motivaci útvarů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užití kapac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4294080"/>
            <a:ext cx="3600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RÚFN = 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– F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RPFN = FN -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 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při 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gt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162400" y="4191120"/>
            <a:ext cx="0" cy="1800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5162040" y="599112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30840" y="419112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199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5280" y="6021360"/>
            <a:ext cx="215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24520" y="60213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162400" y="4981680"/>
            <a:ext cx="1729080" cy="217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5162400" y="4406400"/>
            <a:ext cx="1511280" cy="15829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26040" y="4981680"/>
            <a:ext cx="0" cy="10843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531120" y="4478400"/>
            <a:ext cx="0" cy="1584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602400" y="4549680"/>
            <a:ext cx="71280" cy="432000"/>
          </a:xfrm>
          <a:custGeom>
            <a:avLst/>
            <a:gdLst>
              <a:gd name="textAreaLeft" fmla="*/ 0 w 71280"/>
              <a:gd name="textAreaRight" fmla="*/ 25560 w 7128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48360" y="462276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Ú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692760" y="4262400"/>
            <a:ext cx="2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L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= CN/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Plán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u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77080" y="4941720"/>
            <a:ext cx="2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74048-C77E-4077-A253-29B827219F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3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650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90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9500"/>
                            </p:stCondLst>
                            <p:childTnLst>
                              <p:par>
                                <p:cTn id="51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3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iv ocenění výkon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úrovni plných a variabilních nákladů na hospodářský výsled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3628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uvisí s vymezení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ů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ce variabil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náklady výkonu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citliv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a změ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 množství a struktuře prodan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prodej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kalkulace pln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výkonu → variabilní náklady + fixní náklady spojené s vytvořením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klady období → náklady správy a řízení + prodej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V je při kolísání objemu a struktury prode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tabiliz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otivač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ůsobení na výrob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ikoli prodej výrob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Kalkulace plných a variabilních 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FB3AB-5EE5-4A16-9843-56AAB905CD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000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20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7Z</dcterms:modified>
  <cp:revision>14</cp:revision>
  <dc:subject/>
  <dc:title>Snímek 1</dc:title>
</cp:coreProperties>
</file>