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275E-1BE9-47AD-8213-71A58AE7E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E4BE-3558-4E5D-BBA0-611D7A6C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A59A7-B555-48A9-91E4-FFDA14131B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86CB8-F21A-4C41-B881-2BE54B1A3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94FAA-7164-438D-A270-6272DB6B3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D08D-6135-4C36-8441-D59BA541B4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3608-C557-4F1E-9E31-019DEED00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1E3F8-FBEA-4D61-92C5-2C0F7C074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DF53-30E6-4EC1-BA89-A0ADE2D46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2AEBD-2513-45D6-A442-17611F659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675C3-BF85-4BD4-BB22-4D9199181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CB9E-E063-414E-A276-362CF8F27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CF25-0763-4F05-AC70-F3978A43A45C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stavení rozpočtu nákladů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 systému plánů a rozpočtů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předběžné kalkulac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rozpočtu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26920" y="1755720"/>
            <a:ext cx="6626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edběžná 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35040" y="2293920"/>
          <a:ext cx="7682040" cy="1095480"/>
        </p:xfrm>
        <a:graphic>
          <a:graphicData uri="http://schemas.openxmlformats.org/drawingml/2006/table">
            <a:tbl>
              <a:tblPr/>
              <a:tblGrid>
                <a:gridCol w="2784600"/>
                <a:gridCol w="489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 * předem stanovené oceně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zpočet / 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"/>
          <p:cNvSpPr/>
          <p:nvPr/>
        </p:nvSpPr>
        <p:spPr>
          <a:xfrm>
            <a:off x="826920" y="4014720"/>
            <a:ext cx="47037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ozpočet středis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2560" y="4508640"/>
          <a:ext cx="7634160" cy="1095120"/>
        </p:xfrm>
        <a:graphic>
          <a:graphicData uri="http://schemas.openxmlformats.org/drawingml/2006/table">
            <a:tbl>
              <a:tblPr/>
              <a:tblGrid>
                <a:gridCol w="2704680"/>
                <a:gridCol w="49294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dnicové náklad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ředběžná kalkulace*plánovaný objem výkon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Variabil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normativy * vztahové veličin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Fixní rež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lim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611280" y="2276640"/>
            <a:ext cx="76816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4360" y="4508640"/>
            <a:ext cx="7584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10" idx="1"/>
            <a:endCxn id="211" idx="1"/>
          </p:cNvCxnSpPr>
          <p:nvPr/>
        </p:nvCxnSpPr>
        <p:spPr>
          <a:xfrm flipH="1" flipV="1" rot="10800000">
            <a:off x="610200" y="2484000"/>
            <a:ext cx="73800" cy="2186640"/>
          </a:xfrm>
          <a:prstGeom prst="bentConnector3">
            <a:avLst>
              <a:gd name="adj1" fmla="val -312745"/>
            </a:avLst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3" name=""/>
          <p:cNvSpPr/>
          <p:nvPr/>
        </p:nvSpPr>
        <p:spPr>
          <a:xfrm>
            <a:off x="8317080" y="2852640"/>
            <a:ext cx="215640" cy="2232000"/>
          </a:xfrm>
          <a:custGeom>
            <a:avLst/>
            <a:gdLst/>
            <a:ahLst/>
            <a:rect l="l" t="t" r="r" b="b"/>
            <a:pathLst>
              <a:path w="136" h="1406">
                <a:moveTo>
                  <a:pt x="0" y="1406"/>
                </a:moveTo>
                <a:lnTo>
                  <a:pt x="136" y="1406"/>
                </a:lnTo>
                <a:lnTo>
                  <a:pt x="136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17080" y="3213000"/>
            <a:ext cx="502920" cy="2232000"/>
          </a:xfrm>
          <a:custGeom>
            <a:avLst/>
            <a:gdLst/>
            <a:ahLst/>
            <a:rect l="l" t="t" r="r" b="b"/>
            <a:pathLst>
              <a:path w="317" h="1451">
                <a:moveTo>
                  <a:pt x="0" y="1451"/>
                </a:moveTo>
                <a:lnTo>
                  <a:pt x="317" y="1451"/>
                </a:lnTo>
                <a:lnTo>
                  <a:pt x="317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C5BFC-988C-475C-8926-3926A4C130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5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ické otázky sestavení rozpočtu režijních nákladů středise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ruktura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ve vazbě na druhové a účelové členění náklad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lišují se prvotní a druhotné nákla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metody stanov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ovaných nákladů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způsob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viz následující slide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4A1B0-B7C9-493C-85A4-21DC557C0D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2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0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tody stanovení rozpočtovaných nákladů středis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votní údaj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sestavení rozpočt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yužití údajů o skutečnosti minulý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stavení rozpočtu od nulového zák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zprac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votních údaj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dexní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ákladem je věcná analýza nákladové slož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tematicko – statistické metod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fický rozbor a extrapolac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7840" indent="-35784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 stanov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kladového úkol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iabilní náklady – normativy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chodiskem je určení vztahových veličin, na které je vázána úroveň nákladového úkol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52040" indent="-322200">
              <a:spcBef>
                <a:spcPts val="451"/>
              </a:spcBef>
              <a:buClr>
                <a:srgbClr val="ffffff"/>
              </a:buClr>
              <a:buFont typeface="Arial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xní náklady - lim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85CBB-6534-4E74-958E-9FB6467939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dodržení rozpočtu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žijních náklad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ůležité je pravidelné a včas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rovn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a předem stanoveného vývoje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tění a vyhodnoc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opat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ž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íčiny vzniku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díl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reálně stanovený úk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dlišný vývoj podmínek v průběhu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působy 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držení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střednictvím interních výnosů a výsledku hospodaření středisk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viz Kapitola 9 Odpovědnostní účetnictví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rovnání skutečných a rozpočtovaných nákladů mimo účetní systé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C2EC-F966-468D-8DCA-49CCBAAD88B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0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ontrola rozpočtu režijních nákladů mimo účetní systé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vnéh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e schváleným rozpočtem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de není vymezený nebo měřitelný výkon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ariantního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ariabilní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edmět přepočtu pouze variabil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hodné u středisek, která ne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moc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lineárně přepočtené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vá se skutečnost s rozpočtem s přepočtenými veškerými náklady podle skutečného objemu a struktury výkonů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předmětem přepočtu i fixní náklad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hodné u středisek, která rozhodují o využití kapaci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E9343-FBE9-4CE9-B7D0-2FB249ADA7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500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pojení systému informací nákladového účetnictví (shrnutí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2197080" y="2706840"/>
            <a:ext cx="2158920" cy="1944000"/>
            <a:chOff x="2197080" y="2706840"/>
            <a:chExt cx="2158920" cy="1944000"/>
          </a:xfrm>
        </p:grpSpPr>
        <p:grpSp>
          <p:nvGrpSpPr>
            <p:cNvPr id="225" name=""/>
            <p:cNvGrpSpPr/>
            <p:nvPr/>
          </p:nvGrpSpPr>
          <p:grpSpPr>
            <a:xfrm>
              <a:off x="2412720" y="3427200"/>
              <a:ext cx="1800360" cy="1223640"/>
              <a:chOff x="2412720" y="3427200"/>
              <a:chExt cx="1800360" cy="1223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412720" y="34272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349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2197080" y="2706840"/>
              <a:ext cx="215892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kutečné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4213080" y="2706840"/>
            <a:ext cx="2521080" cy="1944000"/>
            <a:chOff x="4213080" y="2706840"/>
            <a:chExt cx="2521080" cy="1944000"/>
          </a:xfrm>
        </p:grpSpPr>
        <p:grpSp>
          <p:nvGrpSpPr>
            <p:cNvPr id="230" name=""/>
            <p:cNvGrpSpPr/>
            <p:nvPr/>
          </p:nvGrpSpPr>
          <p:grpSpPr>
            <a:xfrm>
              <a:off x="4429080" y="3427200"/>
              <a:ext cx="1800000" cy="1223640"/>
              <a:chOff x="4429080" y="3427200"/>
              <a:chExt cx="1800000" cy="1223640"/>
            </a:xfrm>
          </p:grpSpPr>
          <p:sp>
            <p:nvSpPr>
              <p:cNvPr id="231" name=""/>
              <p:cNvSpPr/>
              <p:nvPr/>
            </p:nvSpPr>
            <p:spPr>
              <a:xfrm>
                <a:off x="4429080" y="3427200"/>
                <a:ext cx="180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365440" y="3427200"/>
                <a:ext cx="0" cy="1223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4213080" y="2706840"/>
              <a:ext cx="2521080" cy="69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em stan. nákla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ředisko/výk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2197080" y="3714840"/>
            <a:ext cx="574560" cy="863280"/>
            <a:chOff x="2197080" y="3714840"/>
            <a:chExt cx="574560" cy="863280"/>
          </a:xfrm>
        </p:grpSpPr>
        <p:sp>
          <p:nvSpPr>
            <p:cNvPr id="235" name=""/>
            <p:cNvSpPr/>
            <p:nvPr/>
          </p:nvSpPr>
          <p:spPr>
            <a:xfrm>
              <a:off x="2197080" y="371484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97080" y="3930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97080" y="436248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97080" y="4578120"/>
              <a:ext cx="574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2771640" y="39304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629080" y="46512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237440" y="2490840"/>
            <a:ext cx="1582560" cy="2374920"/>
            <a:chOff x="7237440" y="2490840"/>
            <a:chExt cx="1582560" cy="2374920"/>
          </a:xfrm>
        </p:grpSpPr>
        <p:sp>
          <p:nvSpPr>
            <p:cNvPr id="242" name=""/>
            <p:cNvSpPr/>
            <p:nvPr/>
          </p:nvSpPr>
          <p:spPr>
            <a:xfrm>
              <a:off x="7237440" y="249084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ředběžn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kalkula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ýkon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237440" y="3857760"/>
              <a:ext cx="1582560" cy="1008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ozpoč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áklad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dp. středise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7597800" y="2849400"/>
              <a:ext cx="863640" cy="1657440"/>
              <a:chOff x="7597800" y="2849400"/>
              <a:chExt cx="863640" cy="1657440"/>
            </a:xfrm>
          </p:grpSpPr>
          <p:sp>
            <p:nvSpPr>
              <p:cNvPr id="245" name=""/>
              <p:cNvSpPr/>
              <p:nvPr/>
            </p:nvSpPr>
            <p:spPr>
              <a:xfrm>
                <a:off x="759780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101080" y="3857760"/>
                <a:ext cx="36036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9780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8101080" y="2849400"/>
                <a:ext cx="36036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249" name=""/>
            <p:cNvCxnSpPr>
              <a:stCxn id="247" idx="2"/>
              <a:endCxn id="245" idx="0"/>
            </p:cNvCxnSpPr>
            <p:nvPr/>
          </p:nvCxnSpPr>
          <p:spPr>
            <a:xfrm>
              <a:off x="7778520" y="349848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0" name=""/>
            <p:cNvCxnSpPr>
              <a:stCxn id="246" idx="0"/>
              <a:endCxn id="248" idx="2"/>
            </p:cNvCxnSpPr>
            <p:nvPr/>
          </p:nvCxnSpPr>
          <p:spPr>
            <a:xfrm flipV="1">
              <a:off x="8281440" y="3498120"/>
              <a:ext cx="1080" cy="359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1" name=""/>
          <p:cNvSpPr/>
          <p:nvPr/>
        </p:nvSpPr>
        <p:spPr>
          <a:xfrm>
            <a:off x="3781440" y="4075200"/>
            <a:ext cx="1152360" cy="0"/>
          </a:xfrm>
          <a:prstGeom prst="line">
            <a:avLst/>
          </a:prstGeom>
          <a:ln w="66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653080" y="3859200"/>
            <a:ext cx="7920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(VPC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0" idx="2"/>
            <a:endCxn id="252" idx="2"/>
          </p:cNvCxnSpPr>
          <p:nvPr/>
        </p:nvCxnSpPr>
        <p:spPr>
          <a:xfrm flipH="1" flipV="1" rot="5400000">
            <a:off x="4453560" y="3421440"/>
            <a:ext cx="168840" cy="3024720"/>
          </a:xfrm>
          <a:prstGeom prst="bentConnector3">
            <a:avLst>
              <a:gd name="adj1" fmla="val -135683"/>
            </a:avLst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5724360" y="3571920"/>
            <a:ext cx="2178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41800" y="2994480"/>
            <a:ext cx="1295640" cy="1368000"/>
            <a:chOff x="5941800" y="2994480"/>
            <a:chExt cx="1295640" cy="1368000"/>
          </a:xfrm>
        </p:grpSpPr>
        <p:cxnSp>
          <p:nvCxnSpPr>
            <p:cNvPr id="256" name=""/>
            <p:cNvCxnSpPr>
              <a:stCxn id="243" idx="1"/>
              <a:endCxn id="252" idx="3"/>
            </p:cNvCxnSpPr>
            <p:nvPr/>
          </p:nvCxnSpPr>
          <p:spPr>
            <a:xfrm flipH="1" flipV="1">
              <a:off x="6444720" y="4354200"/>
              <a:ext cx="792720" cy="86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42" idx="1"/>
              <a:endCxn id="254" idx="3"/>
            </p:cNvCxnSpPr>
            <p:nvPr/>
          </p:nvCxnSpPr>
          <p:spPr>
            <a:xfrm flipV="1" rot="10800000">
              <a:off x="5941440" y="2994480"/>
              <a:ext cx="1296000" cy="685080"/>
            </a:xfrm>
            <a:prstGeom prst="bentConnector3">
              <a:avLst>
                <a:gd name="adj1" fmla="val 24979"/>
              </a:avLst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258" name=""/>
          <p:cNvSpPr/>
          <p:nvPr/>
        </p:nvSpPr>
        <p:spPr>
          <a:xfrm>
            <a:off x="2773440" y="213192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Účetnictví pro řízen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5440" y="2635200"/>
            <a:ext cx="1441440" cy="10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Výsledn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alku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42" idx="0"/>
            <a:endCxn id="259" idx="0"/>
          </p:cNvCxnSpPr>
          <p:nvPr/>
        </p:nvCxnSpPr>
        <p:spPr>
          <a:xfrm rot="5400000">
            <a:off x="4465080" y="-929880"/>
            <a:ext cx="144720" cy="6984000"/>
          </a:xfrm>
          <a:prstGeom prst="bentConnector3">
            <a:avLst>
              <a:gd name="adj1" fmla="val -54413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39" idx="1"/>
            <a:endCxn id="259" idx="3"/>
          </p:cNvCxnSpPr>
          <p:nvPr/>
        </p:nvCxnSpPr>
        <p:spPr>
          <a:xfrm rot="10800000">
            <a:off x="1766160" y="3174120"/>
            <a:ext cx="1005480" cy="940680"/>
          </a:xfrm>
          <a:prstGeom prst="bentConnector3">
            <a:avLst>
              <a:gd name="adj1" fmla="val 49892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2052720" y="2060640"/>
            <a:ext cx="4681440" cy="3672000"/>
          </a:xfrm>
          <a:prstGeom prst="rect">
            <a:avLst/>
          </a:prstGeom>
          <a:noFill/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CCE4-EAFD-404E-B7EA-0E9C28466F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0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30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4000"/>
                            </p:stCondLst>
                            <p:childTnLst>
                              <p:par>
                                <p:cTn id="5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0"/>
                            </p:stCondLst>
                            <p:childTnLst>
                              <p:par>
                                <p:cTn id="53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8000"/>
                            </p:stCondLst>
                            <p:childTnLst>
                              <p:par>
                                <p:cTn id="54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50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5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9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6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3000"/>
                            </p:stCondLst>
                            <p:childTnLst>
                              <p:par>
                                <p:cTn id="568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kvantifik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voj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é obdob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stanovený objem a strukturu činnosti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vytvořených a prodaných výkonů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odnik jako cele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 pro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hierarchicky nižší úroveň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zení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středisko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i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předpokládaných změná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procesu tvorby výkonů a prodeje zákazníků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em je tzv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ový rozpoč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Master Budge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výsledovk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et peněžních to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ozpočtová rozvah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FF29-AB81-448D-9B18-329245A95F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 sestavení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sestavení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odnikového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jako nástro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realiz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strategické plány a rozpočty a objektivně existující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dezagregace cíl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nikového rozpočt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na dílčí cíle a úkoly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disko: vymezení pravomoci a odpovědnosti středisek</a:t>
            </a:r>
            <a:r>
              <a:rPr b="1" i="1" lang="cs-C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účinnost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naplnění cílů rozpočtů závisí n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ováza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 ostatními nástroji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motivačním působ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na chování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rozpočet je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formální a neúčinný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kud je pouze „rozpisem“ vrcholových ukazatelů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bez respektování vývoj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odmínek na trhu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 ovlivnitelnosti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úkolů řídicími pracovník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DC204-AB58-4A53-8A60-9D46CAC09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unkce krátkodobých rozpočt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anovují cí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 dané období v návaznosti na strategické cí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izace (naplnění) dlouhodobých rozpočtů s možností reakce na měnící se podmín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ují či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ředisek uvnitř podniku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munikace uvnitř podniku a schopnost předem identifikovat konflikt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tivuj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řídicí pracovníky k dosažení úkolů v souladu s cíli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ůsobení na chování a motivaci řídicích pracovník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sou nástrojem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ntro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kutečného vývoje hodnotových velič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rovnání skutečného průběhu s předem stanovenou výš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možňuj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ěřit výsled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činnosti středisek a řídicích pracovníků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ěření výkonnosti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6DF19-E79D-4142-B899-F2E72254BC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krátkodobých rozpočtů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 časovému obdob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základní období –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eden ro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dělení na 12 měsíců nebo 13 čtyřtýdenních období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zpočty na další čtvrtletí mohou být průběžně zpřesňová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louzavé rozpočt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– průběžná aktualizace rozpočtu (obvykle po čtvrtletích) spojená s doplněním údajů pro další </a:t>
            </a: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navazující čtvrtlet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yhodnocování výsledk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ždy po měsíci nebo po čtyřech týdne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90C44-EF77-411B-BD50-002ADA71E3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s sestavování rozpočt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tým pro sestavení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(tým na úrovni vrcholového řízení složený z řídicích pracovníků ze všech oblastí činnost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ajistit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reálnost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ů a dostatečnou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koordinova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oddělení controlling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zpracová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ostupů a metod sestav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včetně určení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časového harmonogram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estavování;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spolupráce s řídicími pracovníky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při jejich sestavování (poradenská a administrativní funkc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zodpovědnost za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 včasnou příprav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ci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úkoly: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zpracování návrh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rozpočtu střediska (ve spolupráci s oddělením controllingu), jeho </a:t>
            </a:r>
            <a:r>
              <a:rPr b="0" lang="cs-CZ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a případné přepracová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AB8B5-708D-42FD-AB7A-789D061B4E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ové politik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 a základních směrů vývoje  jeho činno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vlivněno změnami v marketingovém mixu a záměry na rozšíření či omezení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podnikové cíle a politik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ymezení faktorů, kter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omezují výkonno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ptávka na trh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apacita podniku a rychlost reakce na změny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říprav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počtu výnos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z prodej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a – plán prodeje a předem stanovené ceny výkon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ovení základní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uktury rozpočtu nákladů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v rozpočtové výsledov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vazuje na strukturu rozpočtu výnosů z prodeje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ýchodisko – členění nákladů na variabilní a fixní s možností jejich stupňovitého členění 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→ FN výkonu, útvaru, správy a řízení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21A7E-1EE0-47C1-B2D4-C19973E4B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7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rvní (výchozí) etapa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řípravy rozpočtů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výchozí přístup – „bottom-up“, tj. proces sestavení postupuje od návrhů nejnižší úrovně řízení ke koordinaci a doladění na vyšších úrovníc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každý řídicí pracovník sestavuje návrh rozpočtu za tu oblast činnosti, za kterou je odpovědný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projednání návrhu rozpočtu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 střediska s hierarchicky vyšším stupněm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92360" y="3860640"/>
            <a:ext cx="2087640" cy="5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Div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47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35640" y="4724280"/>
            <a:ext cx="20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Závod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1600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03640" y="5373720"/>
            <a:ext cx="129564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59640" y="5373720"/>
            <a:ext cx="129528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sek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84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328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6021360"/>
            <a:ext cx="93636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9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67640" y="6021360"/>
            <a:ext cx="93672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Útvar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75" idx="0"/>
            <a:endCxn id="174" idx="2"/>
          </p:cNvCxnSpPr>
          <p:nvPr/>
        </p:nvCxnSpPr>
        <p:spPr>
          <a:xfrm flipV="1">
            <a:off x="2592360" y="4365720"/>
            <a:ext cx="19454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0" name=""/>
          <p:cNvCxnSpPr>
            <a:stCxn id="176" idx="0"/>
            <a:endCxn id="174" idx="2"/>
          </p:cNvCxnSpPr>
          <p:nvPr/>
        </p:nvCxnSpPr>
        <p:spPr>
          <a:xfrm flipH="1" flipV="1">
            <a:off x="4536360" y="4365720"/>
            <a:ext cx="1943640" cy="3589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1" name=""/>
          <p:cNvCxnSpPr>
            <a:stCxn id="177" idx="0"/>
            <a:endCxn id="175" idx="2"/>
          </p:cNvCxnSpPr>
          <p:nvPr/>
        </p:nvCxnSpPr>
        <p:spPr>
          <a:xfrm flipV="1">
            <a:off x="1763640" y="5155920"/>
            <a:ext cx="82944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2" name=""/>
          <p:cNvCxnSpPr>
            <a:stCxn id="178" idx="0"/>
            <a:endCxn id="175" idx="2"/>
          </p:cNvCxnSpPr>
          <p:nvPr/>
        </p:nvCxnSpPr>
        <p:spPr>
          <a:xfrm flipH="1" flipV="1">
            <a:off x="259200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3" name=""/>
          <p:cNvCxnSpPr>
            <a:stCxn id="179" idx="0"/>
            <a:endCxn id="176" idx="2"/>
          </p:cNvCxnSpPr>
          <p:nvPr/>
        </p:nvCxnSpPr>
        <p:spPr>
          <a:xfrm flipV="1">
            <a:off x="5651280" y="5155920"/>
            <a:ext cx="82908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4" name=""/>
          <p:cNvCxnSpPr>
            <a:stCxn id="180" idx="0"/>
            <a:endCxn id="176" idx="2"/>
          </p:cNvCxnSpPr>
          <p:nvPr/>
        </p:nvCxnSpPr>
        <p:spPr>
          <a:xfrm flipH="1" flipV="1">
            <a:off x="6479640" y="5155920"/>
            <a:ext cx="828000" cy="21816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5" name=""/>
          <p:cNvCxnSpPr>
            <a:stCxn id="181" idx="0"/>
            <a:endCxn id="177" idx="2"/>
          </p:cNvCxnSpPr>
          <p:nvPr/>
        </p:nvCxnSpPr>
        <p:spPr>
          <a:xfrm flipV="1">
            <a:off x="936360" y="5805000"/>
            <a:ext cx="82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6" name=""/>
          <p:cNvCxnSpPr>
            <a:stCxn id="182" idx="0"/>
            <a:endCxn id="177" idx="2"/>
          </p:cNvCxnSpPr>
          <p:nvPr/>
        </p:nvCxnSpPr>
        <p:spPr>
          <a:xfrm flipH="1" flipV="1">
            <a:off x="1762920" y="5805000"/>
            <a:ext cx="18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7" name=""/>
          <p:cNvCxnSpPr>
            <a:stCxn id="183" idx="0"/>
            <a:endCxn id="178" idx="2"/>
          </p:cNvCxnSpPr>
          <p:nvPr/>
        </p:nvCxnSpPr>
        <p:spPr>
          <a:xfrm flipV="1">
            <a:off x="2952360" y="5805000"/>
            <a:ext cx="4676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8" name=""/>
          <p:cNvCxnSpPr>
            <a:stCxn id="184" idx="0"/>
            <a:endCxn id="178" idx="2"/>
          </p:cNvCxnSpPr>
          <p:nvPr/>
        </p:nvCxnSpPr>
        <p:spPr>
          <a:xfrm flipH="1" flipV="1">
            <a:off x="3418920" y="5805000"/>
            <a:ext cx="5418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199" name=""/>
          <p:cNvCxnSpPr>
            <a:stCxn id="185" idx="0"/>
            <a:endCxn id="179" idx="2"/>
          </p:cNvCxnSpPr>
          <p:nvPr/>
        </p:nvCxnSpPr>
        <p:spPr>
          <a:xfrm flipV="1">
            <a:off x="5111640" y="5805000"/>
            <a:ext cx="540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0" name=""/>
          <p:cNvCxnSpPr>
            <a:stCxn id="186" idx="0"/>
            <a:endCxn id="179" idx="2"/>
          </p:cNvCxnSpPr>
          <p:nvPr/>
        </p:nvCxnSpPr>
        <p:spPr>
          <a:xfrm flipH="1" flipV="1">
            <a:off x="5651280" y="5805000"/>
            <a:ext cx="46872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1" name=""/>
          <p:cNvCxnSpPr>
            <a:stCxn id="187" idx="0"/>
            <a:endCxn id="180" idx="2"/>
          </p:cNvCxnSpPr>
          <p:nvPr/>
        </p:nvCxnSpPr>
        <p:spPr>
          <a:xfrm flipV="1">
            <a:off x="7128000" y="5805000"/>
            <a:ext cx="18000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cxnSp>
        <p:nvCxnSpPr>
          <p:cNvPr id="202" name=""/>
          <p:cNvCxnSpPr>
            <a:stCxn id="188" idx="0"/>
            <a:endCxn id="180" idx="2"/>
          </p:cNvCxnSpPr>
          <p:nvPr/>
        </p:nvCxnSpPr>
        <p:spPr>
          <a:xfrm flipH="1" flipV="1">
            <a:off x="7306920" y="5805000"/>
            <a:ext cx="829440" cy="216720"/>
          </a:xfrm>
          <a:prstGeom prst="straightConnector1">
            <a:avLst/>
          </a:prstGeom>
          <a:ln w="19080">
            <a:solidFill>
              <a:srgbClr val="ffffff"/>
            </a:solidFill>
            <a:miter/>
            <a:tailEnd len="med" type="stealth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FEB83-29A8-48EE-ACDB-CE7013E556D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2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4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6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8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2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400"/>
                            </p:stCondLst>
                            <p:childTnLst>
                              <p:par>
                                <p:cTn id="2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4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9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3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5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5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8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2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2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tapy sestavován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zpočtové výsledovky III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koordinace a přeprac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ů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 – ověřit vztahy mezi rozpočty z hlediska návaznosti a soulad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řípadný návrh změny rozpočtu by měl předložit pracovník, který sestavoval původní návrh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tapa se může i několikrát opakovat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ečné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řijetí a schvál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ozpočtu středise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elková koordinace završená sestavením rozpočtové výsledovky za podnik jako celek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ozpoč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61E95-C2C1-454A-8308-695D28D4D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NOBODY</cp:lastModifiedBy>
  <dcterms:modified xsi:type="dcterms:W3CDTF">2007-09-04T08:35:35Z</dcterms:modified>
  <cp:revision>7</cp:revision>
  <dc:subject/>
  <dc:title>Snímek 1</dc:title>
</cp:coreProperties>
</file>