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31852-0993-485A-9374-8A6105C10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A747D-7EB9-4359-AD33-1E918C2A3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557CE-8DE9-4617-B654-205DE5FD2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2B8C9-BD5F-4AFE-8573-3D09F72454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5876C-51BB-46C2-94AA-1FF21A03B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D08BD-D207-4365-ADD1-DF269FD9B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1F33D-D37A-47A0-9245-86244034A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FA1B3-DB7C-4D76-BE97-066E73CB5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614A5-489D-4D1E-9D5F-4AC85833E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A4512-6F8E-4D71-ABE9-D47C6D63D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B5AE0-B642-4FFC-AFC5-8C672AF9FA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913B2-A0F1-496B-9599-A350F64CA7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14B7-80AC-4FCC-9AD1-B278D5D1FD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souvislosti vývoje nákladů, výnosů a zisk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průměrné variabilní náklady (v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a průměrná marže (příspěvek k tržbám, pt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eněžní jednotku výnosů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ázáno n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onkrétní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V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19404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de p vyjadřuje předem stanovenou strukturu sortimen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ůměrná marže (příspěvek k tržbám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/ 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1 -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ý zis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CV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Z =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CV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610C1-D27D-4637-90E0-8CD52B3A0E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45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ozlišení nákladů v lineárním modelu pomocí matematickostatických meto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zjištění fixní a variabilní složky nákladů by mělo vycházet z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primárního rozpoznání v kalkulacích, rozpočtech a účetním zobrazení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šak v určitých situacích využít i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lineární model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ke zjištění fixní a variabilní složky nákla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metoda nejmenších čtverc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N = FN + v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k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v =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(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-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N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/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(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r>
              <a:rPr b="0" i="1" lang="cs-CZ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metoda dvou bo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1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88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N2 = FN + v</a:t>
            </a:r>
            <a:r>
              <a:rPr b="0" i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* CV2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utno vycházet z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srovnatelných údajů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 vylouči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eopakující se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nahodilé vliv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A8A06-EF66-41DF-B4ED-F85A1EF6E3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0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00"/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é a nevyužité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fixní náklady se vztahují k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apacitě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, kterou je možné lépe či hůře využí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ité FN odpovídaj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skutečnému využití kapacit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Q</a:t>
            </a:r>
            <a:r>
              <a:rPr b="0" lang="cs-CZ" sz="20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yuž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evyužité FN představují podíl nákladů vztahující se k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evyužité kapacitě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Ne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FN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max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informace významná pro říz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těžnostní form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hospodár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968480" y="4365720"/>
            <a:ext cx="0" cy="1809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68480" y="6175440"/>
            <a:ext cx="47037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6232680" y="4689360"/>
            <a:ext cx="0" cy="14875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51560" y="62704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187280" y="436572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94640" y="4597560"/>
            <a:ext cx="1393560" cy="631800"/>
          </a:xfrm>
          <a:prstGeom prst="borderCallout1">
            <a:avLst>
              <a:gd name="adj1" fmla="val 18750"/>
              <a:gd name="adj2" fmla="val -8333"/>
              <a:gd name="adj3" fmla="val 118842"/>
              <a:gd name="adj4" fmla="val -2801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pacit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me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968480" y="5200560"/>
            <a:ext cx="42642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24480" y="4808520"/>
            <a:ext cx="73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27" idx="0"/>
            <a:endCxn id="233" idx="0"/>
          </p:cNvCxnSpPr>
          <p:nvPr/>
        </p:nvCxnSpPr>
        <p:spPr>
          <a:xfrm flipV="1">
            <a:off x="1968120" y="5216040"/>
            <a:ext cx="4264560" cy="9597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sp>
        <p:nvSpPr>
          <p:cNvPr id="236" name=""/>
          <p:cNvSpPr/>
          <p:nvPr/>
        </p:nvSpPr>
        <p:spPr>
          <a:xfrm>
            <a:off x="5864400" y="6269040"/>
            <a:ext cx="66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79720" y="6270480"/>
            <a:ext cx="66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52005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98960" y="5711760"/>
            <a:ext cx="1440" cy="465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586320" y="5200560"/>
            <a:ext cx="441000" cy="511200"/>
          </a:xfrm>
          <a:custGeom>
            <a:avLst/>
            <a:gdLst>
              <a:gd name="textAreaLeft" fmla="*/ 281880 w 441000"/>
              <a:gd name="textAreaRight" fmla="*/ 441360 w 441000"/>
              <a:gd name="textAreaTop" fmla="*/ 13320 h 511200"/>
              <a:gd name="textAreaBottom" fmla="*/ 497880 h 511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98"/>
                </a:lnTo>
                <a:cubicBezTo>
                  <a:pt x="10800" y="10398"/>
                  <a:pt x="5400" y="11298"/>
                  <a:pt x="0" y="11298"/>
                </a:cubicBezTo>
                <a:cubicBezTo>
                  <a:pt x="5400" y="11298"/>
                  <a:pt x="10800" y="12198"/>
                  <a:pt x="10800" y="1309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336760" y="5342040"/>
            <a:ext cx="11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nevyuž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72040" y="5711760"/>
            <a:ext cx="515880" cy="465120"/>
          </a:xfrm>
          <a:custGeom>
            <a:avLst/>
            <a:gdLst>
              <a:gd name="textAreaLeft" fmla="*/ 0 w 515880"/>
              <a:gd name="textAreaRight" fmla="*/ 186120 w 51588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61000" y="5711760"/>
            <a:ext cx="102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N</a:t>
            </a: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využ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40DA3-E9FC-495B-8AB2-B9661E1198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2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500"/>
                            </p:stCondLst>
                            <p:childTnLst>
                              <p:par>
                                <p:cTn id="5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500"/>
                            </p:stCondLst>
                            <p:childTnLst>
                              <p:par>
                                <p:cTn id="5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35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na variabilní a fixní při řízení zis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v lineárním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c * Q – v * Q – FN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kon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kon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še fix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Q *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– FN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eovlivnitelné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– Z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inimál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dej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+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tanovení maximální výš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ariabilních nákladů na jednot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224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(FN + Z) /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561F6-49D6-4E90-B31A-D09AC4032B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členění náklad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variabilní a fixní při řízení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 nehomogenních výkon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ýchodisko: vyjádření zisku pro nehomogenní výkony při dané struktuř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 = ∑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∑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 = ∑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–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Z = (1 – v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) * CV – FN = pt</a:t>
            </a:r>
            <a:r>
              <a:rPr b="1" i="1" lang="pl-PL" sz="1800" spc="-1" strike="noStrike" baseline="-25000">
                <a:solidFill>
                  <a:srgbClr val="ffffff"/>
                </a:solidFill>
                <a:latin typeface="Arial"/>
              </a:rPr>
              <a:t>jp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CV - F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od zvra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objem výnosů, při kterém se CN = CV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FN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FN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bjem výnosů pro dosaž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žadovaného zis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= (FN + Z) / (1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) = (FN + Z) / p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D633F-AF0C-47AD-89C8-B73A1A6914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0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na variabilní a fix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36280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začátku 20. století jedno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významnějších 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liv na většin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trojů manažerského účetnictv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alkulace, rozpočty, rozhodování o objemu a sortimentu ..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materiál, mzdy výkonných pracovníků, doprava ...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y – zajišťují podmínky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tenciá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činnost v určitém období v rozsahu limitované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pac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len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N z hledis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žnost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volané způsobem zajištění činnosti (obsluha a řízení)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částečně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ené rozhodnutím podniku (propagace, výzkum, vzdělávání ...) → vysoce ovlivniteln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avidelně vynakládané v určité výši (časové odpisy, nájemné) → obtížná ovlivnitel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B9E17-BAD3-4ECF-A68F-0E1A96F5AA8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lišení variabilních a fix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mnoha případech obtížné, vyplývá z odpovědí na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pakovaně vkládan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měnícím se množstvím výkonů, či o náklady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tenci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á se o náklady vyvola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či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čas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variabil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jednotce výkon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ávce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 vztahu k dennímu, týdennímu, měsíčnímu, ročnímu ...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liš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visí na potřebách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působ řízení a stanovení úkolu (normy, normativy, lim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znamnost nákladové po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E28E9-DF70-4A6B-98E5-C1B2EC32DB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 model nákladů a výnos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znamný nástroj pro vyjádř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e nákladů a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Ú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v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levantním rozpě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aková část nelineárního průběhu nákladu, ve které se variabilní náklady nejvíce přibližují proporcionálnímu vývoji a fixní náklady jsou konstant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k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ákladní tendenci vývo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á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ovídá analýz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ě vynaložených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minulých období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způsob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ení nákladového úkol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lš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43BC6-D6AA-4EB9-8B30-17EA1547E0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edpoklady 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í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žitnými vlastnostmi a kvalit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em stanoven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en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dávaného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ělené na variabilní a fix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xní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konstantní výš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t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na 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ál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echnologie, produktivita prá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last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86881-BAD9-45CC-829D-E60CA91CEF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rametry a formální vyjádře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neárního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arametry mode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bjem výkonů v naturálním vyjádření (Q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rodejní cena na jednotku výkonů (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ariabilní náklady na jednotku (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 výše fixních nákladů na vymezené období (FN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ýnos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Q +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47CDA-681B-408D-B747-98E07A1BAF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lineárního model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celkové veliči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916360" y="1700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2916360" y="6093000"/>
            <a:ext cx="4394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32000" y="1700280"/>
            <a:ext cx="1439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, VN, FN, 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16360" y="6165720"/>
            <a:ext cx="360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vantní rozpě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43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1916280"/>
            <a:ext cx="0" cy="43941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16360" y="5227560"/>
            <a:ext cx="4394160" cy="18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915640" y="1217160"/>
            <a:ext cx="4281480" cy="4870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42920" y="4308840"/>
            <a:ext cx="1247040" cy="75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643640" y="3453840"/>
            <a:ext cx="1220760" cy="7585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652640" y="2793960"/>
            <a:ext cx="1182600" cy="1293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0360" y="2590920"/>
            <a:ext cx="266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V = 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43280" y="522936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324000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N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 + 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0360" y="4176720"/>
            <a:ext cx="26640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N = v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* 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4968720"/>
            <a:ext cx="26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88000" y="6165720"/>
            <a:ext cx="863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628200">
            <a:off x="3276360" y="1843200"/>
            <a:ext cx="3627360" cy="460188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628200">
            <a:off x="3320640" y="987480"/>
            <a:ext cx="3627360" cy="4602240"/>
          </a:xfrm>
          <a:custGeom>
            <a:avLst/>
            <a:gdLst/>
            <a:ahLst/>
            <a:rect l="l" t="t" r="r" b="b"/>
            <a:pathLst>
              <a:path w="2540" h="2147">
                <a:moveTo>
                  <a:pt x="0" y="2147"/>
                </a:moveTo>
                <a:cubicBezTo>
                  <a:pt x="90" y="2015"/>
                  <a:pt x="181" y="1883"/>
                  <a:pt x="453" y="1739"/>
                </a:cubicBezTo>
                <a:cubicBezTo>
                  <a:pt x="725" y="1595"/>
                  <a:pt x="1308" y="1542"/>
                  <a:pt x="1633" y="1285"/>
                </a:cubicBezTo>
                <a:cubicBezTo>
                  <a:pt x="1958" y="1028"/>
                  <a:pt x="2268" y="394"/>
                  <a:pt x="2404" y="197"/>
                </a:cubicBezTo>
                <a:cubicBezTo>
                  <a:pt x="2540" y="0"/>
                  <a:pt x="2494" y="53"/>
                  <a:pt x="2449" y="106"/>
                </a:cubicBezTo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6905B-F88C-42FC-9F3D-951423424AE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6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že a zisk 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rž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příspěvek na úhradu fixních nákladů a tvorbu zis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kritérium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řízení zis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, rozhodování 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optimální struktuř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výkonů atd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jednot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el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CM = CV – VN =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Q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zis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celkov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V – VN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cj * Q – v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  <a:ea typeface="Arial"/>
              </a:rPr>
              <a:t>Z = mj * Q – F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83BA5-98AF-499C-A3F9-FCE3307660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afické vyjádření vývoje marže a zisk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lineárním mode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11600" y="2349360"/>
            <a:ext cx="604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10160" y="5083200"/>
            <a:ext cx="4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2133720"/>
            <a:ext cx="598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9040" y="4938840"/>
            <a:ext cx="368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689040" y="2276280"/>
            <a:ext cx="3019320" cy="2662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84360" y="4076280"/>
            <a:ext cx="3087720" cy="86508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11600" y="4149720"/>
            <a:ext cx="4698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368440" y="3430440"/>
            <a:ext cx="843120" cy="70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MARŽE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9228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36040" y="2349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36040" y="508320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70440" y="2133720"/>
            <a:ext cx="102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, N,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68800" y="4938840"/>
            <a:ext cx="395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068800" y="2133720"/>
            <a:ext cx="3606840" cy="28065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076720" y="3068640"/>
            <a:ext cx="3672000" cy="936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36040" y="3132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23080" y="3573360"/>
            <a:ext cx="0" cy="1368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 rot="21183600">
            <a:off x="5095800" y="3789360"/>
            <a:ext cx="102888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ZTRÁTA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 rot="681600">
            <a:off x="7975080" y="2491920"/>
            <a:ext cx="60012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ZISK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5067360" y="494172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095800" y="4941360"/>
            <a:ext cx="1708200" cy="7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3748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51800" y="5013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76640"/>
            <a:ext cx="2952720" cy="2665080"/>
          </a:xfrm>
          <a:custGeom>
            <a:avLst/>
            <a:gdLst/>
            <a:ahLst/>
            <a:rect l="l" t="t" r="r" b="b"/>
            <a:pathLst>
              <a:path w="1860" h="1679">
                <a:moveTo>
                  <a:pt x="0" y="1679"/>
                </a:moveTo>
                <a:lnTo>
                  <a:pt x="1860" y="1134"/>
                </a:lnTo>
                <a:lnTo>
                  <a:pt x="1860" y="0"/>
                </a:lnTo>
                <a:lnTo>
                  <a:pt x="0" y="1633"/>
                </a:lnTo>
                <a:lnTo>
                  <a:pt x="0" y="1679"/>
                </a:lnTo>
                <a:close/>
              </a:path>
            </a:pathLst>
          </a:cu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065560" y="206028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76720" y="35733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0800000">
            <a:off x="6948360" y="2131560"/>
            <a:ext cx="1727280" cy="1368360"/>
          </a:xfrm>
          <a:custGeom>
            <a:avLst/>
            <a:gdLst/>
            <a:ahLst/>
            <a:rect l="l" t="t" r="r" b="b"/>
            <a:pathLst>
              <a:path w="1088" h="862">
                <a:moveTo>
                  <a:pt x="0" y="862"/>
                </a:moveTo>
                <a:lnTo>
                  <a:pt x="1088" y="0"/>
                </a:lnTo>
                <a:lnTo>
                  <a:pt x="0" y="272"/>
                </a:lnTo>
                <a:lnTo>
                  <a:pt x="0" y="862"/>
                </a:lnTo>
                <a:close/>
              </a:path>
            </a:pathLst>
          </a:custGeom>
          <a:solidFill>
            <a:srgbClr val="66ff33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04000" y="4149720"/>
            <a:ext cx="1708200" cy="79056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ývoj nákladů, výnosů a zisk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0BEE7-A7B6-4B93-BD81-346BF04E7E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80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09Z</dcterms:modified>
  <cp:revision>13</cp:revision>
  <dc:subject/>
  <dc:title>Snímek 1</dc:title>
</cp:coreProperties>
</file>