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2353B-0397-4898-9D51-C6DC654F8A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95881-02F0-406C-85F2-43E108489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B93D9-F963-4FF3-AFFC-685F64547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5F0E9-2A67-4FF8-AF49-DD49F19977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C9E86-CC1F-460F-A681-FC8D8126E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AC70E-AC31-42AA-9A83-5EA5F6E7DD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712DE-9ED4-44E1-B3EC-ECDA3CE86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99EED-17D2-4153-A9B5-0D9A85ECD2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A930A-7EEE-4468-BA3C-9B86D7FB6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52CB9-3F3C-4657-AB45-608A32E4B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C702E-FBC8-41EC-B164-3042D7AAE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12965-5BD4-44DF-983E-A93C5510D5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spcAft>
                <a:spcPts val="499"/>
              </a:spcAft>
              <a:buSzPct val="11108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1"/>
          </p:nvPr>
        </p:nvSpPr>
        <p:spPr>
          <a:xfrm>
            <a:off x="468000" y="6248520"/>
            <a:ext cx="555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65EE-0193-4DF1-A041-2B608FFB1EA8}" type="slidenum"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Vztah finančního, nákladového a manažerského účetnictví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manažerského a nákladov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413000"/>
          <a:ext cx="8569080" cy="5316480"/>
        </p:xfrm>
        <a:graphic>
          <a:graphicData uri="http://schemas.openxmlformats.org/drawingml/2006/table">
            <a:tbl>
              <a:tblPr/>
              <a:tblGrid>
                <a:gridCol w="4282920"/>
                <a:gridCol w="4286160"/>
              </a:tblGrid>
              <a:tr h="58500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ystém účetních informací pro řízení a rozhodování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Nákladové účetnictví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podnikat.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u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o jehož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arametrech již bylo rozhodnuto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Manažerské účetnictví  </a:t>
                      </a:r>
                      <a:r>
                        <a:rPr b="1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účetnictví pro </a:t>
                      </a: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hodování</a:t>
                      </a:r>
                      <a:r>
                        <a:rPr b="0" i="1" lang="en-US" sz="16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 budoucích alternativách činnost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4604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operativní řízení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v bezprostřední návaznosti na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taktické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      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plán, porovnání se skutečností, běžná a preventivní kontrol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ariantní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na existující kapacitě a o budoucí kapacitě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po linii útvarů,  výkonů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roces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mplexní informace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rcholové řízení a rozhodován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ejména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hospodárnosti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Řízení zejména účinnosti a efektivnost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9740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vyhodnocení  vlivu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měn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 objemu a  sortimentu  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ýkonů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dod. na tr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nformace pro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zásadní změny činnosti</a:t>
                      </a:r>
                      <a:r>
                        <a:rPr b="0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strategický marketing, výzkum a vývoj, investiční   rozhodování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0680">
                <a:tc gridSpan="2"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odnikové rozpočty  -  </a:t>
                      </a: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Rozpočtová výsledovka, rozvaha, rozpočet peněžních tok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932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ztah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ho rozpočt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ových rozpočtů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ředisek,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kalkulačního systému</a:t>
                      </a: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cs-CZ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vnitropodnik. c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9900"/>
                          </a:solidFill>
                          <a:latin typeface="Times New Roman"/>
                          <a:ea typeface="Times New Roman"/>
                        </a:rPr>
                        <a:t>Podnikové střednědobé a dlouhodobé rozpoč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FAAB9-ECAC-4807-BCA9-F4B58AECFC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ční zajištění řídicího cykl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68360" y="155736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LÁNOVÁ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tanovit cí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rčit požadova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2851200"/>
            <a:ext cx="3238560" cy="915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RGAN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adat úk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tivov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6920" y="5176800"/>
            <a:ext cx="3238560" cy="98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KONTRO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zjistit skutečné hodno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orovnat skutečnost a plá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66920" y="4148280"/>
            <a:ext cx="3238560" cy="64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REALIZ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rovést/ vykon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7" idx="2"/>
            <a:endCxn id="239" idx="0"/>
          </p:cNvCxnSpPr>
          <p:nvPr/>
        </p:nvCxnSpPr>
        <p:spPr>
          <a:xfrm flipH="1">
            <a:off x="3885840" y="3766680"/>
            <a:ext cx="2160" cy="381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6" idx="2"/>
            <a:endCxn id="237" idx="0"/>
          </p:cNvCxnSpPr>
          <p:nvPr/>
        </p:nvCxnSpPr>
        <p:spPr>
          <a:xfrm>
            <a:off x="3887280" y="2473200"/>
            <a:ext cx="1080" cy="378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2" name=""/>
          <p:cNvCxnSpPr>
            <a:stCxn id="239" idx="2"/>
            <a:endCxn id="238" idx="0"/>
          </p:cNvCxnSpPr>
          <p:nvPr/>
        </p:nvCxnSpPr>
        <p:spPr>
          <a:xfrm>
            <a:off x="3885840" y="4795920"/>
            <a:ext cx="108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38" idx="1"/>
            <a:endCxn id="236" idx="1"/>
          </p:cNvCxnSpPr>
          <p:nvPr/>
        </p:nvCxnSpPr>
        <p:spPr>
          <a:xfrm flipH="1" rot="10800000">
            <a:off x="2266560" y="2015280"/>
            <a:ext cx="2160" cy="3655440"/>
          </a:xfrm>
          <a:prstGeom prst="bentConnector3">
            <a:avLst>
              <a:gd name="adj1" fmla="val -1440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724360" y="2781360"/>
            <a:ext cx="576360" cy="3456000"/>
          </a:xfrm>
          <a:custGeom>
            <a:avLst/>
            <a:gdLst>
              <a:gd name="textAreaLeft" fmla="*/ 0 w 576360"/>
              <a:gd name="textAreaRight" fmla="*/ 208080 w 576360"/>
              <a:gd name="textAreaTop" fmla="*/ 90000 h 3456000"/>
              <a:gd name="textAreaBottom" fmla="*/ 3366000 h 345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2924280"/>
            <a:ext cx="433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48360" y="1557360"/>
            <a:ext cx="576360" cy="4751280"/>
          </a:xfrm>
          <a:custGeom>
            <a:avLst/>
            <a:gdLst>
              <a:gd name="textAreaLeft" fmla="*/ 0 w 576360"/>
              <a:gd name="textAreaRight" fmla="*/ 208080 w 576360"/>
              <a:gd name="textAreaTop" fmla="*/ 123840 h 4751280"/>
              <a:gd name="textAreaBottom" fmla="*/ 462744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12000" y="2276640"/>
            <a:ext cx="433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0" bIns="10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EBE0F-A300-4266-BAE8-A28AA9168E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4500"/>
                            </p:stCondLst>
                            <p:childTnLst>
                              <p:par>
                                <p:cTn id="42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manažerského účetnictví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a controlling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historicky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anglosaské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ing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od 70. let rozvoj v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germanofonní oblast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četnictví historicky spojováno se zobrazením skutečnosti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úloha účetnictví pro manažery – pouze analytické členění nákladů a výnosů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controlling =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metoda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informační podpora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funkce manažerského účetnictví) je součástí funkcí controllingu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ffff"/>
                </a:solidFill>
                <a:latin typeface="Arial"/>
              </a:rPr>
              <a:t>orientuje se nejen na hodnotové řízení (</a:t>
            </a:r>
            <a:r>
              <a:rPr b="0" i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→ finanční a nákladový controlling), ale i na věcnou stránku řízení (→ naturální controlling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v praxi –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ingové oddělení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 (→ </a:t>
            </a:r>
            <a:r>
              <a:rPr b="1" lang="cs-CZ" sz="2000" spc="-1" strike="noStrike">
                <a:solidFill>
                  <a:srgbClr val="ff9900"/>
                </a:solidFill>
                <a:latin typeface="Arial"/>
                <a:ea typeface="Arial"/>
              </a:rPr>
              <a:t>controller</a:t>
            </a:r>
            <a:r>
              <a:rPr b="0" lang="cs-CZ" sz="20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515A2-0BE4-4351-B73F-3E722CF5154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ffff"/>
                </a:solidFill>
                <a:latin typeface="Arial"/>
              </a:rPr>
              <a:t>Vztah controllera a řídicího pracovník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CONTROLL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podklady pro plánování a rozhodová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informuje o odchylká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uje metodiku kalkulací, rozpočtování, systém kalkulací a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informuje o změnách v okol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je poradce management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9900"/>
                </a:solidFill>
                <a:latin typeface="Arial"/>
              </a:rPr>
              <a:t>ŘÍDICÍ PRACOVNÍ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lánuje, rozhodu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reaguje na zjištěné odchylk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osazuje a využívá informace připravených systémů kalkulací, rozpočt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reaguje, aby udržel dlouho-dobou rovnováhu s okolí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akceptuje controlling v procesu řízení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02CD-D83C-496F-9C12-4C377400637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400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600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7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8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95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 je účetnictví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uspořádan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ysté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informac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který v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eněžním vyjádř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zobrazuje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odnikatelský proce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hodnotovou stránku podnikatelského procesu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odelové zobrazení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real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ncipy a metody účetního zobrazení, „rozpoznání“ podstaty hospodářských transakcí, pravidla jejich ocenění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ástroj komplexního měř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pozic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ýkonnost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měny ve finanční pozic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BBEBA-BE18-4A68-A5F9-D4C9D80539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ční pozice, výkonnost a změn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e finanční situaci v účetních výkaze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247840" y="2509920"/>
            <a:ext cx="4469040" cy="3022560"/>
            <a:chOff x="2247840" y="2509920"/>
            <a:chExt cx="4469040" cy="3022560"/>
          </a:xfrm>
        </p:grpSpPr>
        <p:sp>
          <p:nvSpPr>
            <p:cNvPr id="164" name=""/>
            <p:cNvSpPr/>
            <p:nvPr/>
          </p:nvSpPr>
          <p:spPr>
            <a:xfrm>
              <a:off x="22478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AKT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louh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Krátkodobá aktiv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Zásob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hledávk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prostředky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ff9900"/>
                  </a:solidFill>
                  <a:latin typeface="Arial"/>
                </a:rPr>
                <a:t>peněžní ekvivalent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1640" y="2509920"/>
              <a:ext cx="2235240" cy="3022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1" lang="cs-CZ" sz="1900" spc="-1" strike="noStrike">
                  <a:solidFill>
                    <a:srgbClr val="ffffff"/>
                  </a:solidFill>
                  <a:latin typeface="Arial"/>
                </a:rPr>
                <a:t>PASIVA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Vlastn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Základní kapitá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ffff"/>
                  </a:solidFill>
                  <a:latin typeface="Arial"/>
                </a:rPr>
                <a:t>Kapitálové fond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   </a:t>
              </a:r>
              <a:r>
                <a:rPr b="1" lang="cs-CZ" sz="1600" spc="-1" strike="noStrike">
                  <a:solidFill>
                    <a:srgbClr val="ff9900"/>
                  </a:solidFill>
                  <a:latin typeface="Arial"/>
                </a:rPr>
                <a:t>Hospodářský výsl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ffffff"/>
                  </a:solidFill>
                  <a:latin typeface="Arial"/>
                </a:rPr>
                <a:t>Cizí kapitá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320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52920" y="2870280"/>
            <a:ext cx="208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74760" y="1844640"/>
            <a:ext cx="4608720" cy="37609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ZVAH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4957920"/>
            <a:ext cx="1584360" cy="93636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KAZ PENĚŽNÍCH TOK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89920" y="3517920"/>
            <a:ext cx="1800000" cy="936720"/>
          </a:xfrm>
          <a:prstGeom prst="rect">
            <a:avLst/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LEDOV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834920" y="5318280"/>
            <a:ext cx="215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877080" y="4021200"/>
            <a:ext cx="216000" cy="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DE234-D6FB-48BD-9722-4E47C908A4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2997360"/>
            <a:ext cx="3024000" cy="15127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DNIKATELSK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1268280"/>
            <a:ext cx="1656000" cy="64800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ÁKAZ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141300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KONKUR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206064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ĚŘI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220500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LAST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1341360"/>
            <a:ext cx="1655640" cy="792360"/>
          </a:xfrm>
          <a:prstGeom prst="wedgeRoundRectCallout">
            <a:avLst>
              <a:gd name="adj1" fmla="val -51726"/>
              <a:gd name="adj2" fmla="val 78856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5023440" y="2227680"/>
            <a:ext cx="608040" cy="64800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8000"/>
              <a:gd name="textAreaBottom" fmla="*/ 4896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797360"/>
            <a:ext cx="165600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IN. ÚŘ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5518080"/>
            <a:ext cx="165564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ČS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4360" y="4654440"/>
            <a:ext cx="2808000" cy="165600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24360" y="5013360"/>
            <a:ext cx="1655640" cy="792000"/>
          </a:xfrm>
          <a:prstGeom prst="wedgeRoundRectCallout">
            <a:avLst>
              <a:gd name="adj1" fmla="val -67449"/>
              <a:gd name="adj2" fmla="val 44791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STÁ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75640" y="4005360"/>
            <a:ext cx="1655640" cy="10094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ŘÍDI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ACOVNÍ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3789360"/>
            <a:ext cx="2374920" cy="15843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77080" y="5661000"/>
            <a:ext cx="1576440" cy="865080"/>
          </a:xfrm>
          <a:prstGeom prst="wedgeRoundRectCallout">
            <a:avLst>
              <a:gd name="adj1" fmla="val -44763"/>
              <a:gd name="adj2" fmla="val -63759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Stamp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20090400">
            <a:off x="2646360" y="384156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2879600">
            <a:off x="5886000" y="4345920"/>
            <a:ext cx="608040" cy="647640"/>
          </a:xfrm>
          <a:custGeom>
            <a:avLst/>
            <a:gdLst>
              <a:gd name="textAreaLeft" fmla="*/ 88560 w 608040"/>
              <a:gd name="textAreaRight" fmla="*/ 519480 w 608040"/>
              <a:gd name="textAreaTop" fmla="*/ 158400 h 647640"/>
              <a:gd name="textAreaBottom" fmla="*/ 4896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5280"/>
                </a:moveTo>
                <a:lnTo>
                  <a:pt x="15443" y="5280"/>
                </a:lnTo>
                <a:lnTo>
                  <a:pt x="15443" y="0"/>
                </a:lnTo>
                <a:lnTo>
                  <a:pt x="21600" y="10800"/>
                </a:lnTo>
                <a:lnTo>
                  <a:pt x="15443" y="21600"/>
                </a:lnTo>
                <a:lnTo>
                  <a:pt x="15443" y="16320"/>
                </a:lnTo>
                <a:lnTo>
                  <a:pt x="0" y="16320"/>
                </a:lnTo>
                <a:lnTo>
                  <a:pt x="3147" y="10800"/>
                </a:lnTo>
                <a:lnTo>
                  <a:pt x="0" y="528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2852640"/>
            <a:ext cx="1800360" cy="647640"/>
          </a:xfrm>
          <a:prstGeom prst="horizontalScrol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ZAMĚSTNANC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125360"/>
            <a:ext cx="4105080" cy="2590920"/>
          </a:xfrm>
          <a:custGeom>
            <a:avLst/>
            <a:gdLst/>
            <a:ahLst/>
            <a:rect l="l" t="t" r="r" b="b"/>
            <a:pathLst>
              <a:path w="2586" h="1632">
                <a:moveTo>
                  <a:pt x="2586" y="0"/>
                </a:moveTo>
                <a:lnTo>
                  <a:pt x="0" y="0"/>
                </a:lnTo>
                <a:lnTo>
                  <a:pt x="0" y="1632"/>
                </a:lnTo>
                <a:lnTo>
                  <a:pt x="1225" y="1632"/>
                </a:lnTo>
                <a:lnTo>
                  <a:pt x="2586" y="1088"/>
                </a:lnTo>
                <a:lnTo>
                  <a:pt x="2586" y="0"/>
                </a:lnTo>
                <a:close/>
              </a:path>
            </a:pathLst>
          </a:custGeom>
          <a:noFill/>
          <a:ln cap="rnd" w="9360">
            <a:solidFill>
              <a:srgbClr val="ffff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1A580-FCAB-410F-AE26-B8CA9FD46B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95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4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živatelé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informační potřeb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42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kupiny uživatelů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řeší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rozhodovací úloh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pro které potřebu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inform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a proto maj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ůzné požadavky n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obraze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v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16640" y="1841400"/>
            <a:ext cx="2160720" cy="36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 KOH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OČ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C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Wingdings"/>
                <a:ea typeface="Wingdings"/>
              </a:rPr>
              <a:t>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JA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AF7D5-8B75-45C7-AD20-979A9BBF18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systémy účetních informací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jejich uživatelé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ř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základ daně z příjmu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56220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finanční stabilita a výkonno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3480" y="1557360"/>
            <a:ext cx="216072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Interní uživatel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9900"/>
                </a:solidFill>
                <a:latin typeface="Arial"/>
              </a:rPr>
              <a:t>(hodnotové řízení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40000" y="2637000"/>
            <a:ext cx="4608360" cy="223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108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Odlišné požadavky n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jetí (vymezení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eně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uktu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aktiv, vlastního kapitálu, závazků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nákladů, výnosů, zisku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příjmů a výdajů</a:t>
            </a: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100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ŇOV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EVIDE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346560" y="5157720"/>
            <a:ext cx="259236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ANČNÍ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13320" y="5157720"/>
            <a:ext cx="2592720" cy="10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196" idx="2"/>
            <a:endCxn id="199" idx="0"/>
          </p:cNvCxnSpPr>
          <p:nvPr/>
        </p:nvCxnSpPr>
        <p:spPr>
          <a:xfrm>
            <a:off x="1620360" y="2276280"/>
            <a:ext cx="302508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4" name=""/>
          <p:cNvCxnSpPr>
            <a:stCxn id="197" idx="2"/>
            <a:endCxn id="199" idx="0"/>
          </p:cNvCxnSpPr>
          <p:nvPr/>
        </p:nvCxnSpPr>
        <p:spPr>
          <a:xfrm>
            <a:off x="4642920" y="2276280"/>
            <a:ext cx="252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5" name=""/>
          <p:cNvCxnSpPr>
            <a:stCxn id="198" idx="2"/>
            <a:endCxn id="199" idx="0"/>
          </p:cNvCxnSpPr>
          <p:nvPr/>
        </p:nvCxnSpPr>
        <p:spPr>
          <a:xfrm flipH="1">
            <a:off x="4644360" y="2276280"/>
            <a:ext cx="2950200" cy="36108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6" name=""/>
          <p:cNvCxnSpPr>
            <a:stCxn id="199" idx="2"/>
            <a:endCxn id="200" idx="0"/>
          </p:cNvCxnSpPr>
          <p:nvPr/>
        </p:nvCxnSpPr>
        <p:spPr>
          <a:xfrm flipH="1">
            <a:off x="1647360" y="4869000"/>
            <a:ext cx="299808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7" name=""/>
          <p:cNvCxnSpPr>
            <a:stCxn id="199" idx="2"/>
            <a:endCxn id="201" idx="0"/>
          </p:cNvCxnSpPr>
          <p:nvPr/>
        </p:nvCxnSpPr>
        <p:spPr>
          <a:xfrm flipH="1">
            <a:off x="4642560" y="4869000"/>
            <a:ext cx="252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cxnSp>
        <p:nvCxnSpPr>
          <p:cNvPr id="208" name=""/>
          <p:cNvCxnSpPr>
            <a:stCxn id="199" idx="2"/>
            <a:endCxn id="202" idx="0"/>
          </p:cNvCxnSpPr>
          <p:nvPr/>
        </p:nvCxnSpPr>
        <p:spPr>
          <a:xfrm>
            <a:off x="4644720" y="4869000"/>
            <a:ext cx="2966040" cy="289440"/>
          </a:xfrm>
          <a:prstGeom prst="straightConnector1">
            <a:avLst/>
          </a:prstGeom>
          <a:ln w="31680">
            <a:solidFill>
              <a:srgbClr val="ffffff"/>
            </a:solidFill>
            <a:miter/>
            <a:tailEnd len="lg" type="stealth" w="lg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6120A-A3B1-434F-A20E-9AF54EB97A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ztah finančního a 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FINANČNÍ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ference stabilního vývoj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držování pravidel zabezpečuje spolehlivé a srovnatel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tetick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ce na výsledky dosažené v minulosti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vykazované v pravidelných intervalec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ýstupy (výkazy) veřejně přístupné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ritické informace o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cifické informace podle potřeb managementu umožňující aktivně měnit chování podnik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alytický pohled na podni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ovnání skutečnosti s předem stanoveným vývoj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ce s minimálním zpožděním za skutečným průběhe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spcAft>
                <a:spcPts val="451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tajené inform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6817A-401B-4DB1-AF1C-FC6ECD1699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Činnosti podniku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lavní výdělečná činno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transformace vynaložených zdrojů na výstupy (výkony)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656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běť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256536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STUP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prospě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76720" y="2536920"/>
            <a:ext cx="2663640" cy="71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214" idx="6"/>
            <a:endCxn id="216" idx="1"/>
          </p:cNvCxnSpPr>
          <p:nvPr/>
        </p:nvCxnSpPr>
        <p:spPr>
          <a:xfrm>
            <a:off x="2914560" y="28893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6" idx="3"/>
            <a:endCxn id="215" idx="2"/>
          </p:cNvCxnSpPr>
          <p:nvPr/>
        </p:nvCxnSpPr>
        <p:spPr>
          <a:xfrm flipV="1">
            <a:off x="5940360" y="288900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46656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ÁKLA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27640" y="3529080"/>
            <a:ext cx="244800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ÝNO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350028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2" name=""/>
          <p:cNvCxnSpPr>
            <a:stCxn id="219" idx="6"/>
            <a:endCxn id="221" idx="1"/>
          </p:cNvCxnSpPr>
          <p:nvPr/>
        </p:nvCxnSpPr>
        <p:spPr>
          <a:xfrm>
            <a:off x="2914560" y="385272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1" idx="3"/>
            <a:endCxn id="220" idx="2"/>
          </p:cNvCxnSpPr>
          <p:nvPr/>
        </p:nvCxnSpPr>
        <p:spPr>
          <a:xfrm flipV="1">
            <a:off x="5940360" y="3852360"/>
            <a:ext cx="28800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455760" y="4508640"/>
            <a:ext cx="82296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anční a investiční činn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dstatou je zhodnocení zdrojů poskytnutím 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668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DRO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97760" y="5402160"/>
            <a:ext cx="2447640" cy="64764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DMĚ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6480" y="5373720"/>
            <a:ext cx="2663640" cy="7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KYTNUT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PITÁL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8" name=""/>
          <p:cNvCxnSpPr>
            <a:stCxn id="225" idx="6"/>
            <a:endCxn id="227" idx="1"/>
          </p:cNvCxnSpPr>
          <p:nvPr/>
        </p:nvCxnSpPr>
        <p:spPr>
          <a:xfrm>
            <a:off x="2884320" y="5726160"/>
            <a:ext cx="36252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9" name=""/>
          <p:cNvCxnSpPr>
            <a:stCxn id="227" idx="3"/>
            <a:endCxn id="226" idx="2"/>
          </p:cNvCxnSpPr>
          <p:nvPr/>
        </p:nvCxnSpPr>
        <p:spPr>
          <a:xfrm flipV="1">
            <a:off x="5909760" y="5725800"/>
            <a:ext cx="288360" cy="8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5867280" y="1125360"/>
            <a:ext cx="3025800" cy="719280"/>
          </a:xfrm>
          <a:prstGeom prst="wedgeRoundRectCallout">
            <a:avLst>
              <a:gd name="adj1" fmla="val -43754"/>
              <a:gd name="adj2" fmla="val 66115"/>
              <a:gd name="adj3" fmla="val 16667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MANAŽERSKÉ ÚČETNICTV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B5762-7285-4062-8497-C01F4DE712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8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44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0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íle, obsah a struktura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ažerského účetnictví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l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zjišťová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třídě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nalýz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rezenta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vykázání) informací;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 to takovým způsobem, který umožní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9900"/>
                </a:solidFill>
                <a:latin typeface="Arial"/>
              </a:rPr>
              <a:t>řídicím pracovníkům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ílevědomě ovládat podnikatelskou činnost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ah: závisí na hierarchii a návaznosti cílů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strategického, taktického a operativního řízen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spcAft>
                <a:spcPts val="499"/>
              </a:spcAft>
              <a:buClr>
                <a:srgbClr val="86d1e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systém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řízen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odnikatelského procesu, o jehož parametrech bylo již v zásadě rozhodnuto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nákladové účetnictví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25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účetní informace pro rozhodován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taktické a strategické) o variantách budoucího vývoje podnikatelského proces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  <a:ea typeface="Arial"/>
              </a:rPr>
              <a:t>manažerské účetnictví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v užším pojetí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ztah FU, NU a M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1DA01-3DC2-407F-BB71-57DC98AA3A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7T06:41:02Z</dcterms:created>
  <dc:creator>NOBODY</dc:creator>
  <dc:description/>
  <dc:language>en-US</dc:language>
  <cp:lastModifiedBy>mensikm</cp:lastModifiedBy>
  <dcterms:modified xsi:type="dcterms:W3CDTF">2009-10-21T09:11:15Z</dcterms:modified>
  <cp:revision>16</cp:revision>
  <dc:subject/>
  <dc:title>Snímek 1</dc:title>
</cp:coreProperties>
</file>