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3ADD2-31A8-49D0-B8F5-D2F85BFA6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A154-CC9D-44AE-B362-2F85C8329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A575-A4BC-4FB7-AAA7-7616793E2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BCA2-1981-42FF-9736-F912C7942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10F8-F497-48B9-B8DB-DE9768D2F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4C4A-91C3-4190-A719-17F49126D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F02FD-A672-40CA-8173-B46B61ADCB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0D40-C464-4242-B3CA-2E5FF6585D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B8631-B9B1-49DD-9CA4-ED1CA6892E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92F2-633E-48ED-B896-35CF54F1A1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B3860-0805-46D3-995D-4E9571112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C13B-5A4F-41B3-B351-67004843B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D815-D70F-4D76-AA98-DACCBE86551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ozpoznání a zobrazení vztahů mezi útvary a pojetí výnosů v 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 interních výkonů v předem stanovených náklad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zniká interní náklad (odebírajícímu útvaru)/ interní výnos (předávajícímu útvaru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interní kritérium uznání racionality vynaložených nákladů a prospěchu útvaru pro celopodnikové výsled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042920" y="3716280"/>
          <a:ext cx="7345440" cy="28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1042920" y="3716280"/>
                    <a:ext cx="734544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6E91-27F1-49E6-87AB-EF0FD99500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zúčtování interních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jednoznačn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ymezitelnost, změřitelnost a ocenite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edem stanovené oceně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pro konkrét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nitropodniková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ebírající útvar rozhoduje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, kvalitě a času předá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otivace k úsporám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dání výkonu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nos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dodávajícího útvaru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nitelným nákladem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edávajícíh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CCF0-95B2-4628-905F-4E1EB32A00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ředem stanove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 zobrazení v předem stanovených náklade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děl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měři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nos vnitropodnikových útvar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j. kvantifikovat výsledek hospoda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v účetním systém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kamžit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o uskutečnění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kon je možno ocenit v okamžiku jeho před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ýsledné 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je nutné provést úpravami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91F8-1725-4014-A158-4D63309860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ek hospodaření střediska Grafi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42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51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68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34200" y="2276640"/>
            <a:ext cx="100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3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2276640"/>
            <a:ext cx="1368360" cy="936360"/>
          </a:xfrm>
          <a:prstGeom prst="ellipse">
            <a:avLst/>
          </a:pr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ekroč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076E-D7BC-4FB7-8384-E34E986AD4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ůvody pro využití interních kritéri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každé etapě tvorby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znání prospěchu útvarů, kter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mají kontakt s tr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 vnitropodnikových útva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vzniká tržní 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žní cena je obvyk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ůsledkem řady faktor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není vhodná pro vnitřní uzná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 vývoje nákladů a výnosů v průbě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životního cykl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ětšina externí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ých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nepřímý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ový nesoula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u nákladů a vytvoře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8394-D66A-4622-BC9A-CF63C1635F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0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řský výsledek podniku a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(CV – PSNprodaných výkonů) + ∑(PSNútvaru – SKN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bol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 = KZ + ∑VPVH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 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zisk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CV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ýnosy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SN 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předem stanovené náklady (prodaných výkonů, 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N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skutečné náklady (útvar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Z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kalkulovaný zisk z 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PVH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vnitropodnikový výsledek hospodaření útvarů (středisek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B0F3-6032-406D-A654-BBCAFF8F49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611280" y="2637000"/>
            <a:ext cx="1942920" cy="791640"/>
            <a:chOff x="611280" y="2637000"/>
            <a:chExt cx="1942920" cy="791640"/>
          </a:xfrm>
        </p:grpSpPr>
        <p:sp>
          <p:nvSpPr>
            <p:cNvPr id="278" name=""/>
            <p:cNvSpPr/>
            <p:nvPr/>
          </p:nvSpPr>
          <p:spPr>
            <a:xfrm>
              <a:off x="611280" y="306864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11280" y="263700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987640" y="2637000"/>
            <a:ext cx="1943280" cy="791640"/>
            <a:chOff x="2987640" y="2637000"/>
            <a:chExt cx="1943280" cy="791640"/>
          </a:xfrm>
        </p:grpSpPr>
        <p:sp>
          <p:nvSpPr>
            <p:cNvPr id="282" name=""/>
            <p:cNvSpPr/>
            <p:nvPr/>
          </p:nvSpPr>
          <p:spPr>
            <a:xfrm>
              <a:off x="2987640" y="3068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937320" y="3068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87640" y="2637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682560" y="836640"/>
            <a:ext cx="1943280" cy="791640"/>
            <a:chOff x="682560" y="836640"/>
            <a:chExt cx="1943280" cy="791640"/>
          </a:xfrm>
        </p:grpSpPr>
        <p:sp>
          <p:nvSpPr>
            <p:cNvPr id="286" name=""/>
            <p:cNvSpPr/>
            <p:nvPr/>
          </p:nvSpPr>
          <p:spPr>
            <a:xfrm>
              <a:off x="68256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3224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8256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2987640" y="836640"/>
            <a:ext cx="1943280" cy="791640"/>
            <a:chOff x="2987640" y="836640"/>
            <a:chExt cx="1943280" cy="791640"/>
          </a:xfrm>
        </p:grpSpPr>
        <p:sp>
          <p:nvSpPr>
            <p:cNvPr id="290" name=""/>
            <p:cNvSpPr/>
            <p:nvPr/>
          </p:nvSpPr>
          <p:spPr>
            <a:xfrm>
              <a:off x="2987640" y="1268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937320" y="126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87640" y="836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1908000" y="1413000"/>
            <a:ext cx="1800360" cy="57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V podnik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6200" y="2349360"/>
            <a:ext cx="2449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78120" y="321300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68440" y="4422600"/>
            <a:ext cx="1942920" cy="792360"/>
            <a:chOff x="568440" y="4422600"/>
            <a:chExt cx="1942920" cy="792360"/>
          </a:xfrm>
        </p:grpSpPr>
        <p:sp>
          <p:nvSpPr>
            <p:cNvPr id="297" name=""/>
            <p:cNvSpPr/>
            <p:nvPr/>
          </p:nvSpPr>
          <p:spPr>
            <a:xfrm>
              <a:off x="568440" y="485460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1776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68440" y="442260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771640" y="4422600"/>
            <a:ext cx="2116440" cy="792360"/>
            <a:chOff x="2771640" y="4422600"/>
            <a:chExt cx="2116440" cy="792360"/>
          </a:xfrm>
        </p:grpSpPr>
        <p:sp>
          <p:nvSpPr>
            <p:cNvPr id="301" name=""/>
            <p:cNvSpPr/>
            <p:nvPr/>
          </p:nvSpPr>
          <p:spPr>
            <a:xfrm>
              <a:off x="2771640" y="4854600"/>
              <a:ext cx="2116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94120" y="485460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71640" y="4422600"/>
              <a:ext cx="21164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1503360" y="413532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ředisko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35280" y="5805360"/>
            <a:ext cx="180000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V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38200" y="5359320"/>
            <a:ext cx="1942920" cy="792360"/>
            <a:chOff x="538200" y="5359320"/>
            <a:chExt cx="1942920" cy="792360"/>
          </a:xfrm>
        </p:grpSpPr>
        <p:sp>
          <p:nvSpPr>
            <p:cNvPr id="307" name=""/>
            <p:cNvSpPr/>
            <p:nvPr/>
          </p:nvSpPr>
          <p:spPr>
            <a:xfrm>
              <a:off x="538200" y="57913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87520" y="57913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8200" y="53593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672080" y="5516640"/>
            <a:ext cx="1942920" cy="792000"/>
            <a:chOff x="4672080" y="5516640"/>
            <a:chExt cx="1942920" cy="792000"/>
          </a:xfrm>
        </p:grpSpPr>
        <p:sp>
          <p:nvSpPr>
            <p:cNvPr id="311" name=""/>
            <p:cNvSpPr/>
            <p:nvPr/>
          </p:nvSpPr>
          <p:spPr>
            <a:xfrm flipV="1">
              <a:off x="5103720" y="594792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850000" y="594828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2080" y="551664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77080" y="5516640"/>
            <a:ext cx="1942920" cy="791640"/>
            <a:chOff x="6877080" y="5516640"/>
            <a:chExt cx="1942920" cy="791640"/>
          </a:xfrm>
        </p:grpSpPr>
        <p:sp>
          <p:nvSpPr>
            <p:cNvPr id="315" name=""/>
            <p:cNvSpPr/>
            <p:nvPr/>
          </p:nvSpPr>
          <p:spPr>
            <a:xfrm>
              <a:off x="6877080" y="5948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826400" y="5948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877080" y="5516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5435640" y="5229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58920" y="134136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3141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258920" y="14842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58920" y="162864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3" name=""/>
          <p:cNvCxnSpPr>
            <a:stCxn id="319" idx="1"/>
            <a:endCxn id="320" idx="1"/>
          </p:cNvCxnSpPr>
          <p:nvPr/>
        </p:nvCxnSpPr>
        <p:spPr>
          <a:xfrm flipV="1" rot="10800000">
            <a:off x="1186560" y="1412640"/>
            <a:ext cx="72360" cy="1800720"/>
          </a:xfrm>
          <a:prstGeom prst="curvedConnector5">
            <a:avLst>
              <a:gd name="adj1" fmla="val 1213000"/>
              <a:gd name="adj2" fmla="val 49990"/>
              <a:gd name="adj3" fmla="val 1213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4" name=""/>
          <p:cNvSpPr/>
          <p:nvPr/>
        </p:nvSpPr>
        <p:spPr>
          <a:xfrm>
            <a:off x="1116000" y="593424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5" name=""/>
          <p:cNvCxnSpPr>
            <a:stCxn id="321" idx="1"/>
            <a:endCxn id="324" idx="1"/>
          </p:cNvCxnSpPr>
          <p:nvPr/>
        </p:nvCxnSpPr>
        <p:spPr>
          <a:xfrm flipV="1" rot="10800000">
            <a:off x="1115280" y="1555560"/>
            <a:ext cx="143640" cy="4450320"/>
          </a:xfrm>
          <a:prstGeom prst="curvedConnector5">
            <a:avLst>
              <a:gd name="adj1" fmla="val 800000"/>
              <a:gd name="adj2" fmla="val 49995"/>
              <a:gd name="adj3" fmla="val 800000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26" name=""/>
          <p:cNvSpPr/>
          <p:nvPr/>
        </p:nvSpPr>
        <p:spPr>
          <a:xfrm>
            <a:off x="4067280" y="32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140360" y="1413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26" idx="3"/>
            <a:endCxn id="328" idx="1"/>
          </p:cNvCxnSpPr>
          <p:nvPr/>
        </p:nvCxnSpPr>
        <p:spPr>
          <a:xfrm flipH="1">
            <a:off x="1115640" y="3284640"/>
            <a:ext cx="3240720" cy="1784880"/>
          </a:xfrm>
          <a:prstGeom prst="curvedConnector5">
            <a:avLst>
              <a:gd name="adj1" fmla="val -7054"/>
              <a:gd name="adj2" fmla="val 18176"/>
              <a:gd name="adj3" fmla="val -7054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0" name=""/>
          <p:cNvSpPr/>
          <p:nvPr/>
        </p:nvSpPr>
        <p:spPr>
          <a:xfrm>
            <a:off x="3995640" y="49975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1000" y="6021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2" name=""/>
          <p:cNvCxnSpPr>
            <a:stCxn id="330" idx="3"/>
            <a:endCxn id="331" idx="1"/>
          </p:cNvCxnSpPr>
          <p:nvPr/>
        </p:nvCxnSpPr>
        <p:spPr>
          <a:xfrm>
            <a:off x="4284360" y="5068440"/>
            <a:ext cx="1107000" cy="1024920"/>
          </a:xfrm>
          <a:prstGeom prst="curvedConnector5">
            <a:avLst>
              <a:gd name="adj1" fmla="val 49902"/>
              <a:gd name="adj2" fmla="val 50000"/>
              <a:gd name="adj3" fmla="val 49902"/>
            </a:avLst>
          </a:prstGeom>
          <a:ln w="9360">
            <a:solidFill>
              <a:srgbClr val="ff9900"/>
            </a:solidFill>
            <a:miter/>
            <a:tailEnd len="lg" type="stealth" w="lg"/>
          </a:ln>
        </p:spPr>
      </p:cxnSp>
      <p:sp>
        <p:nvSpPr>
          <p:cNvPr id="333" name=""/>
          <p:cNvSpPr/>
          <p:nvPr/>
        </p:nvSpPr>
        <p:spPr>
          <a:xfrm>
            <a:off x="8028000" y="6093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7" idx="3"/>
            <a:endCxn id="333" idx="3"/>
          </p:cNvCxnSpPr>
          <p:nvPr/>
        </p:nvCxnSpPr>
        <p:spPr>
          <a:xfrm>
            <a:off x="4429080" y="1484280"/>
            <a:ext cx="3888720" cy="4680720"/>
          </a:xfrm>
          <a:prstGeom prst="curvedConnector5">
            <a:avLst>
              <a:gd name="adj1" fmla="val 105879"/>
              <a:gd name="adj2" fmla="val 49996"/>
              <a:gd name="adj3" fmla="val 105879"/>
            </a:avLst>
          </a:prstGeom>
          <a:ln w="936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35" name=""/>
          <p:cNvSpPr/>
          <p:nvPr/>
        </p:nvSpPr>
        <p:spPr>
          <a:xfrm>
            <a:off x="250920" y="2203560"/>
            <a:ext cx="49687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95280" y="2263680"/>
            <a:ext cx="4824360" cy="158436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0920" y="4005360"/>
            <a:ext cx="4752720" cy="2448000"/>
          </a:xfrm>
          <a:prstGeom prst="ellipse">
            <a:avLst/>
          </a:prstGeom>
          <a:noFill/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333360"/>
            <a:ext cx="5473440" cy="1800360"/>
          </a:xfrm>
          <a:prstGeom prst="rect">
            <a:avLst/>
          </a:prstGeom>
          <a:blipFill rotWithShape="0">
            <a:blip r:embed="rId1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33360"/>
            <a:ext cx="1079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920" y="189000"/>
            <a:ext cx="8929800" cy="6480000"/>
          </a:xfrm>
          <a:prstGeom prst="rect">
            <a:avLst/>
          </a:prstGeom>
          <a:blipFill rotWithShape="0">
            <a:blip r:embed="rId2">
              <a:alphaModFix amt="30000"/>
            </a:blip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740720" y="476280"/>
            <a:ext cx="1008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59280" y="5043600"/>
            <a:ext cx="4033800" cy="1511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E8F4-0438-41E1-9906-687F79EE08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0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525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50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45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5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500"/>
                            </p:stCondLst>
                            <p:childTnLst>
                              <p:par>
                                <p:cTn id="5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0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0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000"/>
                            </p:stCondLst>
                            <p:childTnLst>
                              <p:par>
                                <p:cTn id="6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20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2000"/>
                            </p:stCondLst>
                            <p:childTnLst>
                              <p:par>
                                <p:cTn id="6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4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2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6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33" dur="20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"/>
          <p:cNvGrpSpPr/>
          <p:nvPr/>
        </p:nvGrpSpPr>
        <p:grpSpPr>
          <a:xfrm>
            <a:off x="4573440" y="2060640"/>
            <a:ext cx="1943280" cy="791640"/>
            <a:chOff x="4573440" y="2060640"/>
            <a:chExt cx="1943280" cy="791640"/>
          </a:xfrm>
        </p:grpSpPr>
        <p:sp>
          <p:nvSpPr>
            <p:cNvPr id="344" name=""/>
            <p:cNvSpPr/>
            <p:nvPr/>
          </p:nvSpPr>
          <p:spPr>
            <a:xfrm>
              <a:off x="4573440" y="24922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231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73440" y="20606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950160" y="2060640"/>
            <a:ext cx="1942920" cy="791640"/>
            <a:chOff x="6950160" y="2060640"/>
            <a:chExt cx="1942920" cy="791640"/>
          </a:xfrm>
        </p:grpSpPr>
        <p:sp>
          <p:nvSpPr>
            <p:cNvPr id="348" name=""/>
            <p:cNvSpPr/>
            <p:nvPr/>
          </p:nvSpPr>
          <p:spPr>
            <a:xfrm>
              <a:off x="695016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8994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016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ýnosy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609480" y="189000"/>
            <a:ext cx="1943280" cy="791640"/>
            <a:chOff x="609480" y="189000"/>
            <a:chExt cx="1943280" cy="791640"/>
          </a:xfrm>
        </p:grpSpPr>
        <p:sp>
          <p:nvSpPr>
            <p:cNvPr id="352" name=""/>
            <p:cNvSpPr/>
            <p:nvPr/>
          </p:nvSpPr>
          <p:spPr>
            <a:xfrm>
              <a:off x="60948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5916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914560" y="189000"/>
            <a:ext cx="1943280" cy="791640"/>
            <a:chOff x="2914560" y="189000"/>
            <a:chExt cx="1943280" cy="791640"/>
          </a:xfrm>
        </p:grpSpPr>
        <p:sp>
          <p:nvSpPr>
            <p:cNvPr id="356" name=""/>
            <p:cNvSpPr/>
            <p:nvPr/>
          </p:nvSpPr>
          <p:spPr>
            <a:xfrm>
              <a:off x="2914560" y="62064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64240" y="62064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14560" y="18900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835280" y="765000"/>
            <a:ext cx="1800000" cy="576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8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5087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840280" y="26370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7000" y="2060640"/>
            <a:ext cx="1942920" cy="791640"/>
            <a:chOff x="27000" y="2060640"/>
            <a:chExt cx="1942920" cy="791640"/>
          </a:xfrm>
        </p:grpSpPr>
        <p:sp>
          <p:nvSpPr>
            <p:cNvPr id="363" name=""/>
            <p:cNvSpPr/>
            <p:nvPr/>
          </p:nvSpPr>
          <p:spPr>
            <a:xfrm>
              <a:off x="27000" y="249228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7632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000" y="2060640"/>
              <a:ext cx="194292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230560" y="2060640"/>
            <a:ext cx="2116080" cy="791640"/>
            <a:chOff x="2230560" y="2060640"/>
            <a:chExt cx="2116080" cy="791640"/>
          </a:xfrm>
        </p:grpSpPr>
        <p:sp>
          <p:nvSpPr>
            <p:cNvPr id="367" name=""/>
            <p:cNvSpPr/>
            <p:nvPr/>
          </p:nvSpPr>
          <p:spPr>
            <a:xfrm>
              <a:off x="2230560" y="2492280"/>
              <a:ext cx="21160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52680" y="24922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30560" y="2060640"/>
              <a:ext cx="21160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961920" y="177336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293840" y="3443400"/>
            <a:ext cx="1800360" cy="57600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440" y="2867040"/>
            <a:ext cx="1943280" cy="791640"/>
            <a:chOff x="28440" y="2867040"/>
            <a:chExt cx="1943280" cy="791640"/>
          </a:xfrm>
        </p:grpSpPr>
        <p:sp>
          <p:nvSpPr>
            <p:cNvPr id="373" name=""/>
            <p:cNvSpPr/>
            <p:nvPr/>
          </p:nvSpPr>
          <p:spPr>
            <a:xfrm>
              <a:off x="28440" y="329868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978120" y="3298680"/>
              <a:ext cx="0" cy="36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8440" y="2867040"/>
              <a:ext cx="19432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73440" y="4767120"/>
            <a:ext cx="1942920" cy="792000"/>
            <a:chOff x="4573440" y="4767120"/>
            <a:chExt cx="1942920" cy="792000"/>
          </a:xfrm>
        </p:grpSpPr>
        <p:sp>
          <p:nvSpPr>
            <p:cNvPr id="377" name=""/>
            <p:cNvSpPr/>
            <p:nvPr/>
          </p:nvSpPr>
          <p:spPr>
            <a:xfrm flipV="1">
              <a:off x="5005080" y="5198400"/>
              <a:ext cx="15112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51360" y="519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7344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S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6950160" y="4767120"/>
            <a:ext cx="1942920" cy="792360"/>
            <a:chOff x="6950160" y="4767120"/>
            <a:chExt cx="1942920" cy="792360"/>
          </a:xfrm>
        </p:grpSpPr>
        <p:sp>
          <p:nvSpPr>
            <p:cNvPr id="381" name=""/>
            <p:cNvSpPr/>
            <p:nvPr/>
          </p:nvSpPr>
          <p:spPr>
            <a:xfrm>
              <a:off x="6950160" y="5199120"/>
              <a:ext cx="194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99480" y="519912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50160" y="4767120"/>
              <a:ext cx="19429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5508720" y="447984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ovaný zisk z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85840" y="69372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149800" y="256536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85840" y="83664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5840" y="9810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0" y="3357720"/>
            <a:ext cx="6872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. 1 0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8029440" y="2637000"/>
            <a:ext cx="28908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67280" y="7650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74560" y="2635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454560" y="263520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149800" y="527220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101080" y="5343480"/>
            <a:ext cx="28872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7840" y="1555920"/>
            <a:ext cx="4968720" cy="144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6600" y="4770360"/>
            <a:ext cx="1943280" cy="792360"/>
            <a:chOff x="66600" y="4770360"/>
            <a:chExt cx="1943280" cy="792360"/>
          </a:xfrm>
        </p:grpSpPr>
        <p:sp>
          <p:nvSpPr>
            <p:cNvPr id="398" name=""/>
            <p:cNvSpPr/>
            <p:nvPr/>
          </p:nvSpPr>
          <p:spPr>
            <a:xfrm>
              <a:off x="66600" y="52023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16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600" y="47703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70160" y="4770360"/>
            <a:ext cx="2116080" cy="792360"/>
            <a:chOff x="2270160" y="4770360"/>
            <a:chExt cx="2116080" cy="792360"/>
          </a:xfrm>
        </p:grpSpPr>
        <p:sp>
          <p:nvSpPr>
            <p:cNvPr id="402" name=""/>
            <p:cNvSpPr/>
            <p:nvPr/>
          </p:nvSpPr>
          <p:spPr>
            <a:xfrm>
              <a:off x="2270160" y="5202360"/>
              <a:ext cx="21160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92280" y="52023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70160" y="4770360"/>
              <a:ext cx="2116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terní v. (PSN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01880" y="4483080"/>
            <a:ext cx="2449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kce -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33440" y="61531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-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39600" y="5576760"/>
            <a:ext cx="1943280" cy="792360"/>
            <a:chOff x="39600" y="5576760"/>
            <a:chExt cx="1943280" cy="792360"/>
          </a:xfrm>
        </p:grpSpPr>
        <p:sp>
          <p:nvSpPr>
            <p:cNvPr id="408" name=""/>
            <p:cNvSpPr/>
            <p:nvPr/>
          </p:nvSpPr>
          <p:spPr>
            <a:xfrm>
              <a:off x="39600" y="6008760"/>
              <a:ext cx="1943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89280" y="6008760"/>
              <a:ext cx="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600" y="5576760"/>
              <a:ext cx="1943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xterní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17400" y="6151680"/>
            <a:ext cx="2890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452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494160" y="5345280"/>
            <a:ext cx="288720" cy="1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4000" y="609444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. 3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844880" y="25797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. 3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56720" y="2522520"/>
            <a:ext cx="6872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7800" y="2565360"/>
            <a:ext cx="6876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.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2400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. 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578400" y="25653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003640" y="5230800"/>
            <a:ext cx="735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. 1 2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   4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621240" y="530208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. 450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940360" y="5373720"/>
            <a:ext cx="1800360" cy="576360"/>
          </a:xfrm>
          <a:prstGeom prst="ellipse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6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+ 2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230800"/>
            <a:ext cx="7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. 1 8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. 7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1520" y="736560"/>
            <a:ext cx="6872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1 71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52800" y="750960"/>
            <a:ext cx="6876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2 5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64000" y="0"/>
            <a:ext cx="36007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výsledky hospodař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70BC-2543-4AEA-9EA6-6485BDF7EA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mezi útva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průbě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lavní podnikatelské či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členitost procesu tvorby výkonu, široké spektrum servisních středisek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ky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průběžná kontrola hospodárnosti a motivace zaměstnanců k jejímu dodrž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vymezení pravomoci a odpovědnosti útvarů za činnosti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zjištění skutečných a předem stanovených nákladů na jednotku 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yvolává požadave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poznat a zobrazit vzta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ezi útvary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edpo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obrazení vztahů mezi útvar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rozpoznání a vymeze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ocenění interních výkonů útvar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746A-11E0-4975-9492-DC5FE8C09D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mezení a oceně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ních výkonů útvar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ymezení interních výkonů předpoklád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identifikaci) výkonu (výkonů) útva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c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ákladní varianty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kutečné náklady na uskutečnění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le předběžných kalkulací a rozpočt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na úrovn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uží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externími subjek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ržní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28CF-44F6-416E-9179-97431EA78A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hitektonická kancelář (projekty investičních celk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ganizační struktura – útvary Projekce a Grafi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jekce – zpracování projektů, v současnosti 2 projekty (Letiště, Koupaliště), oba dokončeny a vyfakturovány za dohodnutou ce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ka – zpracování grafických prací pro útvar Projek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šechny náklady na projekty jsou přímé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í výkon = 1 hod práce grafika, předem st. náklady = 500Kč/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sah interních výkonů (předpokládaný rozsah byl dodržen)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400 hod pro Let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200 hod pro Koupaliště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B8A28-0C2B-4E4B-9124-B7AB285C2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989000"/>
          <a:ext cx="8229600" cy="4154760"/>
        </p:xfrm>
        <a:graphic>
          <a:graphicData uri="http://schemas.openxmlformats.org/drawingml/2006/table">
            <a:tbl>
              <a:tblPr/>
              <a:tblGrid>
                <a:gridCol w="2768760"/>
                <a:gridCol w="1820880"/>
                <a:gridCol w="181908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Prodejní cena v 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8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7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 5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náklady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 v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6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35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é interní 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00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ředem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stanovený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020E7-7F6D-4E0F-A4E4-CECD10C73D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zadání (I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68360" y="1989000"/>
          <a:ext cx="8229600" cy="2934000"/>
        </p:xfrm>
        <a:graphic>
          <a:graphicData uri="http://schemas.openxmlformats.org/drawingml/2006/table">
            <a:tbl>
              <a:tblPr/>
              <a:tblGrid>
                <a:gridCol w="2768400"/>
                <a:gridCol w="1820880"/>
                <a:gridCol w="1819440"/>
                <a:gridCol w="1820880"/>
              </a:tblGrid>
              <a:tr h="608040"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Let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Koupališ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externí náklady útvaru Projek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 04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55 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524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é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náklady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318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kutečný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hodin útvaru Grafi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MS Mincho"/>
                        </a:rPr>
                        <a:t>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395280" y="13806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kutečné veličin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1FDA3-E008-40C6-A754-B5F61433CF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e skuteč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utečné náklady na 1 hod práce grafika = 318 000 / 600 = 530 Kč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299736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39640" y="2925720"/>
            <a:ext cx="1436760" cy="1152360"/>
            <a:chOff x="539640" y="2925720"/>
            <a:chExt cx="1436760" cy="1152360"/>
          </a:xfrm>
        </p:grpSpPr>
        <p:sp>
          <p:nvSpPr>
            <p:cNvPr id="176" name=""/>
            <p:cNvSpPr/>
            <p:nvPr/>
          </p:nvSpPr>
          <p:spPr>
            <a:xfrm>
              <a:off x="539640" y="292572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5712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395280" y="256536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987640" y="2997360"/>
            <a:ext cx="1154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4)   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1 25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494160" y="2925720"/>
            <a:ext cx="1439640" cy="1152360"/>
            <a:chOff x="3494160" y="2925720"/>
            <a:chExt cx="1439640" cy="1152360"/>
          </a:xfrm>
        </p:grpSpPr>
        <p:sp>
          <p:nvSpPr>
            <p:cNvPr id="181" name=""/>
            <p:cNvSpPr/>
            <p:nvPr/>
          </p:nvSpPr>
          <p:spPr>
            <a:xfrm>
              <a:off x="349416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308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490920" y="2276640"/>
            <a:ext cx="15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33800" y="5302080"/>
            <a:ext cx="100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 4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95600" y="5230800"/>
            <a:ext cx="1440000" cy="1152360"/>
            <a:chOff x="3495600" y="5230800"/>
            <a:chExt cx="1440000" cy="1152360"/>
          </a:xfrm>
        </p:grpSpPr>
        <p:sp>
          <p:nvSpPr>
            <p:cNvPr id="186" name=""/>
            <p:cNvSpPr/>
            <p:nvPr/>
          </p:nvSpPr>
          <p:spPr>
            <a:xfrm>
              <a:off x="3495600" y="52308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14880" y="5230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349800" y="45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– Projek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j.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0360" y="29973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02520" y="2925720"/>
            <a:ext cx="1439640" cy="1152360"/>
            <a:chOff x="6302520" y="2925720"/>
            <a:chExt cx="1439640" cy="1152360"/>
          </a:xfrm>
        </p:grpSpPr>
        <p:sp>
          <p:nvSpPr>
            <p:cNvPr id="191" name=""/>
            <p:cNvSpPr/>
            <p:nvPr/>
          </p:nvSpPr>
          <p:spPr>
            <a:xfrm>
              <a:off x="6302520" y="29257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21440" y="29257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615636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– Graf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997360"/>
            <a:ext cx="100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56360" y="5300640"/>
            <a:ext cx="2663640" cy="93672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3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3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C2EB-4946-43DE-9D3B-9F1DCE4D52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enění vztahů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skuteč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chází k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řeúčtování skuteč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ů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možné zjistit výslednou kalkulaci finálních výkon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kalkulačně-výkonové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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ní možné sledovat odpovědnost za vynalož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ontrola hospodárnosti probíhá mimo účetní systé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účtování vztahů mezi útvary probíhá následně 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okamžiku předání výkonu nejsou k dispozici informace pro jeho ocenění (skutečné náklady je možno zjistit až dodatečně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9E24-138D-4D3C-928E-9D2C07E4D8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ARCHA – řešení při ocenění výkonu v předem stanovených nákladec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60360" y="2278080"/>
            <a:ext cx="1224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1 0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68360" y="2206800"/>
            <a:ext cx="1436760" cy="1152360"/>
            <a:chOff x="468360" y="2206800"/>
            <a:chExt cx="1436760" cy="1152360"/>
          </a:xfrm>
        </p:grpSpPr>
        <p:sp>
          <p:nvSpPr>
            <p:cNvPr id="201" name=""/>
            <p:cNvSpPr/>
            <p:nvPr/>
          </p:nvSpPr>
          <p:spPr>
            <a:xfrm>
              <a:off x="468360" y="22068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185840" y="22068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24000" y="18464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Ú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700360" y="22780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1 04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6880" y="2206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24360" y="2206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557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21440" y="2276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3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83240" y="2205000"/>
            <a:ext cx="1440000" cy="1152360"/>
            <a:chOff x="5583240" y="2205000"/>
            <a:chExt cx="1440000" cy="1152360"/>
          </a:xfrm>
        </p:grpSpPr>
        <p:sp>
          <p:nvSpPr>
            <p:cNvPr id="210" name=""/>
            <p:cNvSpPr/>
            <p:nvPr/>
          </p:nvSpPr>
          <p:spPr>
            <a:xfrm>
              <a:off x="5583240" y="2205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252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6400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84720" y="5229360"/>
            <a:ext cx="2664000" cy="9363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) = 500Kč/hod*4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) = 500Kč/hod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ho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364500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6880" y="357336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3924360" y="357336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71640" y="2924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Let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3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06880" y="494172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3924360" y="4941720"/>
            <a:ext cx="1440" cy="430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56000" y="429264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631044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06880" y="6238800"/>
            <a:ext cx="1439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924360" y="6238800"/>
            <a:ext cx="1440" cy="43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589720"/>
            <a:ext cx="28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jekce: Koupališ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7345440" y="2205000"/>
            <a:ext cx="1439640" cy="1152360"/>
            <a:chOff x="7345440" y="2205000"/>
            <a:chExt cx="1439640" cy="1152360"/>
          </a:xfrm>
        </p:grpSpPr>
        <p:sp>
          <p:nvSpPr>
            <p:cNvPr id="227" name=""/>
            <p:cNvSpPr/>
            <p:nvPr/>
          </p:nvSpPr>
          <p:spPr>
            <a:xfrm>
              <a:off x="7345440" y="220500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4360" y="2205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164360" y="1557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fika    Interní 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34200" y="2276640"/>
            <a:ext cx="1009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4) 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5) 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obrazení vztahů mezi útva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4A30D-F3E7-434A-B9E3-F07D614E83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0T13:11:59Z</dcterms:created>
  <dc:creator>NOBODY</dc:creator>
  <dc:description/>
  <dc:language>en-US</dc:language>
  <cp:lastModifiedBy>mensikm</cp:lastModifiedBy>
  <dcterms:modified xsi:type="dcterms:W3CDTF">2009-10-21T09:11:02Z</dcterms:modified>
  <cp:revision>9</cp:revision>
  <dc:subject/>
  <dc:title>Rozpoznání a zobrazení vztahů mezi útvary a pojetí výnosů v nákladovém účetnictví</dc:title>
</cp:coreProperties>
</file>