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96F9D-93C4-48DE-8E1C-F76AF5E45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17F2A-504F-464D-8A43-F44AD4E5C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9EC4B-ACF1-442C-897D-1AD867E18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EF77-6406-43AD-B2C8-D45C2DD3E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ACA0-CF81-4BF8-BE41-833124C53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B6BE-4B75-4675-AD1B-71AFACFEC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33E86-3685-4781-B37D-6FB49A787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132C-C6C4-40C5-A775-AA15AC07A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8682-FB8B-4A61-BFE9-8C0A629E98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6B49-5071-413F-ABEC-CF776D3CD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3621B-4B61-4C57-89F4-27410C9BE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DA31-CD61-441E-807B-0616F561D0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69D-4311-42B7-8F1C-1DF6DBE2A1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formační nástroje pro řízení po linii výkonu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lokační fáz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užití metod alokace závis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zbách mezi útvar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ání nákladů probíhá v řadě na sebe navazující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lokačních fáz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stu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ní fáze: přiřazení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ktu alok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který je vyvolal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jednice výkonu, druh výkonu, útvar ...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vazné fáze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rozděl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áklad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ezi objek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cíle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přerozdělit náklady útvarů servisní činnosti na ostat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přerozdělit náklady útvarů hlavní činnosti na externí výko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příp. přiřadit náklady útvarů správy a řízení útvarům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pokladem je správné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ílů jednotlivých 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B0D62-2E29-4D7A-A557-5767AA18CC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ční fáze v softwarové firm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ční struktura fir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voj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mplementace software – hla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budov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sítě a údržba hardware – servis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práva a řízení – správní činnos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formace o vztazích mezi útvary pro alokac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457200" y="3560760"/>
          <a:ext cx="8229600" cy="2351160"/>
        </p:xfrm>
        <a:graphic>
          <a:graphicData uri="http://schemas.openxmlformats.org/drawingml/2006/table">
            <a:tbl>
              <a:tblPr/>
              <a:tblGrid>
                <a:gridCol w="2386080"/>
                <a:gridCol w="2089080"/>
                <a:gridCol w="1933560"/>
                <a:gridCol w="1820880"/>
              </a:tblGrid>
              <a:tr h="621000"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Útv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díl na pronaj. prostorác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ráce správy sítě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Počet hodin přímé prá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Vývoj softwa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4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 4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Implementace softwar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Správa budov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sítě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668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Správa a řízení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0,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2520" y="5965920"/>
            <a:ext cx="7921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správu a řízení se alokují na útvary hlavní činnosti podle hodin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429C2-F001-4EDA-B157-ED22CD50E8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300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084320" y="3333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budo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1360" y="1571760"/>
            <a:ext cx="180000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sít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8360" y="3911760"/>
            <a:ext cx="1800360" cy="50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2656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plement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149960" y="4251240"/>
            <a:ext cx="180036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82520" y="833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7 2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6" idx="2"/>
            <a:endCxn id="198" idx="1"/>
          </p:cNvCxnSpPr>
          <p:nvPr/>
        </p:nvCxnSpPr>
        <p:spPr>
          <a:xfrm>
            <a:off x="1982880" y="1197000"/>
            <a:ext cx="1969200" cy="14515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199" name=""/>
          <p:cNvCxnSpPr>
            <a:stCxn id="196" idx="2"/>
            <a:endCxn id="200" idx="1"/>
          </p:cNvCxnSpPr>
          <p:nvPr/>
        </p:nvCxnSpPr>
        <p:spPr>
          <a:xfrm>
            <a:off x="1982520" y="1197000"/>
            <a:ext cx="2626200" cy="37965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395280" y="47703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3 5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1360" y="20764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8 4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08360" y="44164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2 50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149960" y="475632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12 45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1360" y="246528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0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1360" y="2854440"/>
            <a:ext cx="180000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9 48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5160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16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5280" y="554040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4 7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08360" y="48099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72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08360" y="51991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94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149960" y="514656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 240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149960" y="5533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3792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5280" y="59245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2 20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49960" y="59212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+ 1 95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08360" y="558792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4 168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4" name=""/>
          <p:cNvCxnSpPr>
            <a:stCxn id="196" idx="2"/>
          </p:cNvCxnSpPr>
          <p:nvPr/>
        </p:nvCxnSpPr>
        <p:spPr>
          <a:xfrm>
            <a:off x="1982880" y="1197000"/>
            <a:ext cx="4534560" cy="21672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5" name=""/>
          <p:cNvCxnSpPr>
            <a:endCxn id="209" idx="1"/>
          </p:cNvCxnSpPr>
          <p:nvPr/>
        </p:nvCxnSpPr>
        <p:spPr>
          <a:xfrm>
            <a:off x="6516360" y="1413000"/>
            <a:ext cx="633960" cy="3916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6" name=""/>
          <p:cNvCxnSpPr>
            <a:stCxn id="205" idx="2"/>
            <a:endCxn id="207" idx="3"/>
          </p:cNvCxnSpPr>
          <p:nvPr/>
        </p:nvCxnSpPr>
        <p:spPr>
          <a:xfrm flipH="1">
            <a:off x="2194920" y="3218040"/>
            <a:ext cx="2656440" cy="25056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7" name=""/>
          <p:cNvCxnSpPr>
            <a:stCxn id="205" idx="2"/>
            <a:endCxn id="208" idx="1"/>
          </p:cNvCxnSpPr>
          <p:nvPr/>
        </p:nvCxnSpPr>
        <p:spPr>
          <a:xfrm rot="5400000">
            <a:off x="3647160" y="4178160"/>
            <a:ext cx="2164320" cy="243720"/>
          </a:xfrm>
          <a:prstGeom prst="curvedConnector5">
            <a:avLst>
              <a:gd name="adj1" fmla="val 23240"/>
              <a:gd name="adj2" fmla="val 97041"/>
              <a:gd name="adj3" fmla="val 23240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cxnSp>
        <p:nvCxnSpPr>
          <p:cNvPr id="218" name=""/>
          <p:cNvCxnSpPr>
            <a:stCxn id="205" idx="2"/>
          </p:cNvCxnSpPr>
          <p:nvPr/>
        </p:nvCxnSpPr>
        <p:spPr>
          <a:xfrm>
            <a:off x="4851360" y="3218040"/>
            <a:ext cx="1737360" cy="559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</a:ln>
        </p:spPr>
      </p:cxnSp>
      <p:cxnSp>
        <p:nvCxnSpPr>
          <p:cNvPr id="219" name=""/>
          <p:cNvCxnSpPr>
            <a:endCxn id="210" idx="1"/>
          </p:cNvCxnSpPr>
          <p:nvPr/>
        </p:nvCxnSpPr>
        <p:spPr>
          <a:xfrm>
            <a:off x="6587640" y="3789000"/>
            <a:ext cx="562680" cy="192780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95280" y="6311880"/>
            <a:ext cx="180036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2 669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49960" y="6321600"/>
            <a:ext cx="180036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= 21 441 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3" idx="2"/>
            <a:endCxn id="211" idx="3"/>
          </p:cNvCxnSpPr>
          <p:nvPr/>
        </p:nvCxnSpPr>
        <p:spPr>
          <a:xfrm rot="5400000">
            <a:off x="3773880" y="4372560"/>
            <a:ext cx="155880" cy="331380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223" name=""/>
          <p:cNvCxnSpPr>
            <a:stCxn id="213" idx="2"/>
            <a:endCxn id="212" idx="1"/>
          </p:cNvCxnSpPr>
          <p:nvPr/>
        </p:nvCxnSpPr>
        <p:spPr>
          <a:xfrm flipH="1" rot="16200000">
            <a:off x="6252120" y="5206680"/>
            <a:ext cx="153000" cy="1641960"/>
          </a:xfrm>
          <a:prstGeom prst="curvedConnector2">
            <a:avLst/>
          </a:prstGeom>
          <a:ln cap="rnd" w="255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356000" y="404640"/>
            <a:ext cx="2305080" cy="576360"/>
          </a:xfrm>
          <a:prstGeom prst="wedgeRoundRectCallout">
            <a:avLst>
              <a:gd name="adj1" fmla="val -48898"/>
              <a:gd name="adj2" fmla="val 92699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7 200 000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podíl na pronajaté ploš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38920" y="2637000"/>
            <a:ext cx="2305080" cy="576000"/>
          </a:xfrm>
          <a:prstGeom prst="wedgeRoundRectCallout">
            <a:avLst>
              <a:gd name="adj1" fmla="val -74722"/>
              <a:gd name="adj2" fmla="val 114736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9 480 000 / 1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6243480"/>
            <a:ext cx="2447640" cy="576360"/>
          </a:xfrm>
          <a:prstGeom prst="wedgeRoundRectCallout">
            <a:avLst>
              <a:gd name="adj1" fmla="val -80481"/>
              <a:gd name="adj2" fmla="val -66527"/>
              <a:gd name="adj3" fmla="val 16667"/>
            </a:avLst>
          </a:prstGeom>
          <a:solidFill>
            <a:srgbClr val="ffffcc">
              <a:alpha val="30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0" bIns="0" anchor="b">
            <a:no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(4 168 000 / 20 000) 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  <a:ea typeface="Arial"/>
              </a:rPr>
              <a:t> hodiny přímé prá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196" idx="2"/>
            <a:endCxn id="206" idx="3"/>
          </p:cNvCxnSpPr>
          <p:nvPr/>
        </p:nvCxnSpPr>
        <p:spPr>
          <a:xfrm flipH="1" rot="16200000">
            <a:off x="15120" y="3163680"/>
            <a:ext cx="4147200" cy="213480"/>
          </a:xfrm>
          <a:prstGeom prst="curvedConnector5">
            <a:avLst>
              <a:gd name="adj1" fmla="val 47773"/>
              <a:gd name="adj2" fmla="val 103716"/>
              <a:gd name="adj3" fmla="val 47773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3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3000"/>
                            </p:stCondLst>
                            <p:childTnLst>
                              <p:par>
                                <p:cTn id="4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7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7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8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3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8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8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3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5000"/>
                            </p:stCondLst>
                            <p:childTnLst>
                              <p:par>
                                <p:cTn id="4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průřezy vnitropodnikové struktury (opakov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é jsou náklady výkonů a jak řídit jejich hospodárnos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měřit přínos z prodeje konkrétních výkon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ov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(kalkulačně – výkonové)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: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nákladů (marže, ceny)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 linii odpověd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zainteresovat útvary na chování v souladu s cíli a plány podniku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včas změřit přínos útvarů k podnikovým výsledkům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ak snižovat režijní náklady útvarů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ástroje: plány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rozpočty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nitropodnikové ce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08720" y="1728720"/>
            <a:ext cx="151128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ff9900"/>
                </a:solidFill>
                <a:latin typeface="Wingdings"/>
                <a:ea typeface="Wingdings"/>
              </a:rPr>
              <a:t></a:t>
            </a:r>
            <a:endParaRPr b="0" lang="en-US" sz="10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411200"/>
            <a:ext cx="7129440" cy="2376720"/>
          </a:xfrm>
          <a:prstGeom prst="rect">
            <a:avLst/>
          </a:prstGeom>
          <a:solidFill>
            <a:srgbClr val="ffffc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C962B-97C5-40EB-A217-FCFE7BAC67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propočet) nákladů, marže, zisku, ceny neb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odnotov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turálně vyjádřenou jednotku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ýrobek, práci nebo službu, na činnost nebo operaci, kterou je třeba v souvislosti s procesem tvorby výkonu provést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dit náklad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řazovat náklady výkonu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teré náklady přiřadit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 jaké struktuře uvádět kalkulované položk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035C-C8C2-4D94-9A6B-5F98F769ED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přiřazení doprav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á doprava 40 kg karotky za 30 F a 60 kg pórku za 20 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pravní náklady: 50 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Jak přiřadit náklady na karotku a póre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55300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35336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15228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1952640" y="2852640"/>
            <a:ext cx="1619280" cy="3086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3753000" y="2852640"/>
            <a:ext cx="1619280" cy="30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3BC3-3102-4FC3-B892-59332BBE5C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yužití kalkulace v rozhodovacích úlohách („proč“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28560"/>
            <a:ext cx="868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hodování o změnách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bjemu a struktuře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ou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louhodobé ziskov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ů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na základě propočtu plných nákladů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anov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hranice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ákladního a doplňkového sortimen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oc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vnitropodnikový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osouzení schopnosti výkon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unést správní a strategick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y   (→ tzv. reprodukční úloh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--------------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bhajoba ce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ři jednání se zákazník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ceň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nitropodnikových výkonů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5892840"/>
            <a:ext cx="8496000" cy="503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 univerzálně správný či špatný postup přiřazení nákladů !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516F-2FE0-40B8-9414-33291D6DA9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1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mětu kalkul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nebo vybrané druhy dílčích (interních) i finálních (externích)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utno určit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 jednic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ované množstv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ře nákladových položek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ntní podle rozhodovacích úlo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jádřeno v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kalkulačním vzorc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řazování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edmětu kalkula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em členění nákladů n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římé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epřímé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B36B9-78E8-4B64-A9F5-83C5872958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přiřazová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hrnují všechny jednicové náklady (kromě sdružených výkonů) a část režijních nákladů související s druhem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dělení kalkulovaným množství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olečné náklady skupin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řazení pomocí metod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dělení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st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 poměrovými (ekvivalenčními čís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přirážková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ač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Font typeface="Arial"/>
              <a:buChar char="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ferencova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3D358-A29D-457E-9740-46262AE344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incipy přiřazování nepřímý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příčinné souvisl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Jaký je příčinný vztah mezi kalkulovanými náklady a výkony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incip únos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ladní otázka: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lik nákladů unese výkon v prodejní ceně?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D5380-C710-472F-B648-E9724850D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irážková metoda kalkulac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užívá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vrhové základny, klíč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yužitých rozvrhových základen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umač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rážkovou kalkulaci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yužití jedné základ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diferencovano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přirážkovou kalkulaci → využití různých rozvrhových základen podle analýzy vztahu nákladů, základen a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le charakter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e možné rozlišit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naturál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sazby režie (Kč / natur. j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azba režie = nepřímé režijní náklady / rozvrhová základn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eněž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vrhové základny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→ výpočet přirážky v procent. vyjád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rocentní přirážka = nepřímé režijní náklady / rozvrhová základn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100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476600" y="3219480"/>
                <a:ext cx="1908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Řízení po linii výkon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31F7-76CB-4128-91F5-2BBB95B4D7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5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2Z</dcterms:modified>
  <cp:revision>10</cp:revision>
  <dc:subject/>
  <dc:title>Snímek 1</dc:title>
</cp:coreProperties>
</file>