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658E-5DF6-4031-B6F1-6C6F8A2E2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AC378-D72B-4B5A-9F57-C1F2FE9D08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9BEE-E30F-497B-823C-BA6F94068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93C2-FFCA-4FF5-811D-3F6EF743C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5105-AFCA-4C20-8BF5-E5424C7B6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258CA-9ED8-4195-9722-555C224C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99F4-70BD-48D2-BC32-B7131743F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8A310-943C-4568-B929-3F02877EC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4FD49-ED4F-468F-91E0-46C4E2BCF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F7ED2-0047-4402-B397-F47365B4CA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5AB0B-DD35-4ED3-9CE8-DBAD17D0D8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8987-12D8-4A2B-AC2D-BE9095FB7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4485-770F-4BB9-A056-4F0A0151806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Účetní informace pro řízení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 linii odpovědnosti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edpoklad: delegovaná pravomoc a odpovědnost v investičním rozhodová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vlivňují výši a způsob využití investic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ace na ekonomickou efektivnost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ejvyšší úroveň ekonomické struktury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často je investičním střediskem pouze vrcholové ved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případě velkých firem s širokým spektrem činnosti tzv. strategické podnikatelské jednotky (strategic business uni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B52E-2121-41CF-862D-A828AA62E9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dnotová kritéria řízení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otázk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dr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e vynakládají 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sledku rozhodnutí střediska nebo činností, jejíž průběh středisko ovlivňuje, a jak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jich vynaložení vyvolává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Jakým způsobem měřit a hodnot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Jak vymez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sledek hospoda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ka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1B072-78EC-42E6-931C-412C989C16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000"/>
                            </p:stCondLst>
                            <p:childTnLst>
                              <p:par>
                                <p:cTn id="2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odpovědnostních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princip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vlivnitel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tázka: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spotřebu zdrojů, a kterému středisku by tudíž měl být náklad odpovědnostně přiřazen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střediska = ovlivnitelné interní a externí náklady (skutečné i kalkulač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zor: „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ísto vzniku nákladů = odpovědnost za vznik nákladů“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u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at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např.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y vzniklé důsledkem rozhodnu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ovlivnitelné pohyby cen vstup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účelné vynaložení zdrojů zapříčiněné činností jiného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2AB3B-217C-4186-A75D-E4B7D2E1AE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nos střediska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→ střediskové výnos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míře delegov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ákladní situac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. výkony střediska určeny převážně pro externí zákaz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ex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prodeje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výkony střediska určeny převážně pro osta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terní výnos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a základě vnitropodnikových c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výkony střediska není možné vymezit a měř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řediskové výnosy = úkolem střediska je dodržet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em stanovené nákla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dle </a:t>
            </a:r>
            <a:r>
              <a:rPr b="0" i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B746-70EB-4A43-BF50-FF41E8E103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00"/>
                            </p:stCondLst>
                            <p:childTnLst>
                              <p:par>
                                <p:cTn id="3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5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4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unkce vnitropodnikových ce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otivovat k rozhodování a chování prospěšnému pro středisko i pod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it úroveň pravomoci a odpovědnosti a oddělit přínos střediska k výsledků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stit informace pro měření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poklady účinného využit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přede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álost v čas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oulad s ostatními nástroji vnitropodnikového říze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ce, rozpoč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ozumitelnost pro dodávající i odebírající středisko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a stejné úrovni pro stejnorodý výkon bez ohledu na odběratel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AF7AF-1D18-4ED2-9C8F-8ED3EF47C0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ypy vnitropodnikových c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ariabilní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 úrovni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lných střediskových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s připočtení ziskové přirá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tržní cen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alože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dohodě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zi středis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F121-72DF-4241-A69F-B8954F34D9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ek hospodaře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unkc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. kriteriál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ritérium (měřítko) pro hodnocení úspěšnosti hospodaření středisk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2. stimulač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timulace k zajištění souladu cílů střediska a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odnět pro rozvoj jednání, které zvyšuje efektivnost činnosti střediska, a tím i efektivnost podniku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klíčové je propojení s vhodno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ou odmě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sledku hospodaření závisí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ypu odpovědnostního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A76F0-4642-4227-91EA-7E99648F15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ah výsledku hospodař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á (výdajová)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úspora nebo překročení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ch střediskov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bjem výnosů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ovlivnitelný 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porovnání s rozpočte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po zohlednění kalkulačních úroků z čistého pracovního kapitálu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čistého pracovní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vestič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ekonomický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(residuální)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zisk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ebo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entabilit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vázaného kapitá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50DFA-29CE-4566-857B-7A676D9C90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kaz hospodářského výsledku nákladového střediska (výkaz odchyl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30240"/>
        </p:xfrm>
        <a:graphic>
          <a:graphicData uri="http://schemas.openxmlformats.org/drawingml/2006/table">
            <a:tbl>
              <a:tblPr/>
              <a:tblGrid>
                <a:gridCol w="2472480"/>
                <a:gridCol w="1917720"/>
                <a:gridCol w="1918080"/>
                <a:gridCol w="1920960"/>
              </a:tblGrid>
              <a:tr h="14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tředisk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skutečnos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nterní výnos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„rozpočet“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dchylk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úspora/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kroč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8D61-8A0F-4EFD-9D51-4FAB689FEB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ovka ziskového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340000" y="1557360"/>
          <a:ext cx="4608360" cy="4319280"/>
        </p:xfrm>
        <a:graphic>
          <a:graphicData uri="http://schemas.openxmlformats.org/drawingml/2006/table">
            <a:tbl>
              <a:tblPr/>
              <a:tblGrid>
                <a:gridCol w="4608360"/>
              </a:tblGrid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nosy z prodeje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Variabilní náklady výkonů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arže (příspěvek na úhradu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Ovlivnitelný výsledek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eovlivnitelné fixní náklady středisk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hospodaření středis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Alokované náklady na správu a říze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ýsledek střediska po alokaci správních n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2411280" y="242100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386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439416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5373720"/>
            <a:ext cx="443088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53CC7-DA6E-4C5E-9390-3D7739B8E7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sažení takového dlouhodobého stavu, kdy jednání každého útvaru a pracovníka v podniku přispívá k dosažení strategických cílů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y odpovědnostního ří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881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ovlivnitel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avomoc a odpověd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ceš-li výsledky, musíš dát příležito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transformace cílů na úkoly → měřitelná kritéri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chceš řídit, musíš umět měř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přínos k výsledkům → zainteres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ekni mi, jak mě budeš měřit, a já ti řeknu, jak se budu chova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87859-5CAC-4A80-BA12-C364478C47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povědnostní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cí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ormační podpora odpovědnostního řízení v oblasti hodnotový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koly odpovědnostního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rozčlenit hodnotové informace podle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do je odpovědný za vývoj nákladů, výnosů, aktiv, závazků, příjmů, výda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zobrazit vztahy mezi středisky (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interní výnosy a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1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ý je přínos střediska k výsledkům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jádřit přímo v účetním systému rozdíly či odchylky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 je příčinou a kdo je zodpovědný za rozdíly skutečnosti oproti očekávanému stav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7A3A-9E40-4A66-A742-EE1FAEB258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kturální předpoklady odpovědnostního říze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řešení organizační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ovení míry centralizace a decentraliza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tvoření ekonomické struktury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8E935-CBDD-45A0-9826-9B124C255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ční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ěcnou náplň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vků podnikové struktury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nimi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organizační struktury urču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rizontální vztah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ělba činností a kooper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dmětné uspořádání (od nákupu po prodej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echnologické uspořádání (specializace činností .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ertikální vztahy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ozložení pravomoci a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centraliz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A262-F92E-424D-B1C1-38BBB04274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De)centralizace řízení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působ řízení podniku, kdy rozhodovací pravomoc i odpovědnost je soustředěna na vrcholové úrovni řízení; nižší úrovně řízení mají pouze výkonné funk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esné, včasné, kvalitní a hospodárné splnění příkaz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irektivní nástroje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řevážně naturální kritéria výko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odchylek od stanoveného úkolu v krátkých intervale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Decentraliz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 přenášení pravomoci a odpovědnosti z nadřazené úrovně řízení na úrovně podřízené; nižší úrovně řízení disponují rozhodovacími i výkonnými funkcem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přínos k zhodnocení zdrojů (účinnosti) a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rámcových podmínek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čekává se iniciativ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jné využití hodnotových kritéri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 skutečných výsledků za delš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5E6F0-079D-4114-B7E2-A2710DDE8F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struktura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vazuje na organizační strukturu a doplňuje věcné nástroje řízení o využit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ačně účinných hodnotových nástroj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dpovědnostního řízen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rvek ekonomické struktury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středisk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y odpovědnostních středis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rozliš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kročilé rozliš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kladové/výnos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ové/výnos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daj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iskové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ziskové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ntabilit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3943440"/>
                <a:tab algn="l" pos="4843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vestiční středisko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investiční středisk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77EB-3586-4F67-A840-41007871BAC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ová, výdajová, výnosová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hospodárné vynakládá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vymezení nákladů ovlivnitelných činností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srovnání skutečné a předem stanovené výše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daj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zvyšování budoucího potenciálu firmy (vzdělávání, výzkum a vývoj, strategický marketing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dnocení: převážně věcné posouzení činnosti doplněné o srovnání skutečné a předem stanovené výše náklad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ýdajů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tupují do vztahů se zákazník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vlivňují objem a strukturu prodeje (obchodní zastoupení, útvary prodeje, oddělení obchodního domu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ientace na maximalizaci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58DD2-3611-41E0-AEDB-852D076011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isková, rentabilitní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isková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poklad: řídí celý proces od nákupu, přes tvorbu výkonu po prodej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stupují do vztahů s dodavateli i zákazní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vlivňují náklady, výnosy a zisk střediska → orientace na ú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hodnocení: skutečně dosažená úroveň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střešují několik nákladových a výnosových středis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ntabilit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blém orientace ziskových středisek: zvyšování zisku bez ohledu na výši čistého pracovního kapitálu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ázanost zdrojů ovlivňuje finanční pozi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ntabilitní středisko → zahrnutí čistého pracovního kapitálu (pohledávky, zásoby, závazky z obchodního styku ...) do odpovědnosti středis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dpovědnostní účetnictví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6C98C-C90F-4DF2-BCB8-D244A212BD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7:30:03Z</dcterms:created>
  <dc:creator>NOBODY</dc:creator>
  <dc:description/>
  <dc:language>en-US</dc:language>
  <cp:lastModifiedBy>NOBODY</cp:lastModifiedBy>
  <dcterms:modified xsi:type="dcterms:W3CDTF">2007-09-04T08:35:00Z</dcterms:modified>
  <cp:revision>8</cp:revision>
  <dc:subject/>
  <dc:title>Odpovědnostní účetnictví</dc:title>
</cp:coreProperties>
</file>