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2FFE-C863-477E-9E6D-D1035E9F5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BA3C-276C-4B30-B71B-029DF971B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607FC-9DF1-40E6-8757-DF2DF6FA6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482B-1389-4BE8-B4EE-9C7D0AD272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93C94-91FB-4F22-B2AF-0F0915A2FF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31439-491A-4DD2-B39E-E65B237B1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BEA6F-2ABA-4867-B82C-63532D8E0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11A4-D274-4A6B-87F8-33649384C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04A8E-DA06-4FE7-8B91-0E5C0CEA1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F025-84D8-4B29-A9B9-87E9F1193B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A02C4-FA8C-4F83-949B-B0D270F99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50388-9AB9-43DF-A34F-E66A9D9F7C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984CA-A7CE-4B01-9E54-612425C35A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Základní průřezy vnitropodnikové struktury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871560" y="4653000"/>
            <a:ext cx="297972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Jedno- a dvouokruhová soustava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dělené okruhy informa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N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záznamu informací do obou okruhů se využívají spojovací úč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eden okruh se systematickou analytickou evidenc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ři odlišném zobrazení v FÚ a MÚ se využívají účty rozdíl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3920" y="5445000"/>
            <a:ext cx="2519280" cy="936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040" y="4508640"/>
            <a:ext cx="2519280" cy="93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3843360" y="532404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871560" y="5427720"/>
            <a:ext cx="648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05360" y="4148280"/>
            <a:ext cx="3745080" cy="2447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553000" y="4219560"/>
            <a:ext cx="244944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(hlavní výděl. č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B9E99-BCAE-4F08-AAB3-2ABE13655C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alokace nákladů na drobný dlouhodobý majetek do HV (zadán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útvaru Komunikace se zákazníky pořízen nábytek a počítač celkem za 276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FÚ zachyceno jako náklad běžného období (nevýznamnost položky z hlediska podnik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účely NÚ odepisováno (významnost položky z hlediska útvaru Komunik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pis v měsíci květnu pro účely NÚ = 3 000 Kč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E015B-8C35-4181-9EC9-5CC3B3CAD7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Příklad – řešení v dvou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2072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828720" y="2421000"/>
            <a:ext cx="1436760" cy="1152360"/>
            <a:chOff x="828720" y="2421000"/>
            <a:chExt cx="1436760" cy="1152360"/>
          </a:xfrm>
        </p:grpSpPr>
        <p:sp>
          <p:nvSpPr>
            <p:cNvPr id="207" name=""/>
            <p:cNvSpPr/>
            <p:nvPr/>
          </p:nvSpPr>
          <p:spPr>
            <a:xfrm>
              <a:off x="828720" y="24210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462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84360" y="2060640"/>
            <a:ext cx="186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249228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422520" y="2421000"/>
            <a:ext cx="1440000" cy="1152360"/>
            <a:chOff x="3422520" y="2421000"/>
            <a:chExt cx="1440000" cy="1152360"/>
          </a:xfrm>
        </p:grpSpPr>
        <p:sp>
          <p:nvSpPr>
            <p:cNvPr id="212" name=""/>
            <p:cNvSpPr/>
            <p:nvPr/>
          </p:nvSpPr>
          <p:spPr>
            <a:xfrm>
              <a:off x="3422520" y="242100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41800" y="24210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3059280" y="2060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5760" y="3719520"/>
            <a:ext cx="82296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ové účetnictv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19280" y="4952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26920" y="4881600"/>
            <a:ext cx="1436760" cy="1152360"/>
            <a:chOff x="826920" y="4881600"/>
            <a:chExt cx="1436760" cy="1152360"/>
          </a:xfrm>
        </p:grpSpPr>
        <p:sp>
          <p:nvSpPr>
            <p:cNvPr id="218" name=""/>
            <p:cNvSpPr/>
            <p:nvPr/>
          </p:nvSpPr>
          <p:spPr>
            <a:xfrm>
              <a:off x="826920" y="488160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544400" y="488160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82560" y="42354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jovací účet  k nákladů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8764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494160" y="4870440"/>
            <a:ext cx="1439640" cy="1152360"/>
            <a:chOff x="3494160" y="4870440"/>
            <a:chExt cx="1439640" cy="1152360"/>
          </a:xfrm>
        </p:grpSpPr>
        <p:sp>
          <p:nvSpPr>
            <p:cNvPr id="223" name=""/>
            <p:cNvSpPr/>
            <p:nvPr/>
          </p:nvSpPr>
          <p:spPr>
            <a:xfrm>
              <a:off x="349416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21308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030480" y="422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útvaru 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26080" y="494172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2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132600" y="4870440"/>
            <a:ext cx="1439640" cy="1152360"/>
            <a:chOff x="6132600" y="4870440"/>
            <a:chExt cx="1439640" cy="1152360"/>
          </a:xfrm>
        </p:grpSpPr>
        <p:sp>
          <p:nvSpPr>
            <p:cNvPr id="228" name=""/>
            <p:cNvSpPr/>
            <p:nvPr/>
          </p:nvSpPr>
          <p:spPr>
            <a:xfrm>
              <a:off x="6132600" y="487044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1520" y="487044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94400" y="4221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1EB0-3443-4E4E-9484-2CA8847814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říklad – řešení v jednookruhové soustavě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9280" y="3195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27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826920" y="3124080"/>
            <a:ext cx="1436760" cy="1152360"/>
            <a:chOff x="826920" y="3124080"/>
            <a:chExt cx="1436760" cy="1152360"/>
          </a:xfrm>
        </p:grpSpPr>
        <p:sp>
          <p:nvSpPr>
            <p:cNvPr id="234" name=""/>
            <p:cNvSpPr/>
            <p:nvPr/>
          </p:nvSpPr>
          <p:spPr>
            <a:xfrm>
              <a:off x="826920" y="3124080"/>
              <a:ext cx="14367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44400" y="312408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682560" y="2763720"/>
            <a:ext cx="18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da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87640" y="3198960"/>
            <a:ext cx="11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a) 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494160" y="3127320"/>
            <a:ext cx="1439640" cy="1152360"/>
            <a:chOff x="3494160" y="3127320"/>
            <a:chExt cx="1439640" cy="1152360"/>
          </a:xfrm>
        </p:grpSpPr>
        <p:sp>
          <p:nvSpPr>
            <p:cNvPr id="239" name=""/>
            <p:cNvSpPr/>
            <p:nvPr/>
          </p:nvSpPr>
          <p:spPr>
            <a:xfrm>
              <a:off x="3494160" y="3127320"/>
              <a:ext cx="1439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21308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2757600" y="24782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otřeba m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 útv. Komunik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969160" y="3198960"/>
            <a:ext cx="11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b)  27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6475320" y="3127320"/>
            <a:ext cx="1440000" cy="1152360"/>
            <a:chOff x="6475320" y="3127320"/>
            <a:chExt cx="1440000" cy="1152360"/>
          </a:xfrm>
        </p:grpSpPr>
        <p:sp>
          <p:nvSpPr>
            <p:cNvPr id="244" name=""/>
            <p:cNvSpPr/>
            <p:nvPr/>
          </p:nvSpPr>
          <p:spPr>
            <a:xfrm>
              <a:off x="6475320" y="3127320"/>
              <a:ext cx="1440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94600" y="3127320"/>
              <a:ext cx="0" cy="1152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649840" y="2478240"/>
            <a:ext cx="311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otřeba mat.             Rozdíly mezi FÚ a N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6EB22-BF8B-4B5E-8493-094571E33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vorba systému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eexistuj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systé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formací manažerského účetnictví, jeho tvorba závisí n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rakteru činnosti podniku a stylu jeho říze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likosti podniku, jeho struktuře a historickém vývoj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čním prostředí a pozicí podniku na trhu 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účinného hodnotového řízení i tvorby systému MÚ je detail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ání struktury podnikatelské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truktur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výkonů, útvarů, činností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uvnitř podniku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kazuje na příčiny vzniku </a:t>
            </a:r>
            <a:r>
              <a:rPr b="0" i="1" lang="en-US" sz="1800" spc="-1" strike="noStrike">
                <a:solidFill>
                  <a:srgbClr val="ff9900"/>
                </a:solidFill>
                <a:latin typeface="Arial"/>
              </a:rPr>
              <a:t>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tázky hodnotové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4881-5AE0-4036-8487-BE64D1F235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ákladní linie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 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o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zniku nákladů a jak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přín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– výsledek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výkon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alkulačně-výkonov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Kdo je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zodpověd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ývoj nákladů a výnosů, aktiv a závazků, příjmů a výdajů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dpověď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vek organizační struktury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četnictví pro řízení p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ii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0EADC-0188-43F6-8326-ADB31F744F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Externí výkony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- finální výkony prodávané externím zákazníkům za tržní ce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členění: výrobky, služby, zboží, podrobněji podle skupin, druhů a jak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dále i podle zákazníků a obchodních podmín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íklad – mlékárenská společ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 Tvarohy, 601 2 Jogurty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 Tvarohy bez příchuti, 601 12 Tvarohy s příchut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 Tvarohy bez příchuti ČR, 601 112 Tvarohy bez příchutí Vývoz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1 Tvarohy bez příchuti ČR – supermarket Hypernov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601 1112 Tvarohy bez příchuti ČR – supermarket Omeg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9245-A24F-4F3B-B3F0-3D69B6E75E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dnikové výkony a jejich členění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terní výkon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sledek činnosti vnitropodnikového útvaru, který ho předává ostatním útvarům uvnitř podniku v podobě určené technologií procesu tvorby finálních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kol NÚ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znat hodnotové vazb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klad – dopravní útvar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pravní útvar najezdil v září 2007 12 000 km, z toho: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 3 000 km pro útvar Nák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 7 000 km pro útvar Prodej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) 2 000 km pro útvar Vedení společnost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2DAB-1863-45AC-B753-9FC41ED50A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411280" y="3213000"/>
            <a:ext cx="4321440" cy="3384720"/>
          </a:xfrm>
          <a:prstGeom prst="ellipse">
            <a:avLst/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141720"/>
            <a:ext cx="4564080" cy="360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nitropodnikové útvary a jejich členěn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3960" y="1413000"/>
            <a:ext cx="82296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aždý útvar má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mezený charakter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působ, jakým se podílí 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dělbě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vnitř podniku včetně rozsahu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avomoci a odpověd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erarchie a provázanost vymezen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rganizační strukturo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68360" y="3141720"/>
            <a:ext cx="4678560" cy="35258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10800" bIns="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3213000"/>
            <a:ext cx="5185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práva a říze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trategický marke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zkum a vývo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invest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logistika, distribuční sí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komunikace se zákazní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říprava výro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výro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distribu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oprodejní služb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2400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78560" y="4292640"/>
            <a:ext cx="1511280" cy="1297080"/>
          </a:xfrm>
          <a:prstGeom prst="rightArrow">
            <a:avLst>
              <a:gd name="adj1" fmla="val 50000"/>
              <a:gd name="adj2" fmla="val 29129"/>
            </a:avLst>
          </a:prstGeom>
          <a:solidFill>
            <a:srgbClr val="3366ff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609300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253840" y="6578280"/>
            <a:ext cx="61920" cy="38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3645000"/>
            <a:ext cx="122400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4005360"/>
            <a:ext cx="1584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4292640"/>
            <a:ext cx="2016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869000"/>
            <a:ext cx="1297080" cy="7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211640" y="5084640"/>
            <a:ext cx="2521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995640" y="5229360"/>
            <a:ext cx="2737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572000" y="5373720"/>
            <a:ext cx="216072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25E04-6E90-4244-84AB-BFD3C6DB15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lenění útvarů podle charakteru činnost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hlavní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zprostředně se podílejí na tvorbě externí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řispívat k tvorbě zis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ervis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bslužné)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skytují služby ostatním útvarů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m je pohotově zajišťovat (často specializované) interní služby s nižšími náklady než na externí zajiště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tvary správy 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bývají se správou a řízením podnik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zení nákladů je obvykle v kompetenci vlast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ální útv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jišťují sociální program podniku a služby pro zaměstnan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1194-FA2D-4578-9598-82841F4600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 funkční k profesní organizac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 tradičního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pecializovaných činnost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funkční organizace)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 přechází k uspořádání podl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procesní organiza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řada věcně a časově návazných činností, které se standardně uskutečňují v daném pořadí a vedou k realizaci výkon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vorba procesu často vychází z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potřeb zákaz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ktivi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článek procesu, který je elementární příčinou vzniku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89B5-2254-4F90-A0B7-AEE67E821B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rganizace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ozdílnost požadavk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řešených rozhodovacích úloh) uživatelů účetních informac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vlivňu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bsah, formu a časovou orientac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informací, které přit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obrazují jeden podnikatelský pro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tázka: Jak vhodně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pracováva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četní informac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řeš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mplexní ekonomické informační systémy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při jejich tvorbě se vychází ze dvou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koncepčních přístupů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jedno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dvouokruhová soustava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ích informac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Základní průře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53EE-E193-4F8E-B1D6-7741C4A162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18:43Z</dcterms:modified>
  <cp:revision>12</cp:revision>
  <dc:subject/>
  <dc:title>Snímek 1</dc:title>
</cp:coreProperties>
</file>