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3C7BA-876B-471C-B6A2-CFB473969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6991E-F02B-4A8F-9FBC-A3CBDC0E11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E443-A32A-4E0A-B232-6AD765ED1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5F1D6-D502-4905-B8EE-C2C5B4933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F54E0-834F-424C-A8C8-A900F5875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2E939-5372-4758-A111-4D1D76702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A3A0-FEC4-4674-A56F-AEFA395A08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735F6-59EA-4CDB-8881-07D18D824B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7D1D4-94A9-4A5C-9698-0404638CB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031B5-F9BC-48D6-ABC0-B4F06384C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4E0B-381D-484B-9F97-830D32C22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1A1CF-9154-4705-978F-D0D0F6F10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C08A-628E-455D-A12D-44ED730D889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ční systém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jeho využití v řízen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konkrétních podmínek činnosti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řízení nákladů výkon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charakter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rganická x heterogenní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typ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omogenní x heterogen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itost výrobní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členitý (technologicky uzavřený) x členitý proce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ztah výkonu k zákazníkov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romadná x sériová x kusov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existence nedokončené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eexistující x stabilní x kolísají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druženost výrob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družená x nesdružená výrob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17219-519D-4642-8BC1-350957647F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65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evidence a kalkulace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áz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upň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káz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druže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F33A5-CFAC-42DF-ABB6-485065DCF3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mod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vykle pokud kompletní provedení jednoho druhu finálního výkonu tvoří nepřetržitý a místně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uzavřen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84360" y="29242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35640" y="34290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7040" y="3400560"/>
            <a:ext cx="2374920" cy="15825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07" idx="3"/>
            <a:endCxn id="209" idx="1"/>
          </p:cNvCxnSpPr>
          <p:nvPr/>
        </p:nvCxnSpPr>
        <p:spPr>
          <a:xfrm>
            <a:off x="2124000" y="4184640"/>
            <a:ext cx="4737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1" name=""/>
          <p:cNvCxnSpPr>
            <a:stCxn id="209" idx="3"/>
            <a:endCxn id="208" idx="1"/>
          </p:cNvCxnSpPr>
          <p:nvPr/>
        </p:nvCxnSpPr>
        <p:spPr>
          <a:xfrm flipV="1">
            <a:off x="4971960" y="4184280"/>
            <a:ext cx="4644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8748720" y="40482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3"/>
            <a:endCxn id="212" idx="1"/>
          </p:cNvCxnSpPr>
          <p:nvPr/>
        </p:nvCxnSpPr>
        <p:spPr>
          <a:xfrm>
            <a:off x="7594560" y="41846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4" name=""/>
          <p:cNvSpPr/>
          <p:nvPr/>
        </p:nvSpPr>
        <p:spPr>
          <a:xfrm>
            <a:off x="7740720" y="3789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E2A6B-E480-4471-9620-0C5C5CC440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20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áz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áz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é se liší charakterem činností, objemem prováděných výkonů v jednotlivých časových úsecích a většinou i místem provádě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fází, výkony předávané mezi fázemi však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e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680" y="3529080"/>
            <a:ext cx="143964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22960" y="4033800"/>
            <a:ext cx="2158920" cy="1511280"/>
          </a:xfrm>
          <a:prstGeom prst="hexagon">
            <a:avLst>
              <a:gd name="adj" fmla="val 35713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11280" y="3386160"/>
            <a:ext cx="237492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636040" y="46530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"/>
          <p:cNvCxnSpPr>
            <a:stCxn id="218" idx="3"/>
            <a:endCxn id="220" idx="1"/>
          </p:cNvCxnSpPr>
          <p:nvPr/>
        </p:nvCxnSpPr>
        <p:spPr>
          <a:xfrm>
            <a:off x="7481880" y="4789440"/>
            <a:ext cx="11548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22" name=""/>
          <p:cNvSpPr/>
          <p:nvPr/>
        </p:nvSpPr>
        <p:spPr>
          <a:xfrm>
            <a:off x="7628040" y="43941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11280" y="4394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5402160"/>
            <a:ext cx="237492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fá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17" idx="3"/>
            <a:endCxn id="223" idx="1"/>
          </p:cNvCxnSpPr>
          <p:nvPr/>
        </p:nvCxnSpPr>
        <p:spPr>
          <a:xfrm>
            <a:off x="2010960" y="478908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/>
          <p:nvPr/>
        </p:nvCxnSpPr>
        <p:spPr>
          <a:xfrm>
            <a:off x="200808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/>
          <p:nvPr/>
        </p:nvCxnSpPr>
        <p:spPr>
          <a:xfrm>
            <a:off x="2022120" y="5805000"/>
            <a:ext cx="400680" cy="2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219" idx="2"/>
            <a:endCxn id="223" idx="0"/>
          </p:cNvCxnSpPr>
          <p:nvPr/>
        </p:nvCxnSpPr>
        <p:spPr>
          <a:xfrm>
            <a:off x="3598560" y="4178160"/>
            <a:ext cx="1080" cy="21672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29" name=""/>
          <p:cNvCxnSpPr>
            <a:stCxn id="223" idx="2"/>
            <a:endCxn id="224" idx="0"/>
          </p:cNvCxnSpPr>
          <p:nvPr/>
        </p:nvCxnSpPr>
        <p:spPr>
          <a:xfrm>
            <a:off x="3598560" y="5186160"/>
            <a:ext cx="1080" cy="216360"/>
          </a:xfrm>
          <a:prstGeom prst="straightConnector1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</p:cxnSp>
      <p:cxnSp>
        <p:nvCxnSpPr>
          <p:cNvPr id="230" name=""/>
          <p:cNvCxnSpPr>
            <a:stCxn id="219" idx="3"/>
            <a:endCxn id="218" idx="1"/>
          </p:cNvCxnSpPr>
          <p:nvPr/>
        </p:nvCxnSpPr>
        <p:spPr>
          <a:xfrm>
            <a:off x="4785840" y="3782880"/>
            <a:ext cx="537480" cy="100728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1" name=""/>
          <p:cNvCxnSpPr>
            <a:stCxn id="223" idx="3"/>
            <a:endCxn id="218" idx="1"/>
          </p:cNvCxnSpPr>
          <p:nvPr/>
        </p:nvCxnSpPr>
        <p:spPr>
          <a:xfrm flipV="1">
            <a:off x="4785840" y="4788720"/>
            <a:ext cx="537480" cy="2520"/>
          </a:xfrm>
          <a:prstGeom prst="straightConnector1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</p:cxnSp>
      <p:cxnSp>
        <p:nvCxnSpPr>
          <p:cNvPr id="232" name=""/>
          <p:cNvCxnSpPr>
            <a:stCxn id="224" idx="3"/>
            <a:endCxn id="218" idx="1"/>
          </p:cNvCxnSpPr>
          <p:nvPr/>
        </p:nvCxnSpPr>
        <p:spPr>
          <a:xfrm flipV="1">
            <a:off x="4785840" y="4788720"/>
            <a:ext cx="537480" cy="10105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33" name=""/>
          <p:cNvSpPr/>
          <p:nvPr/>
        </p:nvSpPr>
        <p:spPr>
          <a:xfrm>
            <a:off x="5410080" y="5734080"/>
            <a:ext cx="3492720" cy="64764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naturální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uze hodnotové veliči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30760" y="5886360"/>
            <a:ext cx="43200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30760" y="6173640"/>
            <a:ext cx="4320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4123-0006-4432-877D-208EE1EB04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70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9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7000"/>
                            </p:stCondLst>
                            <p:childTnLst>
                              <p:par>
                                <p:cTn id="4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9000"/>
                            </p:stCondLst>
                            <p:childTnLst>
                              <p:par>
                                <p:cTn id="4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upň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roba finálního výrobku je rozdělena do několik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upň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výstupem každého stupně (kromě posledního)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loto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může být dále spotřebován nebo prod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y se sledují podle stupňů, výkony předávané mezi stupn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sou předmětem hodnotového zobra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10960" y="3529080"/>
            <a:ext cx="1440000" cy="25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vynaložené na hlavní činnos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979960" y="4438800"/>
            <a:ext cx="1830600" cy="1511280"/>
          </a:xfrm>
          <a:prstGeom prst="hexagon">
            <a:avLst>
              <a:gd name="adj" fmla="val 30282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0920" y="3386160"/>
            <a:ext cx="1800360" cy="79200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34480" y="5057640"/>
            <a:ext cx="2095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9" idx="3"/>
            <a:endCxn id="241" idx="1"/>
          </p:cNvCxnSpPr>
          <p:nvPr/>
        </p:nvCxnSpPr>
        <p:spPr>
          <a:xfrm>
            <a:off x="7810560" y="519444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3" name=""/>
          <p:cNvSpPr/>
          <p:nvPr/>
        </p:nvSpPr>
        <p:spPr>
          <a:xfrm>
            <a:off x="7953480" y="4799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"/>
          <p:cNvCxnSpPr/>
          <p:nvPr/>
        </p:nvCxnSpPr>
        <p:spPr>
          <a:xfrm>
            <a:off x="1647720" y="3789360"/>
            <a:ext cx="401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5" name=""/>
          <p:cNvSpPr/>
          <p:nvPr/>
        </p:nvSpPr>
        <p:spPr>
          <a:xfrm>
            <a:off x="4211640" y="3198960"/>
            <a:ext cx="1873080" cy="1152360"/>
          </a:xfrm>
          <a:prstGeom prst="flowChartDecision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otova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0" idx="3"/>
            <a:endCxn id="245" idx="1"/>
          </p:cNvCxnSpPr>
          <p:nvPr/>
        </p:nvCxnSpPr>
        <p:spPr>
          <a:xfrm flipV="1">
            <a:off x="3850920" y="3774600"/>
            <a:ext cx="36108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47" name=""/>
          <p:cNvSpPr/>
          <p:nvPr/>
        </p:nvSpPr>
        <p:spPr>
          <a:xfrm>
            <a:off x="3851280" y="4797360"/>
            <a:ext cx="1800360" cy="792360"/>
          </a:xfrm>
          <a:prstGeom prst="octagon">
            <a:avLst>
              <a:gd name="adj" fmla="val 2928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tv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stup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8" name=""/>
          <p:cNvCxnSpPr>
            <a:stCxn id="245" idx="2"/>
            <a:endCxn id="247" idx="0"/>
          </p:cNvCxnSpPr>
          <p:nvPr/>
        </p:nvCxnSpPr>
        <p:spPr>
          <a:xfrm flipH="1">
            <a:off x="4750560" y="4350960"/>
            <a:ext cx="397800" cy="44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49" name=""/>
          <p:cNvCxnSpPr>
            <a:stCxn id="247" idx="3"/>
            <a:endCxn id="239" idx="1"/>
          </p:cNvCxnSpPr>
          <p:nvPr/>
        </p:nvCxnSpPr>
        <p:spPr>
          <a:xfrm>
            <a:off x="5651640" y="5194080"/>
            <a:ext cx="3290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0" name=""/>
          <p:cNvSpPr/>
          <p:nvPr/>
        </p:nvSpPr>
        <p:spPr>
          <a:xfrm>
            <a:off x="7223040" y="364500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242040" y="338616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45" idx="3"/>
            <a:endCxn id="250" idx="1"/>
          </p:cNvCxnSpPr>
          <p:nvPr/>
        </p:nvCxnSpPr>
        <p:spPr>
          <a:xfrm>
            <a:off x="6084720" y="3774960"/>
            <a:ext cx="1139040" cy="15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F6DCF-CAD5-4B86-9062-4ACF55C828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"/>
                            </p:stCondLst>
                            <p:childTnLst>
                              <p:par>
                                <p:cTn id="5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000"/>
                            </p:stCondLst>
                            <p:childTnLst>
                              <p:par>
                                <p:cTn id="5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akázková meto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398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při tvorbě jedinečných individuálních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akáz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iřaz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iž při vznik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 zakáz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přímé náklady s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umulují na účtech reži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poté je podle řešené rozhodovací úlohy rozhodnuto o jejich alokac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zakázkově orientovaném typu výroby má výkonově orientované účetnictví daleko šir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ýznam pro řízení nákladů a zis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000" y="3529080"/>
            <a:ext cx="1440000" cy="177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přímé náklady zakáz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53040" y="3971880"/>
            <a:ext cx="1830240" cy="1511280"/>
          </a:xfrm>
          <a:prstGeom prst="hexagon">
            <a:avLst>
              <a:gd name="adj" fmla="val 30276"/>
              <a:gd name="vf" fmla="val 11547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končené zakázk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107200" y="4591080"/>
            <a:ext cx="2098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6" idx="3"/>
            <a:endCxn id="257" idx="1"/>
          </p:cNvCxnSpPr>
          <p:nvPr/>
        </p:nvCxnSpPr>
        <p:spPr>
          <a:xfrm>
            <a:off x="6983280" y="4727520"/>
            <a:ext cx="112464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59" name=""/>
          <p:cNvSpPr/>
          <p:nvPr/>
        </p:nvSpPr>
        <p:spPr>
          <a:xfrm>
            <a:off x="7126200" y="4332240"/>
            <a:ext cx="2095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92320" y="350028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92000" y="5373720"/>
            <a:ext cx="1440000" cy="1006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ynaložené nepřímé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92320" y="436572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992320" y="5229360"/>
            <a:ext cx="1513080" cy="72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kázka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4" name=""/>
          <p:cNvCxnSpPr>
            <a:stCxn id="262" idx="3"/>
            <a:endCxn id="256" idx="1"/>
          </p:cNvCxnSpPr>
          <p:nvPr/>
        </p:nvCxnSpPr>
        <p:spPr>
          <a:xfrm>
            <a:off x="4505040" y="4726080"/>
            <a:ext cx="64836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55" idx="3"/>
            <a:endCxn id="260" idx="1"/>
          </p:cNvCxnSpPr>
          <p:nvPr/>
        </p:nvCxnSpPr>
        <p:spPr>
          <a:xfrm flipV="1">
            <a:off x="2232000" y="3859920"/>
            <a:ext cx="761040" cy="554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55" idx="3"/>
            <a:endCxn id="262" idx="1"/>
          </p:cNvCxnSpPr>
          <p:nvPr/>
        </p:nvCxnSpPr>
        <p:spPr>
          <a:xfrm>
            <a:off x="2232000" y="4414320"/>
            <a:ext cx="761040" cy="311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55" idx="3"/>
            <a:endCxn id="263" idx="1"/>
          </p:cNvCxnSpPr>
          <p:nvPr/>
        </p:nvCxnSpPr>
        <p:spPr>
          <a:xfrm>
            <a:off x="2232000" y="4414680"/>
            <a:ext cx="761040" cy="117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68" name=""/>
          <p:cNvCxnSpPr>
            <a:stCxn id="261" idx="3"/>
            <a:endCxn id="260" idx="1"/>
          </p:cNvCxnSpPr>
          <p:nvPr/>
        </p:nvCxnSpPr>
        <p:spPr>
          <a:xfrm flipV="1">
            <a:off x="2232000" y="3859920"/>
            <a:ext cx="761040" cy="201708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69" name=""/>
          <p:cNvCxnSpPr>
            <a:stCxn id="261" idx="3"/>
            <a:endCxn id="262" idx="1"/>
          </p:cNvCxnSpPr>
          <p:nvPr/>
        </p:nvCxnSpPr>
        <p:spPr>
          <a:xfrm flipV="1">
            <a:off x="2232000" y="4725360"/>
            <a:ext cx="761040" cy="115164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cxnSp>
        <p:nvCxnSpPr>
          <p:cNvPr id="270" name=""/>
          <p:cNvCxnSpPr>
            <a:stCxn id="261" idx="3"/>
            <a:endCxn id="263" idx="1"/>
          </p:cNvCxnSpPr>
          <p:nvPr/>
        </p:nvCxnSpPr>
        <p:spPr>
          <a:xfrm flipV="1">
            <a:off x="2232000" y="5589360"/>
            <a:ext cx="761040" cy="288000"/>
          </a:xfrm>
          <a:prstGeom prst="straightConnector1">
            <a:avLst/>
          </a:prstGeom>
          <a:ln w="9360">
            <a:solidFill>
              <a:srgbClr val="ffffff"/>
            </a:solidFill>
            <a:prstDash val="sysDot"/>
            <a:miter/>
            <a:tailEnd len="med" type="stealth" w="med"/>
          </a:ln>
        </p:spPr>
      </p:cxnSp>
      <p:sp>
        <p:nvSpPr>
          <p:cNvPr id="271" name=""/>
          <p:cNvSpPr/>
          <p:nvPr/>
        </p:nvSpPr>
        <p:spPr>
          <a:xfrm>
            <a:off x="2233440" y="6237360"/>
            <a:ext cx="590580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-10800" bIns="-10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60" idx="3"/>
            <a:endCxn id="256" idx="1"/>
          </p:cNvCxnSpPr>
          <p:nvPr/>
        </p:nvCxnSpPr>
        <p:spPr>
          <a:xfrm>
            <a:off x="4505040" y="3860640"/>
            <a:ext cx="648360" cy="867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73" name=""/>
          <p:cNvCxnSpPr>
            <a:stCxn id="263" idx="3"/>
            <a:endCxn id="256" idx="1"/>
          </p:cNvCxnSpPr>
          <p:nvPr/>
        </p:nvCxnSpPr>
        <p:spPr>
          <a:xfrm flipV="1">
            <a:off x="4505040" y="4726800"/>
            <a:ext cx="648360" cy="862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13831-0299-4BFE-9BEA-E6517C750C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4000"/>
                            </p:stCondLst>
                            <p:childTnLst>
                              <p:par>
                                <p:cTn id="5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60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6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6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6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8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2000"/>
                            </p:stCondLst>
                            <p:childTnLst>
                              <p:par>
                                <p:cTn id="6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4000"/>
                            </p:stCondLst>
                            <p:childTnLst>
                              <p:par>
                                <p:cTn id="6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zniká-l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 kombin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ložených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stupů více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omezeně ovlivnitelném poměru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šechny náklady jsou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epřím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sdružené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členění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hlavní výkony – hlavní cíl činnosti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dlejší výkony – nejsou hlavním cílem činnosti, ale mají hodnot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dpad – nutné důsledky činnosti s minimální hodnoto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tížné nalezení vazby mezi sdruženými náklady a jednotlivými výkon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alokace obvykle n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incipu únos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důvod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zásob ve finančním účetnic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hajoby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cenění výkonů pro hodnotové řízení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201F-1B70-47A8-9184-624C4EC2E9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sdružených výkonů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okace nákladů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hlav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hodnotový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prodejní cena, příspěvek k tržbám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na základě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naturálních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rozvrhových základen (objem, hmotnost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cenění a zobraz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vedlejš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roz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edlejší výkony zachyceny obdobně jako hlav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odčítací způsob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výnosy z prodeje vedlejších výkonů považovány za snížení nákladů vynaložených na hlavní výko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C4D84-8E6C-413B-AB7A-B71340818E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lišnosti kalkulací ve vztah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horizon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třeba sestavova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roveň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operativní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takt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o strategické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i řídicího cyk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fázi plánování a kontro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běž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 průběhu či po skončení tvorby a prodeje výkonů → výsledné kalku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ílem je poskytnout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nformace pro řízení hodno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u po celou dobu jeho exist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alkulace jsou významné nejen samostatně ale zejména jako ucelený systém 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č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46D8-06AA-47B6-93C0-62293F9041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87280" y="2083680"/>
            <a:ext cx="6984360" cy="3411720"/>
            <a:chOff x="1187280" y="2083680"/>
            <a:chExt cx="6984360" cy="3411720"/>
          </a:xfrm>
        </p:grpSpPr>
        <p:cxnSp>
          <p:nvCxnSpPr>
            <p:cNvPr id="164" name="_s56328"/>
            <p:cNvCxnSpPr>
              <a:stCxn id="165" idx="3"/>
              <a:endCxn id="166" idx="2"/>
            </p:cNvCxnSpPr>
            <p:nvPr/>
          </p:nvCxnSpPr>
          <p:spPr>
            <a:xfrm flipV="1">
              <a:off x="4639320" y="4124160"/>
              <a:ext cx="384120" cy="114264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7" name="_s56329"/>
            <p:cNvCxnSpPr>
              <a:stCxn id="168" idx="3"/>
              <a:endCxn id="166" idx="2"/>
            </p:cNvCxnSpPr>
            <p:nvPr/>
          </p:nvCxnSpPr>
          <p:spPr>
            <a:xfrm flipV="1">
              <a:off x="4639320" y="4123800"/>
              <a:ext cx="384120" cy="457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69" name="_s56330"/>
            <p:cNvCxnSpPr>
              <a:stCxn id="166" idx="0"/>
              <a:endCxn id="170" idx="2"/>
            </p:cNvCxnSpPr>
            <p:nvPr/>
          </p:nvCxnSpPr>
          <p:spPr>
            <a:xfrm flipV="1" rot="16200000">
              <a:off x="4237200" y="2881080"/>
              <a:ext cx="228960" cy="134352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1" name="_s56331"/>
            <p:cNvCxnSpPr>
              <a:stCxn id="172" idx="0"/>
              <a:endCxn id="170" idx="2"/>
            </p:cNvCxnSpPr>
            <p:nvPr/>
          </p:nvCxnSpPr>
          <p:spPr>
            <a:xfrm flipH="1" flipV="1" rot="5400000">
              <a:off x="2894400" y="2881800"/>
              <a:ext cx="228960" cy="1342800"/>
            </a:xfrm>
            <a:prstGeom prst="bentConnector3">
              <a:avLst>
                <a:gd name="adj1" fmla="val 4960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3" name="_s56332"/>
            <p:cNvCxnSpPr>
              <a:stCxn id="174" idx="0"/>
              <a:endCxn id="175" idx="2"/>
            </p:cNvCxnSpPr>
            <p:nvPr/>
          </p:nvCxnSpPr>
          <p:spPr>
            <a:xfrm flipV="1" rot="16200000">
              <a:off x="5627520" y="1806480"/>
              <a:ext cx="228960" cy="212148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6" name="_s56333"/>
            <p:cNvCxnSpPr>
              <a:stCxn id="170" idx="0"/>
              <a:endCxn id="175" idx="2"/>
            </p:cNvCxnSpPr>
            <p:nvPr/>
          </p:nvCxnSpPr>
          <p:spPr>
            <a:xfrm flipH="1" flipV="1" rot="5400000">
              <a:off x="4066560" y="2366280"/>
              <a:ext cx="228960" cy="1002240"/>
            </a:xfrm>
            <a:prstGeom prst="bentConnector3">
              <a:avLst>
                <a:gd name="adj1" fmla="val 499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5" name="_s56334"/>
            <p:cNvSpPr/>
            <p:nvPr/>
          </p:nvSpPr>
          <p:spPr>
            <a:xfrm>
              <a:off x="3531240" y="2083680"/>
              <a:ext cx="2298960" cy="669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KALKULACE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ÁKLADŮ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_s56335"/>
            <p:cNvSpPr/>
            <p:nvPr/>
          </p:nvSpPr>
          <p:spPr>
            <a:xfrm>
              <a:off x="231120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ŘEDBĚŽ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56336"/>
            <p:cNvSpPr/>
            <p:nvPr/>
          </p:nvSpPr>
          <p:spPr>
            <a:xfrm>
              <a:off x="5433480" y="2981880"/>
              <a:ext cx="273816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VÝSLEDN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56337"/>
            <p:cNvSpPr/>
            <p:nvPr/>
          </p:nvSpPr>
          <p:spPr>
            <a:xfrm>
              <a:off x="118728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ROPOČT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56338"/>
            <p:cNvSpPr/>
            <p:nvPr/>
          </p:nvSpPr>
          <p:spPr>
            <a:xfrm>
              <a:off x="3872520" y="36673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NORM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_s56339"/>
            <p:cNvSpPr/>
            <p:nvPr/>
          </p:nvSpPr>
          <p:spPr>
            <a:xfrm>
              <a:off x="2337840" y="435312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PLÁNOVÁ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56340"/>
            <p:cNvSpPr/>
            <p:nvPr/>
          </p:nvSpPr>
          <p:spPr>
            <a:xfrm>
              <a:off x="2337840" y="5038560"/>
              <a:ext cx="2301480" cy="456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99"/>
                  </a:solidFill>
                  <a:latin typeface="Arial"/>
                </a:rPr>
                <a:t>OPERATIVNÍ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1EF5-8B51-4851-BA6F-BE3A2E2195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čt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 hromadné a sériové výrobě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výzkumu a vývoj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vého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osouzení účinnost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ového výrobku ve srovnání s cen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limitem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technické příprav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0273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i zakázkové čin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přípravy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zpracování cenové nabídk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 jednání o ceně se zákazník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 výchozí úrovní nákladové náročnosti pro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útvary zajišťující přípravu a realizac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zakáz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" y="4581360"/>
            <a:ext cx="8064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 z informac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o podobných výkonech, z normativů obecnější platnosti a z odborných odh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lkulační vzorec se sestavuj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tj. včetně prodejní a 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hodný typ kalkulačního vzorce –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trográdní kalkulační vzor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C6A58-18A6-4384-AE32-3EBE15C7F1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ánov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507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yjadřuje úroveň nákladů výkonu, které by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rozpočtového obdob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á význam u výkonů, jejichž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a se opaku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v průběhu 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 hodnotových veliči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středních a vyšších úrovních řízení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odklad pro hlavní podnikový rozpoč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nákladů v rozpočtové výsledovc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výdajů v rozpočtu peněžních tok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ozpočet zásob vlastní výroby v rozpočtové rozvaze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technické příprav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výro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z existujících podmínek a uvažovaných změ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dílčího období – váže na předpokládaný průběh změ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kalkulace celého rozpočtového období – průměr dílčích kalkulací vážený plánova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jednicových nákladů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řípadně vč. variabilní reži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844E-0C73-4BBD-8A53-ADCD5D17A7F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rativ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fáz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e úroveň nákladů, které by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mělo být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při stávajících technologických a konstrukčních podmínkách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sažen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e vazbě na plán. kalkulac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přesňuje předem stanovenou výši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: posouzen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dodržení úkol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útvary zajišťujícími podmínky tvorby výkonu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technická příprava výrob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je úkolem pro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útvary zajišťující tvorbu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ýkon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 sestavování se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vycház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z konkrétních konstrukčních a technologických podmínek činn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dílčího období – odráží skutečný průběh změn podmínek činnosti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ffffff"/>
                </a:solidFill>
                <a:latin typeface="Arial"/>
              </a:rPr>
              <a:t>kalkulace celého sledovaného období – průměr dílčích kalkulací vážený plánovaným či skutečným objemem výkon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sestavuje se na úrovn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jednicových nákladů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a základě aktuálních norem (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norm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ovená cena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2C766-F910-4006-B161-849F750EBD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ýsledná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 průběhu či po skončení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tvorby výkonů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e úroveň nákladů výkonu, které ve skutečnosti či v průměru byly vynaloženy na jednotku výkonu vyrobenou v určitém období či dáv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účel: různé využití na jednotlivých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rovních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znamné pro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u hospodár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nápravná opatření 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→ při výrobách s dal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nalýza příčin a odpovědnosti za vznik odchylek (→ ve výrobách s kratším cyklem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dle potřeby se sestavuje v různém obsahu i struktuře položek (od jednicových nákladů po plné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10A2-BF28-4C9E-86E7-E75C30218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zakázkov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PC – V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(M) = (PC – PrK) + (PrK – OK) + (OK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isk (marže) = kalkulovaný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propočt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propočtové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podmínky tvorb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dodržení operativní kalkulace v odpovědnosti útvarů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zajišťujících tvorb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ýkon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41480" y="2781360"/>
            <a:ext cx="719280" cy="503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03640" y="2781360"/>
            <a:ext cx="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2708280"/>
            <a:ext cx="122400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2D2F1-17AE-48C7-998A-B7535212A7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alkulace nákladů, ceny a zisku (marže) u hromadné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ke konkrétnímu okamž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Úspora/překročení nákladů = dodržení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ení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b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ve vztahu k hodnocenému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(např. ročnímu)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obdob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(PC – 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Pl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plán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+ (OK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r, sk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K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Z (M) = kalkul. zisk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plánové k.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iv změny objem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±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dodrž. operativní k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859280" y="2492280"/>
            <a:ext cx="64944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020000" y="2421000"/>
            <a:ext cx="36036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619280" y="4653000"/>
            <a:ext cx="288720" cy="431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3640" y="4653000"/>
            <a:ext cx="28872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651280" y="4581360"/>
            <a:ext cx="215640" cy="576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956720" y="4653000"/>
            <a:ext cx="0" cy="504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ční systé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07CDC-1AA0-4972-ADC6-44788CBAC6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9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4Z</dcterms:modified>
  <cp:revision>12</cp:revision>
  <dc:subject/>
  <dc:title>Snímek 1</dc:title>
</cp:coreProperties>
</file>