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D4777-2ECE-44A5-8BCB-9B00B470D7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41A8B-BC02-4DF6-9537-D5A8AD067E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5F445-332D-4721-B513-AD1EC71B99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03709-D0D4-4467-ADCB-2D65135654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F7CD3-34F3-4162-BFF0-52C29B1B19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A155B-E9FB-4069-ACEB-1B544AA8CB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8F2C7-3ED5-4DC9-8836-405929D93D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06C42-5C08-4E06-B17C-1DE691509F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61C57-29B8-4D8E-B2CD-F0E8AECC09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0E32B-2D9A-403E-85D8-2A33933F4B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5869D-4E72-4D8D-8893-94246C1C06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950AE-4268-41C1-B3D3-DEB6D6F5EE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0B71-1CB4-49DD-9927-625F085659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etoda standardních nákladů a výnosů a analýza odchylek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ze změny struktury prode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i nehomogenní produkci lze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odchylku objemu prodej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změnu marže v důsledku změny objemu prodeje) rozložit na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odchylku ze změny objemu výkonů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způsobenou zvýšením či snížením objemu prodej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ff99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odchylku</a:t>
            </a:r>
            <a:r>
              <a:rPr b="0" i="1" lang="cs-CZ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ff9900"/>
                </a:solidFill>
                <a:latin typeface="Arial"/>
              </a:rPr>
              <a:t>ze změny struktury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způsobenou změnou sortimentu prodávaných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* 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sk,i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,i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alternativně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lze odchylku vyjádřit přes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říspěvek k tržbá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CT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de CT jsou celkové tržb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69686-1245-4BB8-90CB-5E1CB524D0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a ze změny struktury vstup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v případě možnosti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změni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v technologickém postupu tvorby výkonu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měr vstup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, je možné rozdělit celkovou odchylku ze změny objemu na „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čistou kvantitativní odchylk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“ 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dchylku ze změny struktury vstupů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výpoče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odchyl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r,vstupy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průměrná cena naturální jednotky vstupů při standardní struktuře vstupů – průměrná cena naturální jednotky vstupů při skutečné struktuře)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skutečná spotřeba vstupů v naturálním vyjádřen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standardní spotřeba vstupů v naturálním vyjádření –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skutečná spotřeba vstupů v naturálním vyjádření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průměrná cena naturální jednotky vstupů při standardní struktuře vstupů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73FFB-FA17-477C-85A7-C8BBC53CC4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jetí a cíle analýzy odchyl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ýchodisko – urč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em stanovených hodn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zjiště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tečné výš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jejich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rovn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četně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y rozdíl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je páteří manažerského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užití v kalkulacích, rozpočetnictví i odpovědnostním řízen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áz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ystému řízení na základě odchyl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ovení standard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skutečných výsledk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jištění odchylky mezi standardní a skutečnou hodnoto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ýza odchyle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80880" indent="0">
              <a:spcBef>
                <a:spcPts val="112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řijetí opatř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059E5-0276-4895-8362-D9DD0E9054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ovení standar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ard -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edem stanovená výš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ů, ceny, zisku či naturálně vyjádřeného zdro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a jednotku výkon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ednotkou výkonu – jednotk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álního výkon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ebo „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dardní dílčí čá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 výkonu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u finálních výkonů přizpůsobovaných zákazníkům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úrovně standar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áklad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– úroveň neměnná po určitou dob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běžn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– reálně dosažitelná úroveň při efektivním provádění činnosti v daném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ideál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– úroveň dosažitelná při ideálním průběhu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B8388-F5E0-4801-BEAF-7A81530A05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tup stanovení standardů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92360" y="1716120"/>
            <a:ext cx="215928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jednotka výrobku (1 k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19640" y="2506680"/>
            <a:ext cx="215892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219640" y="3298680"/>
            <a:ext cx="2158920" cy="5749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jednicové a variabil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4091040"/>
            <a:ext cx="215892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marž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19640" y="4883040"/>
            <a:ext cx="2158920" cy="5749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fixní 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19640" y="5675400"/>
            <a:ext cx="2158920" cy="57456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zi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6732360" y="1787400"/>
            <a:ext cx="431640" cy="432000"/>
          </a:xfrm>
          <a:prstGeom prst="line">
            <a:avLst/>
          </a:prstGeom>
          <a:ln w="76320">
            <a:solidFill>
              <a:srgbClr val="96969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308720" y="1341360"/>
            <a:ext cx="1835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šechny veličiny vyjádřeny na 1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2720880"/>
            <a:ext cx="3240000" cy="17287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ormy spotřeby materiál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předem stan. cena materi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orma spotřeby čas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předem stan. mzdový tari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normativ spotřeby stroj. hodi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předem stan. výše var. reži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4883040"/>
            <a:ext cx="3240000" cy="574920"/>
          </a:xfrm>
          <a:prstGeom prst="rect">
            <a:avLst/>
          </a:prstGeom>
          <a:solidFill>
            <a:srgbClr val="ffffcc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mit fixních nákladů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dardní objem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87560" y="517212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6" name=""/>
          <p:cNvCxnSpPr>
            <a:stCxn id="165" idx="2"/>
            <a:endCxn id="173" idx="0"/>
          </p:cNvCxnSpPr>
          <p:nvPr/>
        </p:nvCxnSpPr>
        <p:spPr>
          <a:xfrm flipH="1">
            <a:off x="2376000" y="2290320"/>
            <a:ext cx="2196000" cy="430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77" name=""/>
          <p:cNvCxnSpPr>
            <a:stCxn id="165" idx="2"/>
            <a:endCxn id="166" idx="0"/>
          </p:cNvCxnSpPr>
          <p:nvPr/>
        </p:nvCxnSpPr>
        <p:spPr>
          <a:xfrm>
            <a:off x="4572000" y="2290680"/>
            <a:ext cx="17280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78" name=""/>
          <p:cNvCxnSpPr>
            <a:stCxn id="166" idx="2"/>
            <a:endCxn id="167" idx="0"/>
          </p:cNvCxnSpPr>
          <p:nvPr/>
        </p:nvCxnSpPr>
        <p:spPr>
          <a:xfrm>
            <a:off x="6298920" y="308124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79" name=""/>
          <p:cNvCxnSpPr>
            <a:stCxn id="167" idx="2"/>
            <a:endCxn id="168" idx="0"/>
          </p:cNvCxnSpPr>
          <p:nvPr/>
        </p:nvCxnSpPr>
        <p:spPr>
          <a:xfrm>
            <a:off x="6298920" y="387360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0" name=""/>
          <p:cNvCxnSpPr>
            <a:stCxn id="168" idx="2"/>
            <a:endCxn id="169" idx="0"/>
          </p:cNvCxnSpPr>
          <p:nvPr/>
        </p:nvCxnSpPr>
        <p:spPr>
          <a:xfrm>
            <a:off x="6298920" y="466560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1" name=""/>
          <p:cNvCxnSpPr>
            <a:stCxn id="169" idx="2"/>
            <a:endCxn id="170" idx="0"/>
          </p:cNvCxnSpPr>
          <p:nvPr/>
        </p:nvCxnSpPr>
        <p:spPr>
          <a:xfrm>
            <a:off x="6298920" y="5457960"/>
            <a:ext cx="1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2" name=""/>
          <p:cNvCxnSpPr>
            <a:stCxn id="174" idx="3"/>
            <a:endCxn id="169" idx="1"/>
          </p:cNvCxnSpPr>
          <p:nvPr/>
        </p:nvCxnSpPr>
        <p:spPr>
          <a:xfrm>
            <a:off x="3995640" y="5169960"/>
            <a:ext cx="12247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83" name=""/>
          <p:cNvCxnSpPr>
            <a:stCxn id="173" idx="3"/>
            <a:endCxn id="167" idx="1"/>
          </p:cNvCxnSpPr>
          <p:nvPr/>
        </p:nvCxnSpPr>
        <p:spPr>
          <a:xfrm>
            <a:off x="3995640" y="3585960"/>
            <a:ext cx="1224720" cy="108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44811-4543-4BFE-9719-162D6B07F4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80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Způsoby zjišťování odchyl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násled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v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ůběh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období se v MÚ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sledují skutečné veličin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a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zjištění odchyle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probíhá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o skončení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ení možné pružně reagovat na vznik odchyle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btížná identifikace příčin vzniku a odpovědnosti za vznik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formace o skutečných nákladech výkonů lze získat až po skončení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růběžn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→ již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při zobra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nákladu je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oddělena předem stanovená výše a odchylka skuteč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(tzv. rozdílové metody řízen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ožnost okamžité analýzy a reakce na zjištěné odchyl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áročnější na informační systé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yužívá se zejména u jednicových nákladů a prodejních ce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BDD37-96C7-4E03-A0F2-22BB038841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alýza odchyl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y vzni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dpověd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a vznik odchylek je možné analyzovat v růz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robnosti podle potře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nkrétní pravidla a metodické postup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i stanovuje podni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2001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alýza a zjišťování odchylek většinou vychází ze základních faktorů ovlivňujících zisk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bjem prodaných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rodejní cen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ariabil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ixní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1800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truktura prodaných výkonů při nehomogenních výkonech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64317-7E96-4766-BB77-1A95F20716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prodejní cen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9720" y="1700280"/>
            <a:ext cx="5372280" cy="28810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Odchylku prodejní ceny 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lze vyjádř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na jednotk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na celkový obj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procent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%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/c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82560" y="4724280"/>
            <a:ext cx="3672000" cy="136872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Le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skutečná 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standardní prodejní ce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skutečný objem prode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4874C-5E58-4E60-9DA3-97552A88F7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1413000"/>
            <a:ext cx="4349880" cy="28810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9900"/>
                </a:solidFill>
                <a:latin typeface="Arial"/>
              </a:rPr>
              <a:t>Odchylku variabilních nákladů 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lze vyjádř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na jednotku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na celkový objem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(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*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procent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%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/v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00440" y="1413000"/>
            <a:ext cx="4364280" cy="28810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9900"/>
                </a:solidFill>
                <a:latin typeface="Arial"/>
              </a:rPr>
              <a:t>Odchylku fixních nákladů 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lze vyjádři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a) celk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b) na jednotku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F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 (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c) procentn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 /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9280" y="4365720"/>
            <a:ext cx="4897440" cy="20160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Le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 variabilní náklady na jednotku standardní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variabilní náklady na jednotku skutečn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celkové fixní náklady standardní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celkové fixní náklady skutečn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5712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skutečný objem výkon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53863-F882-4BAB-B466-0EB9607EE3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5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dchylky objemu prodej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9280" y="1341360"/>
            <a:ext cx="8828280" cy="295128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Vliv objemu výkonů na zisk se projeví </a:t>
            </a:r>
            <a:r>
              <a:rPr b="1" lang="cs-CZ" sz="1800" spc="-1" strike="noStrike">
                <a:solidFill>
                  <a:srgbClr val="ff9900"/>
                </a:solidFill>
                <a:latin typeface="Arial"/>
              </a:rPr>
              <a:t>změnou marže. Odchylka objemu prodeje</a:t>
            </a: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  se zjist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q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*m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Tuto odchylku lze dále rozložit na</a:t>
            </a: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a) relativní úsporu fixních náklad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=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/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*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 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– F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b) vliv zisku z prodeje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)*z</a:t>
            </a:r>
            <a:r>
              <a:rPr b="1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4365720"/>
            <a:ext cx="8785440" cy="20160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9900"/>
                </a:solidFill>
                <a:latin typeface="Arial"/>
              </a:rPr>
              <a:t>Lege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marže na jednotku výkonů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- zisk na jednotku výkonů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 – celkové fixní náklady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lang="cs-CZ" sz="18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objem prodeje standar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360360"/>
                <a:tab algn="l" pos="2957400"/>
                <a:tab algn="l" pos="3314880"/>
                <a:tab algn="l" pos="5915160"/>
                <a:tab algn="l" pos="62722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i="1" lang="cs-CZ" sz="1800" spc="-1" strike="noStrike" baseline="-25000">
                <a:solidFill>
                  <a:srgbClr val="ffffff"/>
                </a:solidFill>
                <a:latin typeface="Arial"/>
              </a:rPr>
              <a:t>st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- objem prodeje skutečn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etoda standarních nákladů a výnosů a analýza odchylek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76F8D-1F24-479F-80B3-4BE0F9CC96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36:44Z</dcterms:modified>
  <cp:revision>15</cp:revision>
  <dc:subject/>
  <dc:title>Snímek 1</dc:title>
</cp:coreProperties>
</file>