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C0BF-EBA2-437A-8276-B8C398AA60D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E= ČZ/Výnosy * Výnosy/Aktiva / VK/Ak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=Zisk z HČ po zdanění – Kapitál*P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FA1CC-B345-4E59-BB45-2835B26BBB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51560-0A0D-4E8A-85CF-6AACCA15D7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B0592-5348-46B1-A143-D2B71C7CCF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342E5-9BEB-41C7-9C8D-D8644EA022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1E509-15DB-453C-B9B4-D7CF99D0BF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F239C-B015-4DB2-9875-A23B8F6805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DD0C6-9CF5-452F-B153-F70F8F96F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0D252-F055-4F7D-A7D4-0F86ACD73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64827-5F4D-42B3-B2DA-1C76F94B7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63142-909F-4B09-8E87-46E0F9101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AF9F4-721A-4008-B895-8E5D02589A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3DD8D-51DA-42A9-958F-393A3FACF6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55A8-41F4-4997-B21D-D5E75F117A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Kapitola%205%20V&#253;voj%20n&#225;klad&#367;,%20v&#253;nos&#367;%20a%20zisku.ppt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jetí a členění nákladů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 nákladovém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ojetí a členění nákladů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 podle rozhodovacích úlo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59200" y="2781360"/>
            <a:ext cx="3168720" cy="151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800000">
            <a:off x="2555640" y="240984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9800000">
            <a:off x="2554200" y="400644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9000000">
            <a:off x="5866920" y="2409480"/>
            <a:ext cx="648000" cy="647640"/>
          </a:xfrm>
          <a:prstGeom prst="rightArrow">
            <a:avLst>
              <a:gd name="adj1" fmla="val 50000"/>
              <a:gd name="adj2" fmla="val 2501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2600000">
            <a:off x="5867280" y="4005000"/>
            <a:ext cx="648000" cy="647640"/>
          </a:xfrm>
          <a:prstGeom prst="rightArrow">
            <a:avLst>
              <a:gd name="adj1" fmla="val 50000"/>
              <a:gd name="adj2" fmla="val 2501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17002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é jsou vynalože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414972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 jakým účelem jsou vynalože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61080" y="16984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 jsou kalkulová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61080" y="41482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 se mění s množství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D1971-A84A-4FAE-88CC-42ED7BDA66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500"/>
                            </p:stCondLst>
                            <p:childTnLst>
                              <p:par>
                                <p:cTn id="30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2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uhové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ý druh zdroje je spotřebován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é druh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ateriál, externí práce a služby, mzdy, odpisy, finanční náklady…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porcí, stability a rovnová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potřebou zdrojů podniku a jejich zabezpečením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otázky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 koho, kd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l zdroj spotřebov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ůkazné a jednoznačné sledová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zabývá se příčinou spotřeby zdrojů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mezené využití pr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16387-885D-49D4-8123-71686038B3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astnosti druhového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votní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jsou předmětem zobrazení při vstupu do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exter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vznikají spotřebou zdrojů od externích subjekt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duch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není možné je podrobněji člen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69681-F010-4B06-B35C-95F0BBE4FC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Účelové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á je příčina spotřeby zdroje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                         útvar                           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ozum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ám spotře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drojů → základ říz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chodisko pro členění nákladů v 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2DC59-D483-4DDC-AA39-675498B798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y technologické a na obsluhu a řízení, jednicové a režij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Je náklad vynaložen při vlastním vytvoření výkon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nebo souvisí se zajištěním podmínek činnosti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echnologické náklady          náklady na obsluhu 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Jak stanovit nákladový úkol a řídit hospodárnost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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jednicové náklady                    režij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A8753-6794-4F0E-A247-0F99685A78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dnicové a režij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icov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volány vytvořením každé konkrétně definovan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jednotky výkon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nákladového úko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norma x předem stanovené oc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or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předem stanovený úkol spotřeby materiálu, práce,…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 přesně vymezený výkon, za konkrétních technických, technologických, organizačních podmínek a kvality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řízení –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kalkul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dnicov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žij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polečné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ruhu výkonu, skupiny výkonů, útvar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č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řízení –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ozpoče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nákladového úkolu pro útvar, na čas. období a na rozsah či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EB4FF-39DA-4941-AC2C-1C44F3C025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ý je příčinný vztah nákladu k druhu výkonu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 přiřazovat náklad druhu výkonu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é náklady           ne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zbytné pro sestavení kalkulace a porozumění vypovídací schopnosti kalkulačního vzor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812AC-7B4A-4515-8D4D-C8689F3A25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y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4360" y="1741320"/>
            <a:ext cx="18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ztah nákladů k technologickému proces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2749680"/>
            <a:ext cx="180000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chnologick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na obsluhu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35280" y="1773360"/>
            <a:ext cx="180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ontrola přiměřenosti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35280" y="2781360"/>
            <a:ext cx="180036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54800" bIns="10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nicov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žij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88000" y="1773360"/>
            <a:ext cx="180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očetně technické přiřa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8000" y="2781360"/>
            <a:ext cx="43200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9308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9636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10108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484360" y="3141720"/>
            <a:ext cx="115092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84360" y="3429000"/>
            <a:ext cx="11509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4724280"/>
            <a:ext cx="115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35640" y="321300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35640" y="472428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198E0-E063-41FE-886A-B9614CE316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ilní a fix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ění se objem vynaložených zdrojů s objemem výkonů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 náklady          fix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ožňuje zkvalitnění informačního zajištění široké škály rozhodovacích úlo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ea typeface="Arial"/>
                <a:hlinkClick r:id="rId1"/>
              </a:rPr>
              <a:t>viz samostatná prezentac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E0D2C-71F8-4C87-BEB7-B6AF1E98D2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ektiv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rcholové kritérium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konnosti podnikatelské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efektivnost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jadřuj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íru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dosažení očekávaných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áměrů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íl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podnikatelské oblast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chopnost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hodnotit vložený kapitá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ritéri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ěřítka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efektiv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 zhodnoc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lastního kapitá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vlastního kapitálu (ROE, Return On Equi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anažerský (ekonomický) zisk (EVA, Economic Value Added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hodnoc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ktiv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kapitálu)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hlavní výdělečn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aktiv hlavní výdělečné činnosti (ROA, Return On Assets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zaměstnaného kapitálu (ROCE, Return On Capital Employed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7A228-5E09-490B-A5B2-2181DACDC6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u Pont rozklad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entability vlastního kapitá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OE = Čistý zisk / Vlastní kapitá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OE = Čistý zisk/Výnosy z prodeje x Výnosy z prodeje/Aktiv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÷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lastní kapitál/Aktiv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84360" y="2444760"/>
            <a:ext cx="3211200" cy="2536920"/>
            <a:chOff x="684360" y="2444760"/>
            <a:chExt cx="3211200" cy="2536920"/>
          </a:xfrm>
        </p:grpSpPr>
        <p:sp>
          <p:nvSpPr>
            <p:cNvPr id="172" name=""/>
            <p:cNvSpPr/>
            <p:nvPr/>
          </p:nvSpPr>
          <p:spPr>
            <a:xfrm>
              <a:off x="944640" y="2444760"/>
              <a:ext cx="295092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4360" y="3986280"/>
              <a:ext cx="215892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ISKOVOST VÝNOSŮ Z PRODEJ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4" name=""/>
            <p:cNvCxnSpPr>
              <a:stCxn id="172" idx="4"/>
              <a:endCxn id="173" idx="0"/>
            </p:cNvCxnSpPr>
            <p:nvPr/>
          </p:nvCxnSpPr>
          <p:spPr>
            <a:xfrm flipH="1">
              <a:off x="1763280" y="3164040"/>
              <a:ext cx="65808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75" name=""/>
          <p:cNvGrpSpPr/>
          <p:nvPr/>
        </p:nvGrpSpPr>
        <p:grpSpPr>
          <a:xfrm>
            <a:off x="3651120" y="2473200"/>
            <a:ext cx="2936880" cy="2536920"/>
            <a:chOff x="3651120" y="2473200"/>
            <a:chExt cx="2936880" cy="2536920"/>
          </a:xfrm>
        </p:grpSpPr>
        <p:sp>
          <p:nvSpPr>
            <p:cNvPr id="176" name=""/>
            <p:cNvSpPr/>
            <p:nvPr/>
          </p:nvSpPr>
          <p:spPr>
            <a:xfrm>
              <a:off x="3995640" y="2473200"/>
              <a:ext cx="259236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51120" y="4014720"/>
              <a:ext cx="189576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BRÁTKA AKTI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8" name=""/>
            <p:cNvCxnSpPr>
              <a:stCxn id="176" idx="4"/>
              <a:endCxn id="177" idx="0"/>
            </p:cNvCxnSpPr>
            <p:nvPr/>
          </p:nvCxnSpPr>
          <p:spPr>
            <a:xfrm flipH="1">
              <a:off x="4598280" y="3192480"/>
              <a:ext cx="69444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79" name=""/>
          <p:cNvGrpSpPr/>
          <p:nvPr/>
        </p:nvGrpSpPr>
        <p:grpSpPr>
          <a:xfrm>
            <a:off x="6218280" y="2473200"/>
            <a:ext cx="2717640" cy="2536920"/>
            <a:chOff x="6218280" y="2473200"/>
            <a:chExt cx="2717640" cy="2536920"/>
          </a:xfrm>
        </p:grpSpPr>
        <p:sp>
          <p:nvSpPr>
            <p:cNvPr id="180" name=""/>
            <p:cNvSpPr/>
            <p:nvPr/>
          </p:nvSpPr>
          <p:spPr>
            <a:xfrm>
              <a:off x="6659640" y="2473200"/>
              <a:ext cx="227628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18280" y="4014720"/>
              <a:ext cx="18828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PŮSOB FINANCOVÁ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2" name=""/>
            <p:cNvCxnSpPr>
              <a:stCxn id="180" idx="4"/>
              <a:endCxn id="181" idx="0"/>
            </p:cNvCxnSpPr>
            <p:nvPr/>
          </p:nvCxnSpPr>
          <p:spPr>
            <a:xfrm flipH="1">
              <a:off x="7158960" y="3192480"/>
              <a:ext cx="63900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DF251-DAE1-4A75-9CF0-10D2BAC6C9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konomická účin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jadř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íru zhodnocení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 prodeji výkonů zákazníkům,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ech z prode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em racionality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ítk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solutní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isk z hlavní výdělečn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ivní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isk/výnosy z prodeje; zisk/náklady; náklad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výnos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76F47-F73A-4D6D-BF04-578D6F7239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spodár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ěř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ši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procesu tvorby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ov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ůbě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u, při kterém se dosahu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žadovaný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  co možn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jnižším vynaložením náklad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odárnosti -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ůměrné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naturál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t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ospodárné vynakládání nákladů se měří porovnáním nákladového úkolu a skutečných nákladů a) v celkové výši, b) na jednotku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působy zvyšování hospodárnosti (formy hospodárnost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spor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snížen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absolutní výše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daný objem a struktur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těžnos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výšen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objemu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 stejných nákladech za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89836-ECDE-40E7-917B-FAA8A5A48C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ktory hospodár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řizovací cena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valitativní odchylk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srovnává výši nákladů na spotřebované vstupy při předem stanovených a skutečných pořizovacích cená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vantifikace:    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nožství spotřebovaných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vantitativní odchylka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rovnává předem stanovené a skutečné množství spotřebovaných vstupů v předem stanovených cená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vantifikace:    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lišení významné pr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dělení pravomoci a odpovědnost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5573880"/>
            <a:ext cx="8353440" cy="73476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s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předem stanovená cena               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předem stanovené množství vstup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skutečná cena                              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skutečné množství vstup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DE01D-6A71-4D97-86F8-5C621873CE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jetí nákladů ve FÚ a N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něžně vyjádřené snížení vlastního kapitálu ve sledovaném obdob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eré se projevilo úbytkem nebo snížením užitečnosti aktiv nebo zvýšením závazků a které vedlo ke snížení vlastního kapitálu jiným způsobem, než jsou příděly z vlastního kapitálu vlastníkům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hodnotově vyjádřené účelné vynalož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konomických zdrojů, kter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ově souvis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uskutečňováním předmětu činnosti podni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 zdůrazněním potřeby zajistit hospodárnost vynaložen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racionální a přiměřená výše vzhledem k výsledku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ový charakt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smyslem vynaložení zdrojů je zhodnoc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834920" y="4019400"/>
            <a:ext cx="3586320" cy="1209960"/>
            <a:chOff x="1834920" y="4019400"/>
            <a:chExt cx="3586320" cy="1209960"/>
          </a:xfrm>
        </p:grpSpPr>
        <p:sp>
          <p:nvSpPr>
            <p:cNvPr id="193" name=""/>
            <p:cNvSpPr/>
            <p:nvPr/>
          </p:nvSpPr>
          <p:spPr>
            <a:xfrm>
              <a:off x="3262320" y="4019400"/>
              <a:ext cx="2158920" cy="4320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1834920" y="4365720"/>
              <a:ext cx="1657080" cy="8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727200" y="4336920"/>
            <a:ext cx="2016000" cy="1397160"/>
            <a:chOff x="727200" y="4336920"/>
            <a:chExt cx="2016000" cy="1397160"/>
          </a:xfrm>
        </p:grpSpPr>
        <p:sp>
          <p:nvSpPr>
            <p:cNvPr id="196" name=""/>
            <p:cNvSpPr/>
            <p:nvPr/>
          </p:nvSpPr>
          <p:spPr>
            <a:xfrm>
              <a:off x="727200" y="4336920"/>
              <a:ext cx="2016000" cy="4320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76360" y="4797360"/>
              <a:ext cx="0" cy="9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77AC0-AC60-4D9B-9585-3251FA561B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rakteristiky nákladů ve FÚ a N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lnější vztah k výkonům – součástí N i výdaje odlišného charakteru (dary) a rozdělení zisku (daň ze zisku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í peněžně vynaložené zdro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sleduje vazbu na žádoucí výši spotřeby zdro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í podmínky platné v době pořízení zdrojů               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historické cen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ÁKLADOV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účelový (těsný) vztah k výkonů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i další zdroje, které umožňují vyjádřit skutečný ekonomický přínos hodnocených činností (kalkulační náklad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důraz na zajištění hospodár-ného vynaložení zdro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yjadřují podmínky platné v čase uskutečňování příslušných výkonů, činností a procesů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7959E-6D73-45EE-A9AE-2139CB27FD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livá členění nákladů ukazují na růz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harakteristiky a vlastnosti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je pochopit, 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každé čl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ždé členění nákladů je vhodné pro ji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livá člen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ní možné zaměňov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 vyjád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ynaloženého zdro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můžeme řídit náklady, a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jejich vz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96F14-78E7-412F-A44C-EC3749B52A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25:00Z</dcterms:modified>
  <cp:revision>14</cp:revision>
  <dc:subject/>
  <dc:title>Snímek 1</dc:title>
</cp:coreProperties>
</file>