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564348-E0FC-488B-BFB6-947C508C4A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50A446-EF97-47D1-B3BA-5107587CC1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5D1B54-9954-4F70-BC66-AE2BC6CF92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22DCBC-0CC7-4CEF-8F8A-337EEB17B3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D8DDBF-BBF7-402A-8F50-D9C3A86FB1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D36E22-4E78-4A1D-B73B-C17938ADB9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9093E0-5618-42F0-BF0F-12C4F02C0C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F3F047-95E9-4296-839F-AFBBCA4C9F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ED2768-8821-4068-88B2-14E84C3AFB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980541-E6B2-490E-99B8-746AAA67D1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4DF1BD-BB92-4EE5-9051-5CF25351BF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DE6458-9BCE-4A9F-890E-6DBDE92D90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spcAft>
                <a:spcPts val="499"/>
              </a:spcAft>
              <a:buSzPct val="11108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1"/>
          </p:nvPr>
        </p:nvSpPr>
        <p:spPr>
          <a:xfrm>
            <a:off x="468000" y="6248520"/>
            <a:ext cx="555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F9A28-69ED-43DF-A58C-B04C13B96C2D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3"/>
          </p:nvPr>
        </p:nvSpPr>
        <p:spPr>
          <a:xfrm>
            <a:off x="468360" y="6248520"/>
            <a:ext cx="820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Rozpoznání a zobrazení vztahů mezi útvary a pojetí výnosů v nákladovém účetnictví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cenění vztahů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 úrovni předem stanovených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26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ochází k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obrazení interních výkonů v předem stanovených náklade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zniká interní náklad (odebírajícímu útvaru)/ interní výnos (předávajícímu útvaru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interní výno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– interní kritérium uznání racionality vynaložených nákladů a prospěchu útvaru pro celopodnikové výsledk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1042920" y="3716280"/>
          <a:ext cx="7345440" cy="280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2">
                    <a:alphaModFix amt="0"/>
                  </a:blip>
                  <a:stretch/>
                </p:blipFill>
                <p:spPr>
                  <a:xfrm>
                    <a:off x="1042920" y="3716280"/>
                    <a:ext cx="7345440" cy="28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obrazení vztahů mezi útva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FBEDCA-C3EB-4ED8-8C39-3F87F640AE9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edpoklady zúčtování interních výnos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jednoznačná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vymezitelnost, změřitelnost a ocenitelnost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předávaného výkon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předem stanovené ocenění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výkonů pro konkrétní obdob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vnitropodniková cena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odebírající útvar rozhoduje o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množství, kvalitě a času předání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výkonů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motivace k úsporám náklad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ředání výkonu je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výnosem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dodávajícího útvaru a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ovlivnitelným nákladem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předávajícího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obrazení vztahů mezi útva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C478B7-EEA8-490A-8FE2-BEED0FBAEB0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0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cenění vztahů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 úrovni předem stanovených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507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ůsledky zobrazení v předem stanovených nákladec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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dděle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avomoci a odpovědnost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útvar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odpovědnostní účetnictví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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e možné změřit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ínos vnitropodnikových útvar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tj. kvantifikovat výsledek hospodař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kontrola hospodárnosti probíhá v účetním systému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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účtování vztahů mezi útvary probíhá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okamžit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po uskutečnění výkon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ýkon je možno ocenit v okamžiku jeho předání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Wingdings"/>
                <a:ea typeface="Wingdings"/>
              </a:rPr>
              <a:t>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jiště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výsledné kalkulac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je nutné provést úpravami mimo účetní systé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obrazení vztahů mezi útva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B04F9A-243F-4FE5-9F26-418860207CD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0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íklad ARCHA – výsledek hospodaření střediska Grafik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260360" y="2278080"/>
            <a:ext cx="1224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) 1 04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) 35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) 31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468360" y="2206800"/>
            <a:ext cx="1436760" cy="1152360"/>
            <a:chOff x="468360" y="2206800"/>
            <a:chExt cx="1436760" cy="1152360"/>
          </a:xfrm>
        </p:grpSpPr>
        <p:sp>
          <p:nvSpPr>
            <p:cNvPr id="242" name=""/>
            <p:cNvSpPr/>
            <p:nvPr/>
          </p:nvSpPr>
          <p:spPr>
            <a:xfrm>
              <a:off x="468360" y="2206800"/>
              <a:ext cx="14367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185840" y="220680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324000" y="1846440"/>
            <a:ext cx="186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Ú k nákladů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700360" y="2278080"/>
            <a:ext cx="115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1) 1 045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206880" y="2206800"/>
            <a:ext cx="1439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3924360" y="2206800"/>
            <a:ext cx="1440" cy="43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771640" y="155736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jekce: Letišt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terní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221440" y="2276640"/>
            <a:ext cx="100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) 31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5583240" y="2205000"/>
            <a:ext cx="1440000" cy="1152360"/>
            <a:chOff x="5583240" y="2205000"/>
            <a:chExt cx="1440000" cy="1152360"/>
          </a:xfrm>
        </p:grpSpPr>
        <p:sp>
          <p:nvSpPr>
            <p:cNvPr id="251" name=""/>
            <p:cNvSpPr/>
            <p:nvPr/>
          </p:nvSpPr>
          <p:spPr>
            <a:xfrm>
              <a:off x="5583240" y="2205000"/>
              <a:ext cx="1440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302520" y="220500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3" name=""/>
          <p:cNvSpPr/>
          <p:nvPr/>
        </p:nvSpPr>
        <p:spPr>
          <a:xfrm>
            <a:off x="5364000" y="155736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rafika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084720" y="5229360"/>
            <a:ext cx="2664000" cy="936360"/>
          </a:xfrm>
          <a:prstGeom prst="bevel">
            <a:avLst>
              <a:gd name="adj" fmla="val 125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) = 500Kč/hod*400ho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) = 500Kč/hod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00ho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700360" y="3645000"/>
            <a:ext cx="115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) 2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206880" y="3573360"/>
            <a:ext cx="1439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3924360" y="3573360"/>
            <a:ext cx="1440" cy="43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771640" y="292428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jekce: Letišt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ní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700360" y="5013360"/>
            <a:ext cx="115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) 35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206880" y="4941720"/>
            <a:ext cx="1439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3924360" y="4941720"/>
            <a:ext cx="1440" cy="430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556000" y="4292640"/>
            <a:ext cx="28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jekce: Koupališt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terní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700360" y="6310440"/>
            <a:ext cx="115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) 1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206880" y="6238800"/>
            <a:ext cx="1439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3924360" y="6238800"/>
            <a:ext cx="1440" cy="43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556000" y="5589720"/>
            <a:ext cx="28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jekce: Koupališt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ní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7345440" y="2205000"/>
            <a:ext cx="1439640" cy="1152360"/>
            <a:chOff x="7345440" y="2205000"/>
            <a:chExt cx="1439640" cy="1152360"/>
          </a:xfrm>
        </p:grpSpPr>
        <p:sp>
          <p:nvSpPr>
            <p:cNvPr id="268" name=""/>
            <p:cNvSpPr/>
            <p:nvPr/>
          </p:nvSpPr>
          <p:spPr>
            <a:xfrm>
              <a:off x="7345440" y="2205000"/>
              <a:ext cx="1439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064360" y="220500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7164360" y="155736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rafika    Interní výno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8134200" y="2276640"/>
            <a:ext cx="10098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4) 2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5) 1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 3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516720" y="2276640"/>
            <a:ext cx="1368360" cy="936360"/>
          </a:xfrm>
          <a:prstGeom prst="ellipse">
            <a:avLst/>
          </a:prstGeom>
          <a:noFill/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- 1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překroče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obrazení vztahů mezi útvar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38ABC8-4DF2-46F8-8085-2B7EC37EEFB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0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afterEffect" fill="hold" presetClass="entr" presetID="6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5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ůvody pro využití interních kritéri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souzení racionality vynaložených nákladů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 každé etapě tvorby výkon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znání prospěchu útvarů, které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emají kontakt s trh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 vnitropodnikových útvarů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evzniká tržní zis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žní cena je obvykl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důsledkem řady faktorů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není vhodná pro vnitřní uznání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dlišnost vývoje nákladů a výnosů v průběhu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životního cyklu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ětšina externích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nosů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ímých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ákladů nepřímý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časový nesoulad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zniku nákladů a vytvoření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obrazení vztahů mezi útva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769425-143A-4FD7-99E0-72281D36723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0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1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2000"/>
                            </p:stCondLst>
                            <p:childTnLst>
                              <p:par>
                                <p:cTn id="45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3000"/>
                            </p:stCondLst>
                            <p:childTnLst>
                              <p:par>
                                <p:cTn id="45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4000"/>
                            </p:stCondLst>
                            <p:childTnLst>
                              <p:par>
                                <p:cTn id="45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5000"/>
                            </p:stCondLst>
                            <p:childTnLst>
                              <p:par>
                                <p:cTn id="46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ospodářský výsledek podniku a útvar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Z = (CV – PSNprodaných výkonů) + ∑(PSNútvaru – SKNútvaru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nebol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Z = KZ + ∑VPVHútvar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Z 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zisk podnik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CV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výnosy z prodej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PSN 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předem stanovené náklady (prodaných výkonů, útvaru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SKN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skutečné náklady (útvaru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KZ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kalkulovaný zisk z prodej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VPVH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vnitropodnikový výsledek hospodaření útvarů (středisek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obrazení vztahů mezi útva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F5AF1D-8205-43CF-AB58-18465F37916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0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500"/>
                            </p:stCondLst>
                            <p:childTnLst>
                              <p:par>
                                <p:cTn id="4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500"/>
                            </p:stCondLst>
                            <p:childTnLst>
                              <p:par>
                                <p:cTn id="4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7" name=""/>
          <p:cNvGrpSpPr/>
          <p:nvPr/>
        </p:nvGrpSpPr>
        <p:grpSpPr>
          <a:xfrm>
            <a:off x="611280" y="2637000"/>
            <a:ext cx="1942920" cy="791640"/>
            <a:chOff x="611280" y="2637000"/>
            <a:chExt cx="1942920" cy="791640"/>
          </a:xfrm>
        </p:grpSpPr>
        <p:sp>
          <p:nvSpPr>
            <p:cNvPr id="278" name=""/>
            <p:cNvSpPr/>
            <p:nvPr/>
          </p:nvSpPr>
          <p:spPr>
            <a:xfrm>
              <a:off x="611280" y="3068640"/>
              <a:ext cx="1942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560600" y="3068640"/>
              <a:ext cx="0" cy="360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11280" y="2637000"/>
              <a:ext cx="194292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xterní nákla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2987640" y="2637000"/>
            <a:ext cx="1943280" cy="791640"/>
            <a:chOff x="2987640" y="2637000"/>
            <a:chExt cx="1943280" cy="791640"/>
          </a:xfrm>
        </p:grpSpPr>
        <p:sp>
          <p:nvSpPr>
            <p:cNvPr id="282" name=""/>
            <p:cNvSpPr/>
            <p:nvPr/>
          </p:nvSpPr>
          <p:spPr>
            <a:xfrm>
              <a:off x="2987640" y="3068640"/>
              <a:ext cx="1943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937320" y="3068640"/>
              <a:ext cx="0" cy="360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987640" y="2637000"/>
              <a:ext cx="194328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terní výnosy (PSN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682560" y="836640"/>
            <a:ext cx="1943280" cy="791640"/>
            <a:chOff x="682560" y="836640"/>
            <a:chExt cx="1943280" cy="791640"/>
          </a:xfrm>
        </p:grpSpPr>
        <p:sp>
          <p:nvSpPr>
            <p:cNvPr id="286" name=""/>
            <p:cNvSpPr/>
            <p:nvPr/>
          </p:nvSpPr>
          <p:spPr>
            <a:xfrm>
              <a:off x="682560" y="1268280"/>
              <a:ext cx="1943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632240" y="1268280"/>
              <a:ext cx="0" cy="360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82560" y="836640"/>
              <a:ext cx="194328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xterní náklad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2987640" y="836640"/>
            <a:ext cx="1943280" cy="791640"/>
            <a:chOff x="2987640" y="836640"/>
            <a:chExt cx="1943280" cy="791640"/>
          </a:xfrm>
        </p:grpSpPr>
        <p:sp>
          <p:nvSpPr>
            <p:cNvPr id="290" name=""/>
            <p:cNvSpPr/>
            <p:nvPr/>
          </p:nvSpPr>
          <p:spPr>
            <a:xfrm>
              <a:off x="2987640" y="1268280"/>
              <a:ext cx="1943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937320" y="1268280"/>
              <a:ext cx="0" cy="360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987640" y="836640"/>
              <a:ext cx="194328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xterní výnos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1908000" y="1413000"/>
            <a:ext cx="1800360" cy="5760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V podnik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546200" y="2349360"/>
            <a:ext cx="24494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ředisko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878120" y="3213000"/>
            <a:ext cx="1800000" cy="576360"/>
          </a:xfrm>
          <a:prstGeom prst="ellipse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HV středisk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568440" y="4422600"/>
            <a:ext cx="1942920" cy="792360"/>
            <a:chOff x="568440" y="4422600"/>
            <a:chExt cx="1942920" cy="792360"/>
          </a:xfrm>
        </p:grpSpPr>
        <p:sp>
          <p:nvSpPr>
            <p:cNvPr id="297" name=""/>
            <p:cNvSpPr/>
            <p:nvPr/>
          </p:nvSpPr>
          <p:spPr>
            <a:xfrm>
              <a:off x="568440" y="4854600"/>
              <a:ext cx="1942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517760" y="4854600"/>
              <a:ext cx="0" cy="36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68440" y="4422600"/>
              <a:ext cx="19429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terní nákla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771640" y="4422600"/>
            <a:ext cx="2116440" cy="792360"/>
            <a:chOff x="2771640" y="4422600"/>
            <a:chExt cx="2116440" cy="792360"/>
          </a:xfrm>
        </p:grpSpPr>
        <p:sp>
          <p:nvSpPr>
            <p:cNvPr id="301" name=""/>
            <p:cNvSpPr/>
            <p:nvPr/>
          </p:nvSpPr>
          <p:spPr>
            <a:xfrm>
              <a:off x="2771640" y="4854600"/>
              <a:ext cx="211644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894120" y="4854600"/>
              <a:ext cx="0" cy="36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771640" y="4422600"/>
              <a:ext cx="211644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terní v. (PSN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4" name=""/>
          <p:cNvSpPr/>
          <p:nvPr/>
        </p:nvSpPr>
        <p:spPr>
          <a:xfrm>
            <a:off x="1503360" y="4135320"/>
            <a:ext cx="2449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ředisko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835280" y="5805360"/>
            <a:ext cx="1800000" cy="576360"/>
          </a:xfrm>
          <a:prstGeom prst="ellipse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HV středisk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538200" y="5359320"/>
            <a:ext cx="1942920" cy="792360"/>
            <a:chOff x="538200" y="5359320"/>
            <a:chExt cx="1942920" cy="792360"/>
          </a:xfrm>
        </p:grpSpPr>
        <p:sp>
          <p:nvSpPr>
            <p:cNvPr id="307" name=""/>
            <p:cNvSpPr/>
            <p:nvPr/>
          </p:nvSpPr>
          <p:spPr>
            <a:xfrm>
              <a:off x="538200" y="5791320"/>
              <a:ext cx="1942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487520" y="5791320"/>
              <a:ext cx="0" cy="36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38200" y="5359320"/>
              <a:ext cx="19429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xterní nákla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4672080" y="5516640"/>
            <a:ext cx="1942920" cy="792000"/>
            <a:chOff x="4672080" y="5516640"/>
            <a:chExt cx="1942920" cy="792000"/>
          </a:xfrm>
        </p:grpSpPr>
        <p:sp>
          <p:nvSpPr>
            <p:cNvPr id="311" name=""/>
            <p:cNvSpPr/>
            <p:nvPr/>
          </p:nvSpPr>
          <p:spPr>
            <a:xfrm flipV="1">
              <a:off x="5103720" y="5947920"/>
              <a:ext cx="151128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850000" y="5948280"/>
              <a:ext cx="0" cy="36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672080" y="5516640"/>
              <a:ext cx="19429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    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S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6877080" y="5516640"/>
            <a:ext cx="1942920" cy="791640"/>
            <a:chOff x="6877080" y="5516640"/>
            <a:chExt cx="1942920" cy="791640"/>
          </a:xfrm>
        </p:grpSpPr>
        <p:sp>
          <p:nvSpPr>
            <p:cNvPr id="315" name=""/>
            <p:cNvSpPr/>
            <p:nvPr/>
          </p:nvSpPr>
          <p:spPr>
            <a:xfrm>
              <a:off x="6877080" y="5948280"/>
              <a:ext cx="1942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826400" y="5948280"/>
              <a:ext cx="0" cy="360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877080" y="5516640"/>
              <a:ext cx="194292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xterní výnos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5435640" y="5229360"/>
            <a:ext cx="2449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Kalkulovaný zisk z prodej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258920" y="1341360"/>
            <a:ext cx="28872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187280" y="3141720"/>
            <a:ext cx="2890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258920" y="1484280"/>
            <a:ext cx="28872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258920" y="1628640"/>
            <a:ext cx="28872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23" name=""/>
          <p:cNvCxnSpPr>
            <a:stCxn id="319" idx="1"/>
            <a:endCxn id="320" idx="1"/>
          </p:cNvCxnSpPr>
          <p:nvPr/>
        </p:nvCxnSpPr>
        <p:spPr>
          <a:xfrm flipV="1" rot="10800000">
            <a:off x="1186560" y="1412640"/>
            <a:ext cx="72360" cy="1800720"/>
          </a:xfrm>
          <a:prstGeom prst="curvedConnector5">
            <a:avLst>
              <a:gd name="adj1" fmla="val 1213000"/>
              <a:gd name="adj2" fmla="val 49990"/>
              <a:gd name="adj3" fmla="val 1213000"/>
            </a:avLst>
          </a:prstGeom>
          <a:ln w="9360">
            <a:solidFill>
              <a:srgbClr val="ffffff"/>
            </a:solidFill>
            <a:miter/>
            <a:tailEnd len="lg" type="stealth" w="lg"/>
          </a:ln>
        </p:spPr>
      </p:cxnSp>
      <p:sp>
        <p:nvSpPr>
          <p:cNvPr id="324" name=""/>
          <p:cNvSpPr/>
          <p:nvPr/>
        </p:nvSpPr>
        <p:spPr>
          <a:xfrm>
            <a:off x="1116000" y="5934240"/>
            <a:ext cx="289080" cy="14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25" name=""/>
          <p:cNvCxnSpPr>
            <a:stCxn id="321" idx="1"/>
            <a:endCxn id="324" idx="1"/>
          </p:cNvCxnSpPr>
          <p:nvPr/>
        </p:nvCxnSpPr>
        <p:spPr>
          <a:xfrm flipV="1" rot="10800000">
            <a:off x="1115280" y="1555560"/>
            <a:ext cx="143640" cy="4450320"/>
          </a:xfrm>
          <a:prstGeom prst="curvedConnector5">
            <a:avLst>
              <a:gd name="adj1" fmla="val 800000"/>
              <a:gd name="adj2" fmla="val 49995"/>
              <a:gd name="adj3" fmla="val 800000"/>
            </a:avLst>
          </a:prstGeom>
          <a:ln w="9360">
            <a:solidFill>
              <a:srgbClr val="ffffff"/>
            </a:solidFill>
            <a:miter/>
            <a:tailEnd len="lg" type="stealth" w="lg"/>
          </a:ln>
        </p:spPr>
      </p:cxnSp>
      <p:sp>
        <p:nvSpPr>
          <p:cNvPr id="326" name=""/>
          <p:cNvSpPr/>
          <p:nvPr/>
        </p:nvSpPr>
        <p:spPr>
          <a:xfrm>
            <a:off x="4067280" y="3213000"/>
            <a:ext cx="28872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140360" y="1413000"/>
            <a:ext cx="28872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116000" y="4997520"/>
            <a:ext cx="2890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29" name=""/>
          <p:cNvCxnSpPr>
            <a:stCxn id="326" idx="3"/>
            <a:endCxn id="328" idx="1"/>
          </p:cNvCxnSpPr>
          <p:nvPr/>
        </p:nvCxnSpPr>
        <p:spPr>
          <a:xfrm flipH="1">
            <a:off x="1115640" y="3284640"/>
            <a:ext cx="3240720" cy="1784880"/>
          </a:xfrm>
          <a:prstGeom prst="curvedConnector5">
            <a:avLst>
              <a:gd name="adj1" fmla="val -7054"/>
              <a:gd name="adj2" fmla="val 18176"/>
              <a:gd name="adj3" fmla="val -7054"/>
            </a:avLst>
          </a:prstGeom>
          <a:ln w="9360">
            <a:solidFill>
              <a:srgbClr val="ff9900"/>
            </a:solidFill>
            <a:miter/>
            <a:tailEnd len="lg" type="stealth" w="lg"/>
          </a:ln>
        </p:spPr>
      </p:cxnSp>
      <p:sp>
        <p:nvSpPr>
          <p:cNvPr id="330" name=""/>
          <p:cNvSpPr/>
          <p:nvPr/>
        </p:nvSpPr>
        <p:spPr>
          <a:xfrm>
            <a:off x="3995640" y="4997520"/>
            <a:ext cx="2890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391000" y="6021360"/>
            <a:ext cx="2890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32" name=""/>
          <p:cNvCxnSpPr>
            <a:stCxn id="330" idx="3"/>
            <a:endCxn id="331" idx="1"/>
          </p:cNvCxnSpPr>
          <p:nvPr/>
        </p:nvCxnSpPr>
        <p:spPr>
          <a:xfrm>
            <a:off x="4284360" y="5068440"/>
            <a:ext cx="1107000" cy="1024920"/>
          </a:xfrm>
          <a:prstGeom prst="curvedConnector5">
            <a:avLst>
              <a:gd name="adj1" fmla="val 49902"/>
              <a:gd name="adj2" fmla="val 50000"/>
              <a:gd name="adj3" fmla="val 49902"/>
            </a:avLst>
          </a:prstGeom>
          <a:ln w="9360">
            <a:solidFill>
              <a:srgbClr val="ff9900"/>
            </a:solidFill>
            <a:miter/>
            <a:tailEnd len="lg" type="stealth" w="lg"/>
          </a:ln>
        </p:spPr>
      </p:cxnSp>
      <p:sp>
        <p:nvSpPr>
          <p:cNvPr id="333" name=""/>
          <p:cNvSpPr/>
          <p:nvPr/>
        </p:nvSpPr>
        <p:spPr>
          <a:xfrm>
            <a:off x="8028000" y="6093000"/>
            <a:ext cx="289080" cy="14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34" name=""/>
          <p:cNvCxnSpPr>
            <a:stCxn id="327" idx="3"/>
            <a:endCxn id="333" idx="3"/>
          </p:cNvCxnSpPr>
          <p:nvPr/>
        </p:nvCxnSpPr>
        <p:spPr>
          <a:xfrm>
            <a:off x="4429080" y="1484280"/>
            <a:ext cx="3888720" cy="4680720"/>
          </a:xfrm>
          <a:prstGeom prst="curvedConnector5">
            <a:avLst>
              <a:gd name="adj1" fmla="val 105879"/>
              <a:gd name="adj2" fmla="val 49996"/>
              <a:gd name="adj3" fmla="val 105879"/>
            </a:avLst>
          </a:prstGeom>
          <a:ln w="9360">
            <a:solidFill>
              <a:srgbClr val="ffffff"/>
            </a:solidFill>
            <a:miter/>
            <a:tailEnd len="lg" type="stealth" w="lg"/>
          </a:ln>
        </p:spPr>
      </p:cxnSp>
      <p:sp>
        <p:nvSpPr>
          <p:cNvPr id="335" name=""/>
          <p:cNvSpPr/>
          <p:nvPr/>
        </p:nvSpPr>
        <p:spPr>
          <a:xfrm>
            <a:off x="250920" y="2203560"/>
            <a:ext cx="496872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95280" y="2263680"/>
            <a:ext cx="4824360" cy="1584360"/>
          </a:xfrm>
          <a:prstGeom prst="ellipse">
            <a:avLst/>
          </a:prstGeom>
          <a:noFill/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50920" y="4005360"/>
            <a:ext cx="4752720" cy="2448000"/>
          </a:xfrm>
          <a:prstGeom prst="ellipse">
            <a:avLst/>
          </a:prstGeom>
          <a:noFill/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50920" y="333360"/>
            <a:ext cx="5473440" cy="1800360"/>
          </a:xfrm>
          <a:prstGeom prst="rect">
            <a:avLst/>
          </a:prstGeom>
          <a:blipFill rotWithShape="0">
            <a:blip r:embed="rId1">
              <a:alphaModFix amt="30000"/>
            </a:blip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788000" y="333360"/>
            <a:ext cx="10792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4920" y="189000"/>
            <a:ext cx="8929800" cy="6480000"/>
          </a:xfrm>
          <a:prstGeom prst="rect">
            <a:avLst/>
          </a:prstGeom>
          <a:blipFill rotWithShape="0">
            <a:blip r:embed="rId2">
              <a:alphaModFix amt="30000"/>
            </a:blip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740720" y="476280"/>
            <a:ext cx="10080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859280" y="5043600"/>
            <a:ext cx="4033800" cy="15112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BCC908-4F7B-4EF5-A34E-96F9EF63376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0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1000"/>
                            </p:stCondLst>
                            <p:childTnLst>
                              <p:par>
                                <p:cTn id="50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2000"/>
                            </p:stCondLst>
                            <p:childTnLst>
                              <p:par>
                                <p:cTn id="512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4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6000"/>
                            </p:stCondLst>
                            <p:childTnLst>
                              <p:par>
                                <p:cTn id="5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xit" presetID="1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slide(fromTop)" transition="out">
                                      <p:cBhvr additive="repl">
                                        <p:cTn id="521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500"/>
                            </p:stCondLst>
                            <p:childTnLst>
                              <p:par>
                                <p:cTn id="524" nodeType="afterEffect" fill="hold" presetClass="exit" presetID="1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slide(fromTop)" transition="out">
                                      <p:cBhvr additive="repl">
                                        <p:cTn id="525" dur="20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2500"/>
                            </p:stCondLst>
                            <p:childTnLst>
                              <p:par>
                                <p:cTn id="5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0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4500"/>
                            </p:stCondLst>
                            <p:childTnLst>
                              <p:par>
                                <p:cTn id="53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5500"/>
                            </p:stCondLst>
                            <p:childTnLst>
                              <p:par>
                                <p:cTn id="53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6500"/>
                            </p:stCondLst>
                            <p:childTnLst>
                              <p:par>
                                <p:cTn id="53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7500"/>
                            </p:stCondLst>
                            <p:childTnLst>
                              <p:par>
                                <p:cTn id="54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8500"/>
                            </p:stCondLst>
                            <p:childTnLst>
                              <p:par>
                                <p:cTn id="544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6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11500"/>
                            </p:stCondLst>
                            <p:childTnLst>
                              <p:par>
                                <p:cTn id="548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0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59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2000"/>
                            </p:stCondLst>
                            <p:childTnLst>
                              <p:par>
                                <p:cTn id="56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1000"/>
                            </p:stCondLst>
                            <p:childTnLst>
                              <p:par>
                                <p:cTn id="57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2000"/>
                            </p:stCondLst>
                            <p:childTnLst>
                              <p:par>
                                <p:cTn id="581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3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8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2000"/>
                            </p:stCondLst>
                            <p:childTnLst>
                              <p:par>
                                <p:cTn id="59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9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3000"/>
                            </p:stCondLst>
                            <p:childTnLst>
                              <p:par>
                                <p:cTn id="601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3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0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2000"/>
                            </p:stCondLst>
                            <p:childTnLst>
                              <p:par>
                                <p:cTn id="6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2000"/>
                            </p:stCondLst>
                            <p:childTnLst>
                              <p:par>
                                <p:cTn id="6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7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4000"/>
                            </p:stCondLst>
                            <p:childTnLst>
                              <p:par>
                                <p:cTn id="6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xit" presetID="1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slide(fromTop)" transition="out">
                                      <p:cBhvr additive="repl">
                                        <p:cTn id="624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6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27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9" nodeType="withEffect" fill="hold" presetClass="exit" presetID="1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slide(fromTop)" transition="out">
                                      <p:cBhvr additive="repl">
                                        <p:cTn id="630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2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33" dur="20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3" name=""/>
          <p:cNvGrpSpPr/>
          <p:nvPr/>
        </p:nvGrpSpPr>
        <p:grpSpPr>
          <a:xfrm>
            <a:off x="4573440" y="2060640"/>
            <a:ext cx="1943280" cy="791640"/>
            <a:chOff x="4573440" y="2060640"/>
            <a:chExt cx="1943280" cy="791640"/>
          </a:xfrm>
        </p:grpSpPr>
        <p:sp>
          <p:nvSpPr>
            <p:cNvPr id="344" name=""/>
            <p:cNvSpPr/>
            <p:nvPr/>
          </p:nvSpPr>
          <p:spPr>
            <a:xfrm>
              <a:off x="4573440" y="2492280"/>
              <a:ext cx="1943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523120" y="2492280"/>
              <a:ext cx="0" cy="360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573440" y="2060640"/>
              <a:ext cx="194328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xterní nákla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6950160" y="2060640"/>
            <a:ext cx="1942920" cy="791640"/>
            <a:chOff x="6950160" y="2060640"/>
            <a:chExt cx="1942920" cy="791640"/>
          </a:xfrm>
        </p:grpSpPr>
        <p:sp>
          <p:nvSpPr>
            <p:cNvPr id="348" name=""/>
            <p:cNvSpPr/>
            <p:nvPr/>
          </p:nvSpPr>
          <p:spPr>
            <a:xfrm>
              <a:off x="6950160" y="2492280"/>
              <a:ext cx="1942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899480" y="2492280"/>
              <a:ext cx="0" cy="360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950160" y="2060640"/>
              <a:ext cx="194292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terní výnosy (PSN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1" name=""/>
          <p:cNvGrpSpPr/>
          <p:nvPr/>
        </p:nvGrpSpPr>
        <p:grpSpPr>
          <a:xfrm>
            <a:off x="609480" y="189000"/>
            <a:ext cx="1943280" cy="791640"/>
            <a:chOff x="609480" y="189000"/>
            <a:chExt cx="1943280" cy="791640"/>
          </a:xfrm>
        </p:grpSpPr>
        <p:sp>
          <p:nvSpPr>
            <p:cNvPr id="352" name=""/>
            <p:cNvSpPr/>
            <p:nvPr/>
          </p:nvSpPr>
          <p:spPr>
            <a:xfrm>
              <a:off x="609480" y="620640"/>
              <a:ext cx="1943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559160" y="620640"/>
              <a:ext cx="0" cy="360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09480" y="189000"/>
              <a:ext cx="194328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xterní náklad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2914560" y="189000"/>
            <a:ext cx="1943280" cy="791640"/>
            <a:chOff x="2914560" y="189000"/>
            <a:chExt cx="1943280" cy="791640"/>
          </a:xfrm>
        </p:grpSpPr>
        <p:sp>
          <p:nvSpPr>
            <p:cNvPr id="356" name=""/>
            <p:cNvSpPr/>
            <p:nvPr/>
          </p:nvSpPr>
          <p:spPr>
            <a:xfrm>
              <a:off x="2914560" y="620640"/>
              <a:ext cx="1943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864240" y="620640"/>
              <a:ext cx="0" cy="360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914560" y="189000"/>
              <a:ext cx="194328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xterní výnos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1835280" y="765000"/>
            <a:ext cx="1800000" cy="5763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78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508720" y="1773360"/>
            <a:ext cx="2449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rafik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840280" y="2637000"/>
            <a:ext cx="1800360" cy="576000"/>
          </a:xfrm>
          <a:prstGeom prst="ellipse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- 1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27000" y="2060640"/>
            <a:ext cx="1942920" cy="791640"/>
            <a:chOff x="27000" y="2060640"/>
            <a:chExt cx="1942920" cy="791640"/>
          </a:xfrm>
        </p:grpSpPr>
        <p:sp>
          <p:nvSpPr>
            <p:cNvPr id="363" name=""/>
            <p:cNvSpPr/>
            <p:nvPr/>
          </p:nvSpPr>
          <p:spPr>
            <a:xfrm>
              <a:off x="27000" y="2492280"/>
              <a:ext cx="1942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976320" y="2492280"/>
              <a:ext cx="0" cy="360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7000" y="2060640"/>
              <a:ext cx="194292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terní nákla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2230560" y="2060640"/>
            <a:ext cx="2116080" cy="791640"/>
            <a:chOff x="2230560" y="2060640"/>
            <a:chExt cx="2116080" cy="791640"/>
          </a:xfrm>
        </p:grpSpPr>
        <p:sp>
          <p:nvSpPr>
            <p:cNvPr id="367" name=""/>
            <p:cNvSpPr/>
            <p:nvPr/>
          </p:nvSpPr>
          <p:spPr>
            <a:xfrm>
              <a:off x="2230560" y="2492280"/>
              <a:ext cx="2116080" cy="1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352680" y="2492280"/>
              <a:ext cx="0" cy="360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230560" y="2060640"/>
              <a:ext cx="211608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terní v. (PSN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0" name=""/>
          <p:cNvSpPr/>
          <p:nvPr/>
        </p:nvSpPr>
        <p:spPr>
          <a:xfrm>
            <a:off x="961920" y="1773360"/>
            <a:ext cx="2449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jekce - Letišt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293840" y="3443400"/>
            <a:ext cx="1800360" cy="576000"/>
          </a:xfrm>
          <a:prstGeom prst="ellipse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- 4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28440" y="2867040"/>
            <a:ext cx="1943280" cy="791640"/>
            <a:chOff x="28440" y="2867040"/>
            <a:chExt cx="1943280" cy="791640"/>
          </a:xfrm>
        </p:grpSpPr>
        <p:sp>
          <p:nvSpPr>
            <p:cNvPr id="373" name=""/>
            <p:cNvSpPr/>
            <p:nvPr/>
          </p:nvSpPr>
          <p:spPr>
            <a:xfrm>
              <a:off x="28440" y="3298680"/>
              <a:ext cx="1943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978120" y="3298680"/>
              <a:ext cx="0" cy="360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8440" y="2867040"/>
              <a:ext cx="194328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xterní nákla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4573440" y="4767120"/>
            <a:ext cx="1942920" cy="792000"/>
            <a:chOff x="4573440" y="4767120"/>
            <a:chExt cx="1942920" cy="792000"/>
          </a:xfrm>
        </p:grpSpPr>
        <p:sp>
          <p:nvSpPr>
            <p:cNvPr id="377" name=""/>
            <p:cNvSpPr/>
            <p:nvPr/>
          </p:nvSpPr>
          <p:spPr>
            <a:xfrm flipV="1">
              <a:off x="5005080" y="5198400"/>
              <a:ext cx="151128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751360" y="5198760"/>
              <a:ext cx="0" cy="36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573440" y="4767120"/>
              <a:ext cx="19429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    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S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6950160" y="4767120"/>
            <a:ext cx="1942920" cy="792360"/>
            <a:chOff x="6950160" y="4767120"/>
            <a:chExt cx="1942920" cy="792360"/>
          </a:xfrm>
        </p:grpSpPr>
        <p:sp>
          <p:nvSpPr>
            <p:cNvPr id="381" name=""/>
            <p:cNvSpPr/>
            <p:nvPr/>
          </p:nvSpPr>
          <p:spPr>
            <a:xfrm>
              <a:off x="6950160" y="5199120"/>
              <a:ext cx="1942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899480" y="5199120"/>
              <a:ext cx="0" cy="36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950160" y="4767120"/>
              <a:ext cx="19429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xterní výnos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5508720" y="4479840"/>
            <a:ext cx="2449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alkulovaný zisk z prodej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185840" y="693720"/>
            <a:ext cx="2890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149800" y="2565360"/>
            <a:ext cx="2890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185840" y="836640"/>
            <a:ext cx="2890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185840" y="981000"/>
            <a:ext cx="2890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5160" y="3357720"/>
            <a:ext cx="6872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. 1 04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8029440" y="2637000"/>
            <a:ext cx="289080" cy="14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4067280" y="765000"/>
            <a:ext cx="28872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574560" y="2635200"/>
            <a:ext cx="2890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454560" y="2635200"/>
            <a:ext cx="28872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5149800" y="5272200"/>
            <a:ext cx="2890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8101080" y="5343480"/>
            <a:ext cx="28872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77840" y="1555920"/>
            <a:ext cx="496872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66600" y="4770360"/>
            <a:ext cx="1943280" cy="792360"/>
            <a:chOff x="66600" y="4770360"/>
            <a:chExt cx="1943280" cy="792360"/>
          </a:xfrm>
        </p:grpSpPr>
        <p:sp>
          <p:nvSpPr>
            <p:cNvPr id="398" name=""/>
            <p:cNvSpPr/>
            <p:nvPr/>
          </p:nvSpPr>
          <p:spPr>
            <a:xfrm>
              <a:off x="66600" y="5202360"/>
              <a:ext cx="1943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016280" y="5202360"/>
              <a:ext cx="0" cy="36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600" y="4770360"/>
              <a:ext cx="1943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terní nákla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1" name=""/>
          <p:cNvGrpSpPr/>
          <p:nvPr/>
        </p:nvGrpSpPr>
        <p:grpSpPr>
          <a:xfrm>
            <a:off x="2270160" y="4770360"/>
            <a:ext cx="2116080" cy="792360"/>
            <a:chOff x="2270160" y="4770360"/>
            <a:chExt cx="2116080" cy="792360"/>
          </a:xfrm>
        </p:grpSpPr>
        <p:sp>
          <p:nvSpPr>
            <p:cNvPr id="402" name=""/>
            <p:cNvSpPr/>
            <p:nvPr/>
          </p:nvSpPr>
          <p:spPr>
            <a:xfrm>
              <a:off x="2270160" y="5202360"/>
              <a:ext cx="21160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392280" y="5202360"/>
              <a:ext cx="0" cy="36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270160" y="4770360"/>
              <a:ext cx="21160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terní v. (PSN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5" name=""/>
          <p:cNvSpPr/>
          <p:nvPr/>
        </p:nvSpPr>
        <p:spPr>
          <a:xfrm>
            <a:off x="1001880" y="4483080"/>
            <a:ext cx="2449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jekce - Koupališt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333440" y="6153120"/>
            <a:ext cx="1800360" cy="576360"/>
          </a:xfrm>
          <a:prstGeom prst="ellipse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- 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39600" y="5576760"/>
            <a:ext cx="1943280" cy="792360"/>
            <a:chOff x="39600" y="5576760"/>
            <a:chExt cx="1943280" cy="792360"/>
          </a:xfrm>
        </p:grpSpPr>
        <p:sp>
          <p:nvSpPr>
            <p:cNvPr id="408" name=""/>
            <p:cNvSpPr/>
            <p:nvPr/>
          </p:nvSpPr>
          <p:spPr>
            <a:xfrm>
              <a:off x="39600" y="6008760"/>
              <a:ext cx="1943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989280" y="6008760"/>
              <a:ext cx="0" cy="36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9600" y="5576760"/>
              <a:ext cx="1943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xterní nákla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1" name=""/>
          <p:cNvSpPr/>
          <p:nvPr/>
        </p:nvSpPr>
        <p:spPr>
          <a:xfrm>
            <a:off x="617400" y="6151680"/>
            <a:ext cx="2890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14520" y="5345280"/>
            <a:ext cx="288720" cy="14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494160" y="5345280"/>
            <a:ext cx="288720" cy="14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24000" y="6094440"/>
            <a:ext cx="68724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. 35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844880" y="2579760"/>
            <a:ext cx="68760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. 31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956720" y="2522520"/>
            <a:ext cx="6872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. 2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. 1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07800" y="2565360"/>
            <a:ext cx="68760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. 2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24000" y="5302080"/>
            <a:ext cx="68724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. 1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578400" y="2565360"/>
            <a:ext cx="68724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6. 1 2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5003640" y="5230800"/>
            <a:ext cx="7351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6. 1 2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7.    45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621240" y="5302080"/>
            <a:ext cx="68724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7. 450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940360" y="5373720"/>
            <a:ext cx="1800360" cy="576360"/>
          </a:xfrm>
          <a:prstGeom prst="ellipse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+ 6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+ 25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7956720" y="5230800"/>
            <a:ext cx="734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8. 1 8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9. 7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41520" y="736560"/>
            <a:ext cx="68724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 1 71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952800" y="750960"/>
            <a:ext cx="68760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 2 5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5364000" y="0"/>
            <a:ext cx="3600720" cy="16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íklad ARCHA – výsledky hospodařen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4AAD4C-0B3A-4343-BABB-42B88CBD44C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ztahy mezi útvar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507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charakter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průběhu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hlavní podnikatelské činnosti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členitost procesu tvorby výkonu, široké spektrum servisních středisek ...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vyvolává požadavky n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řízení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1. průběžná kontrola hospodárnosti a motivace zaměstnanců k jejímu dodržení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2. vymezení pravomoci a odpovědnosti útvarů za činnosti podniku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3. zjištění skutečných a předem stanovených nákladů na jednotku výkonů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vyvolává požadavek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rozpoznat a zobrazit vztah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mezi útvary v nákladovém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předpoklad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zobrazení vztahů mezi útvary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1. rozpoznání a vymezení interních výkonů útvarů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2. ocenění interních výkonů útvarů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obrazení vztahů mezi útva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668681-6AF4-484D-BBA5-DB999570447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ymezení a ocenění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terních výkonů útvar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ymezení interních výkonů předpokládá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ymezení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identifikaci) výkonu (výkonů) útvar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měřitelnos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ýkon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oceně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ýkon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základní varianty oceně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na úrovni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kutečně vynaložených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kutečné náklady na uskutečnění výkon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na úrovni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edem stanovených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dle předběžných kalkulací a rozpočt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. na úrovni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ce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oužívaných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mezi externími subjek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ržní cen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obrazení vztahů mezi útva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CF0E16-934B-406E-80F3-AE9462AE86D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00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50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50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300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40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íklad ARCHA – zadání (I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45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chitektonická kancelář (projekty investičních celků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rganizační struktura – útvary Projekce a Grafi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rojekce – zpracování projektů, v současnosti 2 projekty (Letiště, Koupaliště), oba dokončeny a vyfakturovány za dohodnutou cen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Grafika – zpracování grafických prací pro útvar Projekce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šechny náklady na projekty jsou přímé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ní výkon = 1 hod práce grafika, předem st. náklady = 500Kč/ho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ozsah interních výkonů (předpokládaný rozsah byl dodržen):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400 hod pro Letiště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200 hod pro Koupaliště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obrazení vztahů mezi útva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09E9DF-D125-4456-851B-04C328CC34F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4000"/>
                            </p:stCondLst>
                            <p:childTnLst>
                              <p:par>
                                <p:cTn id="11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0"/>
                            </p:stCondLst>
                            <p:childTnLst>
                              <p:par>
                                <p:cTn id="11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6000"/>
                            </p:stCondLst>
                            <p:childTnLst>
                              <p:par>
                                <p:cTn id="11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7000"/>
                            </p:stCondLst>
                            <p:childTnLst>
                              <p:par>
                                <p:cTn id="12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íklad ARCHA – zadání (II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457200" y="1989000"/>
          <a:ext cx="8229600" cy="4154760"/>
        </p:xfrm>
        <a:graphic>
          <a:graphicData uri="http://schemas.openxmlformats.org/drawingml/2006/table">
            <a:tbl>
              <a:tblPr/>
              <a:tblGrid>
                <a:gridCol w="2768760"/>
                <a:gridCol w="1820880"/>
                <a:gridCol w="1819080"/>
                <a:gridCol w="1820880"/>
              </a:tblGrid>
              <a:tr h="608040"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oložk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Letiště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Koupaliště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Celke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Prodejní cena v Kč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1 800 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700 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2 500 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100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ředem 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stanovené náklady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celkem v 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Kč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1 200 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450 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1 650 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524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ředem 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stanovené externí náklady útvaru Projek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1 000 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350 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1 35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524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ředem 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stanovené interní náklady útvaru Grafik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200 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100 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3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524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ředem 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stanovený 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očet 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hodin útvaru Grafik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4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2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6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8" name=""/>
          <p:cNvSpPr/>
          <p:nvPr/>
        </p:nvSpPr>
        <p:spPr>
          <a:xfrm>
            <a:off x="395280" y="1380600"/>
            <a:ext cx="82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ředem stanovené veličin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obrazení vztahů mezi útvar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48861F-FB94-41A0-A298-DBB2883D8F0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íklad ARCHA – zadání (III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468360" y="1989000"/>
          <a:ext cx="8229600" cy="2934000"/>
        </p:xfrm>
        <a:graphic>
          <a:graphicData uri="http://schemas.openxmlformats.org/drawingml/2006/table">
            <a:tbl>
              <a:tblPr/>
              <a:tblGrid>
                <a:gridCol w="2768400"/>
                <a:gridCol w="1820880"/>
                <a:gridCol w="1819440"/>
                <a:gridCol w="1820880"/>
              </a:tblGrid>
              <a:tr h="608040"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oložk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Letiště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Koupaliště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Celke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524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Skutečné 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externí náklady útvaru Projek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1 045 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355 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1 4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524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Skutečné 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náklady útvaru Grafik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318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100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Skutečný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očet 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hodin útvaru Grafik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4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2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6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71" name=""/>
          <p:cNvSpPr/>
          <p:nvPr/>
        </p:nvSpPr>
        <p:spPr>
          <a:xfrm>
            <a:off x="395280" y="1380600"/>
            <a:ext cx="82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kutečné veličin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obrazení vztahů mezi útvar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204101-EE09-4CAF-B783-39AC76737F4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íklad ARCHA – řešení při ocenění výkonu ve skutečných nákladec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kutečné náklady na 1 hod práce grafika = 318 000 / 600 = 530 Kč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332000" y="2997360"/>
            <a:ext cx="1224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) 1 04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) 35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) 31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539640" y="2925720"/>
            <a:ext cx="1436760" cy="1152360"/>
            <a:chOff x="539640" y="2925720"/>
            <a:chExt cx="1436760" cy="1152360"/>
          </a:xfrm>
        </p:grpSpPr>
        <p:sp>
          <p:nvSpPr>
            <p:cNvPr id="176" name=""/>
            <p:cNvSpPr/>
            <p:nvPr/>
          </p:nvSpPr>
          <p:spPr>
            <a:xfrm>
              <a:off x="539640" y="2925720"/>
              <a:ext cx="14367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257120" y="292572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395280" y="2565360"/>
            <a:ext cx="187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Ú k nákladů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987640" y="2997360"/>
            <a:ext cx="11541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1) 1 04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9900"/>
                </a:solidFill>
                <a:latin typeface="Arial"/>
              </a:rPr>
              <a:t>4)    2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 1 25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3494160" y="2925720"/>
            <a:ext cx="1439640" cy="1152360"/>
            <a:chOff x="3494160" y="2925720"/>
            <a:chExt cx="1439640" cy="1152360"/>
          </a:xfrm>
        </p:grpSpPr>
        <p:sp>
          <p:nvSpPr>
            <p:cNvPr id="181" name=""/>
            <p:cNvSpPr/>
            <p:nvPr/>
          </p:nvSpPr>
          <p:spPr>
            <a:xfrm>
              <a:off x="3494160" y="2925720"/>
              <a:ext cx="1439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213080" y="292572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490920" y="227664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 – Projek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proj. Letišt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133800" y="5302080"/>
            <a:ext cx="10094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2) 35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9900"/>
                </a:solidFill>
                <a:latin typeface="Arial"/>
              </a:rPr>
              <a:t>5) 10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 46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3495600" y="5230800"/>
            <a:ext cx="1440000" cy="1152360"/>
            <a:chOff x="3495600" y="5230800"/>
            <a:chExt cx="1440000" cy="1152360"/>
          </a:xfrm>
        </p:grpSpPr>
        <p:sp>
          <p:nvSpPr>
            <p:cNvPr id="186" name=""/>
            <p:cNvSpPr/>
            <p:nvPr/>
          </p:nvSpPr>
          <p:spPr>
            <a:xfrm>
              <a:off x="3495600" y="5230800"/>
              <a:ext cx="1440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214880" y="523080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3349800" y="4581360"/>
            <a:ext cx="18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 – Projek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proj. Koupališt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940360" y="2997360"/>
            <a:ext cx="100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) 31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6302520" y="2925720"/>
            <a:ext cx="1439640" cy="1152360"/>
            <a:chOff x="6302520" y="2925720"/>
            <a:chExt cx="1439640" cy="1152360"/>
          </a:xfrm>
        </p:grpSpPr>
        <p:sp>
          <p:nvSpPr>
            <p:cNvPr id="191" name=""/>
            <p:cNvSpPr/>
            <p:nvPr/>
          </p:nvSpPr>
          <p:spPr>
            <a:xfrm>
              <a:off x="6302520" y="2925720"/>
              <a:ext cx="1439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021440" y="292572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6156360" y="256536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 – Grafik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020000" y="2997360"/>
            <a:ext cx="1009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4) 2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5) 10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156360" y="5300640"/>
            <a:ext cx="2663640" cy="936720"/>
          </a:xfrm>
          <a:prstGeom prst="bevel">
            <a:avLst>
              <a:gd name="adj" fmla="val 125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) = 530Kč/hod*400ho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) = 530Kč/hod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00ho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obrazení vztahů mezi útva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48C7F5-4204-4EF2-8F3A-AFA7F873CE2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cenění vztahů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 úrovni skutečných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ochází k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řeúčtování skutečných náklad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ezi útva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ůsledk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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e možné zjistit výslednou kalkulaci finálních výkonů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kalkulačně-výkonové účetnictví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Wingdings"/>
                <a:ea typeface="Wingdings"/>
              </a:rPr>
              <a:t>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ení možné sledovat odpovědnost za vynaložení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kontrola hospodárnosti probíhá mimo účetní systé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Wingdings"/>
                <a:ea typeface="Wingdings"/>
              </a:rPr>
              <a:t>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účtování vztahů mezi útvary probíhá následně po skončení obdob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 okamžiku předání výkonu nejsou k dispozici informace pro jeho ocenění (skutečné náklady je možno zjistit až dodatečně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obrazení vztahů mezi útva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9F3159-027A-4EE1-B286-EA2B7E92334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íklad ARCHA – řešení při ocenění výkonu v předem stanovených nákladec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260360" y="2278080"/>
            <a:ext cx="1224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) 1 04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) 35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) 31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468360" y="2206800"/>
            <a:ext cx="1436760" cy="1152360"/>
            <a:chOff x="468360" y="2206800"/>
            <a:chExt cx="1436760" cy="1152360"/>
          </a:xfrm>
        </p:grpSpPr>
        <p:sp>
          <p:nvSpPr>
            <p:cNvPr id="201" name=""/>
            <p:cNvSpPr/>
            <p:nvPr/>
          </p:nvSpPr>
          <p:spPr>
            <a:xfrm>
              <a:off x="468360" y="2206800"/>
              <a:ext cx="14367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185840" y="220680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324000" y="1846440"/>
            <a:ext cx="186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Ú k nákladů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700360" y="2278080"/>
            <a:ext cx="115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1) 1 045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6880" y="2206800"/>
            <a:ext cx="1439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3924360" y="2206800"/>
            <a:ext cx="1440" cy="43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71640" y="155736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jekce: Letišt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terní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221440" y="2276640"/>
            <a:ext cx="100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) 31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5583240" y="2205000"/>
            <a:ext cx="1440000" cy="1152360"/>
            <a:chOff x="5583240" y="2205000"/>
            <a:chExt cx="1440000" cy="1152360"/>
          </a:xfrm>
        </p:grpSpPr>
        <p:sp>
          <p:nvSpPr>
            <p:cNvPr id="210" name=""/>
            <p:cNvSpPr/>
            <p:nvPr/>
          </p:nvSpPr>
          <p:spPr>
            <a:xfrm>
              <a:off x="5583240" y="2205000"/>
              <a:ext cx="1440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302520" y="220500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64000" y="155736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rafika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084720" y="5229360"/>
            <a:ext cx="2664000" cy="936360"/>
          </a:xfrm>
          <a:prstGeom prst="bevel">
            <a:avLst>
              <a:gd name="adj" fmla="val 125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) = 500Kč/hod*400ho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) = 500Kč/hod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00ho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700360" y="3645000"/>
            <a:ext cx="115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4) 2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6880" y="3573360"/>
            <a:ext cx="1439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3924360" y="3573360"/>
            <a:ext cx="1440" cy="43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771640" y="292428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jekce: Letišt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ní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700360" y="5013360"/>
            <a:ext cx="115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) 35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206880" y="4941720"/>
            <a:ext cx="1439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3924360" y="4941720"/>
            <a:ext cx="1440" cy="430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556000" y="4292640"/>
            <a:ext cx="28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jekce: Koupališt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terní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700360" y="6310440"/>
            <a:ext cx="115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5) 1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206880" y="6238800"/>
            <a:ext cx="1439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3924360" y="6238800"/>
            <a:ext cx="1440" cy="43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556000" y="5589720"/>
            <a:ext cx="28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jekce: Koupališt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ní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7345440" y="2205000"/>
            <a:ext cx="1439640" cy="1152360"/>
            <a:chOff x="7345440" y="2205000"/>
            <a:chExt cx="1439640" cy="1152360"/>
          </a:xfrm>
        </p:grpSpPr>
        <p:sp>
          <p:nvSpPr>
            <p:cNvPr id="227" name=""/>
            <p:cNvSpPr/>
            <p:nvPr/>
          </p:nvSpPr>
          <p:spPr>
            <a:xfrm>
              <a:off x="7345440" y="2205000"/>
              <a:ext cx="1439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064360" y="220500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9" name=""/>
          <p:cNvSpPr/>
          <p:nvPr/>
        </p:nvSpPr>
        <p:spPr>
          <a:xfrm>
            <a:off x="7164360" y="155736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rafika    Interní výno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8134200" y="2276640"/>
            <a:ext cx="1009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4) 2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5) 1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obrazení vztahů mezi útvar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9D38E1-BF2D-40E3-B1D4-31C2412BB0A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0T13:11:59Z</dcterms:created>
  <dc:creator>NOBODY</dc:creator>
  <dc:description/>
  <dc:language>en-US</dc:language>
  <cp:lastModifiedBy>mensikm</cp:lastModifiedBy>
  <dcterms:modified xsi:type="dcterms:W3CDTF">2009-10-21T09:11:02Z</dcterms:modified>
  <cp:revision>9</cp:revision>
  <dc:subject/>
  <dc:title>Rozpoznání a zobrazení vztahů mezi útvary a pojetí výnosů v nákladovém účetnictví</dc:title>
</cp:coreProperties>
</file>