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7EFDE-3A6D-4E5D-8562-0A29703942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5C42F-3675-465B-8298-729C01105B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645F5-DEF0-4EAA-ADAE-F2C3B656FC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F9792-5AED-4133-B16F-9F42E9063D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EB554-6A8C-4714-9031-AF54710C59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08769-298F-40AE-BB90-8FDF56374E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CCD8A-0FF9-4A30-925D-E755B50668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9DFBB-E4E3-4999-95CB-226CF49EA7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E8DCF-F948-4A19-BA1B-6A5FD88545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3361E-7089-421C-9F61-502626C8EF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4D129-14FB-45B7-AF66-2DACB94E87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5F366-B60B-424E-8C4F-5AACCB203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B5BF-B8AB-4701-82B3-099F437822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alkulační systém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jeho využití v řízen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iv konkrétních podmínek činnost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řízení nákladů výkon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harakter výrobní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ganická x heterogenní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typ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mogenní x heterogenní výko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členitost výrobní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členitý (technologicky uzavřený) x členitý proce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ztah výkonu k zákazníkov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romadná x sériová x kusová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existence nedokončené výro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existující x stabilní x kolísají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druženost výro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družená x nesdružená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1C10C-F84D-4E11-AC5D-F61A0F05B4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5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8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8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evidence a kalkulace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sdruže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áz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upň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káz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druže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9F2E8-E97F-42C0-B274-418C4EAEA2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mo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vykle pokud kompletní provedení jednoho druhu finálního výkonu tvoří nepřetržitý a místně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uzavřený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4360" y="2924280"/>
            <a:ext cx="143964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35640" y="3429000"/>
            <a:ext cx="2158920" cy="1511280"/>
          </a:xfrm>
          <a:prstGeom prst="hexagon">
            <a:avLst>
              <a:gd name="adj" fmla="val 35713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97040" y="3400560"/>
            <a:ext cx="2374920" cy="15825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0" name=""/>
          <p:cNvCxnSpPr>
            <a:stCxn id="207" idx="3"/>
            <a:endCxn id="209" idx="1"/>
          </p:cNvCxnSpPr>
          <p:nvPr/>
        </p:nvCxnSpPr>
        <p:spPr>
          <a:xfrm>
            <a:off x="2124000" y="4184640"/>
            <a:ext cx="47376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209" idx="3"/>
            <a:endCxn id="208" idx="1"/>
          </p:cNvCxnSpPr>
          <p:nvPr/>
        </p:nvCxnSpPr>
        <p:spPr>
          <a:xfrm flipV="1">
            <a:off x="4971960" y="4184280"/>
            <a:ext cx="4644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12" name=""/>
          <p:cNvSpPr/>
          <p:nvPr/>
        </p:nvSpPr>
        <p:spPr>
          <a:xfrm>
            <a:off x="8748720" y="40482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3" name=""/>
          <p:cNvCxnSpPr>
            <a:stCxn id="208" idx="3"/>
            <a:endCxn id="212" idx="1"/>
          </p:cNvCxnSpPr>
          <p:nvPr/>
        </p:nvCxnSpPr>
        <p:spPr>
          <a:xfrm>
            <a:off x="7594560" y="4184640"/>
            <a:ext cx="11548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14" name=""/>
          <p:cNvSpPr/>
          <p:nvPr/>
        </p:nvSpPr>
        <p:spPr>
          <a:xfrm>
            <a:off x="7740720" y="3789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BB7E8-DD2D-416D-87E7-5089E787E1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áz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roba finálního výrobku je rozdělena do několik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áz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é se liší charakterem činností, objemem prováděných výkonů v jednotlivých časových úsecích a většinou i místem provádě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y se sledují podle fází, výkony předávané mezi fázemi však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ejsou předmětem hodnotového zobra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1680" y="3529080"/>
            <a:ext cx="143964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22960" y="4033800"/>
            <a:ext cx="2158920" cy="1511280"/>
          </a:xfrm>
          <a:prstGeom prst="hexagon">
            <a:avLst>
              <a:gd name="adj" fmla="val 35713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11280" y="3386160"/>
            <a:ext cx="2374920" cy="7920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636040" y="46530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1" name=""/>
          <p:cNvCxnSpPr>
            <a:stCxn id="218" idx="3"/>
            <a:endCxn id="220" idx="1"/>
          </p:cNvCxnSpPr>
          <p:nvPr/>
        </p:nvCxnSpPr>
        <p:spPr>
          <a:xfrm>
            <a:off x="7481880" y="4789440"/>
            <a:ext cx="11548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22" name=""/>
          <p:cNvSpPr/>
          <p:nvPr/>
        </p:nvSpPr>
        <p:spPr>
          <a:xfrm>
            <a:off x="7628040" y="4394160"/>
            <a:ext cx="21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11280" y="4394160"/>
            <a:ext cx="237492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11280" y="5402160"/>
            <a:ext cx="237492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17" idx="3"/>
            <a:endCxn id="223" idx="1"/>
          </p:cNvCxnSpPr>
          <p:nvPr/>
        </p:nvCxnSpPr>
        <p:spPr>
          <a:xfrm>
            <a:off x="2010960" y="4789080"/>
            <a:ext cx="4006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6" name=""/>
          <p:cNvCxnSpPr/>
          <p:nvPr/>
        </p:nvCxnSpPr>
        <p:spPr>
          <a:xfrm>
            <a:off x="2008080" y="3789360"/>
            <a:ext cx="401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7" name=""/>
          <p:cNvCxnSpPr/>
          <p:nvPr/>
        </p:nvCxnSpPr>
        <p:spPr>
          <a:xfrm>
            <a:off x="2022120" y="5805000"/>
            <a:ext cx="4006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8" name=""/>
          <p:cNvCxnSpPr>
            <a:stCxn id="219" idx="2"/>
            <a:endCxn id="223" idx="0"/>
          </p:cNvCxnSpPr>
          <p:nvPr/>
        </p:nvCxnSpPr>
        <p:spPr>
          <a:xfrm>
            <a:off x="3598560" y="4178160"/>
            <a:ext cx="1080" cy="216720"/>
          </a:xfrm>
          <a:prstGeom prst="straightConnector1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stealth" w="med"/>
          </a:ln>
        </p:spPr>
      </p:cxnSp>
      <p:cxnSp>
        <p:nvCxnSpPr>
          <p:cNvPr id="229" name=""/>
          <p:cNvCxnSpPr>
            <a:stCxn id="223" idx="2"/>
            <a:endCxn id="224" idx="0"/>
          </p:cNvCxnSpPr>
          <p:nvPr/>
        </p:nvCxnSpPr>
        <p:spPr>
          <a:xfrm>
            <a:off x="3598560" y="5186160"/>
            <a:ext cx="1080" cy="216360"/>
          </a:xfrm>
          <a:prstGeom prst="straightConnector1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stealth" w="med"/>
          </a:ln>
        </p:spPr>
      </p:cxnSp>
      <p:cxnSp>
        <p:nvCxnSpPr>
          <p:cNvPr id="230" name=""/>
          <p:cNvCxnSpPr>
            <a:stCxn id="219" idx="3"/>
            <a:endCxn id="218" idx="1"/>
          </p:cNvCxnSpPr>
          <p:nvPr/>
        </p:nvCxnSpPr>
        <p:spPr>
          <a:xfrm>
            <a:off x="4785840" y="3782880"/>
            <a:ext cx="537480" cy="100728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stealth" w="med"/>
          </a:ln>
        </p:spPr>
      </p:cxnSp>
      <p:cxnSp>
        <p:nvCxnSpPr>
          <p:cNvPr id="231" name=""/>
          <p:cNvCxnSpPr>
            <a:stCxn id="223" idx="3"/>
            <a:endCxn id="218" idx="1"/>
          </p:cNvCxnSpPr>
          <p:nvPr/>
        </p:nvCxnSpPr>
        <p:spPr>
          <a:xfrm flipV="1">
            <a:off x="4785840" y="4788720"/>
            <a:ext cx="537480" cy="252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stealth" w="med"/>
          </a:ln>
        </p:spPr>
      </p:cxnSp>
      <p:cxnSp>
        <p:nvCxnSpPr>
          <p:cNvPr id="232" name=""/>
          <p:cNvCxnSpPr>
            <a:stCxn id="224" idx="3"/>
            <a:endCxn id="218" idx="1"/>
          </p:cNvCxnSpPr>
          <p:nvPr/>
        </p:nvCxnSpPr>
        <p:spPr>
          <a:xfrm flipV="1">
            <a:off x="4785840" y="4788720"/>
            <a:ext cx="537480" cy="1010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33" name=""/>
          <p:cNvSpPr/>
          <p:nvPr/>
        </p:nvSpPr>
        <p:spPr>
          <a:xfrm>
            <a:off x="5410080" y="5734080"/>
            <a:ext cx="3492720" cy="647640"/>
          </a:xfrm>
          <a:prstGeom prst="rect">
            <a:avLst/>
          </a:pr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uze naturální veliči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uze hodnotové veliči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30760" y="5886360"/>
            <a:ext cx="432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630760" y="61736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159F0-323A-4FDE-B48A-85DDAEA022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9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5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70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9000"/>
                            </p:stCondLst>
                            <p:childTnLst>
                              <p:par>
                                <p:cTn id="4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upň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roba finálního výrobku je rozdělena do několik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upň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výstupem každého stupně (kromě posledního) j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olotov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ý může být dále spotřebován nebo prod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y se sledují podle stupňů, výkony předávané mezi stupn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jsou předmětem hodnotového zobra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0960" y="3529080"/>
            <a:ext cx="144000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79960" y="4438800"/>
            <a:ext cx="1830600" cy="1511280"/>
          </a:xfrm>
          <a:prstGeom prst="hexagon">
            <a:avLst>
              <a:gd name="adj" fmla="val 30282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0920" y="3386160"/>
            <a:ext cx="1800360" cy="7920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stup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934480" y="5057640"/>
            <a:ext cx="2095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2" name=""/>
          <p:cNvCxnSpPr>
            <a:stCxn id="239" idx="3"/>
            <a:endCxn id="241" idx="1"/>
          </p:cNvCxnSpPr>
          <p:nvPr/>
        </p:nvCxnSpPr>
        <p:spPr>
          <a:xfrm>
            <a:off x="7810560" y="5194440"/>
            <a:ext cx="112464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43" name=""/>
          <p:cNvSpPr/>
          <p:nvPr/>
        </p:nvSpPr>
        <p:spPr>
          <a:xfrm>
            <a:off x="7953480" y="479916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4" name=""/>
          <p:cNvCxnSpPr/>
          <p:nvPr/>
        </p:nvCxnSpPr>
        <p:spPr>
          <a:xfrm>
            <a:off x="1647720" y="3789360"/>
            <a:ext cx="401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45" name=""/>
          <p:cNvSpPr/>
          <p:nvPr/>
        </p:nvSpPr>
        <p:spPr>
          <a:xfrm>
            <a:off x="4211640" y="3198960"/>
            <a:ext cx="1873080" cy="1152360"/>
          </a:xfrm>
          <a:prstGeom prst="flowChartDecision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otov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6" name=""/>
          <p:cNvCxnSpPr>
            <a:stCxn id="240" idx="3"/>
            <a:endCxn id="245" idx="1"/>
          </p:cNvCxnSpPr>
          <p:nvPr/>
        </p:nvCxnSpPr>
        <p:spPr>
          <a:xfrm flipV="1">
            <a:off x="3850920" y="3774600"/>
            <a:ext cx="3610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47" name=""/>
          <p:cNvSpPr/>
          <p:nvPr/>
        </p:nvSpPr>
        <p:spPr>
          <a:xfrm>
            <a:off x="3851280" y="4797360"/>
            <a:ext cx="180036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stup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8" name=""/>
          <p:cNvCxnSpPr>
            <a:stCxn id="245" idx="2"/>
            <a:endCxn id="247" idx="0"/>
          </p:cNvCxnSpPr>
          <p:nvPr/>
        </p:nvCxnSpPr>
        <p:spPr>
          <a:xfrm flipH="1">
            <a:off x="4750560" y="4350960"/>
            <a:ext cx="397800" cy="446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49" name=""/>
          <p:cNvCxnSpPr>
            <a:stCxn id="247" idx="3"/>
            <a:endCxn id="239" idx="1"/>
          </p:cNvCxnSpPr>
          <p:nvPr/>
        </p:nvCxnSpPr>
        <p:spPr>
          <a:xfrm>
            <a:off x="5651640" y="5194080"/>
            <a:ext cx="3290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50" name=""/>
          <p:cNvSpPr/>
          <p:nvPr/>
        </p:nvSpPr>
        <p:spPr>
          <a:xfrm>
            <a:off x="7223040" y="364500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42040" y="338616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45" idx="3"/>
            <a:endCxn id="250" idx="1"/>
          </p:cNvCxnSpPr>
          <p:nvPr/>
        </p:nvCxnSpPr>
        <p:spPr>
          <a:xfrm>
            <a:off x="6084720" y="3774960"/>
            <a:ext cx="1139040" cy="15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EEFBC-A7B6-4772-BC20-7567E3109B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60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8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20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akázk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398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při tvorbě jedinečných individuálních výkonů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akáz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mé náklady s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řiřazuj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iž při vzniku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a zakáz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přímé náklady s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kumulují na účtech reži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poté je podle řešené rozhodovací úlohy rozhodnuto o jejich alokac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zakázkově orientovaném typu výroby má výkonově orientované účetnictví daleko širš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ýznam pro řízení nákladů a zis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92000" y="3529080"/>
            <a:ext cx="1440000" cy="177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naložené přímé náklady zakáz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153040" y="3971880"/>
            <a:ext cx="1830240" cy="1511280"/>
          </a:xfrm>
          <a:prstGeom prst="hexagon">
            <a:avLst>
              <a:gd name="adj" fmla="val 30276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zakáz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107200" y="4591080"/>
            <a:ext cx="209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8" name=""/>
          <p:cNvCxnSpPr>
            <a:stCxn id="256" idx="3"/>
            <a:endCxn id="257" idx="1"/>
          </p:cNvCxnSpPr>
          <p:nvPr/>
        </p:nvCxnSpPr>
        <p:spPr>
          <a:xfrm>
            <a:off x="6983280" y="4727520"/>
            <a:ext cx="112464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59" name=""/>
          <p:cNvSpPr/>
          <p:nvPr/>
        </p:nvSpPr>
        <p:spPr>
          <a:xfrm>
            <a:off x="7126200" y="433224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92320" y="350028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92000" y="5373720"/>
            <a:ext cx="1440000" cy="1006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naložené nepřímé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92320" y="436572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92320" y="522936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62" idx="3"/>
            <a:endCxn id="256" idx="1"/>
          </p:cNvCxnSpPr>
          <p:nvPr/>
        </p:nvCxnSpPr>
        <p:spPr>
          <a:xfrm>
            <a:off x="4505040" y="4726080"/>
            <a:ext cx="6483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5" name=""/>
          <p:cNvCxnSpPr>
            <a:stCxn id="255" idx="3"/>
            <a:endCxn id="260" idx="1"/>
          </p:cNvCxnSpPr>
          <p:nvPr/>
        </p:nvCxnSpPr>
        <p:spPr>
          <a:xfrm flipV="1">
            <a:off x="2232000" y="3859920"/>
            <a:ext cx="761040" cy="554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6" name=""/>
          <p:cNvCxnSpPr>
            <a:stCxn id="255" idx="3"/>
            <a:endCxn id="262" idx="1"/>
          </p:cNvCxnSpPr>
          <p:nvPr/>
        </p:nvCxnSpPr>
        <p:spPr>
          <a:xfrm>
            <a:off x="2232000" y="4414320"/>
            <a:ext cx="761040" cy="311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7" name=""/>
          <p:cNvCxnSpPr>
            <a:stCxn id="255" idx="3"/>
            <a:endCxn id="263" idx="1"/>
          </p:cNvCxnSpPr>
          <p:nvPr/>
        </p:nvCxnSpPr>
        <p:spPr>
          <a:xfrm>
            <a:off x="2232000" y="4414680"/>
            <a:ext cx="761040" cy="117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8" name=""/>
          <p:cNvCxnSpPr>
            <a:stCxn id="261" idx="3"/>
            <a:endCxn id="260" idx="1"/>
          </p:cNvCxnSpPr>
          <p:nvPr/>
        </p:nvCxnSpPr>
        <p:spPr>
          <a:xfrm flipV="1">
            <a:off x="2232000" y="3859920"/>
            <a:ext cx="761040" cy="201708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cxnSp>
        <p:nvCxnSpPr>
          <p:cNvPr id="269" name=""/>
          <p:cNvCxnSpPr>
            <a:stCxn id="261" idx="3"/>
            <a:endCxn id="262" idx="1"/>
          </p:cNvCxnSpPr>
          <p:nvPr/>
        </p:nvCxnSpPr>
        <p:spPr>
          <a:xfrm flipV="1">
            <a:off x="2232000" y="4725360"/>
            <a:ext cx="761040" cy="115164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cxnSp>
        <p:nvCxnSpPr>
          <p:cNvPr id="270" name=""/>
          <p:cNvCxnSpPr>
            <a:stCxn id="261" idx="3"/>
            <a:endCxn id="263" idx="1"/>
          </p:cNvCxnSpPr>
          <p:nvPr/>
        </p:nvCxnSpPr>
        <p:spPr>
          <a:xfrm flipV="1">
            <a:off x="2232000" y="5589360"/>
            <a:ext cx="761040" cy="28800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sp>
        <p:nvSpPr>
          <p:cNvPr id="271" name=""/>
          <p:cNvSpPr/>
          <p:nvPr/>
        </p:nvSpPr>
        <p:spPr>
          <a:xfrm>
            <a:off x="2233440" y="6237360"/>
            <a:ext cx="590580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60" idx="3"/>
            <a:endCxn id="256" idx="1"/>
          </p:cNvCxnSpPr>
          <p:nvPr/>
        </p:nvCxnSpPr>
        <p:spPr>
          <a:xfrm>
            <a:off x="4505040" y="3860640"/>
            <a:ext cx="648360" cy="867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73" name=""/>
          <p:cNvCxnSpPr>
            <a:stCxn id="263" idx="3"/>
            <a:endCxn id="256" idx="1"/>
          </p:cNvCxnSpPr>
          <p:nvPr/>
        </p:nvCxnSpPr>
        <p:spPr>
          <a:xfrm flipV="1">
            <a:off x="4505040" y="4726800"/>
            <a:ext cx="648360" cy="862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EC925-E763-46DF-BE73-2428EAB0AF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0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60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2000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40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6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8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000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20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400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sdružených výkonů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zniká-l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z kombin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ložených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stupů více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omezeně ovlivnitelném poměru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šechny náklady jsou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epřím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sdružené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členění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lavní výkony – hlavní cíl činnosti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dlejší výkony – nejsou hlavním cílem činnosti, ale mají hodnot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dpad – nutné důsledky činnosti s minimální hodnoto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tížné nalezení vazby mezi sdruženými náklady a jednotlivými výkon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alokace obvykle n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incipu únos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 důvod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enění zásob ve finančním účetnictv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bhajoby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enění výkonů pro hodnotové řízení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DC7A4-F2EC-4D1F-8572-B7A970D809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sdružených výkonů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lokace nákladů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hlavn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a základě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hodnotových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rozvrhových základen (prodejní cena, příspěvek k tržbám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a základě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naturálních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rozvrhových základen (objem, hmotnost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cenění a zobraze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vedlejš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rozčítací způsob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vedlejší výkony zachyceny obdobně jako hlav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odčítací způsob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výnosy z prodeje vedlejších výkonů považovány za snížení nákladů vynaložených na hlavní výko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1C84B-07B0-4DF4-AE92-05FA337406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lišnosti kalkulací ve vztah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 časovému horizont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se třeba sestavova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ohledem 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roveň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operativní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taktické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strategické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ázi řídicího cyk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fázi plánování a kontro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ředběžné kalku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 průběhu či po skončení tvorby a prodeje výkonů → výsledné kalku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ílem je poskytnou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nformace pro řízení hodno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ýkonu po celou dobu jeho exist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alkulace jsou významné nejen samostatně ale zejména jako ucelený systém 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kalkulač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2F32C-C8FF-4CBE-8CE1-0364F561DF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systé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187280" y="2083680"/>
            <a:ext cx="6984360" cy="3411720"/>
            <a:chOff x="1187280" y="2083680"/>
            <a:chExt cx="6984360" cy="3411720"/>
          </a:xfrm>
        </p:grpSpPr>
        <p:cxnSp>
          <p:nvCxnSpPr>
            <p:cNvPr id="164" name="_s56328"/>
            <p:cNvCxnSpPr>
              <a:stCxn id="165" idx="3"/>
              <a:endCxn id="166" idx="2"/>
            </p:cNvCxnSpPr>
            <p:nvPr/>
          </p:nvCxnSpPr>
          <p:spPr>
            <a:xfrm flipV="1">
              <a:off x="4639320" y="4124160"/>
              <a:ext cx="384120" cy="1142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56329"/>
            <p:cNvCxnSpPr>
              <a:stCxn id="168" idx="3"/>
              <a:endCxn id="166" idx="2"/>
            </p:cNvCxnSpPr>
            <p:nvPr/>
          </p:nvCxnSpPr>
          <p:spPr>
            <a:xfrm flipV="1">
              <a:off x="4639320" y="4123800"/>
              <a:ext cx="384120" cy="457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9" name="_s56330"/>
            <p:cNvCxnSpPr>
              <a:stCxn id="166" idx="0"/>
              <a:endCxn id="170" idx="2"/>
            </p:cNvCxnSpPr>
            <p:nvPr/>
          </p:nvCxnSpPr>
          <p:spPr>
            <a:xfrm flipV="1" rot="16200000">
              <a:off x="4237200" y="2881080"/>
              <a:ext cx="228960" cy="1343520"/>
            </a:xfrm>
            <a:prstGeom prst="bentConnector3">
              <a:avLst>
                <a:gd name="adj1" fmla="val 49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1" name="_s56331"/>
            <p:cNvCxnSpPr>
              <a:stCxn id="172" idx="0"/>
              <a:endCxn id="170" idx="2"/>
            </p:cNvCxnSpPr>
            <p:nvPr/>
          </p:nvCxnSpPr>
          <p:spPr>
            <a:xfrm flipH="1" flipV="1" rot="5400000">
              <a:off x="2894400" y="2881800"/>
              <a:ext cx="228960" cy="1342800"/>
            </a:xfrm>
            <a:prstGeom prst="bentConnector3">
              <a:avLst>
                <a:gd name="adj1" fmla="val 49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3" name="_s56332"/>
            <p:cNvCxnSpPr>
              <a:stCxn id="174" idx="0"/>
              <a:endCxn id="175" idx="2"/>
            </p:cNvCxnSpPr>
            <p:nvPr/>
          </p:nvCxnSpPr>
          <p:spPr>
            <a:xfrm flipV="1" rot="16200000">
              <a:off x="5627520" y="1806480"/>
              <a:ext cx="228960" cy="21214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6" name="_s56333"/>
            <p:cNvCxnSpPr>
              <a:stCxn id="170" idx="0"/>
              <a:endCxn id="175" idx="2"/>
            </p:cNvCxnSpPr>
            <p:nvPr/>
          </p:nvCxnSpPr>
          <p:spPr>
            <a:xfrm flipH="1" flipV="1" rot="5400000">
              <a:off x="4066560" y="2366280"/>
              <a:ext cx="228960" cy="100224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5" name="_s56334"/>
            <p:cNvSpPr/>
            <p:nvPr/>
          </p:nvSpPr>
          <p:spPr>
            <a:xfrm>
              <a:off x="3531240" y="2083680"/>
              <a:ext cx="2298960" cy="669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KALKULAC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NÁKLADŮ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_s56335"/>
            <p:cNvSpPr/>
            <p:nvPr/>
          </p:nvSpPr>
          <p:spPr>
            <a:xfrm>
              <a:off x="2311200" y="2981880"/>
              <a:ext cx="273816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ŘEDBĚŽN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_s56336"/>
            <p:cNvSpPr/>
            <p:nvPr/>
          </p:nvSpPr>
          <p:spPr>
            <a:xfrm>
              <a:off x="5433480" y="2981880"/>
              <a:ext cx="273816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VÝSLEDN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_s56337"/>
            <p:cNvSpPr/>
            <p:nvPr/>
          </p:nvSpPr>
          <p:spPr>
            <a:xfrm>
              <a:off x="1187280" y="36673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ROPOČT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_s56338"/>
            <p:cNvSpPr/>
            <p:nvPr/>
          </p:nvSpPr>
          <p:spPr>
            <a:xfrm>
              <a:off x="3872520" y="36673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NORM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_s56339"/>
            <p:cNvSpPr/>
            <p:nvPr/>
          </p:nvSpPr>
          <p:spPr>
            <a:xfrm>
              <a:off x="2337840" y="43531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LÁN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56340"/>
            <p:cNvSpPr/>
            <p:nvPr/>
          </p:nvSpPr>
          <p:spPr>
            <a:xfrm>
              <a:off x="2337840" y="503856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OPERATIVNÍ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A4A54-F266-43B8-8E08-5CB79E32BC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čtov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 hromadné a sériové výrobě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výzkumu a vývoj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vého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osouzení účinnost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ového výrobku ve srovnání s ceno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limitem pro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útvary technické příprav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ýro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02732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i zakázkové čin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řípravy zakáz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zpracování cenové nabídk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 jednání o ceně se zákazník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výchozí úrovní nákladové náročnosti pro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útvary zajišťující přípravu a realizac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zakáz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5760" y="4581360"/>
            <a:ext cx="8064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ychází z informací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 podobných výkonech, z normativů obecnější platnosti a z odborných odh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kulační vzorec se sestavuje na úrovn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ných náklad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tj. včetně prodejní a 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hodný typ kalkulačního vzorce –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trográdní kalkulační vzor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95C61-6685-4731-B2CE-7CD1969BB1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ánov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5075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y výkon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yjadřuje úroveň nákladů výkonu, které by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ělo bý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 průběhu rozpočtového období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dosažen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á význam u výkonů, jejichž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a se opakuj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 průběhu obdob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ánování hodnotových veliči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na středních a vyšších úrovních řízení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odklad pro hlavní podnikový rozpoč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nákladů v rozpočtové výsledovce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výdajů v rozpočtu peněžních tok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zásob vlastní výroby v rozpočtové rozvaze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je úkolem pro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útvary technické příprav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výro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ychází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 existujících podmínek a uvažovaných změ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alkulace dílčího období – váže na předpokládaný průběh změn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alkulace celého rozpočtového období – průměr dílčích kalkulací vážený plánovaným objemem výkon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stavuje se na úrovn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jednicových náklad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případně vč. variabilní reži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C6C9F-01EA-47A2-BFFC-60630D9DBA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vní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tvorby výkonů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yjadřuje úroveň nákladů, které by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mělo být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při stávajících technologických a konstrukčních podmínkách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dosažen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e vazbě na plán. kalkulac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zpřesňuje předem stanovenou výši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účel: posouzení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dodržení úkol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útvary zajišťujícími podmínky tvorby výkonu (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technická příprava výrob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je úkolem pro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útvary zajišťující tvorbu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ýkon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vychází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z konkrétních konstrukčních a technologických podmínek činnosti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kalkulace dílčího období – odráží skutečný průběh změn podmínek činnosti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kalkulace celého sledovaného období – průměr dílčích kalkulací vážený plánovaným či skutečným objemem výkon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sestavuje se na úrovn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jednicových nákladů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a základě aktuálních norem (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orm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předem stanovená cena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B9134-130C-48E4-AB1F-025CC33364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n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průběhu či po skončení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y výkonů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e úroveň nákladů výkonu, které ve skutečnosti či v průměru byly vynaloženy na jednotku výkonu vyrobenou v určitém období či dáv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účel: různé využití na jednotlivých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úrovních říz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znamné pro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ontrolu hospodár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nápravná opatření (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→ při výrobách s dalším cyklem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nalýza příčin a odpovědnosti za vznik odchylek (→ ve výrobách s kratším cyklem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dle potřeby se sestavuje v různém obsahu i struktuře položek (od jednicových nákladů po plné náklad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3558C-C93D-4220-91ED-FE3AD45E25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alkulace nákladů, ceny a zisku (marže) u zakázkové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(M) = PC – V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(M) = (PC – PrK) + (PrK – OK) + (OK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isk (marže) = kalkulovaný zisk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propočt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dodržení propočtové kalkulace v odpovědnosti útvarů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zajišťujících podmínky tvorby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dodržení operativní kalkulace v odpovědnosti útvarů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zajišťujících tvorb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841480" y="2781360"/>
            <a:ext cx="71928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03640" y="2781360"/>
            <a:ext cx="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2708280"/>
            <a:ext cx="122400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FD51C-4F89-4CBF-ABC3-1DC1E89C9E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alkulace nákladů, ceny a zisku (marže) u hromadné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ke konkrétnímu okamž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Úspora/překročení nákladů = (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Úspora/překročení nákladů = dodržení plán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b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ve vztahu k hodnoceném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(např. ročnímu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obdob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Z (M) = (PC – 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plán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plán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sk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 sk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Z (M) = kalkul. zisk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. plán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liv změny objemu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.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859280" y="2492280"/>
            <a:ext cx="64944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20000" y="2421000"/>
            <a:ext cx="36036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619280" y="4653000"/>
            <a:ext cx="28872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203640" y="4653000"/>
            <a:ext cx="28872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651280" y="4581360"/>
            <a:ext cx="21564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465300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E9BEF-6BBD-4725-940D-2030FCD0F1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9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4Z</dcterms:modified>
  <cp:revision>12</cp:revision>
  <dc:subject/>
  <dc:title>Snímek 1</dc:title>
</cp:coreProperties>
</file>