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ADB88-2D42-46E5-BDD3-F070E7405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A479D-B7DB-4821-BA13-AFB201D3A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9F78-BC48-411B-9F61-991487B83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1A07B-444A-46BA-8CDE-08ED69A38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44C66-DEC4-4870-A8C5-1FE710213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4C6A1-F473-4CCD-BAE9-45245600C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0C329-782C-4B2E-9A76-FD67BC461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F6DF5-7CDD-48D3-B611-255A815EC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26560-1907-40DD-AA81-41FFA2A92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7A0F-670B-4AE1-901E-CB7B3FDAE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24E9-DFEA-42D1-923B-44FE24093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8C43-3FC6-470E-88D7-B16E8DB33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9873-0FDD-43BE-82C2-DC559E2CE3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oda standardních nákladů a výnosů a analýza odchyl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ze změny struktury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nehomogenní produkci lze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odchylku objemu prode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měnu marže v důsledku změny objemu prodeje) rozložit n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 ze změny objemu výkonů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působenou zvýšením či snížením objemu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ze změny struktur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způsobenou změnou sortimentu prodáv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,i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,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ternativně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ze odchylku vyjádřit přes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spěvek k tržbá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de CT jsou celkové trž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AEA94-AC4D-4DAC-BD6E-2D25FDF3DC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a ze změny struktury vstup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řípadě možnosti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měni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 technologickém postupu tvorby výkon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měr vstup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je možné rozdělit celkovou odchylku ze změny objemu na „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čistou kvantitativní odchyl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chylku ze změny struktury vstup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poče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,vstup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průměrná cena naturální jednotky vstupů při standardní struktuře vstupů – průměrná cena naturální jednotky vstupů při skutečné struktuře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standardní spotřeba vstupů v naturálním vyjádření –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ůměrná cena naturální jednotky vstupů při standardní struktuře vstup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A1ED-2B71-4DBE-98CA-0D83CCEF4E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a cíle analýzy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–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hod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é výš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jeji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četně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rozdíl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 páteří manažerského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v kalkulacích, rozpočetnictví i odpovědnostním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ystému řízení na základě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skutečných výsledk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odchylky mezi standardní a skutečnou hodnot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jetí opatř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A2585-D89E-475B-A19A-D717A8B2E9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á výš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ů, ceny, zisku či naturálně vyjádřeného zdro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jednotk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kou výkonu – jednot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álního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bo „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dílčí čá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výkonu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u finálních výkonů přizpůsobovaných zákazníků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úrovně standar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áklad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neměnná po určitou dob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ěž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reálně dosažitelná úroveň při efektivním provádění činnosti v daném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de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dosažitelná při ideálním průběh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6598A-0512-4415-AAE7-13B5227CAE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up stanovení standard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1716120"/>
            <a:ext cx="215928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otka výrobku (1 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50668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329868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icové a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9104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88304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67540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1787400"/>
            <a:ext cx="431640" cy="432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1341360"/>
            <a:ext cx="18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veličiny vyjádřeny na 1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20880"/>
            <a:ext cx="3240000" cy="17287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my spotřeby materiál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. cen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 spotřeby ča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mzdový tar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tiv spotřeby stroj. hod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výše var.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883040"/>
            <a:ext cx="324000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fixních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7560" y="517212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5" idx="2"/>
            <a:endCxn id="173" idx="0"/>
          </p:cNvCxnSpPr>
          <p:nvPr/>
        </p:nvCxnSpPr>
        <p:spPr>
          <a:xfrm flipH="1">
            <a:off x="2376000" y="2290320"/>
            <a:ext cx="2196000" cy="43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7" name=""/>
          <p:cNvCxnSpPr>
            <a:stCxn id="165" idx="2"/>
            <a:endCxn id="166" idx="0"/>
          </p:cNvCxnSpPr>
          <p:nvPr/>
        </p:nvCxnSpPr>
        <p:spPr>
          <a:xfrm>
            <a:off x="4572000" y="2290680"/>
            <a:ext cx="1728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8" name=""/>
          <p:cNvCxnSpPr>
            <a:stCxn id="166" idx="2"/>
            <a:endCxn id="167" idx="0"/>
          </p:cNvCxnSpPr>
          <p:nvPr/>
        </p:nvCxnSpPr>
        <p:spPr>
          <a:xfrm>
            <a:off x="6298920" y="308124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9" name=""/>
          <p:cNvCxnSpPr>
            <a:stCxn id="167" idx="2"/>
            <a:endCxn id="168" idx="0"/>
          </p:cNvCxnSpPr>
          <p:nvPr/>
        </p:nvCxnSpPr>
        <p:spPr>
          <a:xfrm>
            <a:off x="6298920" y="3873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0" name=""/>
          <p:cNvCxnSpPr>
            <a:stCxn id="168" idx="2"/>
            <a:endCxn id="169" idx="0"/>
          </p:cNvCxnSpPr>
          <p:nvPr/>
        </p:nvCxnSpPr>
        <p:spPr>
          <a:xfrm>
            <a:off x="6298920" y="4665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1" name=""/>
          <p:cNvCxnSpPr>
            <a:stCxn id="169" idx="2"/>
            <a:endCxn id="170" idx="0"/>
          </p:cNvCxnSpPr>
          <p:nvPr/>
        </p:nvCxnSpPr>
        <p:spPr>
          <a:xfrm>
            <a:off x="6298920" y="545796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2" name=""/>
          <p:cNvCxnSpPr>
            <a:stCxn id="174" idx="3"/>
            <a:endCxn id="169" idx="1"/>
          </p:cNvCxnSpPr>
          <p:nvPr/>
        </p:nvCxnSpPr>
        <p:spPr>
          <a:xfrm>
            <a:off x="3995640" y="5169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3" name=""/>
          <p:cNvCxnSpPr>
            <a:stCxn id="173" idx="3"/>
            <a:endCxn id="167" idx="1"/>
          </p:cNvCxnSpPr>
          <p:nvPr/>
        </p:nvCxnSpPr>
        <p:spPr>
          <a:xfrm>
            <a:off x="3995640" y="3585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05BF4-1538-447D-A6D8-0B2F2CD1AA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působy zjišťování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led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bdobí se v M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ledují skutečn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jištění odchy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robíhá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ní možné pružně reagovat na vznik odchyl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tížná identifikace příčin vzniku a odpovědnosti za vz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ormace o skutečných nákladech výkonů lze získat až po skončen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ž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již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i zobr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u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ddělena předem stanovená výše a odchylka skuteč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tzv. rozdílové metody říze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žnost okamžité analýzy a reakce na zjištěné odchyl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ročnější na informační systé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yužívá se zejména u jednicových nákladů a prodejních c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B5653-A9F4-49FC-9DDB-F1A7AD254C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znik odchylek je možné analyzovat v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 podle potře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krétní pravidla a metodické postup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i stanovuje podn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ýza a zjišťování odchylek většinou vychází ze základních faktorů ovlivňujících zis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m prod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dejní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ruktura prodaných výkonů při nehomogenních výkonech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D50D8-A091-4A71-9A41-82A9F1D218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prodejní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9720" y="1700280"/>
            <a:ext cx="5372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Odchylku prodejní ceny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4724280"/>
            <a:ext cx="3672000" cy="136872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á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tandardní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ý objem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3D1B2-24C8-4360-A869-0FA7704386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43498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variabil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0440" y="1413000"/>
            <a:ext cx="4364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fix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cel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/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365720"/>
            <a:ext cx="4897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 variabilní náklady na jednotku standard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variabilní náklady na jednotku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tandardní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skutečn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07BBB-4BCD-4682-A4E2-5292E195FD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objemu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8828280" cy="29512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liv objemu výkonů na zisk se projev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měnou marže. Odchylka objemu prodeje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se zji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uto odchylku lze dále rozložit na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a) relativní úsporu fixní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b) vliv zisku z prodej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z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365720"/>
            <a:ext cx="8785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marže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zisk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celkové fixní náklady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kutečn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C0B45-44D5-4767-B5CF-0CAD370F4D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6:44Z</dcterms:modified>
  <cp:revision>15</cp:revision>
  <dc:subject/>
  <dc:title>Snímek 1</dc:title>
</cp:coreProperties>
</file>