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5117-0CB5-4D9D-8B70-3A93F47CB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8A6E-E90D-45F0-A340-BDF3C8682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49316-7B41-4DE8-8D6A-791943DCB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9FB89-B4CA-49A0-9BE7-F648FDB77C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2F9FC-3BBC-4F9C-8561-64193686C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57A02-FED9-4ACD-BA8B-C1BC723B3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13B21-9591-4EDF-9DC7-048550B62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EFB2D-52BD-45D2-A4C0-11BFFC3BB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5732-5309-4914-9B61-58E77EDFD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FDFF8-9B70-42E2-9015-6A2A03233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CDAE8-E82B-4B8D-91C0-3BBB6F07A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00C6-5AD9-4BF3-B7C1-9AFE293DE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9739-AECA-496D-A3AF-5586A83E11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průřezy vnitropodnikové struktu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71560" y="4653000"/>
            <a:ext cx="297972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dno- a dvouokruhová soustava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ělené okruhy informa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N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záznamu informací do obou okruhů se využívají spojovací úč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en okruh se systematickou analytickou eviden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M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920" y="5445000"/>
            <a:ext cx="2519280" cy="936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040" y="4508640"/>
            <a:ext cx="2519280" cy="93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843360" y="532404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1560" y="542772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5360" y="4148280"/>
            <a:ext cx="3745080" cy="2447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53000" y="4219560"/>
            <a:ext cx="24494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hlavní výděl. 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7C65-B8D2-4CCA-B440-4810172C33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ce nákladů na drobný dlouhodobý majetek do HV (zad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útvaru Komunikace se zákazníky pořízen nábytek a počítač celkem za 276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FÚ zachyceno jako náklad běžného období (nevýznamnost položky z hlediska podni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NÚ odepisováno (významnost položky z hlediska útvaru Komunik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is v měsíci květnu pro účely NÚ = 3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23A68-9C5E-45C7-AB44-EF339C07ED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– řešení v dvou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72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8720" y="2421000"/>
            <a:ext cx="1436760" cy="1152360"/>
            <a:chOff x="828720" y="2421000"/>
            <a:chExt cx="1436760" cy="1152360"/>
          </a:xfrm>
        </p:grpSpPr>
        <p:sp>
          <p:nvSpPr>
            <p:cNvPr id="207" name=""/>
            <p:cNvSpPr/>
            <p:nvPr/>
          </p:nvSpPr>
          <p:spPr>
            <a:xfrm>
              <a:off x="828720" y="24210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62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20606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492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422520" y="2421000"/>
            <a:ext cx="1440000" cy="1152360"/>
            <a:chOff x="3422520" y="2421000"/>
            <a:chExt cx="1440000" cy="1152360"/>
          </a:xfrm>
        </p:grpSpPr>
        <p:sp>
          <p:nvSpPr>
            <p:cNvPr id="212" name=""/>
            <p:cNvSpPr/>
            <p:nvPr/>
          </p:nvSpPr>
          <p:spPr>
            <a:xfrm>
              <a:off x="3422520" y="2421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18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059280" y="2060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5760" y="371952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95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26920" y="4881600"/>
            <a:ext cx="1436760" cy="1152360"/>
            <a:chOff x="826920" y="4881600"/>
            <a:chExt cx="1436760" cy="1152360"/>
          </a:xfrm>
        </p:grpSpPr>
        <p:sp>
          <p:nvSpPr>
            <p:cNvPr id="218" name=""/>
            <p:cNvSpPr/>
            <p:nvPr/>
          </p:nvSpPr>
          <p:spPr>
            <a:xfrm>
              <a:off x="826920" y="48816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44400" y="48816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2560" y="42354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jovací účet 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94160" y="4870440"/>
            <a:ext cx="1439640" cy="1152360"/>
            <a:chOff x="3494160" y="4870440"/>
            <a:chExt cx="1439640" cy="1152360"/>
          </a:xfrm>
        </p:grpSpPr>
        <p:sp>
          <p:nvSpPr>
            <p:cNvPr id="223" name=""/>
            <p:cNvSpPr/>
            <p:nvPr/>
          </p:nvSpPr>
          <p:spPr>
            <a:xfrm>
              <a:off x="349416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308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030480" y="42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útvaru 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2608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132600" y="4870440"/>
            <a:ext cx="1439640" cy="1152360"/>
            <a:chOff x="6132600" y="4870440"/>
            <a:chExt cx="1439640" cy="1152360"/>
          </a:xfrm>
        </p:grpSpPr>
        <p:sp>
          <p:nvSpPr>
            <p:cNvPr id="228" name=""/>
            <p:cNvSpPr/>
            <p:nvPr/>
          </p:nvSpPr>
          <p:spPr>
            <a:xfrm>
              <a:off x="613260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152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94400" y="4221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5EBEB-8420-4F10-A33A-64F45FD4E7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řešení v jedno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319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26920" y="3124080"/>
            <a:ext cx="1436760" cy="1152360"/>
            <a:chOff x="826920" y="3124080"/>
            <a:chExt cx="1436760" cy="1152360"/>
          </a:xfrm>
        </p:grpSpPr>
        <p:sp>
          <p:nvSpPr>
            <p:cNvPr id="234" name=""/>
            <p:cNvSpPr/>
            <p:nvPr/>
          </p:nvSpPr>
          <p:spPr>
            <a:xfrm>
              <a:off x="826920" y="312408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4400" y="312408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2560" y="276372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7640" y="3198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494160" y="3127320"/>
            <a:ext cx="1439640" cy="1152360"/>
            <a:chOff x="3494160" y="3127320"/>
            <a:chExt cx="1439640" cy="1152360"/>
          </a:xfrm>
        </p:grpSpPr>
        <p:sp>
          <p:nvSpPr>
            <p:cNvPr id="239" name=""/>
            <p:cNvSpPr/>
            <p:nvPr/>
          </p:nvSpPr>
          <p:spPr>
            <a:xfrm>
              <a:off x="3494160" y="31273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308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757600" y="24782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otřeba 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útv.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69160" y="3198960"/>
            <a:ext cx="11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75320" y="3127320"/>
            <a:ext cx="1440000" cy="1152360"/>
            <a:chOff x="6475320" y="3127320"/>
            <a:chExt cx="1440000" cy="1152360"/>
          </a:xfrm>
        </p:grpSpPr>
        <p:sp>
          <p:nvSpPr>
            <p:cNvPr id="244" name=""/>
            <p:cNvSpPr/>
            <p:nvPr/>
          </p:nvSpPr>
          <p:spPr>
            <a:xfrm>
              <a:off x="6475320" y="312732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460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649840" y="2478240"/>
            <a:ext cx="31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.             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907F0-407A-4BB8-B4D1-46CF604F09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vorba systému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systé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formací manažerského účetnictví, jeho tvorba 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rakteru činnosti podniku a stylu jeho říze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likosti podniku, jeho struktuře a historickém vývoj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čním prostředí a pozicí podniku na trhu 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účinného hodnotového řízení i tvorby systému MÚ je detai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ání struktury podnikatelsk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ruktur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ýkonů, útvarů, činností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uvnitř podnik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kazuje na příčiny vzniku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 hodnotové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073F-F98E-45AA-8D0D-A647E888BA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linie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výsledek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čně-výkonov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vek organizační struktury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DF2E-6BD5-4EF9-BA07-FA9A00652B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xterní výko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- finální výkony prodávané externím zákazníkům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členění: výrobky, služby, zboží, podrobněji podle skupin, druhů a jak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dále i podle zákazníků a obchodních podmín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klad – mlékárenská společ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 Tvarohy, 601 2 Jogurt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 Tvarohy bez příchuti, 601 12 Tvarohy s příchut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 Tvarohy bez příchuti ČR, 601 112 Tvarohy bez příchutí Vývo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1 Tvarohy bez příchuti ČR – supermarket Hyperno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2 Tvarohy bez příchuti ČR – supermarket Omeg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C72B4-4982-4A6C-B31B-6731582141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kon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sledek činnosti vnitropodnikového útvaru, který ho předává ostatním útvarům uvnitř podniku v podobě určené technologií procesu tvorby finál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kol NÚ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at hodnotové 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klad – dopravní útvar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ravní útvar najezdil v září 2007 12 000 km, z toh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 3 000 km pro útvar Nák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 7 000 km pro útvar Prode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) 2 000 km pro útvar Vedení společ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EBFC8-3859-4366-89C2-2F67FF33B2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3213000"/>
            <a:ext cx="4321440" cy="3384720"/>
          </a:xfrm>
          <a:prstGeom prst="ellipse">
            <a:avLst/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141720"/>
            <a:ext cx="4564080" cy="360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útvary a jejich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3960" y="141300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útvar m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ý charakter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působ, jakým se podíl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ělbě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 včetně rozsa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e a provázanost vymez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rganizační struktur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3141720"/>
            <a:ext cx="4678560" cy="352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3213000"/>
            <a:ext cx="518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ý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zkum a 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ves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gistika, distribuční sí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munikace se zákazní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íprava výro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r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strib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prodejní služ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7856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609300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3840" y="6578280"/>
            <a:ext cx="61920" cy="38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3645000"/>
            <a:ext cx="122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005360"/>
            <a:ext cx="158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4292640"/>
            <a:ext cx="201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4869000"/>
            <a:ext cx="129708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211640" y="5084640"/>
            <a:ext cx="2521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95640" y="5229360"/>
            <a:ext cx="2737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5373720"/>
            <a:ext cx="216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09606-CD55-4F81-82B3-A2F2CA4F3C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útvarů podle charakteru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zprostředně se podílejí na tvorbě externí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řispívat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ervis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bslužné)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skytují služby ostatním útvarů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ohotově zajišťovat (často specializované) interní služby s nižšími náklady než na externí zajiště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správy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bývají se správou a řízení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zení nákladů je obvykle v kompetenci vlast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ál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šťují sociální program podniku a služby pro zaměstnan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26FFD-0EB7-43D2-9AC7-B6210B0E44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 funkční k profesní organiza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tradičníh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izovaných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funkční organiz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přechází k uspořádání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ocesní organiza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řada věcně a časově návazných činností, které se standardně uskutečňují v daném pořadí a vedou k realizaci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procesu často vychází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potřeb zákaz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ktivi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článek procesu, který je elementární příčinou vzniku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E8841-1A9C-4DF8-A050-378DFC65D1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ce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dílnost požadav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řešených rozhodovacích úloh) uživatelů účetní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ňu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, formu a časovou ori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informací, které přit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obrazují jeden podnikatelsk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tázka: Jak vhodně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pracová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četní informac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řeš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mplexní ekonomické informační systémy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i jejich tvorbě se vychází ze dvou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ncepčních přístupů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5D9C-D1B1-4084-804C-19DBACAF2D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18:43Z</dcterms:modified>
  <cp:revision>12</cp:revision>
  <dc:subject/>
  <dc:title>Snímek 1</dc:title>
</cp:coreProperties>
</file>