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6065F-73BB-463E-9F26-EBDB0872ACD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E= ČZ/Výnosy * Výnosy/Aktiva / VK/Akt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=Zisk z HČ po zdanění – Kapitál*PN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4BD06-A863-45A1-9F0F-96A7BABF98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3C762-1C3B-4CF0-91B9-27A14377A3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E3762-4D6C-461E-8DE1-7324FD1906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3B4BA-236C-4F2B-BB7D-61C45D607B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3C0BF-ED51-4872-AAD4-4C2F2E75B2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A3FFB-4C75-474A-83F2-A6459F17B6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AD107-3040-41AF-BFD0-8AF05BE04C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EF3CD-ED85-486D-B309-B3EB41174A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DCD18-8D74-461B-ACAE-74E42B9343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C46AD-45B2-4FA3-B59D-0C46235974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76E87-31D3-4A75-984C-FDF3D3BD86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BFCD4-3D3D-43DA-A0C7-A0EC78F758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B8E02-9903-49CD-9B94-D94344D0056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Kapitola%205%20V&#253;voj%20n&#225;klad&#367;,%20v&#253;nos&#367;%20a%20zisku.ppt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ojetí a členění nákladů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v nákladovém účetnictví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ojetí a členění nákladů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Členění nákladů podle rozhodovacích úlo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959200" y="2781360"/>
            <a:ext cx="3168720" cy="151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ÁKLAD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800000">
            <a:off x="2555640" y="2409840"/>
            <a:ext cx="647640" cy="647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19800000">
            <a:off x="2554200" y="4006440"/>
            <a:ext cx="647640" cy="647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9000000">
            <a:off x="5866920" y="2409480"/>
            <a:ext cx="648000" cy="647640"/>
          </a:xfrm>
          <a:prstGeom prst="rightArrow">
            <a:avLst>
              <a:gd name="adj1" fmla="val 50000"/>
              <a:gd name="adj2" fmla="val 25014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12600000">
            <a:off x="5867280" y="4005000"/>
            <a:ext cx="648000" cy="647640"/>
          </a:xfrm>
          <a:prstGeom prst="rightArrow">
            <a:avLst>
              <a:gd name="adj1" fmla="val 50000"/>
              <a:gd name="adj2" fmla="val 25014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39640" y="1700280"/>
            <a:ext cx="18716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aké jsou vynaložen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39640" y="4149720"/>
            <a:ext cx="18716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a jakým účelem jsou vynaložen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661080" y="1698480"/>
            <a:ext cx="18716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ak jsou kalkulován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661080" y="4148280"/>
            <a:ext cx="18716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ak se mění s množstvím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91FF1-1CF6-452B-893D-B62DB70DE65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5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0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500"/>
                            </p:stCondLst>
                            <p:childTnLst>
                              <p:par>
                                <p:cTn id="29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80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8500"/>
                            </p:stCondLst>
                            <p:childTnLst>
                              <p:par>
                                <p:cTn id="305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7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2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ruhové členě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chozí otázk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kritérium členění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Jaký druh zdroje je spotřebován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ové druh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materiál, externí práce a služby, mzdy, odpisy, finanční náklady…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ajiště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oporcí, stability a rovnováh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zi potřebou zdrojů podniku a jejich zabezpečením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ůležité otázky: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d koho, kdy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yl zdroj spotřebová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ůkazné a jednoznačné sledová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zabývá se příčinou spotřeby zdrojů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mezené využití pro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145DA-2135-417F-BAB0-E80EC3C4A39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lastnosti druhového členění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votní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– jsou předmětem zobrazení při vstupu do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exter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vznikají spotřebou zdrojů od externích subjekt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ednoduché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není možné je podrobněji členi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A20AA-9ACC-4C3A-B964-51E5F91DF1A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Účelové členě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chozí otázk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kritérium členění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Jaká je příčina spotřeby zdroje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kon                         útvar                            proc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rozumě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činám spotřeb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drojů → základ řízení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ýchodisko pro členění nákladů v nákladovém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10A43-625B-408A-BFFD-C76D1982FB2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áklady technologické a na obsluhu a řízení, jednicové a režij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ýchozí otázka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kritérium členění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Je náklad vynaložen při vlastním vytvoření výkonu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nebo souvisí se zajištěním podmínek činnosti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technologické náklady          náklady na obsluhu a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Jak stanovit nákladový úkol a řídit hospodárnost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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jednicové náklady                    režijní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5018D-94A2-47F6-8DD8-51F3059DA71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000"/>
                            </p:stCondLst>
                            <p:childTnLst>
                              <p:par>
                                <p:cTn id="4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dnicové a režijní náklad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ednicové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volány vytvořením každé konkrétně definované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jednotky výkon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ovení nákladového úkol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9900"/>
                </a:solidFill>
                <a:latin typeface="Arial"/>
              </a:rPr>
              <a:t>norma x předem stanovené oceně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nor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předem stanovený úkol spotřeby materiálu, práce,…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 přesně vymezený výkon, za konkrétních technických, technologických, organizačních podmínek a kvality vstup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stroj řízení –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kalkula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jednicový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ežijní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polečné náklad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ruhu výkonu, skupiny výkonů, útvar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č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stroj řízení –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rozpoče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žijní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novení nákladového úkolu pro útvar, na čas. období a na rozsah činnost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24D56-CE8D-4F6E-A818-2CBCC47C738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4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000"/>
                            </p:stCondLst>
                            <p:childTnLst>
                              <p:par>
                                <p:cTn id="4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lkulační členění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chozí otázk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kritérium členění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Jaký je příčinný vztah nákladu k druhu výkonu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Jak přiřazovat náklad druhu výkonu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mé náklady           nepřímé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zbytné pro sestavení kalkulace a porozumění vypovídací schopnosti kalkulačního vzor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0FD75-9BBD-4DED-99F9-EA7209CED5E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000"/>
                            </p:stCondLst>
                            <p:childTnLst>
                              <p:par>
                                <p:cTn id="4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500"/>
                            </p:stCondLst>
                            <p:childTnLst>
                              <p:par>
                                <p:cTn id="4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y členění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84360" y="1741320"/>
            <a:ext cx="180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72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ztah nákladů k technologickému proces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84360" y="2749680"/>
            <a:ext cx="1800000" cy="25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chnologick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------------------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 na obsluhu a říz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635280" y="1773360"/>
            <a:ext cx="180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72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Kontrola přiměřenosti náklad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635280" y="2781360"/>
            <a:ext cx="1800360" cy="25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54800" bIns="10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dnicov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------------------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žij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588000" y="1773360"/>
            <a:ext cx="180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72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očetně technické přiřaz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8000" y="2781360"/>
            <a:ext cx="432000" cy="25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093080" y="2781360"/>
            <a:ext cx="431640" cy="25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596360" y="2781360"/>
            <a:ext cx="431640" cy="25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101080" y="2781360"/>
            <a:ext cx="431640" cy="25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2484360" y="3141720"/>
            <a:ext cx="115092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484360" y="3429000"/>
            <a:ext cx="115092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84360" y="4724280"/>
            <a:ext cx="1150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35640" y="3213000"/>
            <a:ext cx="11523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435640" y="4724280"/>
            <a:ext cx="11523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D7B83-F75C-43A7-9954-B4D539C9525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2000"/>
                            </p:stCondLst>
                            <p:childTnLst>
                              <p:par>
                                <p:cTn id="5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2000"/>
                            </p:stCondLst>
                            <p:childTnLst>
                              <p:par>
                                <p:cTn id="5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riabilní a fixní náklad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chozí otázk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kritérium členění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ění se objem vynaložených zdrojů s objemem výkonů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riabilní náklady          fixní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možňuje zkvalitnění informačního zajištění široké škály rozhodovacích úloh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 u="sng">
                <a:solidFill>
                  <a:srgbClr val="86d1ec"/>
                </a:solidFill>
                <a:uFillTx/>
                <a:latin typeface="Arial"/>
                <a:ea typeface="Arial"/>
                <a:hlinkClick r:id="rId1"/>
              </a:rPr>
              <a:t>viz samostatná prezentace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5105F-4513-4B22-98AA-65E508A3D85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fektivnos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rcholové kritérium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ýkonnosti podnikatelského proces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efektivnost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yjadřuje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míru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dosažení očekávaných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áměrů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cíl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 podnikatelské oblasti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chopnost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zhodnotit vložený kapitá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kritéria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měřítka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efektiv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1. zhodnoce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lastního kapitál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rentabilita vlastního kapitálu (ROE, Return On Equit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manažerský (ekonomický) zisk (EVA, Economic Value Added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hodnoce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aktiv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kapitálu)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hlavní výdělečné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rentabilita aktiv hlavní výdělečné činnosti (ROA, Return On Assets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rentabilita zaměstnaného kapitálu (ROCE, Return On Capital Employed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5DA79-9BF8-4C45-8EE7-E1FC9932541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Du Pont rozklad </a:t>
            </a:r>
            <a:br>
              <a:rPr sz="3200"/>
            </a:b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rentability vlastního kapitál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78544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ROE = Čistý zisk / Vlastní kapitá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ROE = Čistý zisk/Výnosy z prodeje x Výnosy z prodeje/Aktiv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÷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Vlastní kapitál/Aktiv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684360" y="2444760"/>
            <a:ext cx="3211200" cy="2536920"/>
            <a:chOff x="684360" y="2444760"/>
            <a:chExt cx="3211200" cy="2536920"/>
          </a:xfrm>
        </p:grpSpPr>
        <p:sp>
          <p:nvSpPr>
            <p:cNvPr id="172" name=""/>
            <p:cNvSpPr/>
            <p:nvPr/>
          </p:nvSpPr>
          <p:spPr>
            <a:xfrm>
              <a:off x="944640" y="2444760"/>
              <a:ext cx="2950920" cy="7192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84360" y="3986280"/>
              <a:ext cx="2158920" cy="9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ISKOVOST VÝNOSŮ Z PRODEJ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74" name=""/>
            <p:cNvCxnSpPr>
              <a:stCxn id="172" idx="4"/>
              <a:endCxn id="173" idx="0"/>
            </p:cNvCxnSpPr>
            <p:nvPr/>
          </p:nvCxnSpPr>
          <p:spPr>
            <a:xfrm flipH="1">
              <a:off x="1763280" y="3164040"/>
              <a:ext cx="658080" cy="8229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175" name=""/>
          <p:cNvGrpSpPr/>
          <p:nvPr/>
        </p:nvGrpSpPr>
        <p:grpSpPr>
          <a:xfrm>
            <a:off x="3651120" y="2473200"/>
            <a:ext cx="2936880" cy="2536920"/>
            <a:chOff x="3651120" y="2473200"/>
            <a:chExt cx="2936880" cy="2536920"/>
          </a:xfrm>
        </p:grpSpPr>
        <p:sp>
          <p:nvSpPr>
            <p:cNvPr id="176" name=""/>
            <p:cNvSpPr/>
            <p:nvPr/>
          </p:nvSpPr>
          <p:spPr>
            <a:xfrm>
              <a:off x="3995640" y="2473200"/>
              <a:ext cx="2592360" cy="7192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651120" y="4014720"/>
              <a:ext cx="1895760" cy="9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BRÁTKA AKTIV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78" name=""/>
            <p:cNvCxnSpPr>
              <a:stCxn id="176" idx="4"/>
              <a:endCxn id="177" idx="0"/>
            </p:cNvCxnSpPr>
            <p:nvPr/>
          </p:nvCxnSpPr>
          <p:spPr>
            <a:xfrm flipH="1">
              <a:off x="4598280" y="3192480"/>
              <a:ext cx="694440" cy="8229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179" name=""/>
          <p:cNvGrpSpPr/>
          <p:nvPr/>
        </p:nvGrpSpPr>
        <p:grpSpPr>
          <a:xfrm>
            <a:off x="6218280" y="2473200"/>
            <a:ext cx="2717640" cy="2536920"/>
            <a:chOff x="6218280" y="2473200"/>
            <a:chExt cx="2717640" cy="2536920"/>
          </a:xfrm>
        </p:grpSpPr>
        <p:sp>
          <p:nvSpPr>
            <p:cNvPr id="180" name=""/>
            <p:cNvSpPr/>
            <p:nvPr/>
          </p:nvSpPr>
          <p:spPr>
            <a:xfrm>
              <a:off x="6659640" y="2473200"/>
              <a:ext cx="2276280" cy="7192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218280" y="4014720"/>
              <a:ext cx="1882800" cy="9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PŮSOB FINANCOVÁNÍ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82" name=""/>
            <p:cNvCxnSpPr>
              <a:stCxn id="180" idx="4"/>
              <a:endCxn id="181" idx="0"/>
            </p:cNvCxnSpPr>
            <p:nvPr/>
          </p:nvCxnSpPr>
          <p:spPr>
            <a:xfrm flipH="1">
              <a:off x="7158960" y="3192480"/>
              <a:ext cx="639000" cy="8229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7404A-1B96-4A08-81E4-DE4B34E6C15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konomická účinnos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jadřu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íru zhodnocení náklad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ři prodeji výkonů zákazníkům, v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nosech z prodej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ritériem racionality vynaložených náklad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ěřítk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ú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bsolutní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isk z hlavní výdělečné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lativní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isk/výnosy z prodeje; zisk/náklady; náklad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výnos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CF12F-8A8B-45CC-B865-E7F919DF2F5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spodárnos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ěř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ši vynaložených náklad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procesu tvorby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kový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ůběh náklad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dniku, při kterém se dosahuj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žadovaných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kon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  co možná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jnižším vynaložením nákladů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ritériu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ospodárnosti -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ůměrné náklad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a naturál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ednotk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hospodárné vynakládání nákladů se měří porovnáním nákladového úkolu a skutečných nákladů a) v celkové výši, b) na jednotku výkon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působy zvyšování hospodárnosti (formy hospodárnost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sporno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snížení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absolutní výše náklad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a daný objem a strukturu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těžnost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výšení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objemu výkon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ři stejných nákladech za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B22EE-341C-4C57-BBD5-697223ADF5E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ktory hospodárnost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ořizovací cena vstup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kvalitativní odchylka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- srovnává výši nákladů na spotřebované vstupy při předem stanovených a skutečných pořizovacích cenách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kvantifikace:    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(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*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množství spotřebovaných vstup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kvantitativní odchylka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srovnává předem stanovené a skutečné množství spotřebovaných vstupů v předem stanovených cenách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kvantifikace:    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(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*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dlišení významné pro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oddělení pravomoci a odpovědnosti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útvar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5573880"/>
            <a:ext cx="8353440" cy="734760"/>
          </a:xfrm>
          <a:prstGeom prst="rect">
            <a:avLst/>
          </a:prstGeom>
          <a:noFill/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ps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předem stanovená cena               Q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předem stanovené množství vstup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skutečná cena                              Q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skutečné množství vstup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EBE4B-1CFC-4C11-9F8D-2A5D20A19AC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1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1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jetí nákladů ve FÚ a NÚ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áklady v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inančním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něžně vyjádřené snížení vlastního kapitálu ve sledovaném obdob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eré se projevilo úbytkem nebo snížením užitečnosti aktiv nebo zvýšením závazků a které vedlo ke snížení vlastního kapitálu jiným způsobem, než jsou příděly z vlastního kapitálu vlastníkům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áklady v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ovém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hodnotově vyjádřené účelné vynalož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konomických zdrojů, které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účelově souvis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 uskutečňováním předmětu činnosti podnik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 zdůrazněním potřeby zajistit hospodárnost vynaložených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účelno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racionální a přiměřená výše vzhledem k výsledku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účelový charakt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smyslem vynaložení zdrojů je zhodnoc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834920" y="4019400"/>
            <a:ext cx="3586320" cy="1209960"/>
            <a:chOff x="1834920" y="4019400"/>
            <a:chExt cx="3586320" cy="1209960"/>
          </a:xfrm>
        </p:grpSpPr>
        <p:sp>
          <p:nvSpPr>
            <p:cNvPr id="193" name=""/>
            <p:cNvSpPr/>
            <p:nvPr/>
          </p:nvSpPr>
          <p:spPr>
            <a:xfrm>
              <a:off x="3262320" y="4019400"/>
              <a:ext cx="2158920" cy="4320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1834920" y="4365720"/>
              <a:ext cx="1657080" cy="863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727200" y="4336920"/>
            <a:ext cx="2016000" cy="1397160"/>
            <a:chOff x="727200" y="4336920"/>
            <a:chExt cx="2016000" cy="1397160"/>
          </a:xfrm>
        </p:grpSpPr>
        <p:sp>
          <p:nvSpPr>
            <p:cNvPr id="196" name=""/>
            <p:cNvSpPr/>
            <p:nvPr/>
          </p:nvSpPr>
          <p:spPr>
            <a:xfrm>
              <a:off x="727200" y="4336920"/>
              <a:ext cx="2016000" cy="4320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476360" y="4797360"/>
              <a:ext cx="0" cy="9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0DC85-759C-417A-9795-2383E2B922C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arakteristiky nákladů ve FÚ a NÚ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INANČNÍ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olnější vztah k výkonům – součástí N i výdaje odlišného charakteru (dary) a rozdělení zisku (daň ze zisku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yjadřují peněžně vynaložené zdroj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sleduje vazbu na žádoucí výši spotřeby zdroj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yjadřují podmínky platné v době pořízení zdrojů                (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historické cen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NÁKLADOVÉ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účelový (těsný) vztah k výkonů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i další zdroje, které umožňují vyjádřit skutečný ekonomický přínos hodnocených činností (kalkulační náklad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důraz na zajištění hospodár-ného vynaložení zdroj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vyjadřují podmínky platné v čase uskutečňování příslušných výkonů, činností a procesů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8DFDF-BB4F-46D6-B26F-BE4ED430361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Členění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dnotlivá členění nákladů ukazují na růz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harakteristiky a vlastnosti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ůležité je pochopit, co 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ritérie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ro každé členě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ždé členění nákladů je vhodné pro ji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hodovací úloh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řídicích pracovník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dnotlivá členě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ní možné zaměňov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klad 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eněžní vyjádř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ynaloženého zdroj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můžeme řídit náklady, al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činy jejich vz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32512-F97C-4A4A-AE98-48F771DB426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NOBODY</cp:lastModifiedBy>
  <dcterms:modified xsi:type="dcterms:W3CDTF">2007-09-04T08:25:00Z</dcterms:modified>
  <cp:revision>14</cp:revision>
  <dc:subject/>
  <dc:title>Snímek 1</dc:title>
</cp:coreProperties>
</file>