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1E3A5-A696-4F57-BF5B-910E2DFF9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C8CC8-6FB3-4A44-870E-B2E2CF5DD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6C498-836B-40C0-B6BC-D72DB0DDC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6EF36-EA21-4C41-93AC-34052B8757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53521-89F6-425E-B929-79D4577355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25FB5-60A5-4655-9C8C-6F94D870E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1665F-372A-46DA-9779-B796EE4D4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8E465-CC68-4784-9EE4-6381A4E11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552CA-8BA8-4354-B446-53C2B5F1E9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A4912-D6BB-4641-8578-98CEAD830E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28BA2-FFA7-4E34-868B-0B13FA0A13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2D996-CDA0-4393-B425-82BCC63D0C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5238-F06E-4EA6-BBE9-04168B2671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průřezy vnitropodnikové struktu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71560" y="4653000"/>
            <a:ext cx="297972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edno- a dvouokruhová soustava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dělené okruhy informa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N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záznamu informací do obou okruhů se využívají spojovací úč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en okruh se systematickou analytickou eviden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M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3920" y="5445000"/>
            <a:ext cx="2519280" cy="936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24040" y="4508640"/>
            <a:ext cx="2519280" cy="93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3843360" y="532404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71560" y="542772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05360" y="4148280"/>
            <a:ext cx="3745080" cy="2447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53000" y="4219560"/>
            <a:ext cx="2449440" cy="1368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hlavní výděl. č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69AE0-7115-4D9D-88D3-68C412CA6C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ce nákladů na drobný dlouhodobý majetek do HV (zad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útvaru Komunikace se zákazníky pořízen nábytek a počítač celkem za 276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FÚ zachyceno jako náklad běžného období (nevýznamnost položky z hlediska podni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NÚ odepisováno (významnost položky z hlediska útvaru Komunik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is v měsíci květnu pro účely NÚ = 3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84525-D001-4367-BA62-3BF4E72106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– řešení v dvou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72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28720" y="2421000"/>
            <a:ext cx="1436760" cy="1152360"/>
            <a:chOff x="828720" y="2421000"/>
            <a:chExt cx="1436760" cy="1152360"/>
          </a:xfrm>
        </p:grpSpPr>
        <p:sp>
          <p:nvSpPr>
            <p:cNvPr id="207" name=""/>
            <p:cNvSpPr/>
            <p:nvPr/>
          </p:nvSpPr>
          <p:spPr>
            <a:xfrm>
              <a:off x="828720" y="24210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462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84360" y="20606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24922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422520" y="2421000"/>
            <a:ext cx="1440000" cy="1152360"/>
            <a:chOff x="3422520" y="2421000"/>
            <a:chExt cx="1440000" cy="1152360"/>
          </a:xfrm>
        </p:grpSpPr>
        <p:sp>
          <p:nvSpPr>
            <p:cNvPr id="212" name=""/>
            <p:cNvSpPr/>
            <p:nvPr/>
          </p:nvSpPr>
          <p:spPr>
            <a:xfrm>
              <a:off x="3422520" y="2421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418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059280" y="2060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5760" y="3719520"/>
            <a:ext cx="8229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4952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26920" y="4881600"/>
            <a:ext cx="1436760" cy="1152360"/>
            <a:chOff x="826920" y="4881600"/>
            <a:chExt cx="1436760" cy="1152360"/>
          </a:xfrm>
        </p:grpSpPr>
        <p:sp>
          <p:nvSpPr>
            <p:cNvPr id="218" name=""/>
            <p:cNvSpPr/>
            <p:nvPr/>
          </p:nvSpPr>
          <p:spPr>
            <a:xfrm>
              <a:off x="826920" y="48816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44400" y="48816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82560" y="4235400"/>
            <a:ext cx="18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jovací účet 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8764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494160" y="4870440"/>
            <a:ext cx="1439640" cy="1152360"/>
            <a:chOff x="3494160" y="4870440"/>
            <a:chExt cx="1439640" cy="1152360"/>
          </a:xfrm>
        </p:grpSpPr>
        <p:sp>
          <p:nvSpPr>
            <p:cNvPr id="223" name=""/>
            <p:cNvSpPr/>
            <p:nvPr/>
          </p:nvSpPr>
          <p:spPr>
            <a:xfrm>
              <a:off x="349416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1308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030480" y="4221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útvaru 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2608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132600" y="4870440"/>
            <a:ext cx="1439640" cy="1152360"/>
            <a:chOff x="6132600" y="4870440"/>
            <a:chExt cx="1439640" cy="1152360"/>
          </a:xfrm>
        </p:grpSpPr>
        <p:sp>
          <p:nvSpPr>
            <p:cNvPr id="228" name=""/>
            <p:cNvSpPr/>
            <p:nvPr/>
          </p:nvSpPr>
          <p:spPr>
            <a:xfrm>
              <a:off x="613260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5152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594400" y="4221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FDD74-B328-4CD3-B16D-868142B0BE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řešení v jedno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19280" y="319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26920" y="3124080"/>
            <a:ext cx="1436760" cy="1152360"/>
            <a:chOff x="826920" y="3124080"/>
            <a:chExt cx="1436760" cy="1152360"/>
          </a:xfrm>
        </p:grpSpPr>
        <p:sp>
          <p:nvSpPr>
            <p:cNvPr id="234" name=""/>
            <p:cNvSpPr/>
            <p:nvPr/>
          </p:nvSpPr>
          <p:spPr>
            <a:xfrm>
              <a:off x="826920" y="312408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44400" y="312408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82560" y="276372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87640" y="31989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494160" y="3127320"/>
            <a:ext cx="1439640" cy="1152360"/>
            <a:chOff x="3494160" y="3127320"/>
            <a:chExt cx="1439640" cy="1152360"/>
          </a:xfrm>
        </p:grpSpPr>
        <p:sp>
          <p:nvSpPr>
            <p:cNvPr id="239" name=""/>
            <p:cNvSpPr/>
            <p:nvPr/>
          </p:nvSpPr>
          <p:spPr>
            <a:xfrm>
              <a:off x="3494160" y="31273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1308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757600" y="24782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otřeba m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útv.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69160" y="3198960"/>
            <a:ext cx="11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475320" y="3127320"/>
            <a:ext cx="1440000" cy="1152360"/>
            <a:chOff x="6475320" y="3127320"/>
            <a:chExt cx="1440000" cy="1152360"/>
          </a:xfrm>
        </p:grpSpPr>
        <p:sp>
          <p:nvSpPr>
            <p:cNvPr id="244" name=""/>
            <p:cNvSpPr/>
            <p:nvPr/>
          </p:nvSpPr>
          <p:spPr>
            <a:xfrm>
              <a:off x="6475320" y="312732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9460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649840" y="2478240"/>
            <a:ext cx="31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.             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DB95D-E79E-4BFD-A8AE-7CA1F0440E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vorba systému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systé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formací manažerského účetnictví, jeho tvorba 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rakteru činnosti podniku a stylu jeho říze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likosti podniku, jeho struktuře a historickém vývoj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čním prostředí a pozicí podniku na trhu 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účinného hodnotového řízení i tvorby systému MÚ je detai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ání struktury podnikatelsk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ruktur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ýkonů, útvarů, činností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uvnitř podnik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kazuje na příčiny vzniku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 hodnotové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E3660-F0BA-4CF2-A712-DF04344393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linie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výsledek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čně-výkonov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vek organizační struktury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A73BD-7292-4243-8C34-D1649AF2AF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xterní výko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- finální výkony prodávané externím zákazníkům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členění: výrobky, služby, zboží, podrobněji podle skupin, druhů a jak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dále i podle zákazníků a obchodních podmín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íklad – mlékárenská společ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 Tvarohy, 601 2 Jogurt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 Tvarohy bez příchuti, 601 12 Tvarohy s příchut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 Tvarohy bez příchuti ČR, 601 112 Tvarohy bez příchutí Vývoz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1 Tvarohy bez příchuti ČR – supermarket Hyperno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2 Tvarohy bez příchuti ČR – supermarket Omeg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4D0C6-B228-4B3B-B4BC-B2B1B81E92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kon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sledek činnosti vnitropodnikového útvaru, který ho předává ostatním útvarům uvnitř podniku v podobě určené technologií procesu tvorby finál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kol NÚ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at hodnotové 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klad – dopravní útvar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pravní útvar najezdil v září 2007 12 000 km, z toho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) 3 000 km pro útvar Náku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) 7 000 km pro útvar Prode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) 2 000 km pro útvar Vedení společ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B47ED-9DB1-4CCB-8020-E44655DAFD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3213000"/>
            <a:ext cx="4321440" cy="3384720"/>
          </a:xfrm>
          <a:prstGeom prst="ellipse">
            <a:avLst/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141720"/>
            <a:ext cx="4564080" cy="360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útvary a jejich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3960" y="1413000"/>
            <a:ext cx="82296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ý útvar m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ý charakter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působ, jakým se podíl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ělbě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 včetně rozsa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erarchie a provázanost vymez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rganizační struktur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68360" y="3141720"/>
            <a:ext cx="4678560" cy="3525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3213000"/>
            <a:ext cx="5185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cký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zkum a 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nves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ogistika, distribuční sí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munikace se zákazní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říprava výro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ro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istrib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prodejní služ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7856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72360" y="609300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53840" y="6578280"/>
            <a:ext cx="61920" cy="38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3645000"/>
            <a:ext cx="1224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4005360"/>
            <a:ext cx="1584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4292640"/>
            <a:ext cx="2016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5640" y="4869000"/>
            <a:ext cx="1297080" cy="7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211640" y="5084640"/>
            <a:ext cx="2521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995640" y="5229360"/>
            <a:ext cx="27370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572000" y="5373720"/>
            <a:ext cx="216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961DF-D9BA-40D0-B5C9-A72FA50586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útvarů podle charakteru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zprostředně se podílejí na tvorbě externí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řispívat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ervis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bslužné)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skytují služby ostatním útvarů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ohotově zajišťovat (často specializované) interní služby s nižšími náklady než na externí zajiště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správy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bývají se správou a řízení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zení nákladů je obvykle v kompetenci vlast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ál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šťují sociální program podniku a služby pro zaměstnan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1AFC6-7998-4754-92AB-B7DD4A1651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 funkční k profesní organizac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tradičníh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alizovaných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funkční organiz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přechází k uspořádání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ocesní organiza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řada věcně a časově návazných činností, které se standardně uskutečňují v daném pořadí a vedou k realizaci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procesu často vychází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potřeb zákaz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ktivi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článek procesu, který je elementární příčinou vzniku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24430-BDE8-425F-956E-A75917B7D1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ce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dílnost požadavk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řešených rozhodovacích úloh) uživatelů účetní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ňu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, formu a časovou orientac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informací, které přit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obrazují jeden podnikatelsk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tázka: Jak vhodně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pracováva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četní informac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řeš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mplexní ekonomické informační systémy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i jejich tvorbě se vychází ze dvou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ncepčních přístupů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6A07D-0F21-401C-A3C3-93F90932F0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18:43Z</dcterms:modified>
  <cp:revision>12</cp:revision>
  <dc:subject/>
  <dc:title>Snímek 1</dc:title>
</cp:coreProperties>
</file>