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1880C-6ED2-4D01-89D4-83FC54FDD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4D520-D62D-4493-B1C2-777BA263E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F3464-4074-4182-9DA2-1F7C9531C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2ECD5-8445-47A2-8F4C-EEF4247B8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53DBE-3E39-436D-B37A-6CC0BD7785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FEEFE-176D-4B1E-82D8-C3B491E7D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ED880-59EE-46A5-B8B0-D93A373DF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25181-289F-4F13-9006-D1FE4515D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99519-AD5B-430B-B8B5-936C3474B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08F58-1F4A-4741-93AF-31C9CCCF9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4CB28-BD75-4230-8BC1-6A3EAB0F2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1C7FC-E201-4FBA-9894-A0A2E79BF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A3CB-50B0-4B4A-87A2-6993B5A3ED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toda standardních nákladů a výnosů a analýza odchyl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ze změny struktury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nehomogenní produkci lze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odchylku objemu prode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změnu marže v důsledku změny objemu prodeje) rozložit n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 ze změny objemu výkonů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působenou zvýšením či snížením objemu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ze změny struktur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způsobenou změnou sortimentu prodáv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,i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,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ternativně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ze odchylku vyjádřit přes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spěvek k tržbá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de CT jsou celkové trž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07285-D6CE-4270-9951-B7AD0B2CFC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a ze změny struktury vstup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řípadě možnosti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měni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 technologickém postupu tvorby výkon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měr vstup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je možné rozdělit celkovou odchylku ze změny objemu na „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čistou kvantitativní odchyl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chylku ze změny struktury vstup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poče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,vstup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průměrná cena naturální jednotky vstupů při standardní struktuře vstupů – průměrná cena naturální jednotky vstupů při skutečné struktuře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standardní spotřeba vstupů v naturálním vyjádření –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ůměrná cena naturální jednotky vstupů při standardní struktuře vstup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79549-7D3E-4E3B-BAC9-1E6E24469B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a cíle analýzy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–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hod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é výš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jeji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četně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rozdíl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 páteří manažerského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v kalkulacích, rozpočetnictví i odpovědnostním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ystému řízení na základě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skutečných výsledk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odchylky mezi standardní a skutečnou hodnot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jetí opatř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ACBB7-EF94-4DBC-9AC4-033A53972E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á výš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ů, ceny, zisku či naturálně vyjádřeného zdro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jednotk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kou výkonu – jednot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álního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bo „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dílčí čá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 výkonu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u finálních výkonů přizpůsobovaných zákazníkům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úrovně standar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áklad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neměnná po určitou dob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ěž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reálně dosažitelná úroveň při efektivním provádění činnosti v daném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de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dosažitelná při ideálním průběh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7FDF6-37A7-480A-A32D-0F8B7AA608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up stanovení standardů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1716120"/>
            <a:ext cx="215928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otka výrobku (1 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250668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329868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icové a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409104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488304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67540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732360" y="1787400"/>
            <a:ext cx="431640" cy="4320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08720" y="1341360"/>
            <a:ext cx="183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veličiny vyjádřeny na 1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720880"/>
            <a:ext cx="3240000" cy="17287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ormy spotřeby materiál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. cen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 spotřeby čas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mzdový tar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tiv spotřeby stroj. hod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výše var.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883040"/>
            <a:ext cx="324000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 fixních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7560" y="517212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5" idx="2"/>
            <a:endCxn id="173" idx="0"/>
          </p:cNvCxnSpPr>
          <p:nvPr/>
        </p:nvCxnSpPr>
        <p:spPr>
          <a:xfrm flipH="1">
            <a:off x="2376000" y="2290320"/>
            <a:ext cx="2196000" cy="430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7" name=""/>
          <p:cNvCxnSpPr>
            <a:stCxn id="165" idx="2"/>
            <a:endCxn id="166" idx="0"/>
          </p:cNvCxnSpPr>
          <p:nvPr/>
        </p:nvCxnSpPr>
        <p:spPr>
          <a:xfrm>
            <a:off x="4572000" y="2290680"/>
            <a:ext cx="1728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8" name=""/>
          <p:cNvCxnSpPr>
            <a:stCxn id="166" idx="2"/>
            <a:endCxn id="167" idx="0"/>
          </p:cNvCxnSpPr>
          <p:nvPr/>
        </p:nvCxnSpPr>
        <p:spPr>
          <a:xfrm>
            <a:off x="6298920" y="308124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9" name=""/>
          <p:cNvCxnSpPr>
            <a:stCxn id="167" idx="2"/>
            <a:endCxn id="168" idx="0"/>
          </p:cNvCxnSpPr>
          <p:nvPr/>
        </p:nvCxnSpPr>
        <p:spPr>
          <a:xfrm>
            <a:off x="6298920" y="3873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0" name=""/>
          <p:cNvCxnSpPr>
            <a:stCxn id="168" idx="2"/>
            <a:endCxn id="169" idx="0"/>
          </p:cNvCxnSpPr>
          <p:nvPr/>
        </p:nvCxnSpPr>
        <p:spPr>
          <a:xfrm>
            <a:off x="6298920" y="4665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1" name=""/>
          <p:cNvCxnSpPr>
            <a:stCxn id="169" idx="2"/>
            <a:endCxn id="170" idx="0"/>
          </p:cNvCxnSpPr>
          <p:nvPr/>
        </p:nvCxnSpPr>
        <p:spPr>
          <a:xfrm>
            <a:off x="6298920" y="545796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2" name=""/>
          <p:cNvCxnSpPr>
            <a:stCxn id="174" idx="3"/>
            <a:endCxn id="169" idx="1"/>
          </p:cNvCxnSpPr>
          <p:nvPr/>
        </p:nvCxnSpPr>
        <p:spPr>
          <a:xfrm>
            <a:off x="3995640" y="5169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3" name=""/>
          <p:cNvCxnSpPr>
            <a:stCxn id="173" idx="3"/>
            <a:endCxn id="167" idx="1"/>
          </p:cNvCxnSpPr>
          <p:nvPr/>
        </p:nvCxnSpPr>
        <p:spPr>
          <a:xfrm>
            <a:off x="3995640" y="3585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6F307-313B-47BC-B74D-4D81DF7533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působy zjišťování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led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období se v MÚ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ledují skutečn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jištění odchy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robíhá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ní možné pružně reagovat na vznik odchyl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tížná identifikace příčin vzniku a odpovědnosti za vz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formace o skutečných nákladech výkonů lze získat až po skončen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ž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již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i zobr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u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ddělena předem stanovená výše a odchylka skuteč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tzv. rozdílové metody říze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žnost okamžité analýzy a reakce na zjištěné odchyl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ročnější na informační systé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yužívá se zejména u jednicových nákladů a prodejních ce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F3EC4-E8ED-4D63-ACA4-81A41F5252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znik odchylek je možné analyzovat v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 podle potře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krétní pravidla a metodické postup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i stanovuje podni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ýza a zjišťování odchylek většinou vychází ze základních faktorů ovlivňujících zisk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bjem prod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dejní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ruktura prodaných výkonů při nehomogenních výkonech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3B156-A87D-4175-B2A6-C76A5BECEB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prodejní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9720" y="1700280"/>
            <a:ext cx="5372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Odchylku prodejní ceny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560" y="4724280"/>
            <a:ext cx="3672000" cy="136872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á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tandardní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ý objem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8BF7C-7266-4A8D-8C17-11910D3B79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413000"/>
            <a:ext cx="43498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variabil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0440" y="1413000"/>
            <a:ext cx="4364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fix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cel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/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4365720"/>
            <a:ext cx="4897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 variabilní náklady na jednotku standardní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variabilní náklady na jednotku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tandardní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skutečn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2EC1B-9CDA-45F8-AE2B-8B99BD101C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objemu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341360"/>
            <a:ext cx="8828280" cy="29512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liv objemu výkonů na zisk se projev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měnou marže. Odchylka objemu prodeje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se zjis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uto odchylku lze dále rozložit na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a) relativní úsporu fixní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b) vliv zisku z prodej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z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365720"/>
            <a:ext cx="8785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marže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zisk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celkové fixní náklady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kutečn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F071A-1C76-40CE-A35F-335B682E43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6:44Z</dcterms:modified>
  <cp:revision>15</cp:revision>
  <dc:subject/>
  <dc:title>Snímek 1</dc:title>
</cp:coreProperties>
</file>