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9F091-24E4-488F-8E6A-8674A38F5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855EE-8507-41A4-ABCB-56797077B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25166-6C6A-4ED4-BD78-D3FDEDCB4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8B97-0C2C-4384-8D05-E25A25385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CE308-229E-485C-804A-B7C3F26A9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4651A-D737-4361-8413-6BE6A9F01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D2E20-D9AE-4545-B81B-F53E071F9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77DA8-5BAC-4B85-A560-7DD0ABFE0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7F8C9-D1D0-45EB-AC37-E7A86BE72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A42D4-2630-4447-B418-F34F60327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FC035-21C9-43A8-99FC-6DE280BE6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F5CCE-4469-4D09-A05B-71B79A6CE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FEB0-FA57-4181-8B7A-C8784078343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ce plných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variabilních náklad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57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85840" y="5367240"/>
            <a:ext cx="2246040" cy="609480"/>
            <a:chOff x="285840" y="5367240"/>
            <a:chExt cx="2246040" cy="609480"/>
          </a:xfrm>
        </p:grpSpPr>
        <p:sp>
          <p:nvSpPr>
            <p:cNvPr id="261" name=""/>
            <p:cNvSpPr/>
            <p:nvPr/>
          </p:nvSpPr>
          <p:spPr>
            <a:xfrm>
              <a:off x="285840" y="5367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840" y="5671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85840" y="5013360"/>
            <a:ext cx="22464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62600" y="5013360"/>
            <a:ext cx="1584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62600" y="6392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51680" y="59659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503856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0" idx="1"/>
            <a:endCxn id="264" idx="1"/>
          </p:cNvCxnSpPr>
          <p:nvPr/>
        </p:nvCxnSpPr>
        <p:spPr>
          <a:xfrm>
            <a:off x="2784600" y="5506560"/>
            <a:ext cx="39787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54" idx="3"/>
            <a:endCxn id="272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55" idx="3"/>
            <a:endCxn id="275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3"/>
            <a:endCxn id="273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3"/>
            <a:endCxn id="278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D1DAE-E218-411F-ADFF-A308F95B77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85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5840" y="5556240"/>
            <a:ext cx="2246040" cy="609480"/>
            <a:chOff x="285840" y="5556240"/>
            <a:chExt cx="2246040" cy="609480"/>
          </a:xfrm>
        </p:grpSpPr>
        <p:sp>
          <p:nvSpPr>
            <p:cNvPr id="289" name=""/>
            <p:cNvSpPr/>
            <p:nvPr/>
          </p:nvSpPr>
          <p:spPr>
            <a:xfrm>
              <a:off x="285840" y="5556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5840" y="5860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5840" y="497052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62600" y="5013360"/>
            <a:ext cx="1584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praven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 aktivované fixní výrobní 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62600" y="6518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51680" y="60912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82" idx="3"/>
            <a:endCxn id="298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83" idx="3"/>
            <a:endCxn id="301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8" idx="3"/>
            <a:endCxn id="299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299" idx="3"/>
            <a:endCxn id="304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914560" y="479736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479736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3"/>
            <a:endCxn id="307" idx="1"/>
          </p:cNvCxnSpPr>
          <p:nvPr/>
        </p:nvCxnSpPr>
        <p:spPr>
          <a:xfrm>
            <a:off x="4427280" y="515736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1" idx="3"/>
            <a:endCxn id="306" idx="1"/>
          </p:cNvCxnSpPr>
          <p:nvPr/>
        </p:nvCxnSpPr>
        <p:spPr>
          <a:xfrm>
            <a:off x="2484000" y="5146200"/>
            <a:ext cx="4309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6732720" y="498492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7" idx="3"/>
            <a:endCxn id="310" idx="1"/>
          </p:cNvCxnSpPr>
          <p:nvPr/>
        </p:nvCxnSpPr>
        <p:spPr>
          <a:xfrm>
            <a:off x="6300720" y="5157360"/>
            <a:ext cx="43272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6732720" y="57340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558972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313" idx="1"/>
            <a:endCxn id="312" idx="1"/>
          </p:cNvCxnSpPr>
          <p:nvPr/>
        </p:nvCxnSpPr>
        <p:spPr>
          <a:xfrm flipV="1">
            <a:off x="2639520" y="5907960"/>
            <a:ext cx="4093560" cy="5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D54C2-E0A7-43AE-93E0-3212E7549C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vliv kalkulace na hospodářský výsledek (homogenní výrob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2060640"/>
          <a:ext cx="8002440" cy="200484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elkem na 500 000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Na 1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ní režijní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z toho variabil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395280" y="14842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náklady pro 1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4149720"/>
            <a:ext cx="8137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období 1. – 3. stabilní objem výroby = 500 000 ks /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my prodej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období = 5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období = 3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období = 7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ochází k absolutní úspoře ani překročení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ejní cena = 18 Kč / ks (stabil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8A7D2-08E1-4381-A70A-CA71EE6169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1592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plný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608040"/>
          <a:ext cx="8147160" cy="240984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4 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1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95280" y="30988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variabilní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68360" y="3602160"/>
          <a:ext cx="8147160" cy="304776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5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7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ovnání rozdílu HV ve 2. období při ocenění kalkulací variabilních nákladů a plných náklad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68360" y="1773360"/>
          <a:ext cx="8136000" cy="4109760"/>
        </p:xfrm>
        <a:graphic>
          <a:graphicData uri="http://schemas.openxmlformats.org/drawingml/2006/table">
            <a:tbl>
              <a:tblPr/>
              <a:tblGrid>
                <a:gridCol w="2957400"/>
                <a:gridCol w="2590920"/>
                <a:gridCol w="2587680"/>
              </a:tblGrid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variabilní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plný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vynaložené v období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Aktivované fixní náklady v zásobách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4C6D7-F457-4BCD-B1FC-4C9EE3C52C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tnost sestave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sestav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i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sa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alkulovaných nákladů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ložek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lenění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součtů, vztahu ke kalkulac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řístup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všechny náklady vynaložené při jeho vytvoř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přímých a nepřím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variabilních a fixní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buď pouze variabilní náklady nebo odděleně variabilní a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C38A6-ACF8-4561-834E-F0F43D8D4A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nosti a omez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tick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odpovídá pouze jedné variantě objemu a sortiment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arbitrá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přiřazuje i náklady bez zřetelné příčinné vazby k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kutečnou výš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ů je možné zjistit až s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poždění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e nutná informace o objemu a struktuře výkonů vytvořený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východisk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ovou polit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ejména z dlouhodobého hl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podklad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ení konkurenceschop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v rámci sekto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u a porovnání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a služe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h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možňuje kvantifikovat vliv využití fixních nákladů na vývoj zis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309EE-50C4-4114-8175-F1CE7AA23B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798560"/>
          <a:ext cx="8002080" cy="2005200"/>
        </p:xfrm>
        <a:graphic>
          <a:graphicData uri="http://schemas.openxmlformats.org/drawingml/2006/table">
            <a:tbl>
              <a:tblPr/>
              <a:tblGrid>
                <a:gridCol w="2979360"/>
                <a:gridCol w="2608560"/>
                <a:gridCol w="241416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n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bjem výroby a prodeje v roce 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 gridSpan="3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Zisk podniku = 30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+ 1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- 2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- 16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= 3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68360" y="38480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platí se vyrábět a prodávat ztrátový výrobek B i v roce 2008, pokud máte k dispozici následující podrobnější informace o kalkulaci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íte, že fixní náklady jsou společné oběma výkonům a nejsou v roce 2008 ovlivnitelné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5040360"/>
          <a:ext cx="8002440" cy="138420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BA1C-9B99-44FF-870B-73DEFAA609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72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rovnání podl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lné nákladové nároč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15 Kč (cena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16 Kč (plné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NE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---------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orovnání př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odlišení variabilních a fixních nákladů</a:t>
            </a:r>
            <a:r>
              <a:rPr b="1" i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A = (30-20)* 10 000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0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B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Fixní náklady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Zisk / ztrát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- 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9D3C9-F6E9-4AB6-B997-AC3C259CE0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uje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le příčin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yvolané výkonem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yvolané časem (→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dporuje řešení ř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hodovacích úlo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změnách v objemu a struktuř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limitu prodejních cen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posouzení přínosu výkonu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9A1EE-E9AF-4136-8ED5-75D515B1D4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vzor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200" y="1341360"/>
            <a:ext cx="21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ční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34136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namická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34136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1341360"/>
            <a:ext cx="255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 se stupňovitým čl.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9861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98756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198900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198900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506680"/>
            <a:ext cx="201636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50668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30402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30258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3543480"/>
            <a:ext cx="2016000" cy="3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508644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8638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5799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609588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419400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- FN skupiny vý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77" idx="3"/>
            <a:endCxn id="178" idx="1"/>
          </p:cNvCxnSpPr>
          <p:nvPr/>
        </p:nvCxnSpPr>
        <p:spPr>
          <a:xfrm>
            <a:off x="2195280" y="2238480"/>
            <a:ext cx="21636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1" idx="3"/>
            <a:endCxn id="182" idx="1"/>
          </p:cNvCxnSpPr>
          <p:nvPr/>
        </p:nvCxnSpPr>
        <p:spPr>
          <a:xfrm>
            <a:off x="2195280" y="275904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5" idx="3"/>
            <a:endCxn id="186" idx="1"/>
          </p:cNvCxnSpPr>
          <p:nvPr/>
        </p:nvCxnSpPr>
        <p:spPr>
          <a:xfrm>
            <a:off x="2195280" y="3278160"/>
            <a:ext cx="216360" cy="15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03" name=""/>
          <p:cNvSpPr/>
          <p:nvPr/>
        </p:nvSpPr>
        <p:spPr>
          <a:xfrm>
            <a:off x="2411280" y="347184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376092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4942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7829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5040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57927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89" idx="3"/>
            <a:endCxn id="190" idx="1"/>
          </p:cNvCxnSpPr>
          <p:nvPr/>
        </p:nvCxnSpPr>
        <p:spPr>
          <a:xfrm>
            <a:off x="2195280" y="379584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193" idx="3"/>
            <a:endCxn id="194" idx="1"/>
          </p:cNvCxnSpPr>
          <p:nvPr/>
        </p:nvCxnSpPr>
        <p:spPr>
          <a:xfrm>
            <a:off x="2195280" y="4314960"/>
            <a:ext cx="216360" cy="1024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197" idx="3"/>
            <a:endCxn id="198" idx="1"/>
          </p:cNvCxnSpPr>
          <p:nvPr/>
        </p:nvCxnSpPr>
        <p:spPr>
          <a:xfrm>
            <a:off x="2195280" y="4831920"/>
            <a:ext cx="216360" cy="1516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6877080" y="4524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484344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„závodu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77080" y="517536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5505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58374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78" idx="3"/>
            <a:endCxn id="183" idx="1"/>
          </p:cNvCxnSpPr>
          <p:nvPr/>
        </p:nvCxnSpPr>
        <p:spPr>
          <a:xfrm>
            <a:off x="4427280" y="223992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8" name=""/>
          <p:cNvCxnSpPr>
            <a:stCxn id="182" idx="3"/>
            <a:endCxn id="183" idx="1"/>
          </p:cNvCxnSpPr>
          <p:nvPr/>
        </p:nvCxnSpPr>
        <p:spPr>
          <a:xfrm flipV="1">
            <a:off x="4427280" y="275868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9" name=""/>
          <p:cNvCxnSpPr>
            <a:stCxn id="203" idx="3"/>
            <a:endCxn id="183" idx="1"/>
          </p:cNvCxnSpPr>
          <p:nvPr/>
        </p:nvCxnSpPr>
        <p:spPr>
          <a:xfrm flipV="1">
            <a:off x="4427280" y="2758320"/>
            <a:ext cx="216360" cy="857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0" name=""/>
          <p:cNvCxnSpPr>
            <a:stCxn id="205" idx="3"/>
            <a:endCxn id="183" idx="1"/>
          </p:cNvCxnSpPr>
          <p:nvPr/>
        </p:nvCxnSpPr>
        <p:spPr>
          <a:xfrm flipV="1">
            <a:off x="4427280" y="2758320"/>
            <a:ext cx="216360" cy="18802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1" name=""/>
          <p:cNvCxnSpPr>
            <a:stCxn id="207" idx="3"/>
            <a:endCxn id="183" idx="1"/>
          </p:cNvCxnSpPr>
          <p:nvPr/>
        </p:nvCxnSpPr>
        <p:spPr>
          <a:xfrm flipV="1">
            <a:off x="4427280" y="2758680"/>
            <a:ext cx="216360" cy="2890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2" name=""/>
          <p:cNvCxnSpPr>
            <a:stCxn id="204" idx="3"/>
            <a:endCxn id="191" idx="1"/>
          </p:cNvCxnSpPr>
          <p:nvPr/>
        </p:nvCxnSpPr>
        <p:spPr>
          <a:xfrm flipV="1">
            <a:off x="4427280" y="3795480"/>
            <a:ext cx="216360" cy="110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3" name=""/>
          <p:cNvCxnSpPr>
            <a:stCxn id="206" idx="3"/>
            <a:endCxn id="191" idx="1"/>
          </p:cNvCxnSpPr>
          <p:nvPr/>
        </p:nvCxnSpPr>
        <p:spPr>
          <a:xfrm flipV="1">
            <a:off x="4427280" y="3795480"/>
            <a:ext cx="216360" cy="1132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4" name=""/>
          <p:cNvCxnSpPr>
            <a:stCxn id="208" idx="3"/>
            <a:endCxn id="191" idx="1"/>
          </p:cNvCxnSpPr>
          <p:nvPr/>
        </p:nvCxnSpPr>
        <p:spPr>
          <a:xfrm flipV="1">
            <a:off x="4427280" y="3795840"/>
            <a:ext cx="216360" cy="2141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5" name=""/>
          <p:cNvCxnSpPr>
            <a:stCxn id="198" idx="3"/>
            <a:endCxn id="191" idx="1"/>
          </p:cNvCxnSpPr>
          <p:nvPr/>
        </p:nvCxnSpPr>
        <p:spPr>
          <a:xfrm flipV="1">
            <a:off x="4427280" y="3795480"/>
            <a:ext cx="216360" cy="2553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>
            <a:stCxn id="179" idx="3"/>
            <a:endCxn id="180" idx="1"/>
          </p:cNvCxnSpPr>
          <p:nvPr/>
        </p:nvCxnSpPr>
        <p:spPr>
          <a:xfrm>
            <a:off x="6659640" y="224136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>
            <a:stCxn id="183" idx="3"/>
            <a:endCxn id="184" idx="1"/>
          </p:cNvCxnSpPr>
          <p:nvPr/>
        </p:nvCxnSpPr>
        <p:spPr>
          <a:xfrm>
            <a:off x="6659640" y="275868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187" idx="3"/>
            <a:endCxn id="188" idx="1"/>
          </p:cNvCxnSpPr>
          <p:nvPr/>
        </p:nvCxnSpPr>
        <p:spPr>
          <a:xfrm>
            <a:off x="6659640" y="327780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9" name=""/>
          <p:cNvCxnSpPr>
            <a:stCxn id="191" idx="3"/>
            <a:endCxn id="192" idx="1"/>
          </p:cNvCxnSpPr>
          <p:nvPr/>
        </p:nvCxnSpPr>
        <p:spPr>
          <a:xfrm flipV="1">
            <a:off x="6659640" y="3701160"/>
            <a:ext cx="218160" cy="94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0" name=""/>
          <p:cNvCxnSpPr>
            <a:stCxn id="191" idx="3"/>
            <a:endCxn id="199" idx="1"/>
          </p:cNvCxnSpPr>
          <p:nvPr/>
        </p:nvCxnSpPr>
        <p:spPr>
          <a:xfrm>
            <a:off x="6659640" y="3795480"/>
            <a:ext cx="218160" cy="557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1" name=""/>
          <p:cNvCxnSpPr>
            <a:stCxn id="191" idx="3"/>
            <a:endCxn id="213" idx="1"/>
          </p:cNvCxnSpPr>
          <p:nvPr/>
        </p:nvCxnSpPr>
        <p:spPr>
          <a:xfrm>
            <a:off x="6659640" y="3795480"/>
            <a:ext cx="218160" cy="120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2" name=""/>
          <p:cNvCxnSpPr>
            <a:stCxn id="191" idx="3"/>
            <a:endCxn id="215" idx="1"/>
          </p:cNvCxnSpPr>
          <p:nvPr/>
        </p:nvCxnSpPr>
        <p:spPr>
          <a:xfrm>
            <a:off x="6659640" y="3795840"/>
            <a:ext cx="218160" cy="1869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97CCD-4C54-4EDA-A037-7CBC8472F5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61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2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3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50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6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ční důsledky kalkulace plných a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ředem stanovených plných nákladech výkonu je započt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stantní část průměrných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porovnání lineárně přepočtených nákladů s jejich absolutní výší 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ativní úspoře/překročení fixní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(resp. překročené/nedostatečné úhradě fixních náklad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hodné při motivaci útvarů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užití kapac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4294080"/>
            <a:ext cx="360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ÚFN = 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– F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RPFN = FN -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62400" y="41911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162040" y="59911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419112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99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5280" y="60213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245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162400" y="4981680"/>
            <a:ext cx="172908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162400" y="4406400"/>
            <a:ext cx="1511280" cy="158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26040" y="4981680"/>
            <a:ext cx="0" cy="10843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31120" y="4478400"/>
            <a:ext cx="0" cy="1584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02400" y="4549680"/>
            <a:ext cx="71280" cy="432000"/>
          </a:xfrm>
          <a:custGeom>
            <a:avLst/>
            <a:gdLst>
              <a:gd name="textAreaLeft" fmla="*/ 0 w 71280"/>
              <a:gd name="textAreaRight" fmla="*/ 25560 w 712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6227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Ú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92760" y="42624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= CN/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4941720"/>
            <a:ext cx="2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2B409-16CC-4FB5-91DF-1220295CFE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ocenění výkon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lných a variabilních nákladů na hospodářský výsled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visí s vymezení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ce 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ýkon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itliv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a změ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 množství a struktuře prodan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prode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ce 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ýkonu → variabilní náklady + fixní náklady spojené s vytvořením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náklady správy a řízení + prodej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při kolísání objemu a struktury prode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biliz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výrob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ikoli prodej výrob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BD42B-B5C4-4287-92F2-599C3D512D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7Z</dcterms:modified>
  <cp:revision>14</cp:revision>
  <dc:subject/>
  <dc:title>Snímek 1</dc:title>
</cp:coreProperties>
</file>