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9C55A9-2430-4175-9F08-D36E6F6EDA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7978D9-268B-478D-ABFE-73F67F0EE5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3DCE39-2EE4-4FFB-8974-B778F44DF9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C20F0E-C34A-406B-8C39-B64B1F2E5F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439DF9-4BFE-4222-88DC-2FF49BBDC7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A5798B-C2CC-414A-A654-A04569490F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4F714F-ABFA-4B55-A140-87ADFE4FA0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D6E57F-85AC-4E11-8315-BB6FAA5D45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0B63B5-9B54-4E87-8D79-741F98D09E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CDDDE0-E76E-4752-88C3-8C3CCFB1A7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92C6AF-439B-4DB6-B40B-02BB437850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6B7DD4-1A41-41FD-BA8C-3DE498F915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spcAft>
                <a:spcPts val="499"/>
              </a:spcAft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spcAft>
                <a:spcPts val="499"/>
              </a:spcAft>
              <a:buSzPct val="11108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1"/>
          </p:nvPr>
        </p:nvSpPr>
        <p:spPr>
          <a:xfrm>
            <a:off x="468000" y="6248520"/>
            <a:ext cx="555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78B8C-6C47-4C64-AFEE-E31BD5599286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39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ftr" idx="3"/>
          </p:nvPr>
        </p:nvSpPr>
        <p:spPr>
          <a:xfrm>
            <a:off x="468360" y="6248520"/>
            <a:ext cx="8207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Vztah finančního, nákladového a manažerského účetnictví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ztah manažerského a nákladového účetnictví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250920" y="1413000"/>
          <a:ext cx="8569080" cy="5316480"/>
        </p:xfrm>
        <a:graphic>
          <a:graphicData uri="http://schemas.openxmlformats.org/drawingml/2006/table">
            <a:tbl>
              <a:tblPr/>
              <a:tblGrid>
                <a:gridCol w="4282920"/>
                <a:gridCol w="4286160"/>
              </a:tblGrid>
              <a:tr h="585000">
                <a:tc gridSpan="2"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Manažerské účetnictví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systém účetních informací pro řízení a rozhodování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97400"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Nákladové účetnictví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účetnictví pro  </a:t>
                      </a:r>
                      <a:r>
                        <a:rPr b="1" i="1" lang="en-US" sz="16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řízení</a:t>
                      </a:r>
                      <a:r>
                        <a:rPr b="0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podnikat. </a:t>
                      </a:r>
                      <a:r>
                        <a:rPr b="1" i="1" lang="en-US" sz="16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procesu</a:t>
                      </a:r>
                      <a:r>
                        <a:rPr b="0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, o jehož</a:t>
                      </a: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i="1" lang="en-US" sz="16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parametrech již bylo rozhodnuto</a:t>
                      </a:r>
                      <a:r>
                        <a:rPr b="0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Manažerské účetnictví  </a:t>
                      </a:r>
                      <a:r>
                        <a:rPr b="1" i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účetnictví pro </a:t>
                      </a: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i="1" lang="en-US" sz="16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rozhodování</a:t>
                      </a:r>
                      <a:r>
                        <a:rPr b="0" i="1" lang="en-US" sz="16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o budoucích alternativách činnosti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46040"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nformace pro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operativní řízení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, v bezprostřední návaznosti na </a:t>
                      </a: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řízení taktické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                        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plán, porovnání se skutečností, běžná a preventivní kontrola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nformace pro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variantní rozhodování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na existující kapacitě a o budoucí kapacitě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nformace pro </a:t>
                      </a: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řízení po linii útvarů,  výkonů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procesů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Komplexní informace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ro </a:t>
                      </a: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vrcholové řízení a rozhodování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0680"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Řízení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zejména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hospodárnosti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Řízení zejména účinnosti a efektivnost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97400"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nformace pro vyhodnocení  vlivu </a:t>
                      </a:r>
                      <a:r>
                        <a:rPr b="1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změn </a:t>
                      </a: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 objemu a  sortimentu  </a:t>
                      </a: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ýkonů </a:t>
                      </a:r>
                      <a:r>
                        <a:rPr b="1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dod. na trh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nformace pro </a:t>
                      </a: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zásadní změny činnosti</a:t>
                      </a:r>
                      <a:r>
                        <a:rPr b="0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i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strategický marketing, výzkum a vývoj, investiční   rozhodování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0680">
                <a:tc gridSpan="2">
                  <a:txBody>
                    <a:bodyPr lIns="90000" rIns="90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odnikové rozpočty  -  </a:t>
                      </a: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Rozpočtová výsledovka, rozvaha, rozpočet peněžních toků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59320"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ztah</a:t>
                      </a: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podnikového rozpočtu</a:t>
                      </a: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r>
                        <a:rPr b="1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vnitropodnikových rozpočtů</a:t>
                      </a: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tředisek,</a:t>
                      </a: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kalkulačního systému</a:t>
                      </a: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r>
                        <a:rPr b="1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vnitropodnik. ce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Podnikové střednědobé a dlouhodobé rozpoč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6CB7D5-F5E8-43E5-8643-68ABF88F97A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0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4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formační zajištění řídicího cyklu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268360" y="1557360"/>
            <a:ext cx="3238560" cy="9158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PLÁNOVÁN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stanovit cí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určit požadované hodno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268360" y="2851200"/>
            <a:ext cx="3238560" cy="9158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ORGANIZ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zadat úk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motivov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266920" y="5176800"/>
            <a:ext cx="3238560" cy="987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KONTROL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zjistit skutečné hodno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porovnat skutečnost a plá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266920" y="4148280"/>
            <a:ext cx="3238560" cy="647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REALIZ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provést/ vykon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40" name=""/>
          <p:cNvCxnSpPr>
            <a:stCxn id="237" idx="2"/>
            <a:endCxn id="239" idx="0"/>
          </p:cNvCxnSpPr>
          <p:nvPr/>
        </p:nvCxnSpPr>
        <p:spPr>
          <a:xfrm flipH="1">
            <a:off x="3885840" y="3766680"/>
            <a:ext cx="2160" cy="3819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1" name=""/>
          <p:cNvCxnSpPr>
            <a:stCxn id="236" idx="2"/>
            <a:endCxn id="237" idx="0"/>
          </p:cNvCxnSpPr>
          <p:nvPr/>
        </p:nvCxnSpPr>
        <p:spPr>
          <a:xfrm>
            <a:off x="3887280" y="2473200"/>
            <a:ext cx="1080" cy="3787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2" name=""/>
          <p:cNvCxnSpPr>
            <a:stCxn id="239" idx="2"/>
            <a:endCxn id="238" idx="0"/>
          </p:cNvCxnSpPr>
          <p:nvPr/>
        </p:nvCxnSpPr>
        <p:spPr>
          <a:xfrm>
            <a:off x="3885840" y="4795920"/>
            <a:ext cx="1080" cy="3816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38" idx="1"/>
            <a:endCxn id="236" idx="1"/>
          </p:cNvCxnSpPr>
          <p:nvPr/>
        </p:nvCxnSpPr>
        <p:spPr>
          <a:xfrm flipH="1" rot="10800000">
            <a:off x="2266560" y="2015280"/>
            <a:ext cx="2160" cy="3655440"/>
          </a:xfrm>
          <a:prstGeom prst="bentConnector3">
            <a:avLst>
              <a:gd name="adj1" fmla="val -1440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724360" y="2781360"/>
            <a:ext cx="576360" cy="3456000"/>
          </a:xfrm>
          <a:custGeom>
            <a:avLst/>
            <a:gdLst>
              <a:gd name="textAreaLeft" fmla="*/ 0 w 576360"/>
              <a:gd name="textAreaRight" fmla="*/ 208080 w 576360"/>
              <a:gd name="textAreaTop" fmla="*/ 90000 h 3456000"/>
              <a:gd name="textAreaBottom" fmla="*/ 3366000 h 345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372360" y="2924280"/>
            <a:ext cx="433080" cy="32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0" bIns="10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Nákladové účetnictv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948360" y="1557360"/>
            <a:ext cx="576360" cy="4751280"/>
          </a:xfrm>
          <a:custGeom>
            <a:avLst/>
            <a:gdLst>
              <a:gd name="textAreaLeft" fmla="*/ 0 w 576360"/>
              <a:gd name="textAreaRight" fmla="*/ 208080 w 576360"/>
              <a:gd name="textAreaTop" fmla="*/ 123840 h 4751280"/>
              <a:gd name="textAreaBottom" fmla="*/ 4627440 h 4751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7812000" y="2276640"/>
            <a:ext cx="433440" cy="32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0" bIns="10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Manažerské účetnictv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ztah FU, NU a M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A0E512-5A5C-4E2E-8D3D-44371EABC4F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0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1000"/>
                            </p:stCondLst>
                            <p:childTnLst>
                              <p:par>
                                <p:cTn id="41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500"/>
                            </p:stCondLst>
                            <p:childTnLst>
                              <p:par>
                                <p:cTn id="413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2500"/>
                            </p:stCondLst>
                            <p:childTnLst>
                              <p:par>
                                <p:cTn id="41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3000"/>
                            </p:stCondLst>
                            <p:childTnLst>
                              <p:par>
                                <p:cTn id="420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2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4000"/>
                            </p:stCondLst>
                            <p:childTnLst>
                              <p:par>
                                <p:cTn id="42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4500"/>
                            </p:stCondLst>
                            <p:childTnLst>
                              <p:par>
                                <p:cTn id="427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9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2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2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Vztah manažerského účetnictví </a:t>
            </a:r>
            <a:br>
              <a:rPr sz="3200"/>
            </a:b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a controllingu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manažerské účetnictví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historicky rozvoj v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anglosaské oblast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controlling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od 70. let rozvoj v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germanofonní oblast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účetnictví historicky spojováno se zobrazením skutečnosti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úloha účetnictví pro manažery – pouze analytické členění nákladů a výnos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controlling =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metoda říze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informační podpora řízení (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→ 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funkce manažerského účetnictví) je součástí funkcí controllingu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orientuje se nejen na hodnotové řízení (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→ finanční a nákladový controlling), ale i na věcnou stránku řízení (→ naturální controlling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v praxi –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  <a:ea typeface="Arial"/>
              </a:rPr>
              <a:t>controllingové oddělení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 (→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  <a:ea typeface="Arial"/>
              </a:rPr>
              <a:t>controller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ztah FU, NU a M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85314B-4E0E-472B-81B4-C3CCBF5C76F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0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500"/>
                            </p:stCondLst>
                            <p:childTnLst>
                              <p:par>
                                <p:cTn id="46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500"/>
                            </p:stCondLst>
                            <p:childTnLst>
                              <p:par>
                                <p:cTn id="47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Vztah controllera a řídicího pracovník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CONTROLL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připravuje podklady pro plánování a rozhodování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informuje o odchylkách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připravuje metodiku kalkulací, rozpočtování, systém kalkulací a rozpočtů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informuje o změnách v okolí podniku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je poradce managementu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ŘÍDICÍ PRACOVNÍK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plánuje, rozhoduj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reaguje na zjištěné odchylk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prosazuje a využívá informace připravených systémů kalkulací, rozpočtů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reaguje, aby udržel dlouho-dobou rovnováhu s okolí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akceptuje controlling v procesu řízení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ztah FU, NU a M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E7E9F4-7985-46A3-A74D-E8284C36896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0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500"/>
                            </p:stCondLst>
                            <p:childTnLst>
                              <p:par>
                                <p:cTn id="49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2000"/>
                            </p:stCondLst>
                            <p:childTnLst>
                              <p:par>
                                <p:cTn id="502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fill="hold">
                            <p:stCondLst>
                              <p:cond delay="3500"/>
                            </p:stCondLst>
                            <p:childTnLst>
                              <p:par>
                                <p:cTn id="50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4000"/>
                            </p:stCondLst>
                            <p:childTnLst>
                              <p:par>
                                <p:cTn id="508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5500"/>
                            </p:stCondLst>
                            <p:childTnLst>
                              <p:par>
                                <p:cTn id="51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6000"/>
                            </p:stCondLst>
                            <p:childTnLst>
                              <p:par>
                                <p:cTn id="514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7500"/>
                            </p:stCondLst>
                            <p:childTnLst>
                              <p:par>
                                <p:cTn id="51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8000"/>
                            </p:stCondLst>
                            <p:childTnLst>
                              <p:par>
                                <p:cTn id="520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fill="hold">
                            <p:stCondLst>
                              <p:cond delay="9500"/>
                            </p:stCondLst>
                            <p:childTnLst>
                              <p:par>
                                <p:cTn id="52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 je účetnictví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uspořádaný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systém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informací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, který v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eněžním vyjádření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zobrazuje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odnikatelský proce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hodnotovou stránku podnikatelského procesu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modelové zobrazení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reali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rincipy a metody účetního zobrazení, „rozpoznání“ podstaty hospodářských transakcí, pravidla jejich ocenění 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ástroj komplexního měře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Wingdings"/>
                <a:ea typeface="Wingdings"/>
              </a:rPr>
              <a:t>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finanční pozic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Wingdings"/>
                <a:ea typeface="Wingdings"/>
              </a:rPr>
              <a:t>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ýkonnosti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Wingdings"/>
                <a:ea typeface="Wingdings"/>
              </a:rPr>
              <a:t>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změny ve finanční pozici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ztah FU, NU a M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5BE3E0-715B-4E3D-937E-7391BF72561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nanční pozice, výkonnost a změny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e finanční situaci v účetních výkazech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2247840" y="2509920"/>
            <a:ext cx="4469040" cy="3022560"/>
            <a:chOff x="2247840" y="2509920"/>
            <a:chExt cx="4469040" cy="3022560"/>
          </a:xfrm>
        </p:grpSpPr>
        <p:sp>
          <p:nvSpPr>
            <p:cNvPr id="164" name=""/>
            <p:cNvSpPr/>
            <p:nvPr/>
          </p:nvSpPr>
          <p:spPr>
            <a:xfrm>
              <a:off x="2247840" y="2509920"/>
              <a:ext cx="2235240" cy="30225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ffffff"/>
                  </a:solidFill>
                  <a:latin typeface="Arial"/>
                </a:rPr>
                <a:t>          </a:t>
              </a:r>
              <a:r>
                <a:rPr b="1" lang="en-US" sz="1900" spc="-1" strike="noStrike">
                  <a:solidFill>
                    <a:srgbClr val="ffffff"/>
                  </a:solidFill>
                  <a:latin typeface="Arial"/>
                </a:rPr>
                <a:t>AKTIVA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Dlouhodobá aktiv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Krátkodobá aktiv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   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Zásoby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   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ohledávky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   </a:t>
              </a:r>
              <a:r>
                <a:rPr b="1" lang="en-US" sz="1600" spc="-1" strike="noStrike">
                  <a:solidFill>
                    <a:srgbClr val="ff9900"/>
                  </a:solidFill>
                  <a:latin typeface="Arial"/>
                </a:rPr>
                <a:t>Peněžní prostředky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9900"/>
                  </a:solidFill>
                  <a:latin typeface="Arial"/>
                </a:rPr>
                <a:t>   </a:t>
              </a:r>
              <a:r>
                <a:rPr b="1" lang="en-US" sz="1600" spc="-1" strike="noStrike">
                  <a:solidFill>
                    <a:srgbClr val="ff9900"/>
                  </a:solidFill>
                  <a:latin typeface="Arial"/>
                </a:rPr>
                <a:t>peněžní ekvivalenty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481640" y="2509920"/>
              <a:ext cx="2235240" cy="30225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900" spc="-1" strike="noStrike">
                  <a:solidFill>
                    <a:srgbClr val="ffffff"/>
                  </a:solidFill>
                  <a:latin typeface="Arial"/>
                </a:rPr>
                <a:t>          </a:t>
              </a:r>
              <a:r>
                <a:rPr b="1" lang="cs-CZ" sz="1900" spc="-1" strike="noStrike">
                  <a:solidFill>
                    <a:srgbClr val="ffffff"/>
                  </a:solidFill>
                  <a:latin typeface="Arial"/>
                </a:rPr>
                <a:t>PASIVA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800" spc="-1" strike="noStrike">
                  <a:solidFill>
                    <a:srgbClr val="ffffff"/>
                  </a:solidFill>
                  <a:latin typeface="Arial"/>
                </a:rPr>
                <a:t>Vlastní kapitá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ffffff"/>
                  </a:solidFill>
                  <a:latin typeface="Arial"/>
                </a:rPr>
                <a:t>   </a:t>
              </a:r>
              <a:r>
                <a:rPr b="1" lang="cs-CZ" sz="1600" spc="-1" strike="noStrike">
                  <a:solidFill>
                    <a:srgbClr val="ffffff"/>
                  </a:solidFill>
                  <a:latin typeface="Arial"/>
                </a:rPr>
                <a:t>Základní kapitál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ffffff"/>
                  </a:solidFill>
                  <a:latin typeface="Arial"/>
                </a:rPr>
                <a:t>   </a:t>
              </a:r>
              <a:r>
                <a:rPr b="1" lang="cs-CZ" sz="1600" spc="-1" strike="noStrike">
                  <a:solidFill>
                    <a:srgbClr val="ffffff"/>
                  </a:solidFill>
                  <a:latin typeface="Arial"/>
                </a:rPr>
                <a:t>Kapitálové fondy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ff9900"/>
                  </a:solidFill>
                  <a:latin typeface="Arial"/>
                </a:rPr>
                <a:t>   </a:t>
              </a:r>
              <a:r>
                <a:rPr b="1" lang="cs-CZ" sz="1600" spc="-1" strike="noStrike">
                  <a:solidFill>
                    <a:srgbClr val="ff9900"/>
                  </a:solidFill>
                  <a:latin typeface="Arial"/>
                </a:rPr>
                <a:t>Hospodářský výsl.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800" spc="-1" strike="noStrike">
                  <a:solidFill>
                    <a:srgbClr val="ffffff"/>
                  </a:solidFill>
                  <a:latin typeface="Arial"/>
                </a:rPr>
                <a:t>Cizí kapitá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6" name=""/>
          <p:cNvSpPr/>
          <p:nvPr/>
        </p:nvSpPr>
        <p:spPr>
          <a:xfrm>
            <a:off x="2320920" y="2870280"/>
            <a:ext cx="2087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552920" y="2870280"/>
            <a:ext cx="2087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74760" y="1844640"/>
            <a:ext cx="4608720" cy="3760920"/>
          </a:xfrm>
          <a:prstGeom prst="rect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ZVAH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79280" y="4957920"/>
            <a:ext cx="1584360" cy="936360"/>
          </a:xfrm>
          <a:prstGeom prst="rect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ÝKAZ PENĚŽNÍCH TOKŮ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189920" y="3517920"/>
            <a:ext cx="1800000" cy="936720"/>
          </a:xfrm>
          <a:prstGeom prst="rect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ÝSLEDOVK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1834920" y="5318280"/>
            <a:ext cx="21564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6877080" y="4021200"/>
            <a:ext cx="216000" cy="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ztah FU, NU a M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524189-82FC-4840-BF9E-346FF61D11D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2000"/>
                            </p:stCondLst>
                            <p:childTnLst>
                              <p:par>
                                <p:cTn id="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0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2000"/>
                            </p:stCondLst>
                            <p:childTnLst>
                              <p:par>
                                <p:cTn id="7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4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živatelé účetních informací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419640" y="2997360"/>
            <a:ext cx="3024000" cy="15127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DNIKATELSK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39640" y="1268280"/>
            <a:ext cx="1656000" cy="648000"/>
          </a:xfrm>
          <a:prstGeom prst="horizontalScroll">
            <a:avLst>
              <a:gd name="adj" fmla="val 1250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ZÁKAZNÍC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556000" y="1413000"/>
            <a:ext cx="1655640" cy="647640"/>
          </a:xfrm>
          <a:prstGeom prst="horizontalScroll">
            <a:avLst>
              <a:gd name="adj" fmla="val 1250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KONKURE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39640" y="2060640"/>
            <a:ext cx="1656000" cy="647640"/>
          </a:xfrm>
          <a:prstGeom prst="horizontalScroll">
            <a:avLst>
              <a:gd name="adj" fmla="val 1250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ĚŘITEL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484360" y="2205000"/>
            <a:ext cx="1656000" cy="647640"/>
          </a:xfrm>
          <a:prstGeom prst="horizontalScroll">
            <a:avLst>
              <a:gd name="adj" fmla="val 1250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LASTNÍC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00720" y="1341360"/>
            <a:ext cx="1655640" cy="792360"/>
          </a:xfrm>
          <a:prstGeom prst="wedgeRoundRectCallout">
            <a:avLst>
              <a:gd name="adj1" fmla="val -51726"/>
              <a:gd name="adj2" fmla="val 78856"/>
              <a:gd name="adj3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Stamp"/>
              </a:rPr>
              <a:t>EXTERNÍ UŽIVATEL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rot="5400000">
            <a:off x="5023440" y="2227680"/>
            <a:ext cx="608040" cy="648000"/>
          </a:xfrm>
          <a:custGeom>
            <a:avLst/>
            <a:gdLst>
              <a:gd name="textAreaLeft" fmla="*/ 88560 w 608040"/>
              <a:gd name="textAreaRight" fmla="*/ 519480 w 608040"/>
              <a:gd name="textAreaTop" fmla="*/ 158400 h 648000"/>
              <a:gd name="textAreaBottom" fmla="*/ 489600 h 648000"/>
            </a:gdLst>
            <a:ahLst/>
            <a:rect l="textAreaLeft" t="textAreaTop" r="textAreaRight" b="textAreaBottom"/>
            <a:pathLst>
              <a:path w="21600" h="21600">
                <a:moveTo>
                  <a:pt x="0" y="5280"/>
                </a:moveTo>
                <a:lnTo>
                  <a:pt x="15443" y="5280"/>
                </a:lnTo>
                <a:lnTo>
                  <a:pt x="15443" y="0"/>
                </a:lnTo>
                <a:lnTo>
                  <a:pt x="21600" y="10800"/>
                </a:lnTo>
                <a:lnTo>
                  <a:pt x="15443" y="21600"/>
                </a:lnTo>
                <a:lnTo>
                  <a:pt x="15443" y="16320"/>
                </a:lnTo>
                <a:lnTo>
                  <a:pt x="0" y="16320"/>
                </a:lnTo>
                <a:lnTo>
                  <a:pt x="3147" y="10800"/>
                </a:lnTo>
                <a:lnTo>
                  <a:pt x="0" y="528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6920" y="4797360"/>
            <a:ext cx="1656000" cy="647640"/>
          </a:xfrm>
          <a:prstGeom prst="horizontalScroll">
            <a:avLst>
              <a:gd name="adj" fmla="val 1250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FIN. ÚŘA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92360" y="5518080"/>
            <a:ext cx="1655640" cy="647640"/>
          </a:xfrm>
          <a:prstGeom prst="horizontalScroll">
            <a:avLst>
              <a:gd name="adj" fmla="val 1250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ČS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84360" y="4654440"/>
            <a:ext cx="2808000" cy="165600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924360" y="5013360"/>
            <a:ext cx="1655640" cy="792000"/>
          </a:xfrm>
          <a:prstGeom prst="wedgeRoundRectCallout">
            <a:avLst>
              <a:gd name="adj1" fmla="val -67449"/>
              <a:gd name="adj2" fmla="val 44791"/>
              <a:gd name="adj3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Stamp"/>
              </a:rPr>
              <a:t>STÁ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875640" y="4005360"/>
            <a:ext cx="1655640" cy="1009440"/>
          </a:xfrm>
          <a:prstGeom prst="horizontalScroll">
            <a:avLst>
              <a:gd name="adj" fmla="val 1250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ŘÍDIC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RACOVNÍC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588000" y="3789360"/>
            <a:ext cx="2374920" cy="15843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877080" y="5661000"/>
            <a:ext cx="1576440" cy="865080"/>
          </a:xfrm>
          <a:prstGeom prst="wedgeRoundRectCallout">
            <a:avLst>
              <a:gd name="adj1" fmla="val -44763"/>
              <a:gd name="adj2" fmla="val -63759"/>
              <a:gd name="adj3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Stamp"/>
              </a:rPr>
              <a:t>INTERNÍ UŽIVATEL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rot="20090400">
            <a:off x="2646360" y="3841560"/>
            <a:ext cx="608040" cy="647640"/>
          </a:xfrm>
          <a:custGeom>
            <a:avLst/>
            <a:gdLst>
              <a:gd name="textAreaLeft" fmla="*/ 88560 w 608040"/>
              <a:gd name="textAreaRight" fmla="*/ 519480 w 608040"/>
              <a:gd name="textAreaTop" fmla="*/ 158400 h 647640"/>
              <a:gd name="textAreaBottom" fmla="*/ 489600 h 647640"/>
            </a:gdLst>
            <a:ahLst/>
            <a:rect l="textAreaLeft" t="textAreaTop" r="textAreaRight" b="textAreaBottom"/>
            <a:pathLst>
              <a:path w="21600" h="21600">
                <a:moveTo>
                  <a:pt x="0" y="5280"/>
                </a:moveTo>
                <a:lnTo>
                  <a:pt x="15443" y="5280"/>
                </a:lnTo>
                <a:lnTo>
                  <a:pt x="15443" y="0"/>
                </a:lnTo>
                <a:lnTo>
                  <a:pt x="21600" y="10800"/>
                </a:lnTo>
                <a:lnTo>
                  <a:pt x="15443" y="21600"/>
                </a:lnTo>
                <a:lnTo>
                  <a:pt x="15443" y="16320"/>
                </a:lnTo>
                <a:lnTo>
                  <a:pt x="0" y="16320"/>
                </a:lnTo>
                <a:lnTo>
                  <a:pt x="3147" y="10800"/>
                </a:lnTo>
                <a:lnTo>
                  <a:pt x="0" y="528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rot="12879600">
            <a:off x="5886000" y="4345920"/>
            <a:ext cx="608040" cy="647640"/>
          </a:xfrm>
          <a:custGeom>
            <a:avLst/>
            <a:gdLst>
              <a:gd name="textAreaLeft" fmla="*/ 88560 w 608040"/>
              <a:gd name="textAreaRight" fmla="*/ 519480 w 608040"/>
              <a:gd name="textAreaTop" fmla="*/ 158400 h 647640"/>
              <a:gd name="textAreaBottom" fmla="*/ 489600 h 647640"/>
            </a:gdLst>
            <a:ahLst/>
            <a:rect l="textAreaLeft" t="textAreaTop" r="textAreaRight" b="textAreaBottom"/>
            <a:pathLst>
              <a:path w="21600" h="21600">
                <a:moveTo>
                  <a:pt x="0" y="5280"/>
                </a:moveTo>
                <a:lnTo>
                  <a:pt x="15443" y="5280"/>
                </a:lnTo>
                <a:lnTo>
                  <a:pt x="15443" y="0"/>
                </a:lnTo>
                <a:lnTo>
                  <a:pt x="21600" y="10800"/>
                </a:lnTo>
                <a:lnTo>
                  <a:pt x="15443" y="21600"/>
                </a:lnTo>
                <a:lnTo>
                  <a:pt x="15443" y="16320"/>
                </a:lnTo>
                <a:lnTo>
                  <a:pt x="0" y="16320"/>
                </a:lnTo>
                <a:lnTo>
                  <a:pt x="3147" y="10800"/>
                </a:lnTo>
                <a:lnTo>
                  <a:pt x="0" y="528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39640" y="2852640"/>
            <a:ext cx="1800360" cy="647640"/>
          </a:xfrm>
          <a:prstGeom prst="horizontalScroll">
            <a:avLst>
              <a:gd name="adj" fmla="val 1250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ZAMĚSTNANC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50920" y="1125360"/>
            <a:ext cx="4105080" cy="2590920"/>
          </a:xfrm>
          <a:custGeom>
            <a:avLst/>
            <a:gdLst/>
            <a:ahLst/>
            <a:rect l="l" t="t" r="r" b="b"/>
            <a:pathLst>
              <a:path w="2586" h="1632">
                <a:moveTo>
                  <a:pt x="2586" y="0"/>
                </a:moveTo>
                <a:lnTo>
                  <a:pt x="0" y="0"/>
                </a:lnTo>
                <a:lnTo>
                  <a:pt x="0" y="1632"/>
                </a:lnTo>
                <a:lnTo>
                  <a:pt x="1225" y="1632"/>
                </a:lnTo>
                <a:lnTo>
                  <a:pt x="2586" y="1088"/>
                </a:lnTo>
                <a:lnTo>
                  <a:pt x="2586" y="0"/>
                </a:lnTo>
                <a:close/>
              </a:path>
            </a:pathLst>
          </a:custGeom>
          <a:noFill/>
          <a:ln cap="rnd" w="9360">
            <a:solidFill>
              <a:srgbClr val="ffffff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ztah FU, NU a M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7A32EB-C85C-4A4D-87D9-D342D0263E4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20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300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4000"/>
                            </p:stCondLst>
                            <p:childTnLst>
                              <p:par>
                                <p:cTn id="98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5500"/>
                            </p:stCondLst>
                            <p:childTnLst>
                              <p:par>
                                <p:cTn id="1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5500"/>
                            </p:stCondLst>
                            <p:childTnLst>
                              <p:par>
                                <p:cTn id="105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7000"/>
                            </p:stCondLst>
                            <p:childTnLst>
                              <p:par>
                                <p:cTn id="10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8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95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95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1000"/>
                            </p:stCondLst>
                            <p:childTnLst>
                              <p:par>
                                <p:cTn id="125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25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2500"/>
                            </p:stCondLst>
                            <p:childTnLst>
                              <p:par>
                                <p:cTn id="134" nodeType="afterEffect" fill="hold" presetClass="entr" presetID="22" presetSubtype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2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16000"/>
                            </p:stCondLst>
                            <p:childTnLst>
                              <p:par>
                                <p:cTn id="144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100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1" nodeType="withEffect" fill="hold" presetClass="emph" presetID="3" presetSubtype="2">
                                  <p:stCondLst>
                                    <p:cond delay="1000"/>
                                  </p:stCondLst>
                                  <p:childTnLst>
                                    <p:animClr clrSpc="rgb">
                                      <p:cBhvr>
                                        <p:cTn id="152" dur="20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4" dur="20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19000"/>
                            </p:stCondLst>
                            <p:childTnLst>
                              <p:par>
                                <p:cTn id="15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živatelé účetních informací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 jejich informační potřeb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842840"/>
            <a:ext cx="5483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ůzné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skupiny uživatelů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řeší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ůzné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rozhodovací úloh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pro které potřebuj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ůzné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 informac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a proto maj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ůzné požadavky n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zobrazení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odnikatelského procesu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 účetnictv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416640" y="1841400"/>
            <a:ext cx="2160720" cy="3672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RO KOHO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Wingdings"/>
                <a:ea typeface="Wingdings"/>
              </a:rPr>
              <a:t>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ROČ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          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Wingdings"/>
                <a:ea typeface="Wingdings"/>
              </a:rPr>
              <a:t>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CO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Wingdings"/>
                <a:ea typeface="Wingdings"/>
              </a:rPr>
              <a:t>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JAK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ztah FU, NU a M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9898C9-04F9-4D47-BF7C-B211488CF69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2000"/>
                            </p:stCondLst>
                            <p:childTnLst>
                              <p:par>
                                <p:cTn id="17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3000"/>
                            </p:stCondLst>
                            <p:childTnLst>
                              <p:par>
                                <p:cTn id="17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bsystémy účetních informací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 jejich uživatelé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39640" y="1557360"/>
            <a:ext cx="2160720" cy="719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anční úřa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(základ daně z příjmu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562200" y="1557360"/>
            <a:ext cx="2160720" cy="719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xterní uživatel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(finanční stabilita a výkonno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513480" y="1557360"/>
            <a:ext cx="2160720" cy="719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Interní uživatel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9900"/>
                </a:solidFill>
                <a:latin typeface="Arial"/>
              </a:rPr>
              <a:t>(hodnotové řízení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340000" y="2637000"/>
            <a:ext cx="4608360" cy="2232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Odlišné požadavky na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jetí (vymezení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ceněn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ruktur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aktiv, vlastního kapitálu, závazků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nákladů, výnosů, zisku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příjmů a výdajů</a:t>
            </a: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1000" y="5157720"/>
            <a:ext cx="2592360" cy="1008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AŇOVÉ ÚČETNICTV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EVIDENC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346560" y="5157720"/>
            <a:ext cx="2592360" cy="1008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ANČNÍ ÚČETNICTV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313320" y="5157720"/>
            <a:ext cx="2592720" cy="1008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MANAŽERSK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ÚČETNICTV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03" name=""/>
          <p:cNvCxnSpPr>
            <a:stCxn id="196" idx="2"/>
            <a:endCxn id="199" idx="0"/>
          </p:cNvCxnSpPr>
          <p:nvPr/>
        </p:nvCxnSpPr>
        <p:spPr>
          <a:xfrm>
            <a:off x="1620360" y="2276280"/>
            <a:ext cx="3025080" cy="361080"/>
          </a:xfrm>
          <a:prstGeom prst="straightConnector1">
            <a:avLst/>
          </a:prstGeom>
          <a:ln w="31680">
            <a:solidFill>
              <a:srgbClr val="ffffff"/>
            </a:solidFill>
            <a:miter/>
            <a:tailEnd len="lg" type="stealth" w="lg"/>
          </a:ln>
        </p:spPr>
      </p:cxnSp>
      <p:cxnSp>
        <p:nvCxnSpPr>
          <p:cNvPr id="204" name=""/>
          <p:cNvCxnSpPr>
            <a:stCxn id="197" idx="2"/>
            <a:endCxn id="199" idx="0"/>
          </p:cNvCxnSpPr>
          <p:nvPr/>
        </p:nvCxnSpPr>
        <p:spPr>
          <a:xfrm>
            <a:off x="4642920" y="2276280"/>
            <a:ext cx="2520" cy="361080"/>
          </a:xfrm>
          <a:prstGeom prst="straightConnector1">
            <a:avLst/>
          </a:prstGeom>
          <a:ln w="31680">
            <a:solidFill>
              <a:srgbClr val="ffffff"/>
            </a:solidFill>
            <a:miter/>
            <a:tailEnd len="lg" type="stealth" w="lg"/>
          </a:ln>
        </p:spPr>
      </p:cxnSp>
      <p:cxnSp>
        <p:nvCxnSpPr>
          <p:cNvPr id="205" name=""/>
          <p:cNvCxnSpPr>
            <a:stCxn id="198" idx="2"/>
            <a:endCxn id="199" idx="0"/>
          </p:cNvCxnSpPr>
          <p:nvPr/>
        </p:nvCxnSpPr>
        <p:spPr>
          <a:xfrm flipH="1">
            <a:off x="4644360" y="2276280"/>
            <a:ext cx="2950200" cy="361080"/>
          </a:xfrm>
          <a:prstGeom prst="straightConnector1">
            <a:avLst/>
          </a:prstGeom>
          <a:ln w="31680">
            <a:solidFill>
              <a:srgbClr val="ffffff"/>
            </a:solidFill>
            <a:miter/>
            <a:tailEnd len="lg" type="stealth" w="lg"/>
          </a:ln>
        </p:spPr>
      </p:cxnSp>
      <p:cxnSp>
        <p:nvCxnSpPr>
          <p:cNvPr id="206" name=""/>
          <p:cNvCxnSpPr>
            <a:stCxn id="199" idx="2"/>
            <a:endCxn id="200" idx="0"/>
          </p:cNvCxnSpPr>
          <p:nvPr/>
        </p:nvCxnSpPr>
        <p:spPr>
          <a:xfrm flipH="1">
            <a:off x="1647360" y="4869000"/>
            <a:ext cx="2998080" cy="289440"/>
          </a:xfrm>
          <a:prstGeom prst="straightConnector1">
            <a:avLst/>
          </a:prstGeom>
          <a:ln w="31680">
            <a:solidFill>
              <a:srgbClr val="ffffff"/>
            </a:solidFill>
            <a:miter/>
            <a:tailEnd len="lg" type="stealth" w="lg"/>
          </a:ln>
        </p:spPr>
      </p:cxnSp>
      <p:cxnSp>
        <p:nvCxnSpPr>
          <p:cNvPr id="207" name=""/>
          <p:cNvCxnSpPr>
            <a:stCxn id="199" idx="2"/>
            <a:endCxn id="201" idx="0"/>
          </p:cNvCxnSpPr>
          <p:nvPr/>
        </p:nvCxnSpPr>
        <p:spPr>
          <a:xfrm flipH="1">
            <a:off x="4642560" y="4869000"/>
            <a:ext cx="2520" cy="289440"/>
          </a:xfrm>
          <a:prstGeom prst="straightConnector1">
            <a:avLst/>
          </a:prstGeom>
          <a:ln w="31680">
            <a:solidFill>
              <a:srgbClr val="ffffff"/>
            </a:solidFill>
            <a:miter/>
            <a:tailEnd len="lg" type="stealth" w="lg"/>
          </a:ln>
        </p:spPr>
      </p:cxnSp>
      <p:cxnSp>
        <p:nvCxnSpPr>
          <p:cNvPr id="208" name=""/>
          <p:cNvCxnSpPr>
            <a:stCxn id="199" idx="2"/>
            <a:endCxn id="202" idx="0"/>
          </p:cNvCxnSpPr>
          <p:nvPr/>
        </p:nvCxnSpPr>
        <p:spPr>
          <a:xfrm>
            <a:off x="4644720" y="4869000"/>
            <a:ext cx="2966040" cy="289440"/>
          </a:xfrm>
          <a:prstGeom prst="straightConnector1">
            <a:avLst/>
          </a:prstGeom>
          <a:ln w="31680">
            <a:solidFill>
              <a:srgbClr val="ffffff"/>
            </a:solidFill>
            <a:miter/>
            <a:tailEnd len="lg" type="stealth" w="lg"/>
          </a:ln>
        </p:spPr>
      </p:cxn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ztah FU, NU a M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C7BF62-2321-433F-B40D-CA7C8422E39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500"/>
                            </p:stCondLst>
                            <p:childTnLst>
                              <p:par>
                                <p:cTn id="19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0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6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2000"/>
                            </p:stCondLst>
                            <p:childTnLst>
                              <p:par>
                                <p:cTn id="2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0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4000"/>
                            </p:stCondLst>
                            <p:childTnLst>
                              <p:par>
                                <p:cTn id="212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5500"/>
                            </p:stCondLst>
                            <p:childTnLst>
                              <p:par>
                                <p:cTn id="2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5500"/>
                            </p:stCondLst>
                            <p:childTnLst>
                              <p:par>
                                <p:cTn id="218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7000"/>
                            </p:stCondLst>
                            <p:childTnLst>
                              <p:par>
                                <p:cTn id="2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7000"/>
                            </p:stCondLst>
                            <p:childTnLst>
                              <p:par>
                                <p:cTn id="224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8500"/>
                            </p:stCondLst>
                            <p:childTnLst>
                              <p:par>
                                <p:cTn id="2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ztah finančního a manažerského účetnictví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FINANČNÍ ÚČETNICTV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eference stabilního vývoj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održování pravidel zabezpečuje spolehlivé a srovnatelné inform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yntetické inform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rientace na výsledky dosažené v minulosti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formace vykazované v pravidelných intervalech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ýstupy (výkazy) veřejně přístupné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1716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MANAŽERSKÉ ÚČETNICTV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ritické informace o podniku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pecifické informace podle potřeb managementu umožňující aktivně měnit chování podniku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alytický pohled na podnik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rovnání skutečnosti s předem stanoveným vývoje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formace s minimálním zpožděním za skutečným průběhe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tajené inform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ztah FU, NU a M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38E93B-128C-4D1E-8805-D15CFC5AF4E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Činnosti podniku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8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lavní výdělečná činnos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odstatou je transformace vynaložených zdrojů na výstupy (výkony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66560" y="2565360"/>
            <a:ext cx="2448000" cy="6476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STUP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oběť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227640" y="2565360"/>
            <a:ext cx="2448000" cy="6476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ÝSTUP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prospěch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276720" y="2536920"/>
            <a:ext cx="2663640" cy="718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FORM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17" name=""/>
          <p:cNvCxnSpPr>
            <a:stCxn id="214" idx="6"/>
            <a:endCxn id="216" idx="1"/>
          </p:cNvCxnSpPr>
          <p:nvPr/>
        </p:nvCxnSpPr>
        <p:spPr>
          <a:xfrm>
            <a:off x="2914560" y="2889360"/>
            <a:ext cx="362520" cy="8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18" name=""/>
          <p:cNvCxnSpPr>
            <a:stCxn id="216" idx="3"/>
            <a:endCxn id="215" idx="2"/>
          </p:cNvCxnSpPr>
          <p:nvPr/>
        </p:nvCxnSpPr>
        <p:spPr>
          <a:xfrm flipV="1">
            <a:off x="5940360" y="2889000"/>
            <a:ext cx="288000" cy="8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19" name=""/>
          <p:cNvSpPr/>
          <p:nvPr/>
        </p:nvSpPr>
        <p:spPr>
          <a:xfrm>
            <a:off x="466560" y="3529080"/>
            <a:ext cx="2448000" cy="6476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ÁKLA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227640" y="3529080"/>
            <a:ext cx="2448000" cy="6476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ÝNO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276720" y="3500280"/>
            <a:ext cx="2663640" cy="719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FORM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22" name=""/>
          <p:cNvCxnSpPr>
            <a:stCxn id="219" idx="6"/>
            <a:endCxn id="221" idx="1"/>
          </p:cNvCxnSpPr>
          <p:nvPr/>
        </p:nvCxnSpPr>
        <p:spPr>
          <a:xfrm>
            <a:off x="2914560" y="3852720"/>
            <a:ext cx="362520" cy="8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3" name=""/>
          <p:cNvCxnSpPr>
            <a:stCxn id="221" idx="3"/>
            <a:endCxn id="220" idx="2"/>
          </p:cNvCxnSpPr>
          <p:nvPr/>
        </p:nvCxnSpPr>
        <p:spPr>
          <a:xfrm flipV="1">
            <a:off x="5940360" y="3852360"/>
            <a:ext cx="288000" cy="8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4" name=""/>
          <p:cNvSpPr/>
          <p:nvPr/>
        </p:nvSpPr>
        <p:spPr>
          <a:xfrm>
            <a:off x="455760" y="4508640"/>
            <a:ext cx="822960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80880" indent="-380880">
              <a:spcBef>
                <a:spcPts val="125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anční a investiční činno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odstatou je zhodnocení zdrojů poskytnutím kapitál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36680" y="5402160"/>
            <a:ext cx="2447640" cy="6476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ZDROJ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197760" y="5402160"/>
            <a:ext cx="2447640" cy="6476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DMĚ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246480" y="5373720"/>
            <a:ext cx="2663640" cy="719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SKYTNUT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APITÁL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28" name=""/>
          <p:cNvCxnSpPr>
            <a:stCxn id="225" idx="6"/>
            <a:endCxn id="227" idx="1"/>
          </p:cNvCxnSpPr>
          <p:nvPr/>
        </p:nvCxnSpPr>
        <p:spPr>
          <a:xfrm>
            <a:off x="2884320" y="5726160"/>
            <a:ext cx="362520" cy="8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9" name=""/>
          <p:cNvCxnSpPr>
            <a:stCxn id="227" idx="3"/>
            <a:endCxn id="226" idx="2"/>
          </p:cNvCxnSpPr>
          <p:nvPr/>
        </p:nvCxnSpPr>
        <p:spPr>
          <a:xfrm flipV="1">
            <a:off x="5909760" y="5725800"/>
            <a:ext cx="288360" cy="8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0" name=""/>
          <p:cNvSpPr/>
          <p:nvPr/>
        </p:nvSpPr>
        <p:spPr>
          <a:xfrm>
            <a:off x="5867280" y="1125360"/>
            <a:ext cx="3025800" cy="719280"/>
          </a:xfrm>
          <a:prstGeom prst="wedgeRoundRectCallout">
            <a:avLst>
              <a:gd name="adj1" fmla="val -43754"/>
              <a:gd name="adj2" fmla="val 66115"/>
              <a:gd name="adj3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MANAŽERSKÉ ÚČETNICTV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ztah FU, NU a M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C03955-31A8-4FD8-BCCC-4CD698BE66C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0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500"/>
                            </p:stCondLst>
                            <p:childTnLst>
                              <p:par>
                                <p:cTn id="30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2000"/>
                            </p:stCondLst>
                            <p:childTnLst>
                              <p:par>
                                <p:cTn id="30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2500"/>
                            </p:stCondLst>
                            <p:childTnLst>
                              <p:par>
                                <p:cTn id="30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3000"/>
                            </p:stCondLst>
                            <p:childTnLst>
                              <p:par>
                                <p:cTn id="31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4000"/>
                            </p:stCondLst>
                            <p:childTnLst>
                              <p:par>
                                <p:cTn id="31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4500"/>
                            </p:stCondLst>
                            <p:childTnLst>
                              <p:par>
                                <p:cTn id="31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5000"/>
                            </p:stCondLst>
                            <p:childTnLst>
                              <p:par>
                                <p:cTn id="32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55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6000"/>
                            </p:stCondLst>
                            <p:childTnLst>
                              <p:par>
                                <p:cTn id="32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7000"/>
                            </p:stCondLst>
                            <p:childTnLst>
                              <p:par>
                                <p:cTn id="32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8000"/>
                            </p:stCondLst>
                            <p:childTnLst>
                              <p:par>
                                <p:cTn id="33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8500"/>
                            </p:stCondLst>
                            <p:childTnLst>
                              <p:par>
                                <p:cTn id="33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9000"/>
                            </p:stCondLst>
                            <p:childTnLst>
                              <p:par>
                                <p:cTn id="33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5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0"/>
                            </p:stCondLst>
                            <p:childTnLst>
                              <p:par>
                                <p:cTn id="344" nodeType="afterEffect" fill="hold" presetClass="entr" presetID="5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0" dur="20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íle, obsah a struktura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nažerského účetnictví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íl: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zjišťová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třídě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analýz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rezentac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vykázání) informací;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a to takovým způsobem, který umožní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ff9900"/>
                </a:solidFill>
                <a:latin typeface="Arial"/>
              </a:rPr>
              <a:t>řídicím pracovníkům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ílevědomě ovládat podnikatelskou činnost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bsah: závisí na hierarchii a návaznosti cílů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strategického, taktického a operativního říze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bsystémy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účetní informace pro říze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podnikatelského procesu, o jehož parametrech bylo již v zásadě rozhodnuto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→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nákladové účetnictv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.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účetní informace pro rozhodování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taktické a strategické) o variantách budoucího vývoje podnikatelského procesu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→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manažerské účetnictví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(v užším pojetí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ztah FU, NU a M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AD856A-1020-44F4-8516-648A5C67A63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0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1000"/>
                            </p:stCondLst>
                            <p:childTnLst>
                              <p:par>
                                <p:cTn id="37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1500"/>
                            </p:stCondLst>
                            <p:childTnLst>
                              <p:par>
                                <p:cTn id="37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2500"/>
                            </p:stCondLst>
                            <p:childTnLst>
                              <p:par>
                                <p:cTn id="38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7T06:41:02Z</dcterms:created>
  <dc:creator>NOBODY</dc:creator>
  <dc:description/>
  <dc:language>en-US</dc:language>
  <cp:lastModifiedBy>mensikm</cp:lastModifiedBy>
  <dcterms:modified xsi:type="dcterms:W3CDTF">2009-10-21T09:11:15Z</dcterms:modified>
  <cp:revision>16</cp:revision>
  <dc:subject/>
  <dc:title>Snímek 1</dc:title>
</cp:coreProperties>
</file>