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641AC-609B-4427-9676-B376ED0D8F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E236C-A406-4B82-971E-B164168CA8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2EBA1-391B-47D5-9787-261A8E48C5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3F211-707D-46AA-9064-28DF9520D7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28A8A-AD89-4230-A6C5-EACFD1951A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53E6C-12D6-4923-B6E1-25D312BF05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3B8FE-A960-4372-B4B4-6848C2A044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E20D4-3803-404E-BFF7-26BB224DFA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62465-62A5-474F-B87D-09FC035576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83687-13BE-4F22-8701-8BA3428DAC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9FB95-E065-4238-BA50-0CFB4AFFC7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7579F-CDFC-4E07-8EDF-2C60D4DD17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7313-DEED-4078-8AC3-7BCD422FAC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ákladní průřezy vnitropodnikové struktur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71560" y="4653000"/>
            <a:ext cx="2979720" cy="151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edno- a dvouokruhová soustava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VOUOKRUHOVÁ SOUSTAV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ddělené okruhy informac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odlišném zobrazení v FÚ a NÚ se využívají účty rozdíl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záznamu informací do obou okruhů se využívají spojovací úč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OKRUHOVÁ SOUSTAV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en okruh se systematickou analytickou evidenc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odlišném zobrazení v FÚ a MÚ se využívají účty rozdíl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3920" y="5445000"/>
            <a:ext cx="2519280" cy="936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24040" y="4508640"/>
            <a:ext cx="2519280" cy="93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3843360" y="5324040"/>
            <a:ext cx="64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871560" y="5427720"/>
            <a:ext cx="64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05360" y="4148280"/>
            <a:ext cx="3745080" cy="2447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53000" y="4219560"/>
            <a:ext cx="2449440" cy="1368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(hlavní výděl. č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59095-A45D-46D8-82FF-AF11C269FE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alokace nákladů na drobný dlouhodobý majetek do HV (zadán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útvaru Komunikace se zákazníky pořízen nábytek a počítač celkem za 276 000 Kč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účely FÚ zachyceno jako náklad běžného období (nevýznamnost položky z hlediska podnik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účely NÚ odepisováno (významnost položky z hlediska útvaru Komunikace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pis v měsíci květnu pro účely NÚ = 3 000 Kč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10AFE-EA76-421C-9D81-B3772BA4E5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 – řešení v dvouokruhové soustav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72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28720" y="2421000"/>
            <a:ext cx="1436760" cy="1152360"/>
            <a:chOff x="828720" y="2421000"/>
            <a:chExt cx="1436760" cy="1152360"/>
          </a:xfrm>
        </p:grpSpPr>
        <p:sp>
          <p:nvSpPr>
            <p:cNvPr id="207" name=""/>
            <p:cNvSpPr/>
            <p:nvPr/>
          </p:nvSpPr>
          <p:spPr>
            <a:xfrm>
              <a:off x="828720" y="24210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46200" y="2421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684360" y="20606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da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16360" y="24922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422520" y="2421000"/>
            <a:ext cx="1440000" cy="1152360"/>
            <a:chOff x="3422520" y="2421000"/>
            <a:chExt cx="1440000" cy="1152360"/>
          </a:xfrm>
        </p:grpSpPr>
        <p:sp>
          <p:nvSpPr>
            <p:cNvPr id="212" name=""/>
            <p:cNvSpPr/>
            <p:nvPr/>
          </p:nvSpPr>
          <p:spPr>
            <a:xfrm>
              <a:off x="3422520" y="2421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41800" y="2421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3059280" y="2060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třeba materi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5760" y="3719520"/>
            <a:ext cx="8229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19280" y="4952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26920" y="4881600"/>
            <a:ext cx="1436760" cy="1152360"/>
            <a:chOff x="826920" y="4881600"/>
            <a:chExt cx="1436760" cy="1152360"/>
          </a:xfrm>
        </p:grpSpPr>
        <p:sp>
          <p:nvSpPr>
            <p:cNvPr id="218" name=""/>
            <p:cNvSpPr/>
            <p:nvPr/>
          </p:nvSpPr>
          <p:spPr>
            <a:xfrm>
              <a:off x="826920" y="48816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44400" y="48816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82560" y="4235400"/>
            <a:ext cx="18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jovací účet 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87640" y="494172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a)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494160" y="4870440"/>
            <a:ext cx="1439640" cy="1152360"/>
            <a:chOff x="3494160" y="4870440"/>
            <a:chExt cx="1439640" cy="1152360"/>
          </a:xfrm>
        </p:grpSpPr>
        <p:sp>
          <p:nvSpPr>
            <p:cNvPr id="223" name=""/>
            <p:cNvSpPr/>
            <p:nvPr/>
          </p:nvSpPr>
          <p:spPr>
            <a:xfrm>
              <a:off x="3494160" y="487044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13080" y="487044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030480" y="4221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útvaru  Komunik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26080" y="494172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b)  2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132600" y="4870440"/>
            <a:ext cx="1439640" cy="1152360"/>
            <a:chOff x="6132600" y="4870440"/>
            <a:chExt cx="1439640" cy="1152360"/>
          </a:xfrm>
        </p:grpSpPr>
        <p:sp>
          <p:nvSpPr>
            <p:cNvPr id="228" name=""/>
            <p:cNvSpPr/>
            <p:nvPr/>
          </p:nvSpPr>
          <p:spPr>
            <a:xfrm>
              <a:off x="6132600" y="487044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51520" y="487044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594400" y="4221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zdíly mezi FÚ a N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058B5-AD0D-47B6-A5E2-556E562D09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řešení v jednookruhové soustav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19280" y="319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26920" y="3124080"/>
            <a:ext cx="1436760" cy="1152360"/>
            <a:chOff x="826920" y="3124080"/>
            <a:chExt cx="1436760" cy="1152360"/>
          </a:xfrm>
        </p:grpSpPr>
        <p:sp>
          <p:nvSpPr>
            <p:cNvPr id="234" name=""/>
            <p:cNvSpPr/>
            <p:nvPr/>
          </p:nvSpPr>
          <p:spPr>
            <a:xfrm>
              <a:off x="826920" y="312408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44400" y="312408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682560" y="2763720"/>
            <a:ext cx="18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da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87640" y="31989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a)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494160" y="3127320"/>
            <a:ext cx="1439640" cy="1152360"/>
            <a:chOff x="3494160" y="3127320"/>
            <a:chExt cx="1439640" cy="1152360"/>
          </a:xfrm>
        </p:grpSpPr>
        <p:sp>
          <p:nvSpPr>
            <p:cNvPr id="239" name=""/>
            <p:cNvSpPr/>
            <p:nvPr/>
          </p:nvSpPr>
          <p:spPr>
            <a:xfrm>
              <a:off x="3494160" y="31273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13080" y="31273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757600" y="24782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otřeba m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útv. Komunik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69160" y="3198960"/>
            <a:ext cx="11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b)  2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475320" y="3127320"/>
            <a:ext cx="1440000" cy="1152360"/>
            <a:chOff x="6475320" y="3127320"/>
            <a:chExt cx="1440000" cy="1152360"/>
          </a:xfrm>
        </p:grpSpPr>
        <p:sp>
          <p:nvSpPr>
            <p:cNvPr id="244" name=""/>
            <p:cNvSpPr/>
            <p:nvPr/>
          </p:nvSpPr>
          <p:spPr>
            <a:xfrm>
              <a:off x="6475320" y="312732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94600" y="31273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649840" y="2478240"/>
            <a:ext cx="31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třeba mat.             Rozdíly mezi FÚ a N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EBA93-D384-4CDC-9C6D-06E9D429FB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vorba systému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existu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dardní systé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formací manažerského účetnictví, jeho tvorba závisí n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rakteru činnosti podniku a stylu jeho říze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likosti podniku, jeho struktuře a historickém vývoj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nkurenčním prostředí a pozicí podniku na trhu 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em účinného hodnotového řízení i tvorby systému MÚ je detail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znání struktury podnikatelsk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ruktur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ýkonů, útvarů, činností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rocesů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uvnitř podniku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kazuje na příčiny vzniku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nákladů a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tázky hodnotovéh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o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zniku nákladů a ja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do j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zodpověd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ývoj nákladů a výnosů, aktiv a závazků, příjmů a výdajů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B8A1A-4374-4AB7-A087-0F274A1005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linie nákladov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o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zniku nákladů a ja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dpověď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výsledek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 pro řízení p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ii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lkulačně-výkonov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do j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zodpověd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ývoj nákladů a výnosů, aktiv a závazků, příjmů a výdajů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dpověď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prvek organizační struktury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 pro řízení p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ii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ABD84-2ECE-4D95-BE8B-E3061AF8AB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nikové výkony a jejich členění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10800" bIns="10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Externí výkony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- finální výkony prodávané externím zákazníkům za trž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členění: výrobky, služby, zboží, podrobněji podle skupin, druhů a jak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dále i podle zákazníků a obchodních podmín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íklad – mlékárenská společ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 Tvarohy, 601 2 Jogurty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 Tvarohy bez příchuti, 601 12 Tvarohy s příchut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 Tvarohy bez příchuti ČR, 601 112 Tvarohy bez příchutí Vývoz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1 Tvarohy bez příchuti ČR – supermarket Hypernov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2 Tvarohy bez příchuti ČR – supermarket Omeg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89F3C-0271-4D66-9CE9-C46552F656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nikové výkony a jejich členění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terní výkon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sledek činnosti vnitropodnikového útvaru, který ho předává ostatním útvarům uvnitř podniku v podobě určené technologií procesu tvorby fináln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kol NÚ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znat hodnotové vaz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vnitř podni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klad – dopravní útvar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pravní útvar najezdil v září 2007 12 000 km, z toho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) 3 000 km pro útvar Náku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) 7 000 km pro útvar Prode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) 2 000 km pro útvar Vedení společ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297E7-C8FD-472E-8296-6D846D881B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411280" y="3213000"/>
            <a:ext cx="4321440" cy="3384720"/>
          </a:xfrm>
          <a:prstGeom prst="ellipse">
            <a:avLst/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DNIKATELSK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3141720"/>
            <a:ext cx="4564080" cy="3600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nitropodnikové útvary a jejich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3960" y="1413000"/>
            <a:ext cx="822960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ždý útvar m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ý charakter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působ, jakým se podíl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ělbě činnost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vnitř podniku včetně rozsah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avomoci a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erarchie a provázanost vymeze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rganizační struktur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68360" y="3141720"/>
            <a:ext cx="4678560" cy="3525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3213000"/>
            <a:ext cx="5185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ráva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cký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ýzkum a vývo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nves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ogistika, distribuční sí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munikace se zákazník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říprava výro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ýro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istribu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prodejní služ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4292640"/>
            <a:ext cx="1511280" cy="1297080"/>
          </a:xfrm>
          <a:prstGeom prst="rightArrow">
            <a:avLst>
              <a:gd name="adj1" fmla="val 50000"/>
              <a:gd name="adj2" fmla="val 29129"/>
            </a:avLst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78560" y="4292640"/>
            <a:ext cx="1511280" cy="1297080"/>
          </a:xfrm>
          <a:prstGeom prst="rightArrow">
            <a:avLst>
              <a:gd name="adj1" fmla="val 50000"/>
              <a:gd name="adj2" fmla="val 29129"/>
            </a:avLst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ÝNOS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72360" y="609300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53840" y="6578280"/>
            <a:ext cx="61920" cy="38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08720" y="3645000"/>
            <a:ext cx="122400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4005360"/>
            <a:ext cx="1584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16360" y="4292640"/>
            <a:ext cx="2016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35640" y="4869000"/>
            <a:ext cx="1297080" cy="7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211640" y="5084640"/>
            <a:ext cx="25210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995640" y="5229360"/>
            <a:ext cx="27370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572000" y="5373720"/>
            <a:ext cx="216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75EB7-24CC-47E0-9BB7-EFF785C1D5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útvarů podle charakteru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 hlavní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ezprostředně se podílejí na tvorbě externí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m je přispívat k tvorbě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ervis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bslužné)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skytují služby ostatním útvarů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m je pohotově zajišťovat (často specializované) interní služby s nižšími náklady než na externí zajiště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 správy 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bývají se správou a řízením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ízení nákladů je obvykle v kompetenci vlastní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peciální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jišťují sociální program podniku a služby pro zaměstnan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B0B45-1302-4C43-AD76-CDBBDE9558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 funkční k profesní organizac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 tradičníh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spořád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pod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pecializovaných činnost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funkční organizace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přechází k uspořádání pod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ce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procesní organizac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c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řada věcně a časově návazných činností, které se standardně uskutečňují v daném pořadí a vedou k realizaci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vorba procesu často vychází z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y potřeb zákaz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ktivi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článek procesu, který je elementární příčinou vzniku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A03EA-6EB7-4348-9EFC-2128534951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ace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ozdílnost požadavk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řešených rozhodovacích úloh) uživatelů účetních informac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vlivňu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bsah, formu a časovou orientac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informací, které přit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obrazují jeden podnikatelský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tázka: Jak vhodně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pracováva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účetní informac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řeš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omplexní ekonomické informační systémy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ři jejich tvorbě se vychází ze dvou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oncepčních přístupů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jednookruhová soustav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ích informa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dvouokruhová soustav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ích informa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D222C-4D94-4362-AA36-934947A91D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18:43Z</dcterms:modified>
  <cp:revision>12</cp:revision>
  <dc:subject/>
  <dc:title>Snímek 1</dc:title>
</cp:coreProperties>
</file>