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0A6BB-AF6C-40E6-B980-91F32FAE2D84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E= ČZ/Výnosy * Výnosy/Aktiva / VK/Akti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=Zisk z HČ po zdanění – Kapitál*PN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08A0E1-109E-4AA8-8180-7FB44AAFB8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83F4E1-8265-4751-AC5E-335C868E17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620CD0-BCF7-4106-BCBB-F60B6B5F5E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695B91-2B8E-4F09-8CC9-E251ECB6E5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6DC53-4900-46DC-AB78-FE565DE512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038D38-E469-4E0E-9886-9663B3F704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B091E5-6911-48B3-A7C4-A614C43A32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A4AC6E-D59B-4A44-B004-7908091E91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3489BD-5948-4EDB-BFBA-AA7B0847E4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CBBFB9-D98F-49EF-A6E7-3AEE69C16B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E5BC0C-9287-422B-99FA-1D8AF6B8A4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0F1E2F-7AB6-444B-AD8E-18D25A39B2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spcAft>
                <a:spcPts val="499"/>
              </a:spcAft>
              <a:buSzPct val="11108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1"/>
          </p:nvPr>
        </p:nvSpPr>
        <p:spPr>
          <a:xfrm>
            <a:off x="468000" y="6248520"/>
            <a:ext cx="555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8844E-E235-4722-9AE3-36195A944FB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3"/>
          </p:nvPr>
        </p:nvSpPr>
        <p:spPr>
          <a:xfrm>
            <a:off x="468360" y="6248520"/>
            <a:ext cx="820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file:///Kapitola%205%20V&#253;voj%20n&#225;klad&#367;,%20v&#253;nos&#367;%20a%20zisku.ppt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ojetí a členění nákladů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v nákladovém účetnictví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Pojetí a členění nákladů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Členění nákladů podle rozhodovacích úlo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959200" y="2781360"/>
            <a:ext cx="3168720" cy="1511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ÁKLAD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1800000">
            <a:off x="2555640" y="2409840"/>
            <a:ext cx="647640" cy="647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rot="19800000">
            <a:off x="2554200" y="4006440"/>
            <a:ext cx="647640" cy="647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rot="9000000">
            <a:off x="5866920" y="2409480"/>
            <a:ext cx="648000" cy="647640"/>
          </a:xfrm>
          <a:prstGeom prst="rightArrow">
            <a:avLst>
              <a:gd name="adj1" fmla="val 50000"/>
              <a:gd name="adj2" fmla="val 25014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rot="12600000">
            <a:off x="5867280" y="4005000"/>
            <a:ext cx="648000" cy="647640"/>
          </a:xfrm>
          <a:prstGeom prst="rightArrow">
            <a:avLst>
              <a:gd name="adj1" fmla="val 50000"/>
              <a:gd name="adj2" fmla="val 25014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39640" y="1700280"/>
            <a:ext cx="187164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aké jsou vynaložen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39640" y="4149720"/>
            <a:ext cx="187164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a jakým účelem jsou vynaložen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661080" y="1698480"/>
            <a:ext cx="187164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ak jsou kalkulován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661080" y="4148280"/>
            <a:ext cx="187164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ak se mění s množstvím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8EBE3A-ED56-482E-9FDC-6F5DE8B55C3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2500"/>
                            </p:stCondLst>
                            <p:childTnLst>
                              <p:par>
                                <p:cTn id="291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5000"/>
                            </p:stCondLst>
                            <p:childTnLst>
                              <p:par>
                                <p:cTn id="29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5500"/>
                            </p:stCondLst>
                            <p:childTnLst>
                              <p:par>
                                <p:cTn id="298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8000"/>
                            </p:stCondLst>
                            <p:childTnLst>
                              <p:par>
                                <p:cTn id="30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8500"/>
                            </p:stCondLst>
                            <p:childTnLst>
                              <p:par>
                                <p:cTn id="305" nodeType="after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7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2" nodeType="after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ruhové členěn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chozí otázk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kritérium členění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Jaký druh zdroje je spotřebován 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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ákladové druh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materiál, externí práce a služby, mzdy, odpisy, finanční náklady…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33"/>
                </a:solidFill>
                <a:latin typeface="Wingdings"/>
                <a:ea typeface="Wingdings"/>
              </a:rPr>
              <a:t>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ajiště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oporcí, stability a rovnováh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ezi potřebou zdrojů podniku a jejich zabezpečením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ůležité otázky: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od koho, kdy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yl zdroj spotřebová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33"/>
                </a:solidFill>
                <a:latin typeface="Wingdings"/>
                <a:ea typeface="Wingdings"/>
              </a:rPr>
              <a:t>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ůkazné a jednoznačné sledová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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zabývá se příčinou spotřeby zdrojů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mezené využití pro říz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32F677-2F87-42A4-A2CB-7CEA066C9C5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500"/>
                            </p:stCondLst>
                            <p:childTnLst>
                              <p:par>
                                <p:cTn id="32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3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150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lastnosti druhového členění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votní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– jsou předmětem zobrazení při vstupu do podnik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exter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– vznikají spotřebou zdrojů od externích subjekt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jednoduché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– není možné je podrobněji členi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031D48-B1F6-4464-B8C3-48509F14721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0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Účelové členěn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chozí otázk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kritérium členění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Jaká je příčina spotřeby zdroje 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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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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kon                         útvar                            proc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33"/>
                </a:solidFill>
                <a:latin typeface="Wingdings"/>
                <a:ea typeface="Wingdings"/>
              </a:rPr>
              <a:t>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rozumě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íčinám spotřeb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zdrojů → základ řízení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ýchodisko pro členění nákladů v nákladovém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71ACD9-221F-4BCF-AC7C-5FDA4BE83C2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0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500"/>
                            </p:stCondLst>
                            <p:childTnLst>
                              <p:par>
                                <p:cTn id="38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1000"/>
                            </p:stCondLst>
                            <p:childTnLst>
                              <p:par>
                                <p:cTn id="38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áklady technologické a na obsluhu a řízení, jednicové a režijn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95280" y="184428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Výchozí otázka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(kritérium členění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Je náklad vynaložen při vlastním vytvoření výkonu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nebo souvisí se zajištěním podmínek činnosti 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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                                           </a:t>
            </a: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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technologické náklady          náklady na obsluhu a říz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Jak stanovit nákladový úkol a řídit hospodárnost 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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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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jednicové náklady                    režijní náklad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8A02DD-668C-47F4-8F87-FC799B835BF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500"/>
                            </p:stCondLst>
                            <p:childTnLst>
                              <p:par>
                                <p:cTn id="41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1000"/>
                            </p:stCondLst>
                            <p:childTnLst>
                              <p:par>
                                <p:cTn id="41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500"/>
                            </p:stCondLst>
                            <p:childTnLst>
                              <p:par>
                                <p:cTn id="42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ednicové a režijní náklad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Jednicové náklad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yvolány vytvořením každé konkrétně definované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jednotky výkonu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novení nákladového úkol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9900"/>
                </a:solidFill>
                <a:latin typeface="Arial"/>
              </a:rPr>
              <a:t>norma x předem stanovené oceně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norm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- předem stanovený úkol spotřeby materiálu, práce,…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a přesně vymezený výkon, za konkrétních technických, technologických, organizačních podmínek a kvality vstup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ástroj řízení –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kalkulac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jednicových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Režijní náklad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společné náklad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ruhu výkonu, skupiny výkonů, útvaru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či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dnik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ástroj řízení –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rozpočet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žijních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tanovení nákladového úkolu pro útvar, na čas. období a na rozsah činnosti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4C7DD0-1A59-4D49-83A2-8164AD2F9BC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0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4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3000"/>
                            </p:stCondLst>
                            <p:childTnLst>
                              <p:par>
                                <p:cTn id="44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4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2000"/>
                            </p:stCondLst>
                            <p:childTnLst>
                              <p:par>
                                <p:cTn id="46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alkulační členění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chozí otázk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kritérium členění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Jaký je příčinný vztah nákladu k druhu výkonu 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Jak přiřazovat náklad druhu výkonu 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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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ímé náklady           nepřímé náklad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zbytné pro sestavení kalkulace a porozumění vypovídací schopnosti kalkulačního vzor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56A8F6-7023-4DBD-AD2B-4D2AC3D7B2A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0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1000"/>
                            </p:stCondLst>
                            <p:childTnLst>
                              <p:par>
                                <p:cTn id="48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1500"/>
                            </p:stCondLst>
                            <p:childTnLst>
                              <p:par>
                                <p:cTn id="48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ztahy členění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84360" y="1741320"/>
            <a:ext cx="180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72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Vztah nákladů k technologickému proces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84360" y="2749680"/>
            <a:ext cx="1800000" cy="25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chnologick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---------------------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áklady na obsluhu a říze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635280" y="1773360"/>
            <a:ext cx="1800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72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Kontrola přiměřenosti náklad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635280" y="2781360"/>
            <a:ext cx="1800360" cy="25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54800" bIns="10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ednicov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---------------------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žij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588000" y="1773360"/>
            <a:ext cx="1800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72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Početně technické přiřaze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8000" y="2781360"/>
            <a:ext cx="432000" cy="25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---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093080" y="2781360"/>
            <a:ext cx="431640" cy="25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---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596360" y="2781360"/>
            <a:ext cx="431640" cy="25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101080" y="2781360"/>
            <a:ext cx="431640" cy="25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2484360" y="3141720"/>
            <a:ext cx="115092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484360" y="3429000"/>
            <a:ext cx="1150920" cy="79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84360" y="4724280"/>
            <a:ext cx="1150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435640" y="3213000"/>
            <a:ext cx="11523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435640" y="4724280"/>
            <a:ext cx="11523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0FF785-B04D-44AA-9242-3E155BFB344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0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7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0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2000"/>
                            </p:stCondLst>
                            <p:childTnLst>
                              <p:par>
                                <p:cTn id="5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3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2000"/>
                            </p:stCondLst>
                            <p:childTnLst>
                              <p:par>
                                <p:cTn id="5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ariabilní a fixní náklad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chozí otázk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kritérium členění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Mění se objem vynaložených zdrojů s objemem výkonů 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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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ariabilní náklady          fixní náklad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33"/>
                </a:solidFill>
                <a:latin typeface="Wingdings"/>
                <a:ea typeface="Wingdings"/>
              </a:rPr>
              <a:t>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možňuje zkvalitnění informačního zajištění široké škály rozhodovacích úloh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 u="sng">
                <a:solidFill>
                  <a:srgbClr val="86d1ec"/>
                </a:solidFill>
                <a:uFillTx/>
                <a:latin typeface="Arial"/>
                <a:ea typeface="Arial"/>
                <a:hlinkClick r:id="rId1"/>
              </a:rPr>
              <a:t>viz samostatná prezentace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B278F7-45D5-4F1C-A474-477F2854F48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0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500"/>
                            </p:stCondLst>
                            <p:childTnLst>
                              <p:par>
                                <p:cTn id="55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fektivnos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6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rcholové kritérium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výkonnosti podnikatelského proces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efektivnost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yjadřuje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míru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dosažení očekávaných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záměrů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cíl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 podnikatelské oblasti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schopnost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zhodnotit vložený kapitá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kritéria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měřítka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efektiv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1. zhodnocení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vlastního kapitál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rentabilita vlastního kapitálu (ROE, Return On Equity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manažerský (ekonomický) zisk (EVA, Economic Value Added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zhodnocení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aktiv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(kapitálu)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hlavní výdělečné čin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rentabilita aktiv hlavní výdělečné činnosti (ROA, Return On Assets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rentabilita zaměstnaného kapitálu (ROCE, Return On Capital Employed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DE6E1A-6A5C-46A2-87A5-72A0FF13338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Du Pont rozklad </a:t>
            </a:r>
            <a:br>
              <a:rPr sz="3200"/>
            </a:b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rentability vlastního kapitál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8785440" cy="13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ROE = Čistý zisk / Vlastní kapitá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ROE = Čistý zisk/Výnosy z prodeje x Výnosy z prodeje/Aktiva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÷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Vlastní kapitál/Aktiva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684360" y="2444760"/>
            <a:ext cx="3211200" cy="2536920"/>
            <a:chOff x="684360" y="2444760"/>
            <a:chExt cx="3211200" cy="2536920"/>
          </a:xfrm>
        </p:grpSpPr>
        <p:sp>
          <p:nvSpPr>
            <p:cNvPr id="172" name=""/>
            <p:cNvSpPr/>
            <p:nvPr/>
          </p:nvSpPr>
          <p:spPr>
            <a:xfrm>
              <a:off x="944640" y="2444760"/>
              <a:ext cx="2950920" cy="71928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84360" y="3986280"/>
              <a:ext cx="2158920" cy="99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ZISKOVOST VÝNOSŮ Z PRODEJ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74" name=""/>
            <p:cNvCxnSpPr>
              <a:stCxn id="172" idx="4"/>
              <a:endCxn id="173" idx="0"/>
            </p:cNvCxnSpPr>
            <p:nvPr/>
          </p:nvCxnSpPr>
          <p:spPr>
            <a:xfrm flipH="1">
              <a:off x="1763280" y="3164040"/>
              <a:ext cx="658080" cy="82296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</p:grpSp>
      <p:grpSp>
        <p:nvGrpSpPr>
          <p:cNvPr id="175" name=""/>
          <p:cNvGrpSpPr/>
          <p:nvPr/>
        </p:nvGrpSpPr>
        <p:grpSpPr>
          <a:xfrm>
            <a:off x="3651120" y="2473200"/>
            <a:ext cx="2936880" cy="2536920"/>
            <a:chOff x="3651120" y="2473200"/>
            <a:chExt cx="2936880" cy="2536920"/>
          </a:xfrm>
        </p:grpSpPr>
        <p:sp>
          <p:nvSpPr>
            <p:cNvPr id="176" name=""/>
            <p:cNvSpPr/>
            <p:nvPr/>
          </p:nvSpPr>
          <p:spPr>
            <a:xfrm>
              <a:off x="3995640" y="2473200"/>
              <a:ext cx="2592360" cy="71928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651120" y="4014720"/>
              <a:ext cx="1895760" cy="99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BRÁTKA AKTIV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78" name=""/>
            <p:cNvCxnSpPr>
              <a:stCxn id="176" idx="4"/>
              <a:endCxn id="177" idx="0"/>
            </p:cNvCxnSpPr>
            <p:nvPr/>
          </p:nvCxnSpPr>
          <p:spPr>
            <a:xfrm flipH="1">
              <a:off x="4598280" y="3192480"/>
              <a:ext cx="694440" cy="82296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</p:grpSp>
      <p:grpSp>
        <p:nvGrpSpPr>
          <p:cNvPr id="179" name=""/>
          <p:cNvGrpSpPr/>
          <p:nvPr/>
        </p:nvGrpSpPr>
        <p:grpSpPr>
          <a:xfrm>
            <a:off x="6218280" y="2473200"/>
            <a:ext cx="2717640" cy="2536920"/>
            <a:chOff x="6218280" y="2473200"/>
            <a:chExt cx="2717640" cy="2536920"/>
          </a:xfrm>
        </p:grpSpPr>
        <p:sp>
          <p:nvSpPr>
            <p:cNvPr id="180" name=""/>
            <p:cNvSpPr/>
            <p:nvPr/>
          </p:nvSpPr>
          <p:spPr>
            <a:xfrm>
              <a:off x="6659640" y="2473200"/>
              <a:ext cx="2276280" cy="71928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218280" y="4014720"/>
              <a:ext cx="1882800" cy="99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ZPŮSOB FINANCOVÁNÍ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82" name=""/>
            <p:cNvCxnSpPr>
              <a:stCxn id="180" idx="4"/>
              <a:endCxn id="181" idx="0"/>
            </p:cNvCxnSpPr>
            <p:nvPr/>
          </p:nvCxnSpPr>
          <p:spPr>
            <a:xfrm flipH="1">
              <a:off x="7158960" y="3192480"/>
              <a:ext cx="639000" cy="82296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CB6DD-145C-4EA7-A3C7-ADA2B33C81C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0"/>
                            </p:stCondLst>
                            <p:childTnLst>
                              <p:par>
                                <p:cTn id="71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konomická účinnos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yjadřuj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míru zhodnocení náklad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ři prodeji výkonů zákazníkům, v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nosech z prodej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kritériem racionality vynaložených nákladů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měřítk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účin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bsolutní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zisk z hlavní výdělečné čin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lativní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zisk/výnosy z prodeje; zisk/náklady; náklad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výnos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A5495A-5BE6-4D82-9419-1CEA17A8E33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ospodárnos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ěř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ši vynaložených nákladů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 procesu tvorby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akový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ůběh nákladů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dniku, při kterém se dosahuj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žadovaných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konů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  co možná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ejnižším vynaložením nákladů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kritériu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hospodárnosti -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ůměrné náklad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na naturál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jednotk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ýkon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hospodárné vynakládání nákladů se měří porovnáním nákladového úkolu a skutečných nákladů a) v celkové výši, b) na jednotku výkon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působy zvyšování hospodárnosti (formy hospodárnost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úspornos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– snížení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absolutní výše náklad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na daný objem a strukturu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těžnost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výšení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objemu výkon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ři stejných nákladech za obdob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190187-51DF-4C7C-8A3D-77A73E139B3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ktory hospodárnost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pořizovací cena vstup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99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9900"/>
                </a:solidFill>
                <a:latin typeface="Arial"/>
              </a:rPr>
              <a:t>kvalitativní odchylka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- srovnává výši nákladů na spotřebované vstupy při předem stanovených a skutečných pořizovacích cenách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kvantifikace:    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(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ps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 * 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množství spotřebovaných vstup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99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9900"/>
                </a:solidFill>
                <a:latin typeface="Arial"/>
              </a:rPr>
              <a:t>kvantitativní odchylka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srovnává předem stanovené a skutečné množství spotřebovaných vstupů v předem stanovených cenách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kvantifikace:    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(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ps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*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ps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odlišení významné pro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oddělení pravomoci a odpovědnosti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útvar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95280" y="5573880"/>
            <a:ext cx="8353440" cy="734760"/>
          </a:xfrm>
          <a:prstGeom prst="rect">
            <a:avLst/>
          </a:prstGeom>
          <a:noFill/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cs-CZ" sz="1800" spc="-1" strike="noStrike" baseline="-25000">
                <a:solidFill>
                  <a:srgbClr val="ffffff"/>
                </a:solidFill>
                <a:latin typeface="Arial"/>
              </a:rPr>
              <a:t>ps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předem stanovená cena               Q</a:t>
            </a:r>
            <a:r>
              <a:rPr b="0" lang="cs-CZ" sz="1800" spc="-1" strike="noStrike" baseline="-25000">
                <a:solidFill>
                  <a:srgbClr val="ffffff"/>
                </a:solidFill>
                <a:latin typeface="Arial"/>
              </a:rPr>
              <a:t>ps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  předem stanovené množství vstup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 skutečná cena                              Q</a:t>
            </a:r>
            <a:r>
              <a:rPr b="0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  skutečné množství vstup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547F6-C6E3-4FAC-B6E0-697CF05A129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2" dur="100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3" dur="100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100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jetí nákladů ve FÚ a NÚ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áklady v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finančním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něžně vyjádřené snížení vlastního kapitálu ve sledovaném obdob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které se projevilo úbytkem nebo snížením užitečnosti aktiv nebo zvýšením závazků a které vedlo ke snížení vlastního kapitálu jiným způsobem, než jsou příděly z vlastního kapitálu vlastníkům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áklady v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ákladovém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hodnotově vyjádřené účelné vynalože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ekonomických zdrojů, které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účelově souvis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 uskutečňováním předmětu činnosti podniku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 zdůrazněním potřeby zajistit hospodárnost vynaložených náklad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účelnos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– racionální a přiměřená výše vzhledem k výsledku čin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účelový charakt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– smyslem vynaložení zdrojů je zhodnoc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1834920" y="4019400"/>
            <a:ext cx="3586320" cy="1209960"/>
            <a:chOff x="1834920" y="4019400"/>
            <a:chExt cx="3586320" cy="1209960"/>
          </a:xfrm>
        </p:grpSpPr>
        <p:sp>
          <p:nvSpPr>
            <p:cNvPr id="193" name=""/>
            <p:cNvSpPr/>
            <p:nvPr/>
          </p:nvSpPr>
          <p:spPr>
            <a:xfrm>
              <a:off x="3262320" y="4019400"/>
              <a:ext cx="2158920" cy="43200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1834920" y="4365720"/>
              <a:ext cx="1657080" cy="863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727200" y="4336920"/>
            <a:ext cx="2016000" cy="1397160"/>
            <a:chOff x="727200" y="4336920"/>
            <a:chExt cx="2016000" cy="1397160"/>
          </a:xfrm>
        </p:grpSpPr>
        <p:sp>
          <p:nvSpPr>
            <p:cNvPr id="196" name=""/>
            <p:cNvSpPr/>
            <p:nvPr/>
          </p:nvSpPr>
          <p:spPr>
            <a:xfrm>
              <a:off x="727200" y="4336920"/>
              <a:ext cx="2016000" cy="43200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476360" y="4797360"/>
              <a:ext cx="0" cy="9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F6608C-1CF4-4B0E-ABD9-CCC4F2F6C68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harakteristiky nákladů ve FÚ a NÚ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100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FINANČNÍ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olnější vztah k výkonům – součástí N i výdaje odlišného charakteru (dary) a rozdělení zisku (daň ze zisku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yjadřují peněžně vynaložené zdroj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sleduje vazbu na žádoucí výši spotřeby zdrojů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yjadřují podmínky platné v době pořízení zdrojů                (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historické ceny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100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NÁKLADOVÉ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účelový (těsný) vztah k výkonů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i další zdroje, které umožňují vyjádřit skutečný ekonomický přínos hodnocených činností (kalkulační náklady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důraz na zajištění hospodár-ného vynaložení zdrojů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vyjadřují podmínky platné v čase uskutečňování příslušných výkonů, činností a procesů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520730-C626-4DEF-BCD6-9244974DA18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Členění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ednotlivá členění nákladů ukazují na různé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charakteristiky a vlastnosti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ůležité je pochopit, co j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kritérie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ro každé členě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aždé členění nákladů je vhodné pro jiné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rozhodovací úloh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řídicích pracovník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ednotlivá členě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ení možné zaměňov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áklad j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eněžní vyjádře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ynaloženého zdroj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můžeme řídit náklady, al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íčiny jejich vznik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458C13-2422-4F19-BB0C-265659925FC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7T06:41:02Z</dcterms:created>
  <dc:creator>NOBODY</dc:creator>
  <dc:description/>
  <dc:language>en-US</dc:language>
  <cp:lastModifiedBy>NOBODY</cp:lastModifiedBy>
  <dcterms:modified xsi:type="dcterms:W3CDTF">2007-09-04T08:25:00Z</dcterms:modified>
  <cp:revision>14</cp:revision>
  <dc:subject/>
  <dc:title>Snímek 1</dc:title>
</cp:coreProperties>
</file>