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473FA-9B61-433A-8DCE-3C58ECA690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02AD4-7208-4F54-A3E0-DE068A0346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1E68C-9380-4209-A0A1-499EF3DB0D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2AB7F-E9CE-4514-B1B1-40A6AE06E2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98A5D-82ED-4CA8-9A29-6BE6D73A87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0FB62-BD1C-4BBD-A8B1-7F392398BF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271F4-FC6F-4907-8BAD-0E9AF239DE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EEFAD-AF9B-4D0D-AD6F-41A026F0F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3C45D-26D1-4C9F-8348-BC6CD716D5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25724-05BF-4D08-93D2-7CBF672C5E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2534A-2809-4B7D-AD23-EDBCA2EE6C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BEB7A-71E1-4404-BABF-C5E6466628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7F3D-8E6F-404D-BCB9-77900FB52474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stavení rozpočtu nákladů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 systému plánů a rozpočtů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předběžné kalkulac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rozpočtu nákladů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26920" y="1755720"/>
            <a:ext cx="66265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edběžná 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35040" y="2293920"/>
          <a:ext cx="7682040" cy="1095480"/>
        </p:xfrm>
        <a:graphic>
          <a:graphicData uri="http://schemas.openxmlformats.org/drawingml/2006/table">
            <a:tbl>
              <a:tblPr/>
              <a:tblGrid>
                <a:gridCol w="2784600"/>
                <a:gridCol w="4897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Jednic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rma * předem stanovené oceně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zpočet / 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zpočet / 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826920" y="4014720"/>
            <a:ext cx="4703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ozpočet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2560" y="4508640"/>
          <a:ext cx="7634160" cy="1095120"/>
        </p:xfrm>
        <a:graphic>
          <a:graphicData uri="http://schemas.openxmlformats.org/drawingml/2006/table">
            <a:tbl>
              <a:tblPr/>
              <a:tblGrid>
                <a:gridCol w="2704680"/>
                <a:gridCol w="4929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dnic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běžná kalkulace*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rmativy * vztahové veliči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lim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611280" y="2276640"/>
            <a:ext cx="7681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4508640"/>
            <a:ext cx="7584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210" idx="1"/>
            <a:endCxn id="211" idx="1"/>
          </p:cNvCxnSpPr>
          <p:nvPr/>
        </p:nvCxnSpPr>
        <p:spPr>
          <a:xfrm flipH="1" flipV="1" rot="10800000">
            <a:off x="610200" y="2484000"/>
            <a:ext cx="73800" cy="2186640"/>
          </a:xfrm>
          <a:prstGeom prst="bentConnector3">
            <a:avLst>
              <a:gd name="adj1" fmla="val -312745"/>
            </a:avLst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8317080" y="2852640"/>
            <a:ext cx="215640" cy="2232000"/>
          </a:xfrm>
          <a:custGeom>
            <a:avLst/>
            <a:gdLst/>
            <a:ahLst/>
            <a:rect l="l" t="t" r="r" b="b"/>
            <a:pathLst>
              <a:path w="136" h="1406">
                <a:moveTo>
                  <a:pt x="0" y="1406"/>
                </a:moveTo>
                <a:lnTo>
                  <a:pt x="136" y="1406"/>
                </a:lnTo>
                <a:lnTo>
                  <a:pt x="13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317080" y="3213000"/>
            <a:ext cx="502920" cy="2232000"/>
          </a:xfrm>
          <a:custGeom>
            <a:avLst/>
            <a:gdLst/>
            <a:ahLst/>
            <a:rect l="l" t="t" r="r" b="b"/>
            <a:pathLst>
              <a:path w="317" h="1451">
                <a:moveTo>
                  <a:pt x="0" y="1451"/>
                </a:moveTo>
                <a:lnTo>
                  <a:pt x="317" y="1451"/>
                </a:lnTo>
                <a:lnTo>
                  <a:pt x="317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DDCE3-AD30-4E0A-A56A-201D7DBB1A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50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70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ické otázky sestavení rozpočtu režijních nákladů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ruktur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členění nákladů na variabilní a fixní ve vazbě na druhové a účelové členění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lišují se prvotní a druhotn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etody stanov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ovaných nákladů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viz následující slide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způsob 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držení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viz následující slide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600FD-F565-4EC9-9D1B-1BCDD8C55A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stanovení rozpočtovaných nákladů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votní úda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sestavení rozpočt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užití údajů o skutečnosti minulých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stavení rozpočtu od nulového základ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 zprac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votních údaj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exní meto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ákladem je věcná analýza nákladové slo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tematicko – statistické meto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rafický rozbor a extrapo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 stanov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ového úko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ariabilní náklady – normativy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chodiskem je určení vztahových veličin, na které je vázána úroveň nákladového úko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xní náklady - lim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8A733-8BEB-481F-93FC-D1166F1DA4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5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ntrola dodržení rozpočt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je pravidelné a včas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rovn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kutečného a předem stanoveného vývoje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jištění a vyhodnoc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ílů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jetí opat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ž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vzn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íl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reálně stanovený úk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ý vývoj podmínek v průběhu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y 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držení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střednictvím interních výnosů a výsledku hospodaře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viz Kapitola 9 Odpovědnostní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ovnání skutečných a rozpočtovaných nákladů mimo účet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4D1F0-6AB1-45C3-8286-99CD9C0C31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ntrola rozpočtu režijních nákladů mimo účetní systé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vnéh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e schváleným rozpočte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hodné u středisek, kde není vymezený nebo měřitelný výko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ího přepočtené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 rozpočtem s přepočtenými variabilními náklady podle skutečného objemu a struktury výkon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mět přepočtu pouze variabil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hodné u středisek, která nerozhodují o využití kapac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eárně přepočtené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 rozpočtem s přepočtenými veškerými náklady podle skutečného objemu a struktury výkon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ředmětem přepočtu i fix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hodné u středisek, která rozhodují o využití kapac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F98D0-F6B5-4A96-A1F8-C4344C85FD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jení systému informací nákladového účetnictví (shrnut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197080" y="2706840"/>
            <a:ext cx="2158920" cy="1944000"/>
            <a:chOff x="2197080" y="2706840"/>
            <a:chExt cx="2158920" cy="1944000"/>
          </a:xfrm>
        </p:grpSpPr>
        <p:grpSp>
          <p:nvGrpSpPr>
            <p:cNvPr id="225" name=""/>
            <p:cNvGrpSpPr/>
            <p:nvPr/>
          </p:nvGrpSpPr>
          <p:grpSpPr>
            <a:xfrm>
              <a:off x="2412720" y="3427200"/>
              <a:ext cx="1800360" cy="1223640"/>
              <a:chOff x="2412720" y="3427200"/>
              <a:chExt cx="1800360" cy="1223640"/>
            </a:xfrm>
          </p:grpSpPr>
          <p:sp>
            <p:nvSpPr>
              <p:cNvPr id="226" name=""/>
              <p:cNvSpPr/>
              <p:nvPr/>
            </p:nvSpPr>
            <p:spPr>
              <a:xfrm>
                <a:off x="2412720" y="3427200"/>
                <a:ext cx="180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349440" y="3427200"/>
                <a:ext cx="0" cy="122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2197080" y="2706840"/>
              <a:ext cx="21589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kutečné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ředisko/výk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213080" y="2706840"/>
            <a:ext cx="2521080" cy="1944000"/>
            <a:chOff x="4213080" y="2706840"/>
            <a:chExt cx="2521080" cy="1944000"/>
          </a:xfrm>
        </p:grpSpPr>
        <p:grpSp>
          <p:nvGrpSpPr>
            <p:cNvPr id="230" name=""/>
            <p:cNvGrpSpPr/>
            <p:nvPr/>
          </p:nvGrpSpPr>
          <p:grpSpPr>
            <a:xfrm>
              <a:off x="4429080" y="3427200"/>
              <a:ext cx="1800000" cy="1223640"/>
              <a:chOff x="4429080" y="3427200"/>
              <a:chExt cx="1800000" cy="1223640"/>
            </a:xfrm>
          </p:grpSpPr>
          <p:sp>
            <p:nvSpPr>
              <p:cNvPr id="231" name=""/>
              <p:cNvSpPr/>
              <p:nvPr/>
            </p:nvSpPr>
            <p:spPr>
              <a:xfrm>
                <a:off x="4429080" y="3427200"/>
                <a:ext cx="180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365440" y="3427200"/>
                <a:ext cx="0" cy="122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4213080" y="2706840"/>
              <a:ext cx="25210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ředem stan.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ředisko/výk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197080" y="3714840"/>
            <a:ext cx="574560" cy="863280"/>
            <a:chOff x="2197080" y="3714840"/>
            <a:chExt cx="574560" cy="863280"/>
          </a:xfrm>
        </p:grpSpPr>
        <p:sp>
          <p:nvSpPr>
            <p:cNvPr id="235" name=""/>
            <p:cNvSpPr/>
            <p:nvPr/>
          </p:nvSpPr>
          <p:spPr>
            <a:xfrm>
              <a:off x="2197080" y="371484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97080" y="393048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97080" y="436248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97080" y="457812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771640" y="39304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629080" y="46512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237440" y="2490840"/>
            <a:ext cx="1582560" cy="2374920"/>
            <a:chOff x="7237440" y="2490840"/>
            <a:chExt cx="1582560" cy="2374920"/>
          </a:xfrm>
        </p:grpSpPr>
        <p:sp>
          <p:nvSpPr>
            <p:cNvPr id="242" name=""/>
            <p:cNvSpPr/>
            <p:nvPr/>
          </p:nvSpPr>
          <p:spPr>
            <a:xfrm>
              <a:off x="7237440" y="2490840"/>
              <a:ext cx="1582560" cy="1008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ředběžn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kalkula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ýkonů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37440" y="3857760"/>
              <a:ext cx="1582560" cy="1008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zpoč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ákladů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dp. středise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7597800" y="2849400"/>
              <a:ext cx="863640" cy="1657440"/>
              <a:chOff x="7597800" y="2849400"/>
              <a:chExt cx="863640" cy="1657440"/>
            </a:xfrm>
          </p:grpSpPr>
          <p:sp>
            <p:nvSpPr>
              <p:cNvPr id="245" name=""/>
              <p:cNvSpPr/>
              <p:nvPr/>
            </p:nvSpPr>
            <p:spPr>
              <a:xfrm>
                <a:off x="7597800" y="3857760"/>
                <a:ext cx="36036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101080" y="3857760"/>
                <a:ext cx="36036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597800" y="2849400"/>
                <a:ext cx="36036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101080" y="2849400"/>
                <a:ext cx="36036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249" name=""/>
            <p:cNvCxnSpPr>
              <a:stCxn id="247" idx="2"/>
              <a:endCxn id="245" idx="0"/>
            </p:cNvCxnSpPr>
            <p:nvPr/>
          </p:nvCxnSpPr>
          <p:spPr>
            <a:xfrm>
              <a:off x="7778520" y="3498480"/>
              <a:ext cx="1080" cy="359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0" name=""/>
            <p:cNvCxnSpPr>
              <a:stCxn id="246" idx="0"/>
              <a:endCxn id="248" idx="2"/>
            </p:cNvCxnSpPr>
            <p:nvPr/>
          </p:nvCxnSpPr>
          <p:spPr>
            <a:xfrm flipV="1">
              <a:off x="8281440" y="3498120"/>
              <a:ext cx="1080" cy="359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251" name=""/>
          <p:cNvSpPr/>
          <p:nvPr/>
        </p:nvSpPr>
        <p:spPr>
          <a:xfrm>
            <a:off x="3781440" y="4075200"/>
            <a:ext cx="1152360" cy="0"/>
          </a:xfrm>
          <a:prstGeom prst="line">
            <a:avLst/>
          </a:prstGeom>
          <a:ln w="66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653080" y="3859200"/>
            <a:ext cx="7920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VP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40" idx="2"/>
            <a:endCxn id="252" idx="2"/>
          </p:cNvCxnSpPr>
          <p:nvPr/>
        </p:nvCxnSpPr>
        <p:spPr>
          <a:xfrm flipH="1" flipV="1" rot="5400000">
            <a:off x="4453560" y="3421440"/>
            <a:ext cx="168840" cy="3024720"/>
          </a:xfrm>
          <a:prstGeom prst="bentConnector3">
            <a:avLst>
              <a:gd name="adj1" fmla="val -135683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5724360" y="3571920"/>
            <a:ext cx="21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941800" y="2994480"/>
            <a:ext cx="1295640" cy="1368000"/>
            <a:chOff x="5941800" y="2994480"/>
            <a:chExt cx="1295640" cy="1368000"/>
          </a:xfrm>
        </p:grpSpPr>
        <p:cxnSp>
          <p:nvCxnSpPr>
            <p:cNvPr id="256" name=""/>
            <p:cNvCxnSpPr>
              <a:stCxn id="243" idx="1"/>
              <a:endCxn id="252" idx="3"/>
            </p:cNvCxnSpPr>
            <p:nvPr/>
          </p:nvCxnSpPr>
          <p:spPr>
            <a:xfrm flipH="1" flipV="1">
              <a:off x="6444720" y="4354200"/>
              <a:ext cx="792720" cy="8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42" idx="1"/>
              <a:endCxn id="254" idx="3"/>
            </p:cNvCxnSpPr>
            <p:nvPr/>
          </p:nvCxnSpPr>
          <p:spPr>
            <a:xfrm flipV="1" rot="10800000">
              <a:off x="5941440" y="2994480"/>
              <a:ext cx="1296000" cy="685080"/>
            </a:xfrm>
            <a:prstGeom prst="bentConnector3">
              <a:avLst>
                <a:gd name="adj1" fmla="val 24979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258" name=""/>
          <p:cNvSpPr/>
          <p:nvPr/>
        </p:nvSpPr>
        <p:spPr>
          <a:xfrm>
            <a:off x="2773440" y="21319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Účetnictví pro řízen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5440" y="2635200"/>
            <a:ext cx="144144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sledn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42" idx="0"/>
            <a:endCxn id="259" idx="0"/>
          </p:cNvCxnSpPr>
          <p:nvPr/>
        </p:nvCxnSpPr>
        <p:spPr>
          <a:xfrm rot="5400000">
            <a:off x="4465080" y="-929880"/>
            <a:ext cx="144720" cy="6984000"/>
          </a:xfrm>
          <a:prstGeom prst="bentConnector3">
            <a:avLst>
              <a:gd name="adj1" fmla="val -544139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39" idx="1"/>
            <a:endCxn id="259" idx="3"/>
          </p:cNvCxnSpPr>
          <p:nvPr/>
        </p:nvCxnSpPr>
        <p:spPr>
          <a:xfrm rot="10800000">
            <a:off x="1766160" y="3174120"/>
            <a:ext cx="1005480" cy="940680"/>
          </a:xfrm>
          <a:prstGeom prst="bentConnector3">
            <a:avLst>
              <a:gd name="adj1" fmla="val 4989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2052720" y="2060640"/>
            <a:ext cx="4681440" cy="3672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7C945-E911-4669-8D7E-D2C1955412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0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0"/>
                            </p:stCondLst>
                            <p:childTnLst>
                              <p:par>
                                <p:cTn id="53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800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80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7" nodeType="after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9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m vyjád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kvantifik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voj hodnotových velič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anovené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anovený objem a strukturu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ytvořených a prodaných výkon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odnik jako cel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i 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hierarchicky nižší úrove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zení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středisko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ředpokládaných změná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procesu tvorby výkonů a prodeje zákazníků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em je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nikový rozpoč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Master Budge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tová výsledov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et peněžních to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tová rozvah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D7A05-ACE5-4A54-83BE-36452CB45F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íle sestavení krátkodobých rozpočt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estav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nikového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jako nástro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ealizace cíl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disko: strategické plány a rozpočty a objektivně existující podmín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dezagregace cíl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nikového rozpočt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a dílčí cíle a úkoly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disko: vymezení pravomoci a odpovědnosti středise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účinnost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aplnění cílů rozpočtů závisí 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rovázanost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 ostatními nástroji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motivačním působ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na chování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rozpočet 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ální a neúčinný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kud je pouze „rozpisem“ vrcholových ukazatelů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ez respektování vývo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mínek na trh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 ovlivnitelnost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úkolů řídicími pracovní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D5BBE-A8BF-4D05-8AF6-363CF36F9C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kce krátkodobých rozpočt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ovují cí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dané období v návaznosti na strategické cí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alizace (naplnění) dlouhodobých rozpočtů s možností reakce na měnící se podmín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ordinují čin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ek uvnitř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munikace uvnitř podniku a schopnost předem identifikovat konflik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tivuj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dicí pracovníky k dosažení úkolů v souladu s cíli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ůsobení na chování a motivaci řídicích pracovní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sou nástroje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kutečného vývoje hodnotových velič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ní skutečného průběhu s předem stanovenou výš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ožňuj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výsled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innosti středisek a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ěření výkonnosti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7375D-5DB8-4B96-BACE-4AC4949510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rátkodobých rozpočt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 časovému obdob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bdobí –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en ro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dělení na 12 měsíců nebo 13 čtyřtýdenních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počty na další čtvrtletí mohou být průběžně zpřesňová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louzavé rozpočt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průběžná aktualizace rozpočtu (obvykle po čtvrtletích) spojená s doplněním údajů pro dalš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avazující čtvrtlet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hodnocování výsledk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ždy po měsíci nebo po čtyřech týdn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EFA3A-6FDF-4979-9722-F043AF2CA2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 sestavování rozpočt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ým pro sestavení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tým na úrovni vrcholového řízení složený z řídicích pracovníků ze všech oblastí činnost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zajistit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reál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ů a dostatečnou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koordinova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dělení controlling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zpracová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ostupů a metod sestav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 včetně urče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časového harmonogram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estavování;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spolupráce s řídicími pracovník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i jejich sestavování (poradenská a administrativní funkc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odpovědnost za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 včasnou příprav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řídicí pracovníci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zpracování návrh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 střediska (ve spolupráci s oddělením controllingu), jeho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rezenta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a případné přepracová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B95A1-84BB-4D8D-92FE-02BF346D13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čtové politi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a základních směrů vývoje  jeho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vlivněno změnami v marketingovém mixu a záměry na rozšíření či omezení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podnikové cíle a politi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 faktorů, kter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mezují výkon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ptávka na trh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apacita podniku a rychlost reakce na změ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prav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čtu výno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a – plán prodeje a předem stanovené ceny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základ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ry rozpočtu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rozpočtové výsledov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vazuje na strukturu rozpočtu výnosů z prodej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členění nákladů na variabilní a fixní s možností jejich stupňovitého členění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FN výkonu, útvaru, správy a řízení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ACE64-A556-4066-B6E7-EC5605B9C9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vní (výchozí) etap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ípravy rozpočt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zí přístup – „bottom-up“, tj. proces sestavení postupuje od návrhů nejnižší úrovně řízení ke koordinaci a doladění na vyšších úrovní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aždý řídicí pracovník sestavuje návrh rozpočtu za tu oblast činnosti, za kterou je odpovědný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rojednání návrhu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třediska s hierarchicky vyšším stupněm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92360" y="3860640"/>
            <a:ext cx="208764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Div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47640" y="4724280"/>
            <a:ext cx="2087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Závod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35640" y="4724280"/>
            <a:ext cx="2087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Závod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00" y="5373720"/>
            <a:ext cx="1295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537372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3640" y="537372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59640" y="5373720"/>
            <a:ext cx="1295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76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84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328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51640" y="6021360"/>
            <a:ext cx="936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5964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6764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75" idx="0"/>
            <a:endCxn id="174" idx="2"/>
          </p:cNvCxnSpPr>
          <p:nvPr/>
        </p:nvCxnSpPr>
        <p:spPr>
          <a:xfrm flipV="1">
            <a:off x="2592360" y="4365720"/>
            <a:ext cx="1945440" cy="358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0" name=""/>
          <p:cNvCxnSpPr>
            <a:stCxn id="176" idx="0"/>
            <a:endCxn id="174" idx="2"/>
          </p:cNvCxnSpPr>
          <p:nvPr/>
        </p:nvCxnSpPr>
        <p:spPr>
          <a:xfrm flipH="1" flipV="1">
            <a:off x="4536360" y="4365720"/>
            <a:ext cx="1943640" cy="358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1" name=""/>
          <p:cNvCxnSpPr>
            <a:stCxn id="177" idx="0"/>
            <a:endCxn id="175" idx="2"/>
          </p:cNvCxnSpPr>
          <p:nvPr/>
        </p:nvCxnSpPr>
        <p:spPr>
          <a:xfrm flipV="1">
            <a:off x="1763640" y="5155920"/>
            <a:ext cx="82944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2" name=""/>
          <p:cNvCxnSpPr>
            <a:stCxn id="178" idx="0"/>
            <a:endCxn id="175" idx="2"/>
          </p:cNvCxnSpPr>
          <p:nvPr/>
        </p:nvCxnSpPr>
        <p:spPr>
          <a:xfrm flipH="1" flipV="1">
            <a:off x="2592000" y="5155920"/>
            <a:ext cx="82800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3" name=""/>
          <p:cNvCxnSpPr>
            <a:stCxn id="179" idx="0"/>
            <a:endCxn id="176" idx="2"/>
          </p:cNvCxnSpPr>
          <p:nvPr/>
        </p:nvCxnSpPr>
        <p:spPr>
          <a:xfrm flipV="1">
            <a:off x="5651280" y="5155920"/>
            <a:ext cx="829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4" name=""/>
          <p:cNvCxnSpPr>
            <a:stCxn id="180" idx="0"/>
            <a:endCxn id="176" idx="2"/>
          </p:cNvCxnSpPr>
          <p:nvPr/>
        </p:nvCxnSpPr>
        <p:spPr>
          <a:xfrm flipH="1" flipV="1">
            <a:off x="6479640" y="5155920"/>
            <a:ext cx="82800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5" name=""/>
          <p:cNvCxnSpPr>
            <a:stCxn id="181" idx="0"/>
            <a:endCxn id="177" idx="2"/>
          </p:cNvCxnSpPr>
          <p:nvPr/>
        </p:nvCxnSpPr>
        <p:spPr>
          <a:xfrm flipV="1">
            <a:off x="936360" y="5805000"/>
            <a:ext cx="8276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6" name=""/>
          <p:cNvCxnSpPr>
            <a:stCxn id="182" idx="0"/>
            <a:endCxn id="177" idx="2"/>
          </p:cNvCxnSpPr>
          <p:nvPr/>
        </p:nvCxnSpPr>
        <p:spPr>
          <a:xfrm flipH="1" flipV="1">
            <a:off x="1762920" y="5805000"/>
            <a:ext cx="1818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7" name=""/>
          <p:cNvCxnSpPr>
            <a:stCxn id="183" idx="0"/>
            <a:endCxn id="178" idx="2"/>
          </p:cNvCxnSpPr>
          <p:nvPr/>
        </p:nvCxnSpPr>
        <p:spPr>
          <a:xfrm flipV="1">
            <a:off x="2952360" y="5805000"/>
            <a:ext cx="4676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8" name=""/>
          <p:cNvCxnSpPr>
            <a:stCxn id="184" idx="0"/>
            <a:endCxn id="178" idx="2"/>
          </p:cNvCxnSpPr>
          <p:nvPr/>
        </p:nvCxnSpPr>
        <p:spPr>
          <a:xfrm flipH="1" flipV="1">
            <a:off x="3418920" y="5805000"/>
            <a:ext cx="5418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9" name=""/>
          <p:cNvCxnSpPr>
            <a:stCxn id="185" idx="0"/>
            <a:endCxn id="179" idx="2"/>
          </p:cNvCxnSpPr>
          <p:nvPr/>
        </p:nvCxnSpPr>
        <p:spPr>
          <a:xfrm flipV="1">
            <a:off x="5111640" y="5805000"/>
            <a:ext cx="54072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0" name=""/>
          <p:cNvCxnSpPr>
            <a:stCxn id="186" idx="0"/>
            <a:endCxn id="179" idx="2"/>
          </p:cNvCxnSpPr>
          <p:nvPr/>
        </p:nvCxnSpPr>
        <p:spPr>
          <a:xfrm flipH="1" flipV="1">
            <a:off x="5651280" y="5805000"/>
            <a:ext cx="46872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1" name=""/>
          <p:cNvCxnSpPr>
            <a:stCxn id="187" idx="0"/>
            <a:endCxn id="180" idx="2"/>
          </p:cNvCxnSpPr>
          <p:nvPr/>
        </p:nvCxnSpPr>
        <p:spPr>
          <a:xfrm flipV="1">
            <a:off x="7128000" y="5805000"/>
            <a:ext cx="1800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2" name=""/>
          <p:cNvCxnSpPr>
            <a:stCxn id="188" idx="0"/>
            <a:endCxn id="180" idx="2"/>
          </p:cNvCxnSpPr>
          <p:nvPr/>
        </p:nvCxnSpPr>
        <p:spPr>
          <a:xfrm flipH="1" flipV="1">
            <a:off x="7306920" y="5805000"/>
            <a:ext cx="8294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1D8B2-4451-49A1-AE32-1F007140D9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2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4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6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8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2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4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4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9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1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3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8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82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2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ordinace a přeprac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ů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 – ověřit vztahy mezi rozpočty z hlediska návaznosti a soulad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ípadný návrh změny rozpočtu by měl předložit pracovník, který sestavoval původní návr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apa se může i několikrát opakova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eč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jetí a schvál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elková koordinace završená sestavením rozpočtové výsledovky za podnik jako celek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DE56B-19A2-4FC5-AD53-D320AD5BE7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35:35Z</dcterms:modified>
  <cp:revision>7</cp:revision>
  <dc:subject/>
  <dc:title>Snímek 1</dc:title>
</cp:coreProperties>
</file>