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5A2FC-1DC0-4B87-AECC-58FC576A0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A5627-0E83-457A-945B-7EB2F6E32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E202A-910F-47AC-877A-C7179D59D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F2E68-9FD3-46EF-87B6-45A8F9B9D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CE493-B859-416F-912B-C9F2F4DDE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92976-46CB-4E02-A65E-9268EA58C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E3100-B401-4EC8-950A-6A754A02E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D9C4F-494D-4CA7-9B4D-4ADB68611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297BB-638E-4A88-AD1A-31D0D2E8E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CE270-D6FE-4994-A728-25C9BEAFB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629B1-D4C9-45F2-8AEE-7C38ABB85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7920F-729E-4398-8385-BFEDD7DB9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9DE4-5EC0-4419-9793-AF71E96B172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Účetní informace pro řízení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 linii odpovědnosti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edpoklad: delegovaná pravomoc a odpovědnost v investičním rozhodová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vlivňují výši a způsob využití investic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ace na ekonomickou efektivnost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ejvyšší úroveň ekonomické struktury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často je investičním střediskem pouze vrcholové ved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případě velkých firem s širokým spektrem činnosti tzv. strategické podnikatelské jednotky (strategic business uni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7FE73-8449-4C6D-8945-53DCE5F253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dnotová kritéria řízení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otázk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dr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 vynakládají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sledku rozhodnutí střediska nebo činností, jejíž průběh středisko ovlivňuje, a jak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jich vynaložení vyvolává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Jakým způsobem měřit a hodnot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Jak vymez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sledek hospoda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D2655-837B-4540-B4CB-CAA78090F7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odpovědnostních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princip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vlivnitel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tázka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spotřebu zdrojů, a kterému středisku by tudíž měl být náklad odpovědnostně přiřazen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střediska = ovlivnitelné interní a externí náklady (skutečné i kalkulač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zor: 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ísto vzniku nákladů = odpovědnost za vznik nákladů“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u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at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apř.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vzniklé důsledkem rozhodnu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ovlivnitelné pohyby cen vstup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účelné vynaložení zdrojů zapříčiněné činnos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F1836-6116-4EB9-AD13-C01F79995A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nos středisk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střediskové výnos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míře delegov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ákladní situac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. výkony střediska určeny převážně pro externí zákaz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ex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prodeje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výkony střediska určeny převážně pro osta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a základě vnitropodnikových c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výkony střediska není možné vymezit a měř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úkolem střediska je dodržet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em stanovené nákla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dle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9FF82-88F3-4C35-8721-D565775268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unkce vnitropodnikových c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tivovat k rozhodování a chování prospěšnému pro středisko i pod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it úroveň pravomoci a odpovědnosti a oddělit přínos střediska k výsledků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stit informace pro měření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poklady účinného využit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přede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álost v čas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ulad s ostatními nástroji vnitropodnikového říze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ce, rozpoč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rozumitelnost pro dodávající i odebírající středisko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a stejné úrovni pro stejnorodý výkon bez ohledu na odběrate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211A4-A1EA-4AF7-B0D5-F86898CCC3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y vnitropodnikových c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ariabilní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s připočtení ziskové přirá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tržní cen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dohodě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zi středis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9B8C2-D75A-424D-95D0-275D30FEBA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ek hospodaře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unkc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kriteriál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ritérium (měřítko) pro hodnocení úspěšnosti hospodaření středisk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 stimulač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timulace k zajištění souladu cílů střediska a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odnět pro rozvoj jednání, které zvyšuje efektivnost činnosti střediska, a tím i efektivnost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čové je propojení s vhodno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ou odmě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sledku hospodaření závisí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44DCC-EC52-4040-A56E-52E459FAEA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ah výsledku hospodař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á (výdajová)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úspora nebo překročení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ch střediskov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bjem výnosů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 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po zohlednění kalkulačních úroků z čistého pracovního kapitálu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čistého pracovní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ekonomick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residuální)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vázané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54A65-4FAC-412C-8695-AE3CF202EA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kaz hospodářského výsledku nákladového střediska (výkaz odchyl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472480"/>
                <a:gridCol w="1917720"/>
                <a:gridCol w="1918080"/>
                <a:gridCol w="1920960"/>
              </a:tblGrid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ředisk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skutečnos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nterní výnos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rozpoče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dchyl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úspora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kroč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96FD0-4F03-4F25-97E8-973CF983DE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ovka ziskového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340000" y="1557360"/>
          <a:ext cx="4608360" cy="431928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nosy z prodeje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Variabilní náklady výkonů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že (příspěvek na úhrad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vlivnitelný výsledek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Ne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hospodaření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Alokované náklady na správu a říz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střediska po alokaci správních 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411280" y="242100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386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4394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537372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DC7AC-4241-429A-9F12-E3416EA857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ažení takového dlouhodobého stavu, kdy jednání každého útvaru a pracovníka v podniku přispívá k dosažení strategických cílů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y odpovědnostního ří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81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ovlivnitel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avomoc a odpověd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ceš-li výsledky, musíš dát příležito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transformace cílů na úkoly → měřitelná krité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chceš řídit, musíš umět měř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přínos k výsledkům → zainteres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ekni mi, jak mě budeš měřit, a já ti řeknu, jak se budu chova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A79CE-CC1D-4AA3-8D0B-0E28862F24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ční podpora odpovědnostního řízení v oblasti hodnotový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koly odpovědnostního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rozčlenit hodnotové informace podle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vývoj nákladů, výnosů, aktiv, závazků, příjmů, výda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zobrazit vztahy mezi středisky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interní výnosy a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ý je přínos střediska k výsledkům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jádřit přímo v účetním systému rozdíly či odchylk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je příčinou a kdo je zodpovědný za rozdíly skutečnosti oproti očekávanému stav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E1841-BBA3-46B4-A484-A2DB676723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kturální předpoklady odpovědnostního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řešení organizační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ovení míry centralizace a decentraliza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tvoření ekonomické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FDD4B-8774-4482-8002-0A932A63C4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ční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ěcnou náplň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vků podnikové struktury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nim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organizační struktury urču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rizontální vztah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ělba činností a kooper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dmětné uspořádání (od nákupu po prodej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chnologické uspořádání (specializace činností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ertikální vztahy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zložení 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8D6AC-4170-4326-95C2-04AF567DAE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e)centralizace řízení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působ řízení podniku, kdy rozhodovací pravomoc i odpovědnost je soustředěna na vrcholové úrovni řízení; nižší úrovně řízení mají pouze výkonné funk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esné, včasné, kvalitní a hospodárné splnění příkaz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rektivní nástroje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vážně naturální kritéria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odchylek od stanoveného úkolu v krátkých intervale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e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 přenášení pravomoci a odpovědnosti z nadřazené úrovně řízení na úrovně podřízené; nižší úrovně řízení disponují rozhodovacími i výkonnými funkcem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ínos k zhodnocení zdrojů (účinnosti) a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rámcových podmínek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čekává se iniciativ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jné využití hodnotových kritéri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 skutečných výsledků za delš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15FE2-7F9E-4BA1-B6B9-CEFCC1D7C0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azuje na organizační strukturu a doplňuje věcné nástroje řízení o využit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ačně účinných hodnotových nástroj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dpovědnostního řízen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rvek ekonomické struktury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středisk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y odpovědnostních středis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rozliš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kročilé rozliš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ové/výnos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ové/výnos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daj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isk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zisk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ntabilit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vestiční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nvestič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6E59E-20F9-4B87-BCAB-A370F6D631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ová, výdajová, výnosová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hospodárné vynakládá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vymezení nákladů ovlivnitelných činností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srovnání skutečné a předem stanovené výše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daj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zvyšování budoucího potenciálu firmy (vzdělávání, výzkum a vývoj, strategický marketing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převážně věcné posouzení činnosti doplněné o srovnání skutečné a předem stanovené výše náklad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ýdajů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tupují do vztahů se zákazník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vlivňují objem a strukturu prodeje (obchodní zastoupení, útvary prodeje, oddělení obchodního domu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maximalizaci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A9906-073B-45B4-A922-15F3B5979E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isková, rentabilit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řídí celý proces od nákupu, přes tvorbu výkonu po prodej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stupují do vztahů s dodavateli i zákazní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vlivňují náklady, výnosy a zisk střediska → orientace na ú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: skutečně dosažená úroveň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střešují několik nákladových a výnosových středis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blém orientace ziskových středisek: zvyšování zisku bez ohledu na výši čistého pracovního kapitálu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ázanost zdrojů ovlivňuje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ntabilitní středisko → zahrnutí čistého pracovního kapitálu (pohledávky, zásoby, závazky z obchodního styku ...) do odpovědnosti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FA078-C01D-4C25-8D13-DB839DA9E7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7:30:03Z</dcterms:created>
  <dc:creator>NOBODY</dc:creator>
  <dc:description/>
  <dc:language>en-US</dc:language>
  <cp:lastModifiedBy>NOBODY</cp:lastModifiedBy>
  <dcterms:modified xsi:type="dcterms:W3CDTF">2007-09-04T08:35:00Z</dcterms:modified>
  <cp:revision>8</cp:revision>
  <dc:subject/>
  <dc:title>Odpovědnostní účetnictví</dc:title>
</cp:coreProperties>
</file>