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EE620-71D5-4481-8583-67D413402B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A48F0-070F-4C81-B149-4FF8846B3E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33919-9100-4348-BF7F-F10592E51B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0CC75-9B5D-4C2C-BF0A-AF9A04DC69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E7B23-F509-43E9-8870-BDB04D085B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F0BC0-2EF0-4ACB-A8BD-17E233ECCC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6D69A-1AE6-44AF-8009-A1DBE49A50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F93EB-1F2A-4EC6-B46E-2169B4A8D1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8D8E5-884F-47F6-A35A-871C23FB03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89382-A8E0-4B1A-BFC4-349E184CEE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29484-717E-416D-BE92-6371E0BF7F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1CC57-1B0C-4889-80AE-204E667DED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85CF5-3258-4948-AB6B-06880AD748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Základní průřezy vnitropodnikové struktury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871560" y="4653000"/>
            <a:ext cx="2979720" cy="1512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Jedno- a dvouokruhová soustava účetních informac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DVOUOKRUHOVÁ SOUSTAV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ddělené okruhy informac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ři odlišném zobrazení v FÚ a NÚ se využívají účty rozdíl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ři záznamu informací do obou okruhů se využívají spojovací účt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EDNOOKRUHOVÁ SOUSTAV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den okruh se systematickou analytickou evidenc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ři odlišném zobrazení v FÚ a MÚ se využívají účty rozdíl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3920" y="5445000"/>
            <a:ext cx="2519280" cy="936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ÁKLADOVÉ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24040" y="4508640"/>
            <a:ext cx="2519280" cy="936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ANČNÍ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3843360" y="5324040"/>
            <a:ext cx="6480" cy="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871560" y="5427720"/>
            <a:ext cx="6480" cy="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905360" y="4148280"/>
            <a:ext cx="3745080" cy="2447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ÁKLADOVÉ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553000" y="4219560"/>
            <a:ext cx="2449440" cy="1368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FINANČNÍ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(hlavní výděl. č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5DF9B-B526-4DE9-8D2A-96B584197D3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50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0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31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alokace nákladů na drobný dlouhodobý majetek do HV (zadání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útvaru Komunikace se zákazníky pořízen nábytek a počítač celkem za 276 000 Kč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účely FÚ zachyceno jako náklad běžného období (nevýznamnost položky z hlediska podnik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účely NÚ odepisováno (významnost položky z hlediska útvaru Komunikace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pis v měsíci květnu pro účely NÚ = 3 000 Kč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807EB-188A-4359-88F2-3E4E81F457E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říklad – řešení v dvouokruhové soustavě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anční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20720" y="2492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27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828720" y="2421000"/>
            <a:ext cx="1436760" cy="1152360"/>
            <a:chOff x="828720" y="2421000"/>
            <a:chExt cx="1436760" cy="1152360"/>
          </a:xfrm>
        </p:grpSpPr>
        <p:sp>
          <p:nvSpPr>
            <p:cNvPr id="207" name=""/>
            <p:cNvSpPr/>
            <p:nvPr/>
          </p:nvSpPr>
          <p:spPr>
            <a:xfrm>
              <a:off x="828720" y="2421000"/>
              <a:ext cx="1436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546200" y="24210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684360" y="2060640"/>
            <a:ext cx="18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dav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16360" y="249228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) 27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3422520" y="2421000"/>
            <a:ext cx="1440000" cy="1152360"/>
            <a:chOff x="3422520" y="2421000"/>
            <a:chExt cx="1440000" cy="1152360"/>
          </a:xfrm>
        </p:grpSpPr>
        <p:sp>
          <p:nvSpPr>
            <p:cNvPr id="212" name=""/>
            <p:cNvSpPr/>
            <p:nvPr/>
          </p:nvSpPr>
          <p:spPr>
            <a:xfrm>
              <a:off x="3422520" y="2421000"/>
              <a:ext cx="1440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141800" y="24210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3059280" y="206064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otřeba materiál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5760" y="3719520"/>
            <a:ext cx="82296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ákladové účetnictv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619280" y="49528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27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826920" y="4881600"/>
            <a:ext cx="1436760" cy="1152360"/>
            <a:chOff x="826920" y="4881600"/>
            <a:chExt cx="1436760" cy="1152360"/>
          </a:xfrm>
        </p:grpSpPr>
        <p:sp>
          <p:nvSpPr>
            <p:cNvPr id="218" name=""/>
            <p:cNvSpPr/>
            <p:nvPr/>
          </p:nvSpPr>
          <p:spPr>
            <a:xfrm>
              <a:off x="826920" y="4881600"/>
              <a:ext cx="1436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544400" y="48816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682560" y="4235400"/>
            <a:ext cx="187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ojovací účet  k nákladů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987640" y="494172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2a) 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3494160" y="4870440"/>
            <a:ext cx="1439640" cy="1152360"/>
            <a:chOff x="3494160" y="4870440"/>
            <a:chExt cx="1439640" cy="1152360"/>
          </a:xfrm>
        </p:grpSpPr>
        <p:sp>
          <p:nvSpPr>
            <p:cNvPr id="223" name=""/>
            <p:cNvSpPr/>
            <p:nvPr/>
          </p:nvSpPr>
          <p:spPr>
            <a:xfrm>
              <a:off x="3494160" y="487044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213080" y="487044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3030480" y="422100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útvaru  Komunik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626080" y="494172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2b)  27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6132600" y="4870440"/>
            <a:ext cx="1439640" cy="1152360"/>
            <a:chOff x="6132600" y="4870440"/>
            <a:chExt cx="1439640" cy="1152360"/>
          </a:xfrm>
        </p:grpSpPr>
        <p:sp>
          <p:nvSpPr>
            <p:cNvPr id="228" name=""/>
            <p:cNvSpPr/>
            <p:nvPr/>
          </p:nvSpPr>
          <p:spPr>
            <a:xfrm>
              <a:off x="6132600" y="487044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851520" y="487044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5594400" y="422100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zdíly mezi FÚ a N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0BC02-17CC-4111-9E66-7F97B168A19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řešení v jednookruhové soustavě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619280" y="3195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27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826920" y="3124080"/>
            <a:ext cx="1436760" cy="1152360"/>
            <a:chOff x="826920" y="3124080"/>
            <a:chExt cx="1436760" cy="1152360"/>
          </a:xfrm>
        </p:grpSpPr>
        <p:sp>
          <p:nvSpPr>
            <p:cNvPr id="234" name=""/>
            <p:cNvSpPr/>
            <p:nvPr/>
          </p:nvSpPr>
          <p:spPr>
            <a:xfrm>
              <a:off x="826920" y="3124080"/>
              <a:ext cx="1436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544400" y="312408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682560" y="2763720"/>
            <a:ext cx="18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dav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987640" y="319896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a) 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3494160" y="3127320"/>
            <a:ext cx="1439640" cy="1152360"/>
            <a:chOff x="3494160" y="3127320"/>
            <a:chExt cx="1439640" cy="1152360"/>
          </a:xfrm>
        </p:grpSpPr>
        <p:sp>
          <p:nvSpPr>
            <p:cNvPr id="239" name=""/>
            <p:cNvSpPr/>
            <p:nvPr/>
          </p:nvSpPr>
          <p:spPr>
            <a:xfrm>
              <a:off x="3494160" y="312732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213080" y="312732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2757600" y="247824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potřeba ma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 útv. Komunik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969160" y="3198960"/>
            <a:ext cx="11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b)  27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6475320" y="3127320"/>
            <a:ext cx="1440000" cy="1152360"/>
            <a:chOff x="6475320" y="3127320"/>
            <a:chExt cx="1440000" cy="1152360"/>
          </a:xfrm>
        </p:grpSpPr>
        <p:sp>
          <p:nvSpPr>
            <p:cNvPr id="244" name=""/>
            <p:cNvSpPr/>
            <p:nvPr/>
          </p:nvSpPr>
          <p:spPr>
            <a:xfrm>
              <a:off x="6475320" y="3127320"/>
              <a:ext cx="1440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194600" y="312732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649840" y="2478240"/>
            <a:ext cx="311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otřeba mat.             Rozdíly mezi FÚ a N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E2250-29B9-4608-A8B8-1E36370CE28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vorba systému informac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ažerského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existuj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andardní systé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formací manažerského účetnictví, jeho tvorba závisí na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rakteru činnosti podniku a stylu jeho řízení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likosti podniku, jeho struktuře a historickém vývoj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onkurenčním prostředí a pozicí podniku na trhu 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em účinného hodnotového řízení i tvorby systému MÚ je detail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poznání struktury podnikatelské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ruktura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výkonů, útvarů, činností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procesů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uvnitř podniku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kazuje na příčiny vzniku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nákladů a výnos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otázky hodnotového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 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čino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zniku nákladů a jak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ěřit přín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 prodej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Kdo je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zodpovědný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a vývoj nákladů a výnosů, aktiv a závazků, příjmů a výdajů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2A515-76E1-4C3B-9E0B-63F3BDEEB0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ákladní linie nákladového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 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čino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zniku nákladů a jak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ěřit přín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 prodej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odpověď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ko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– výsledek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účetnictví pro řízení po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linii výkon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tzv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alkulačně-výkonové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Kdo je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zodpovědný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a vývoj nákladů a výnosů, aktiv a závazků, příjmů a výdajů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odpověď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tva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prvek organizační struktury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účetnictví pro řízení po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linii odpověd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tzv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dpovědnostní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3D482-7BF0-44FE-8B4D-BF73789E323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dnikové výkony a jejich členění 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10800" bIns="10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Externí výkony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- finální výkony prodávané externím zákazníkům za tržní ce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členění: výrobky, služby, zboží, podrobněji podle skupin, druhů a jakost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dále i podle zákazníků a obchodních podmínek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říklad – mlékárenská společ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01 1 Tvarohy, 601 2 Jogurty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01 11 Tvarohy bez příchuti, 601 12 Tvarohy s příchut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01 111 Tvarohy bez příchuti ČR, 601 112 Tvarohy bez příchutí Vývoz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01 1111 Tvarohy bez příchuti ČR – supermarket Hypernov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01 1112 Tvarohy bez příchuti ČR – supermarket Omeg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CC9EB-1378-4657-BCE3-91687CA2D7A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dnikové výkony a jejich členění I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nterní výkon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sledek činnosti vnitropodnikového útvaru, který ho předává ostatním útvarům uvnitř podniku v podobě určené technologií procesu tvorby finálních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úkol NÚ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poznat hodnotové vazb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uvnitř podnik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íklad – dopravní útvar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pravní útvar najezdil v září 2007 12 000 km, z toho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) 3 000 km pro útvar Náku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) 7 000 km pro útvar Prodej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) 2 000 km pro útvar Vedení společnost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4A5B0-D9C2-4A80-94AF-9EC7DAFCC7E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411280" y="3213000"/>
            <a:ext cx="4321440" cy="3384720"/>
          </a:xfrm>
          <a:prstGeom prst="ellipse">
            <a:avLst/>
          </a:prstGeom>
          <a:solidFill>
            <a:srgbClr val="3366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DNIKATELSK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124000" y="3141720"/>
            <a:ext cx="4564080" cy="3600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nitropodnikové útvary a jejich členě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3960" y="1413000"/>
            <a:ext cx="8229600" cy="16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ždý útvar má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ymezený charakter čin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způsob, jakým se podílí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dělbě činnost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uvnitř podniku včetně rozsahu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avomoci a odpověd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erarchie a provázanost vymeze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rganizační strukturo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68360" y="3141720"/>
            <a:ext cx="4678560" cy="35258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050920" y="3213000"/>
            <a:ext cx="51850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práva a říz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trategický marke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ýzkum a vývo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invest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logistika, distribuční sí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omunikace se zákazník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říprava výro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ýrob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distribu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oprodejní služ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4000" y="4292640"/>
            <a:ext cx="1511280" cy="1297080"/>
          </a:xfrm>
          <a:prstGeom prst="rightArrow">
            <a:avLst>
              <a:gd name="adj1" fmla="val 50000"/>
              <a:gd name="adj2" fmla="val 29129"/>
            </a:avLst>
          </a:prstGeom>
          <a:solidFill>
            <a:srgbClr val="3366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378560" y="4292640"/>
            <a:ext cx="1511280" cy="1297080"/>
          </a:xfrm>
          <a:prstGeom prst="rightArrow">
            <a:avLst>
              <a:gd name="adj1" fmla="val 50000"/>
              <a:gd name="adj2" fmla="val 29129"/>
            </a:avLst>
          </a:prstGeom>
          <a:solidFill>
            <a:srgbClr val="3366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ÝNOS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372360" y="609300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5253840" y="6578280"/>
            <a:ext cx="61920" cy="38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920" bIns="-792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508720" y="3645000"/>
            <a:ext cx="122400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148360" y="4005360"/>
            <a:ext cx="158436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716360" y="4292640"/>
            <a:ext cx="201636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35640" y="4869000"/>
            <a:ext cx="1297080" cy="7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211640" y="5084640"/>
            <a:ext cx="252108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3995640" y="5229360"/>
            <a:ext cx="273708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572000" y="5373720"/>
            <a:ext cx="216072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908F0-E88F-4E14-A2DC-8F01CEE61EE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60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15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2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30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35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4500"/>
                            </p:stCondLst>
                            <p:childTnLst>
                              <p:par>
                                <p:cTn id="1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65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Členění útvarů podle charakteru činnos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tvary hlavní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bezprostředně se podílejí na tvorbě externích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ílem je přispívat k tvorbě zis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ervis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obslužné)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tv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skytují služby ostatním útvarům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ílem je pohotově zajišťovat (často specializované) interní služby s nižšími náklady než na externí zajiště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tvary správy a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abývají se správou a řízením podni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řízení nákladů je obvykle v kompetenci vlastník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peciální útv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ajišťují sociální program podniku a služby pro zaměstnanc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2D42A-F194-4BBC-A827-F9D119D9F5A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 funkční k profesní organizac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1250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 tradičního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uspořád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dniku podl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pecializovaných činnost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funkční organizace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 přechází k uspořádání podl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ces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procesní organizac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1250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c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řada věcně a časově návazných činností, které se standardně uskutečňují v daném pořadí a vedou k realizaci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1250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vorba procesu často vychází z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nalýzy potřeb zákazník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1250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ktivit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článek procesu, který je elementární příčinou vzniku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8DCEB-F9C2-4B41-9C95-708C6E92AE2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ganizace účetních informac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rozdílnost požadavk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řešených rozhodovacích úloh) uživatelů účetních informac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vlivňuj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bsah, formu a časovou orientaci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informací, které přito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zobrazují jeden podnikatelský pro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tázka: Jak vhodně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zpracováva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účetní informac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řeší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komplexní ekonomické informační systémy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ři jejich tvorbě se vychází ze dvou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koncepčních přístupů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jednookruhová soustava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účetních informac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dvouokruhová soustava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účetních informac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2EF24-F088-42A2-B558-87419F3B1B8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NOBODY</cp:lastModifiedBy>
  <dcterms:modified xsi:type="dcterms:W3CDTF">2007-09-04T08:18:43Z</dcterms:modified>
  <cp:revision>12</cp:revision>
  <dc:subject/>
  <dc:title>Snímek 1</dc:title>
</cp:coreProperties>
</file>