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D4641-3AC5-45DA-96E9-616FBC30D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29B8-8ACE-4253-858B-0766F7D85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D0D4-8FD7-44FF-8072-6BEDC7E81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0D8A3-C230-4B1A-B8FE-55A6CADDD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A887A-B7B9-4F12-8CAA-AFDDE9195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B6A90-87E4-4313-BB6F-AA8752C03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6A7F-0C3B-42EB-9DE2-D7FCE8C46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1B230-8B2A-432C-9417-911B6475B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BD37C-9254-4F35-932F-3DB19C9C6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8BB9-3EAF-4EA2-A958-257EA0DEA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366E7-0940-43EB-A11F-ABA92495E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32F46-8238-4036-8272-252890B67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39A1-7606-4B3A-AEE5-D216B74171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oda standardních nákladů a výnosů a analýza odchyl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ze změny struktury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nehomogenní produkci lze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odchylku objemu prode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měnu marže v důsledku změny objemu prodeje) rozložit n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 ze změny objemu výkonů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působenou zvýšením či snížením objemu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ze změny struktur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způsobenou změnou sortimentu prodáv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,i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,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ternativně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ze odchylku vyjádřit přes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spěvek k tržbá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de CT jsou celkové trž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B8F9D-3257-4641-A5DC-0A0FF4ADBD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a ze změny struktury vstup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řípadě možnosti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měni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 technologickém postupu tvorby výkon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měr vstup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je možné rozdělit celkovou odchylku ze změny objemu na „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čistou kvantitativní odchyl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chylku ze změny struktury vstup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poče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,vstup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průměrná cena naturální jednotky vstupů při standardní struktuře vstupů – průměrná cena naturální jednotky vstupů při skutečné struktuře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standardní spotřeba vstupů v naturálním vyjádření –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ůměrná cena naturální jednotky vstupů při standardní struktuře vstup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97634-8AF5-4FB9-94EE-69F6AAD11C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a cíle analýzy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–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hod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é výš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jeji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četně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rozdíl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 páteří manažerského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v kalkulacích, rozpočetnictví i odpovědnostním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ystému řízení na základě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skutečných výsledk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odchylky mezi standardní a skutečnou hodnot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jetí opatř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F955F-7104-4E1B-8AFB-334597AE48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á výš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ů, ceny, zisku či naturálně vyjádřeného zdro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jednotk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kou výkonu – jednot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álního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bo „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dílčí čá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výkonu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u finálních výkonů přizpůsobovaných zákazníků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úrovně standar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áklad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neměnná po určitou dob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ěž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reálně dosažitelná úroveň při efektivním provádění činnosti v daném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de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dosažitelná při ideálním průběh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FD8FA-5A69-40D9-B613-E93F366FC6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up stanovení standard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1716120"/>
            <a:ext cx="215928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otka výrobku (1 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50668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329868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icové a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9104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88304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67540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1787400"/>
            <a:ext cx="431640" cy="432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1341360"/>
            <a:ext cx="18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veličiny vyjádřeny na 1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20880"/>
            <a:ext cx="3240000" cy="17287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my spotřeby materiál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. cen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 spotřeby ča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mzdový tar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tiv spotřeby stroj. hod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výše var.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883040"/>
            <a:ext cx="324000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fixních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7560" y="517212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5" idx="2"/>
            <a:endCxn id="173" idx="0"/>
          </p:cNvCxnSpPr>
          <p:nvPr/>
        </p:nvCxnSpPr>
        <p:spPr>
          <a:xfrm flipH="1">
            <a:off x="2376000" y="2290320"/>
            <a:ext cx="2196000" cy="43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7" name=""/>
          <p:cNvCxnSpPr>
            <a:stCxn id="165" idx="2"/>
            <a:endCxn id="166" idx="0"/>
          </p:cNvCxnSpPr>
          <p:nvPr/>
        </p:nvCxnSpPr>
        <p:spPr>
          <a:xfrm>
            <a:off x="4572000" y="2290680"/>
            <a:ext cx="1728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8" name=""/>
          <p:cNvCxnSpPr>
            <a:stCxn id="166" idx="2"/>
            <a:endCxn id="167" idx="0"/>
          </p:cNvCxnSpPr>
          <p:nvPr/>
        </p:nvCxnSpPr>
        <p:spPr>
          <a:xfrm>
            <a:off x="6298920" y="308124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9" name=""/>
          <p:cNvCxnSpPr>
            <a:stCxn id="167" idx="2"/>
            <a:endCxn id="168" idx="0"/>
          </p:cNvCxnSpPr>
          <p:nvPr/>
        </p:nvCxnSpPr>
        <p:spPr>
          <a:xfrm>
            <a:off x="6298920" y="3873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0" name=""/>
          <p:cNvCxnSpPr>
            <a:stCxn id="168" idx="2"/>
            <a:endCxn id="169" idx="0"/>
          </p:cNvCxnSpPr>
          <p:nvPr/>
        </p:nvCxnSpPr>
        <p:spPr>
          <a:xfrm>
            <a:off x="6298920" y="4665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1" name=""/>
          <p:cNvCxnSpPr>
            <a:stCxn id="169" idx="2"/>
            <a:endCxn id="170" idx="0"/>
          </p:cNvCxnSpPr>
          <p:nvPr/>
        </p:nvCxnSpPr>
        <p:spPr>
          <a:xfrm>
            <a:off x="6298920" y="545796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2" name=""/>
          <p:cNvCxnSpPr>
            <a:stCxn id="174" idx="3"/>
            <a:endCxn id="169" idx="1"/>
          </p:cNvCxnSpPr>
          <p:nvPr/>
        </p:nvCxnSpPr>
        <p:spPr>
          <a:xfrm>
            <a:off x="3995640" y="5169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3" name=""/>
          <p:cNvCxnSpPr>
            <a:stCxn id="173" idx="3"/>
            <a:endCxn id="167" idx="1"/>
          </p:cNvCxnSpPr>
          <p:nvPr/>
        </p:nvCxnSpPr>
        <p:spPr>
          <a:xfrm>
            <a:off x="3995640" y="3585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0462-5B63-4A42-9683-EC024F02D1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působy zjišťování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led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bdobí se v M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ledují skutečn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jištění odchy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robíhá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ní možné pružně reagovat na vznik odchyl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tížná identifikace příčin vzniku a odpovědnosti za vz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ormace o skutečných nákladech výkonů lze získat až po skončen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ž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již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i zobr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u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ddělena předem stanovená výše a odchylka skuteč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tzv. rozdílové metody říze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žnost okamžité analýzy a reakce na zjištěné odchyl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ročnější na informační systé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yužívá se zejména u jednicových nákladů a prodejních c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018F-6ED8-4DA6-9D07-C787A9F17D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znik odchylek je možné analyzovat v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 podle potře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krétní pravidla a metodické postup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i stanovuje podn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ýza a zjišťování odchylek většinou vychází ze základních faktorů ovlivňujících zis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m prod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dejní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ruktura prodaných výkonů při nehomogenních výkonech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868A8-48A7-49D5-9345-91B0E2FA79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prodejní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9720" y="1700280"/>
            <a:ext cx="5372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Odchylku prodejní ceny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4724280"/>
            <a:ext cx="3672000" cy="136872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á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tandardní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ý objem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F7FB9-3D1F-4AA6-BD15-FAD6F8CBF7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43498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variabil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0440" y="1413000"/>
            <a:ext cx="4364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fix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cel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/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365720"/>
            <a:ext cx="4897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 variabilní náklady na jednotku standard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variabilní náklady na jednotku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tandardní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skutečn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0C7E5-D5EA-4313-A1DE-48E2039617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objemu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8828280" cy="29512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liv objemu výkonů na zisk se projev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měnou marže. Odchylka objemu prodeje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se zji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uto odchylku lze dále rozložit na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a) relativní úsporu fixní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b) vliv zisku z prodej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z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365720"/>
            <a:ext cx="8785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marže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zisk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celkové fixní náklady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kutečn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A35E3-EDA5-4922-8E0B-51D6E4A3AC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6:44Z</dcterms:modified>
  <cp:revision>15</cp:revision>
  <dc:subject/>
  <dc:title>Snímek 1</dc:title>
</cp:coreProperties>
</file>