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C830-5E05-4EA7-8F71-FDC872D5D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59E11-8AB5-4ABE-B44A-5CC831E5C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227B3-5206-45FD-912C-2F4AAB310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7D457-A6AF-482A-9FAA-125BAB964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BFDA0-7BD4-40F2-A5DB-6330F4A85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CB98F-EB14-401D-82C6-DAC672B8F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198A8-808E-4523-93C5-BCA5447E4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7F6D-CF55-4736-9CB0-DA9FF8C9D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0C561-157B-41C3-8741-AB3715F08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432E-7B41-4554-8560-4024DDAEA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BD833-BB37-4FB5-90C6-65C61E4C3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65E96-BA1B-42DA-A98E-2D210BD2C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D569-9817-4411-BE5D-A498E303717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avení rozpočtu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systému plánů a rozpočt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předběžné kalkulac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ozpočtu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55720"/>
            <a:ext cx="66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edběžná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5040" y="2293920"/>
          <a:ext cx="7682040" cy="1095480"/>
        </p:xfrm>
        <a:graphic>
          <a:graphicData uri="http://schemas.openxmlformats.org/drawingml/2006/table">
            <a:tbl>
              <a:tblPr/>
              <a:tblGrid>
                <a:gridCol w="2784600"/>
                <a:gridCol w="48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 * předem stanovené oceně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6920" y="4014720"/>
            <a:ext cx="4703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ozpočet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2560" y="4508640"/>
          <a:ext cx="7634160" cy="1095120"/>
        </p:xfrm>
        <a:graphic>
          <a:graphicData uri="http://schemas.openxmlformats.org/drawingml/2006/table">
            <a:tbl>
              <a:tblPr/>
              <a:tblGrid>
                <a:gridCol w="2704680"/>
                <a:gridCol w="492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běžná kalkulace*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tivy * vztahové velič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im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1280" y="2276640"/>
            <a:ext cx="76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7584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0" idx="1"/>
            <a:endCxn id="211" idx="1"/>
          </p:cNvCxnSpPr>
          <p:nvPr/>
        </p:nvCxnSpPr>
        <p:spPr>
          <a:xfrm flipH="1" flipV="1" rot="10800000">
            <a:off x="610200" y="2484000"/>
            <a:ext cx="73800" cy="2186640"/>
          </a:xfrm>
          <a:prstGeom prst="bentConnector3">
            <a:avLst>
              <a:gd name="adj1" fmla="val -31274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8317080" y="2852640"/>
            <a:ext cx="215640" cy="2232000"/>
          </a:xfrm>
          <a:custGeom>
            <a:avLst/>
            <a:gdLst/>
            <a:ahLst/>
            <a:rect l="l" t="t" r="r" b="b"/>
            <a:pathLst>
              <a:path w="136" h="1406">
                <a:moveTo>
                  <a:pt x="0" y="1406"/>
                </a:moveTo>
                <a:lnTo>
                  <a:pt x="136" y="1406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213000"/>
            <a:ext cx="502920" cy="2232000"/>
          </a:xfrm>
          <a:custGeom>
            <a:avLst/>
            <a:gdLst/>
            <a:ahLst/>
            <a:rect l="l" t="t" r="r" b="b"/>
            <a:pathLst>
              <a:path w="317" h="1451">
                <a:moveTo>
                  <a:pt x="0" y="1451"/>
                </a:moveTo>
                <a:lnTo>
                  <a:pt x="317" y="1451"/>
                </a:ln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0D77-CA62-4B41-94AB-F78CE5EF9E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ické otázky sestavení rozpočtu režijních nákladů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ktu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ve vazbě na druhové a účelové členě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lišují se prvotní a druhotn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ody stanov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ovaných nákladů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působ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07F68-6D2E-49C3-89B9-1129135966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stanovení rozpočtovaných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úda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sestavení rozpoč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údajů o skutečnosti minulý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tavení rozpočtu od nulového zák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zprac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tních údaj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exní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kladem je věcná analýza nákladové s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tematicko – statistické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cký rozbor a extrapo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stanov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ilní náklady – normativy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chodiskem je určení vztahových veličin, na které je vázána úroveň nákladového úko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ní náklady - lim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708C-F876-4C05-8E23-9186C7B974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dodržení rozpočt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ravidelné a včas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a předem stanoveného vývoje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tění a vyhodnoc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opat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eálně stanovený úk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ý vývoj podmínek v průběhu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y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třednictvím interních výnosů a výsledku hospodaře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viz Kapitola 9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vnání skutečných a rozpočtovaných nákladů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8D898-D7DA-4C5C-8748-61F6AD20AB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rozpočtu režijních nákladů mimo účet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vnéh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e schváleným rozpočte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de není vymezený nebo měřitelný výk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ího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ariabilní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mět přepočtu pouze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terá ne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eárně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eškerý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mětem přepočtu i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hodné u středisek, která 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48BF3-2943-4FEC-9DA9-4D0FB42B7A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jení systému informací nákladového účetnictví (shrnut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7080" y="2706840"/>
            <a:ext cx="2158920" cy="1944000"/>
            <a:chOff x="2197080" y="2706840"/>
            <a:chExt cx="2158920" cy="1944000"/>
          </a:xfrm>
        </p:grpSpPr>
        <p:grpSp>
          <p:nvGrpSpPr>
            <p:cNvPr id="225" name=""/>
            <p:cNvGrpSpPr/>
            <p:nvPr/>
          </p:nvGrpSpPr>
          <p:grpSpPr>
            <a:xfrm>
              <a:off x="2412720" y="3427200"/>
              <a:ext cx="1800360" cy="1223640"/>
              <a:chOff x="2412720" y="3427200"/>
              <a:chExt cx="1800360" cy="122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412720" y="34272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9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97080" y="2706840"/>
              <a:ext cx="2158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utečné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3080" y="2706840"/>
            <a:ext cx="2521080" cy="1944000"/>
            <a:chOff x="4213080" y="2706840"/>
            <a:chExt cx="2521080" cy="1944000"/>
          </a:xfrm>
        </p:grpSpPr>
        <p:grpSp>
          <p:nvGrpSpPr>
            <p:cNvPr id="230" name=""/>
            <p:cNvGrpSpPr/>
            <p:nvPr/>
          </p:nvGrpSpPr>
          <p:grpSpPr>
            <a:xfrm>
              <a:off x="4429080" y="3427200"/>
              <a:ext cx="1800000" cy="1223640"/>
              <a:chOff x="4429080" y="3427200"/>
              <a:chExt cx="1800000" cy="1223640"/>
            </a:xfrm>
          </p:grpSpPr>
          <p:sp>
            <p:nvSpPr>
              <p:cNvPr id="231" name=""/>
              <p:cNvSpPr/>
              <p:nvPr/>
            </p:nvSpPr>
            <p:spPr>
              <a:xfrm>
                <a:off x="4429080" y="3427200"/>
                <a:ext cx="180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5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13080" y="2706840"/>
              <a:ext cx="252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em stan.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7080" y="3714840"/>
            <a:ext cx="574560" cy="863280"/>
            <a:chOff x="2197080" y="3714840"/>
            <a:chExt cx="574560" cy="863280"/>
          </a:xfrm>
        </p:grpSpPr>
        <p:sp>
          <p:nvSpPr>
            <p:cNvPr id="235" name=""/>
            <p:cNvSpPr/>
            <p:nvPr/>
          </p:nvSpPr>
          <p:spPr>
            <a:xfrm>
              <a:off x="2197080" y="371484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3930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7080" y="4362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457812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1640" y="39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465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37440" y="2490840"/>
            <a:ext cx="1582560" cy="2374920"/>
            <a:chOff x="7237440" y="2490840"/>
            <a:chExt cx="1582560" cy="2374920"/>
          </a:xfrm>
        </p:grpSpPr>
        <p:sp>
          <p:nvSpPr>
            <p:cNvPr id="242" name=""/>
            <p:cNvSpPr/>
            <p:nvPr/>
          </p:nvSpPr>
          <p:spPr>
            <a:xfrm>
              <a:off x="7237440" y="249084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běžn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alkul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ýkon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37440" y="385776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zpoč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áklad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dp. středis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597800" y="2849400"/>
              <a:ext cx="863640" cy="1657440"/>
              <a:chOff x="7597800" y="2849400"/>
              <a:chExt cx="863640" cy="1657440"/>
            </a:xfrm>
          </p:grpSpPr>
          <p:sp>
            <p:nvSpPr>
              <p:cNvPr id="245" name=""/>
              <p:cNvSpPr/>
              <p:nvPr/>
            </p:nvSpPr>
            <p:spPr>
              <a:xfrm>
                <a:off x="759780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108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80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108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49" name=""/>
            <p:cNvCxnSpPr>
              <a:stCxn id="247" idx="2"/>
              <a:endCxn id="245" idx="0"/>
            </p:cNvCxnSpPr>
            <p:nvPr/>
          </p:nvCxnSpPr>
          <p:spPr>
            <a:xfrm>
              <a:off x="7778520" y="349848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0"/>
              <a:endCxn id="248" idx="2"/>
            </p:cNvCxnSpPr>
            <p:nvPr/>
          </p:nvCxnSpPr>
          <p:spPr>
            <a:xfrm flipV="1">
              <a:off x="8281440" y="349812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1" name=""/>
          <p:cNvSpPr/>
          <p:nvPr/>
        </p:nvSpPr>
        <p:spPr>
          <a:xfrm>
            <a:off x="3781440" y="4075200"/>
            <a:ext cx="115236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3080" y="3859200"/>
            <a:ext cx="792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VP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0" idx="2"/>
            <a:endCxn id="252" idx="2"/>
          </p:cNvCxnSpPr>
          <p:nvPr/>
        </p:nvCxnSpPr>
        <p:spPr>
          <a:xfrm flipH="1" flipV="1" rot="5400000">
            <a:off x="4453560" y="3421440"/>
            <a:ext cx="168840" cy="3024720"/>
          </a:xfrm>
          <a:prstGeom prst="bentConnector3">
            <a:avLst>
              <a:gd name="adj1" fmla="val -135683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24360" y="3571920"/>
            <a:ext cx="2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41800" y="2994480"/>
            <a:ext cx="1295640" cy="1368000"/>
            <a:chOff x="5941800" y="2994480"/>
            <a:chExt cx="1295640" cy="1368000"/>
          </a:xfrm>
        </p:grpSpPr>
        <p:cxnSp>
          <p:nvCxnSpPr>
            <p:cNvPr id="256" name=""/>
            <p:cNvCxnSpPr>
              <a:stCxn id="243" idx="1"/>
              <a:endCxn id="252" idx="3"/>
            </p:cNvCxnSpPr>
            <p:nvPr/>
          </p:nvCxnSpPr>
          <p:spPr>
            <a:xfrm flipH="1" flipV="1">
              <a:off x="6444720" y="4354200"/>
              <a:ext cx="792720" cy="8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2" idx="1"/>
              <a:endCxn id="254" idx="3"/>
            </p:cNvCxnSpPr>
            <p:nvPr/>
          </p:nvCxnSpPr>
          <p:spPr>
            <a:xfrm flipV="1" rot="10800000">
              <a:off x="5941440" y="2994480"/>
              <a:ext cx="1296000" cy="685080"/>
            </a:xfrm>
            <a:prstGeom prst="bentConnector3">
              <a:avLst>
                <a:gd name="adj1" fmla="val 249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2773440" y="2131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Účetnictví pro říz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2635200"/>
            <a:ext cx="144144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sled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2" idx="0"/>
            <a:endCxn id="259" idx="0"/>
          </p:cNvCxnSpPr>
          <p:nvPr/>
        </p:nvCxnSpPr>
        <p:spPr>
          <a:xfrm rot="5400000">
            <a:off x="4465080" y="-929880"/>
            <a:ext cx="144720" cy="6984000"/>
          </a:xfrm>
          <a:prstGeom prst="bentConnector3">
            <a:avLst>
              <a:gd name="adj1" fmla="val -5441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1"/>
            <a:endCxn id="259" idx="3"/>
          </p:cNvCxnSpPr>
          <p:nvPr/>
        </p:nvCxnSpPr>
        <p:spPr>
          <a:xfrm rot="10800000">
            <a:off x="1766160" y="3174120"/>
            <a:ext cx="1005480" cy="940680"/>
          </a:xfrm>
          <a:prstGeom prst="bentConnector3">
            <a:avLst>
              <a:gd name="adj1" fmla="val 498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52720" y="2060640"/>
            <a:ext cx="4681440" cy="3672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8113E-4DFF-4FE4-9774-709CD5A783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vantifik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é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ý objem a strukturu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ytvořených a prodaných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dnik jako ce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 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erarchicky nižší úrove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zen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tředisk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pokládaných změná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procesu tvorby výkonů a prodeje zákazníků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je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ový rozpoč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aster Budg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výsledov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et peněžních to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rozvah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FBD8-0138-42F0-A2D7-2E90FA8C4C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 sestavení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nikového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ako nástro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ealiz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strategické plány a rozpočty a objektivně existující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ezagreg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ového rozpočt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a dílčí cíle a úkoly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vymezení pravomoci a odpovědnosti středise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účinno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plnění cílů rozpočtů závisí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ováza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 ostatními nástroj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motivačním působ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chování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počet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a neúčin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kud je pouze „rozpisem“ vrcholových ukazatelů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ez respektování výv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mínek na trh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 ovlivnitel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kolů řídicími praco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D2DE-7C57-4F4D-9D36-E9EBF1168B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kce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ují cí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né období v návaznosti na strategické cí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izace (naplnění) dlouhodobých rozpočtů s možností reakce na měnící se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ují či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ek uvnitř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munikace uvnitř podniku a schopnost předem identifikovat konflik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 pracovníky k dosažení úkolů v souladu s cíli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ůsobení na chování a motivaci řídicích pracov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sou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vývoje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ní skutečného průběhu s předem stanovenou výš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vý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nnosti středisek a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ěření výkonnost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55BE-EEF3-41BB-AEFD-017D62CA70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rátkodobých rozpočt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bdobí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en r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dělení na 12 měsíců nebo 13 čtyřtýdenní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počty na další čtvrtletí mohou být průběžně zpřesňová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louzavé rozpočt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ůběžná aktualizace rozpočtu (obvykle po čtvrtletích) spojená s doplněním údajů pro dal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vazující čtvrtle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hodnocování výsledk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po měsíci nebo po čtyřech týd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126A-989A-4554-ADEF-10B9F6B95E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 sestavování rozpoč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ým pro sestavení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ým na úrovni vrcholového řízení složený z řídicích pracovníků ze všech oblastí čin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ajistit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reá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ů a dostatečnou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koordin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controlling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pracová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ostupů a metod sestav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včetně urč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časového harmonogram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stavování;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polupráce s řídicími pracovní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 jejich sestavování (poradenská a administrativní funk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dpovědnost za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 včasnou příprav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ci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zpracování návrh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střediska (ve spolupráci s oddělením controllingu), jeho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řípadné přeprac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8FBCF-0FE3-46DC-8586-E9E4C9D4AC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ové politi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a základních směrů vývoje  jeho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livněno změnami v marketingovém mixu a záměry na rozšíření či omezení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podnikové cíle a politi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faktorů,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mezují výko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ptávka na trh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pacita podniku a rychlost reakce na změ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prav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u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a – plán prodeje a předem stanovené ceny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základ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y rozpočtu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rozpočtové výsledov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vazuje na strukturu rozpočtu výnosů z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s možností jejich stupňovitého členě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FN výkonu, útvaru, správy a říze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C913-4695-46B9-8A95-F25AFCD425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vní (výchozí) etap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pravy rozpočt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zí přístup – „bottom-up“, tj. proces sestavení postupuje od návrhů nejnižší úrovně řízení ke koordinaci a doladění na vyšších úrovní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aždý řídicí pracovník sestavuje návrh rozpočtu za tu oblast činnosti, za kterou je odpovědn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jednání návrhu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ka s hierarchicky vyšším stupněm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86064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Div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6021360"/>
            <a:ext cx="93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5" idx="0"/>
            <a:endCxn id="174" idx="2"/>
          </p:cNvCxnSpPr>
          <p:nvPr/>
        </p:nvCxnSpPr>
        <p:spPr>
          <a:xfrm flipV="1">
            <a:off x="2592360" y="4365720"/>
            <a:ext cx="19454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0" name=""/>
          <p:cNvCxnSpPr>
            <a:stCxn id="176" idx="0"/>
            <a:endCxn id="174" idx="2"/>
          </p:cNvCxnSpPr>
          <p:nvPr/>
        </p:nvCxnSpPr>
        <p:spPr>
          <a:xfrm flipH="1" flipV="1">
            <a:off x="4536360" y="4365720"/>
            <a:ext cx="19436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1" name=""/>
          <p:cNvCxnSpPr>
            <a:stCxn id="177" idx="0"/>
            <a:endCxn id="175" idx="2"/>
          </p:cNvCxnSpPr>
          <p:nvPr/>
        </p:nvCxnSpPr>
        <p:spPr>
          <a:xfrm flipV="1">
            <a:off x="1763640" y="5155920"/>
            <a:ext cx="82944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2" name=""/>
          <p:cNvCxnSpPr>
            <a:stCxn id="178" idx="0"/>
            <a:endCxn id="175" idx="2"/>
          </p:cNvCxnSpPr>
          <p:nvPr/>
        </p:nvCxnSpPr>
        <p:spPr>
          <a:xfrm flipH="1" flipV="1">
            <a:off x="259200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3" name=""/>
          <p:cNvCxnSpPr>
            <a:stCxn id="179" idx="0"/>
            <a:endCxn id="176" idx="2"/>
          </p:cNvCxnSpPr>
          <p:nvPr/>
        </p:nvCxnSpPr>
        <p:spPr>
          <a:xfrm flipV="1">
            <a:off x="5651280" y="5155920"/>
            <a:ext cx="829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4" name=""/>
          <p:cNvCxnSpPr>
            <a:stCxn id="180" idx="0"/>
            <a:endCxn id="176" idx="2"/>
          </p:cNvCxnSpPr>
          <p:nvPr/>
        </p:nvCxnSpPr>
        <p:spPr>
          <a:xfrm flipH="1" flipV="1">
            <a:off x="647964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5" name=""/>
          <p:cNvCxnSpPr>
            <a:stCxn id="181" idx="0"/>
            <a:endCxn id="177" idx="2"/>
          </p:cNvCxnSpPr>
          <p:nvPr/>
        </p:nvCxnSpPr>
        <p:spPr>
          <a:xfrm flipV="1">
            <a:off x="936360" y="5805000"/>
            <a:ext cx="82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6" name=""/>
          <p:cNvCxnSpPr>
            <a:stCxn id="182" idx="0"/>
            <a:endCxn id="177" idx="2"/>
          </p:cNvCxnSpPr>
          <p:nvPr/>
        </p:nvCxnSpPr>
        <p:spPr>
          <a:xfrm flipH="1" flipV="1">
            <a:off x="1762920" y="5805000"/>
            <a:ext cx="18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7" name=""/>
          <p:cNvCxnSpPr>
            <a:stCxn id="183" idx="0"/>
            <a:endCxn id="178" idx="2"/>
          </p:cNvCxnSpPr>
          <p:nvPr/>
        </p:nvCxnSpPr>
        <p:spPr>
          <a:xfrm flipV="1">
            <a:off x="2952360" y="5805000"/>
            <a:ext cx="46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8" name=""/>
          <p:cNvCxnSpPr>
            <a:stCxn id="184" idx="0"/>
            <a:endCxn id="178" idx="2"/>
          </p:cNvCxnSpPr>
          <p:nvPr/>
        </p:nvCxnSpPr>
        <p:spPr>
          <a:xfrm flipH="1" flipV="1">
            <a:off x="3418920" y="5805000"/>
            <a:ext cx="54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9" name=""/>
          <p:cNvCxnSpPr>
            <a:stCxn id="185" idx="0"/>
            <a:endCxn id="179" idx="2"/>
          </p:cNvCxnSpPr>
          <p:nvPr/>
        </p:nvCxnSpPr>
        <p:spPr>
          <a:xfrm flipV="1">
            <a:off x="5111640" y="5805000"/>
            <a:ext cx="540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0" name=""/>
          <p:cNvCxnSpPr>
            <a:stCxn id="186" idx="0"/>
            <a:endCxn id="179" idx="2"/>
          </p:cNvCxnSpPr>
          <p:nvPr/>
        </p:nvCxnSpPr>
        <p:spPr>
          <a:xfrm flipH="1" flipV="1">
            <a:off x="5651280" y="5805000"/>
            <a:ext cx="468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7" idx="0"/>
            <a:endCxn id="180" idx="2"/>
          </p:cNvCxnSpPr>
          <p:nvPr/>
        </p:nvCxnSpPr>
        <p:spPr>
          <a:xfrm flipV="1">
            <a:off x="7128000" y="5805000"/>
            <a:ext cx="180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8" idx="0"/>
            <a:endCxn id="180" idx="2"/>
          </p:cNvCxnSpPr>
          <p:nvPr/>
        </p:nvCxnSpPr>
        <p:spPr>
          <a:xfrm flipH="1" flipV="1">
            <a:off x="7306920" y="5805000"/>
            <a:ext cx="8294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09439-1EC8-4721-9EA9-31BB6791FA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ace a přeprac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ů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 – ověřit vztahy mezi rozpočty z hlediska návaznosti a sou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ípadný návrh změny rozpočtu by měl předložit pracovník, který sestavoval původní návr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apa se může i několikrát opakova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a schvál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lková koordinace završená sestavením rozpočtové výsledovky za podnik jako cele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FBACE-7EAD-469C-A031-6FA11FF82C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5:35Z</dcterms:modified>
  <cp:revision>7</cp:revision>
  <dc:subject/>
  <dc:title>Snímek 1</dc:title>
</cp:coreProperties>
</file>