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4CB44-14D4-4C12-84C0-3F4F0B11A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09E9D-AC5F-42D7-8DCD-3D1AD2EFA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1E418-F348-439F-98B7-21DC30267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00601-0947-4385-893F-281628433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220B6-D8A2-4801-AD49-3D99C3109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5A7D4-FD89-4B27-9ECC-792762D12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D1E9-5C57-499A-8B0E-E0F57278A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49D1E-D7F5-4235-9AEC-6AD79F308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7C7CB-1B67-475B-9455-3577C9FBD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0BF63-74C1-40C5-ABB3-209A6F134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CB944-C231-4D08-950D-BB30384A8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49713-0B63-4295-85AC-7123030C8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06F4-60DE-4BF9-8ED4-782F98CD93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ční nástroje pro řízení po linii výkon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okační fá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metod alokace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ách mezi útva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ání nákladů probíhá v řadě na sebe navazující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lokačních fáz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st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ní fáze: přiřaz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ktu alok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je vyvol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jednice výkonu, druh výkonu, útvar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azné fáze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rozděl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objek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cíle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přerozdělit náklady útvarů servisní činnosti na ostat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přerozdělit náklady útvarů hlavní činnosti na externí výko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příp. přiřadit náklady útvarů správy a řízení útvarům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pokladem je správné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ílů jednotlivých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DF572-E78A-4FC6-9246-922D238F61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ční fáze v softwarové firm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ční struktura fir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voj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mplementace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budov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sítě a údržba hardware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a řízení – sprá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ce o vztazích mezi útvary pro alokac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3560760"/>
          <a:ext cx="8229600" cy="2351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933560"/>
                <a:gridCol w="1820880"/>
              </a:tblGrid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Út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díl na pronaj. prostorá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ráce správy sí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římé prá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voj softw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mplementace softw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práva budov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sít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a řízení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52520" y="5965920"/>
            <a:ext cx="79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správu a řízení se alokují na útvary hlavní činnosti podle hodin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6CF05-BD9F-433E-AF14-E26CB36BDD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84320" y="3333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bud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1360" y="15717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sí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8360" y="3911760"/>
            <a:ext cx="1800360" cy="50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2656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49960" y="42512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2520" y="833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7 2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6" idx="2"/>
            <a:endCxn id="198" idx="1"/>
          </p:cNvCxnSpPr>
          <p:nvPr/>
        </p:nvCxnSpPr>
        <p:spPr>
          <a:xfrm>
            <a:off x="1982880" y="1197000"/>
            <a:ext cx="1969200" cy="14515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199" name=""/>
          <p:cNvCxnSpPr>
            <a:stCxn id="196" idx="2"/>
            <a:endCxn id="200" idx="1"/>
          </p:cNvCxnSpPr>
          <p:nvPr/>
        </p:nvCxnSpPr>
        <p:spPr>
          <a:xfrm>
            <a:off x="1982520" y="1197000"/>
            <a:ext cx="2626200" cy="37965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95280" y="47703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3 5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1360" y="20764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8 4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08360" y="44164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5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9960" y="475632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2 45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1360" y="24652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0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1360" y="285444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9 4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5160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1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540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4 7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08360" y="4809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72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08360" y="51991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94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49960" y="51465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 2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49960" y="5533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792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9245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20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49960" y="59212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95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08360" y="5587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4 16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196" idx="2"/>
          </p:cNvCxnSpPr>
          <p:nvPr/>
        </p:nvCxnSpPr>
        <p:spPr>
          <a:xfrm>
            <a:off x="1982880" y="1197000"/>
            <a:ext cx="4534560" cy="2167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5" name=""/>
          <p:cNvCxnSpPr>
            <a:endCxn id="209" idx="1"/>
          </p:cNvCxnSpPr>
          <p:nvPr/>
        </p:nvCxnSpPr>
        <p:spPr>
          <a:xfrm>
            <a:off x="6516360" y="1413000"/>
            <a:ext cx="633960" cy="3916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6" name=""/>
          <p:cNvCxnSpPr>
            <a:stCxn id="205" idx="2"/>
            <a:endCxn id="207" idx="3"/>
          </p:cNvCxnSpPr>
          <p:nvPr/>
        </p:nvCxnSpPr>
        <p:spPr>
          <a:xfrm flipH="1">
            <a:off x="2194920" y="3218040"/>
            <a:ext cx="2656440" cy="25056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7" name=""/>
          <p:cNvCxnSpPr>
            <a:stCxn id="205" idx="2"/>
            <a:endCxn id="208" idx="1"/>
          </p:cNvCxnSpPr>
          <p:nvPr/>
        </p:nvCxnSpPr>
        <p:spPr>
          <a:xfrm rot="5400000">
            <a:off x="3647160" y="4178160"/>
            <a:ext cx="2164320" cy="243720"/>
          </a:xfrm>
          <a:prstGeom prst="curvedConnector5">
            <a:avLst>
              <a:gd name="adj1" fmla="val 23240"/>
              <a:gd name="adj2" fmla="val 97041"/>
              <a:gd name="adj3" fmla="val 23240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8" name=""/>
          <p:cNvCxnSpPr>
            <a:stCxn id="205" idx="2"/>
          </p:cNvCxnSpPr>
          <p:nvPr/>
        </p:nvCxnSpPr>
        <p:spPr>
          <a:xfrm>
            <a:off x="4851360" y="3218040"/>
            <a:ext cx="1737360" cy="559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9" name=""/>
          <p:cNvCxnSpPr>
            <a:endCxn id="210" idx="1"/>
          </p:cNvCxnSpPr>
          <p:nvPr/>
        </p:nvCxnSpPr>
        <p:spPr>
          <a:xfrm>
            <a:off x="6587640" y="3789000"/>
            <a:ext cx="562680" cy="1927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95280" y="63118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2 66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49960" y="632160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1 441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3" idx="2"/>
            <a:endCxn id="211" idx="3"/>
          </p:cNvCxnSpPr>
          <p:nvPr/>
        </p:nvCxnSpPr>
        <p:spPr>
          <a:xfrm rot="5400000">
            <a:off x="3773880" y="4372560"/>
            <a:ext cx="155880" cy="331380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3" name=""/>
          <p:cNvCxnSpPr>
            <a:stCxn id="213" idx="2"/>
            <a:endCxn id="212" idx="1"/>
          </p:cNvCxnSpPr>
          <p:nvPr/>
        </p:nvCxnSpPr>
        <p:spPr>
          <a:xfrm flipH="1" rot="16200000">
            <a:off x="6252120" y="5206680"/>
            <a:ext cx="153000" cy="164196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356000" y="404640"/>
            <a:ext cx="2305080" cy="576360"/>
          </a:xfrm>
          <a:prstGeom prst="wedgeRoundRectCallout">
            <a:avLst>
              <a:gd name="adj1" fmla="val -48898"/>
              <a:gd name="adj2" fmla="val 92699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7 200 000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podíl na pronajaté ploš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38920" y="2637000"/>
            <a:ext cx="2305080" cy="576000"/>
          </a:xfrm>
          <a:prstGeom prst="wedgeRoundRectCallout">
            <a:avLst>
              <a:gd name="adj1" fmla="val -74722"/>
              <a:gd name="adj2" fmla="val 114736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9 480 000 / 1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6243480"/>
            <a:ext cx="2447640" cy="576360"/>
          </a:xfrm>
          <a:prstGeom prst="wedgeRoundRectCallout">
            <a:avLst>
              <a:gd name="adj1" fmla="val -80481"/>
              <a:gd name="adj2" fmla="val -66527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4 168 000 / 20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římé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196" idx="2"/>
            <a:endCxn id="206" idx="3"/>
          </p:cNvCxnSpPr>
          <p:nvPr/>
        </p:nvCxnSpPr>
        <p:spPr>
          <a:xfrm flipH="1" rot="16200000">
            <a:off x="15120" y="3163680"/>
            <a:ext cx="4147200" cy="213480"/>
          </a:xfrm>
          <a:prstGeom prst="curvedConnector5">
            <a:avLst>
              <a:gd name="adj1" fmla="val 47773"/>
              <a:gd name="adj2" fmla="val 103716"/>
              <a:gd name="adj3" fmla="val 47773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průřezy vnitropodnikové struktury (opakov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é jsou náklady výkonů a jak řídit jejich hospodárnos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měřit přínos z prodeje konkrétních výkon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ov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kalkulačně – výkonové)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: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(marže, ceny)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zainteresovat útvary na chování v souladu s cíli a plány podniku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včas změřit přínos útvarů k podnikovým výsledkům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snižovat režijní náklady útvar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e: plány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ozpočty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nitropodnikové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720" y="1728720"/>
            <a:ext cx="15112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9900"/>
                </a:solidFill>
                <a:latin typeface="Wingdings"/>
                <a:ea typeface="Wingdings"/>
              </a:rPr>
              <a:t>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411200"/>
            <a:ext cx="7129440" cy="237672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7E264-D6AD-42BC-8A77-D68CA54B29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ropočet) nákladů, marže, zisku, ceny neb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turálně vyjádřenou jednotku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ýrobek, práci nebo službu, na činnost nebo operaci, kterou je třeba v souvislosti s procesem tvorby výkonu provést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dit náklad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at náklady výkonu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teré náklady přiřadi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 jaké struktuře uvádět kalkulované položk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E78D1-B476-434C-9CCE-7C1CB58962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přiřazení doprav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á doprava 40 kg karotky za 30 F a 60 kg pórku za 20 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pravní náklady: 50 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ak přiřadit náklady na karotku a póre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5300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5336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5228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95264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753000" y="2852640"/>
            <a:ext cx="161928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DF2D0-C488-4B3D-94F8-80B0C8B544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kalkulace v rozhodovacích úlohách („proč“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68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hodování o změnách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a struktuře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louhodobé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základě propočtu plných nákladů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anov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hranice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ákladního a doplňkového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nitropodnikov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souzení schopnosti výkon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unést správní a strategick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y   (→ tzv. reprodukční úloh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bhajoba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ři jednání se zákazník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ceň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nitropodnikových výkonů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892840"/>
            <a:ext cx="8496000" cy="503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 univerzálně správný či špatný postup přiřazení nákladů !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3BDCA-AE86-4B92-84C1-77470101A8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mětu kalkul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nebo vybrané druhy dílčích (interních) i finálních (externích)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utno určit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 jednic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ované množs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 nákladových polož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ntní podle rozhodovacích úlo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eno v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m vzor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ování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mětu kalkul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em členění nákladů n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římé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epřím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7CC35-4C7C-4BA8-AFA6-4B67803548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přiřazová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hrnují všechny jednicové náklady (kromě sdružených výkonů) a část režijních nákladů související s druhem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dělení kalkulovaným množství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é náklady skupin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metod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dělení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poměrovými (ekvivalenčními čís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přiráž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ač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erencova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CBB96-D2E6-4665-A2AE-A2C573B9FF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y přiřazování nepřím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příčinné souvisl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aký je příčinný vztah mezi kalkulovanými náklady a výkon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únos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lik nákladů unese výkon v prodejní ceně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F006A-A92D-4990-8BE5-B4BD941571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rážková 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v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vrhové základny, klíč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yužitých rozvrhových základen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umač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rážkovou kalkulaci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yužití jedné základ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diferencovan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přirážkovou kalkulaci → využití různých rozvrhových základen podle analýzy vztahu nákladů, základen 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charakte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naturál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sazby režie (Kč / natur. j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azba režie = nepřímé režijní náklady / rozvrhová základn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eněž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přirážky v procent.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rocentní přirážka = nepřímé režijní náklady / rozvrhová základn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1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798E-A158-4794-A8ED-E2C00F1C93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2Z</dcterms:modified>
  <cp:revision>10</cp:revision>
  <dc:subject/>
  <dc:title>Snímek 1</dc:title>
</cp:coreProperties>
</file>