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84CA3D-E85E-4533-863E-0CDC00EC58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48591F-EE48-47D1-A62E-CADA32DB91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54D25A-2187-459C-8581-F24DCC1F8D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FA1D5D-C52A-4DBF-9D96-2BFE0256EA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9CE3DA-7103-49C2-84B6-D676E33483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413571-9839-4746-A6F0-C46E7BC64E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2D2927-1DE9-43CA-86C5-25582ADACF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927354-901A-4C56-9550-A7485CD92E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642ABD-6309-4400-B5A4-837FF51CC1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DAE861-A576-4C78-A076-72CE58EC49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FB3ED1-8DA3-46D9-88E5-3836E2EF59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87377D-49EA-46A0-9F97-12F1F3321A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spcAft>
                <a:spcPts val="499"/>
              </a:spcAft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spcAft>
                <a:spcPts val="499"/>
              </a:spcAft>
              <a:buSzPct val="11108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1"/>
          </p:nvPr>
        </p:nvSpPr>
        <p:spPr>
          <a:xfrm>
            <a:off x="468000" y="6248520"/>
            <a:ext cx="555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54F20-57E7-4D63-8F98-822671C0B8DB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39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ftr" idx="3"/>
          </p:nvPr>
        </p:nvSpPr>
        <p:spPr>
          <a:xfrm>
            <a:off x="468360" y="6248520"/>
            <a:ext cx="8207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Rozpoznání a zobrazení vztahů mezi útvary a pojetí výnosů v nákladovém účetnictví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cenění vztahů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 úrovni předem stanovených náklad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26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ochází k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zobrazení interních výkonů v předem stanovených náklade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zniká interní náklad (odebírajícímu útvaru)/ interní výnos (předávajícímu útvaru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interní výno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– interní kritérium uznání racionality vynaložených nákladů a prospěchu útvaru pro celopodnikové výsledk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1042920" y="3716280"/>
          <a:ext cx="7345440" cy="280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4" name="" descr=""/>
                  <p:cNvPicPr/>
                  <p:nvPr/>
                </p:nvPicPr>
                <p:blipFill>
                  <a:blip r:embed="rId2">
                    <a:alphaModFix amt="0"/>
                  </a:blip>
                  <a:stretch/>
                </p:blipFill>
                <p:spPr>
                  <a:xfrm>
                    <a:off x="1042920" y="3716280"/>
                    <a:ext cx="7345440" cy="280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obrazení vztahů mezi útva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B7F846-8943-46C6-91A8-4CA5600AA85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ředpoklady zúčtování interních výnos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jednoznačná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vymezitelnost, změřitelnost a ocenitelnost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předávaného výkon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předem stanovené ocenění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výkonů pro konkrétní obdob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vnitropodniková cena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odebírající útvar rozhoduje o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množství, kvalitě a času předání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výkonů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motivace k úsporám náklad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předání výkonu je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výnosem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dodávajícího útvaru a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ovlivnitelným nákladem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předávajícího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obrazení vztahů mezi útva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26C982-DD65-4732-BFC5-5B9E7E6EFE4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0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cenění vztahů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 úrovni předem stanovených náklad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507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ůsledky zobrazení v předem stanovených nákladec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Wingdings"/>
                <a:ea typeface="Wingdings"/>
              </a:rPr>
              <a:t>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ddělení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ravomoci a odpovědnosti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útvar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→ odpovědnostní účetnictví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Wingdings"/>
                <a:ea typeface="Wingdings"/>
              </a:rPr>
              <a:t>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e možné změřit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řínos vnitropodnikových útvar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tj. kvantifikovat výsledek hospodaře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kontrola hospodárnosti probíhá v účetním systému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Wingdings"/>
                <a:ea typeface="Wingdings"/>
              </a:rPr>
              <a:t>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účtování vztahů mezi útvary probíhá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okamžit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po uskutečnění výkon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výkon je možno ocenit v okamžiku jeho předání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Wingdings"/>
                <a:ea typeface="Wingdings"/>
              </a:rPr>
              <a:t>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ffcc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jištění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výsledné kalkulac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je nutné provést úpravami mimo účetní systé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obrazení vztahů mezi útva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A94E3B-A31A-4742-8122-0C9A88E3D11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0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říklad ARCHA – výsledek hospodaření střediska Grafik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260360" y="2278080"/>
            <a:ext cx="1224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) 1 04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) 35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) 31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468360" y="2206800"/>
            <a:ext cx="1436760" cy="1152360"/>
            <a:chOff x="468360" y="2206800"/>
            <a:chExt cx="1436760" cy="1152360"/>
          </a:xfrm>
        </p:grpSpPr>
        <p:sp>
          <p:nvSpPr>
            <p:cNvPr id="242" name=""/>
            <p:cNvSpPr/>
            <p:nvPr/>
          </p:nvSpPr>
          <p:spPr>
            <a:xfrm>
              <a:off x="468360" y="2206800"/>
              <a:ext cx="14367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185840" y="2206800"/>
              <a:ext cx="0" cy="1152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4" name=""/>
          <p:cNvSpPr/>
          <p:nvPr/>
        </p:nvSpPr>
        <p:spPr>
          <a:xfrm>
            <a:off x="324000" y="1846440"/>
            <a:ext cx="186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Ú k nákladů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700360" y="2278080"/>
            <a:ext cx="115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1) 1 045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206880" y="2206800"/>
            <a:ext cx="1439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>
            <a:off x="3924360" y="2206800"/>
            <a:ext cx="1440" cy="430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771640" y="1557360"/>
            <a:ext cx="23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jekce: Letišt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terní nákla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221440" y="2276640"/>
            <a:ext cx="100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) 31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5583240" y="2205000"/>
            <a:ext cx="1440000" cy="1152360"/>
            <a:chOff x="5583240" y="2205000"/>
            <a:chExt cx="1440000" cy="1152360"/>
          </a:xfrm>
        </p:grpSpPr>
        <p:sp>
          <p:nvSpPr>
            <p:cNvPr id="251" name=""/>
            <p:cNvSpPr/>
            <p:nvPr/>
          </p:nvSpPr>
          <p:spPr>
            <a:xfrm>
              <a:off x="5583240" y="2205000"/>
              <a:ext cx="14400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302520" y="2205000"/>
              <a:ext cx="0" cy="1152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3" name=""/>
          <p:cNvSpPr/>
          <p:nvPr/>
        </p:nvSpPr>
        <p:spPr>
          <a:xfrm>
            <a:off x="5364000" y="155736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rafika Nákla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084720" y="5229360"/>
            <a:ext cx="2664000" cy="936360"/>
          </a:xfrm>
          <a:prstGeom prst="bevel">
            <a:avLst>
              <a:gd name="adj" fmla="val 1250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) = 500Kč/hod*400ho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5) = 500Kč/hod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00ho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700360" y="3645000"/>
            <a:ext cx="115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) 2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206880" y="3573360"/>
            <a:ext cx="1439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H="1">
            <a:off x="3924360" y="3573360"/>
            <a:ext cx="1440" cy="430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771640" y="2924280"/>
            <a:ext cx="23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jekce: Letišt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terní nákla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700360" y="5013360"/>
            <a:ext cx="115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) 35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206880" y="4941720"/>
            <a:ext cx="1439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flipH="1">
            <a:off x="3924360" y="4941720"/>
            <a:ext cx="1440" cy="430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556000" y="4292640"/>
            <a:ext cx="28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jekce: Koupališt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terní nákla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700360" y="6310440"/>
            <a:ext cx="115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) 1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206880" y="6238800"/>
            <a:ext cx="1439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flipH="1">
            <a:off x="3924360" y="6238800"/>
            <a:ext cx="1440" cy="430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556000" y="5589720"/>
            <a:ext cx="28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jekce: Koupališt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terní nákla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7345440" y="2205000"/>
            <a:ext cx="1439640" cy="1152360"/>
            <a:chOff x="7345440" y="2205000"/>
            <a:chExt cx="1439640" cy="1152360"/>
          </a:xfrm>
        </p:grpSpPr>
        <p:sp>
          <p:nvSpPr>
            <p:cNvPr id="268" name=""/>
            <p:cNvSpPr/>
            <p:nvPr/>
          </p:nvSpPr>
          <p:spPr>
            <a:xfrm>
              <a:off x="7345440" y="2205000"/>
              <a:ext cx="1439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8064360" y="2205000"/>
              <a:ext cx="0" cy="1152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0" name=""/>
          <p:cNvSpPr/>
          <p:nvPr/>
        </p:nvSpPr>
        <p:spPr>
          <a:xfrm>
            <a:off x="7164360" y="155736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rafika    Interní výno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8134200" y="2276640"/>
            <a:ext cx="10098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4) 2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5) 1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 3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516720" y="2276640"/>
            <a:ext cx="1368360" cy="936360"/>
          </a:xfrm>
          <a:prstGeom prst="ellipse">
            <a:avLst/>
          </a:prstGeom>
          <a:noFill/>
          <a:ln w="316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- 1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překročen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obrazení vztahů mezi útvar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02AB37-F87E-4C53-9E6A-3C1B86365C9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0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afterEffect" fill="hold" presetClass="entr" presetID="6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35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ůvody pro využití interních kritérií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osouzení racionality vynaložených nákladů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 každé etapě tvorby výkon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znání prospěchu útvarů, které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nemají kontakt s trhe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 vnitropodnikových útvarů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nevzniká tržní zisk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žní cena je obvykl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důsledkem řady faktorů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není vhodná pro vnitřní uznání náklad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dlišnost vývoje nákladů a výnosů v průběhu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životního cyklu výkon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ětšina externích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ýnosů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římých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nákladů nepřímý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časový nesoulad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zniku nákladů a vytvoření výkon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obrazení vztahů mezi útva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AC743F-8050-441E-9A9D-8138DE6C92D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fill="hold">
                      <p:stCondLst>
                        <p:cond delay="0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1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2000"/>
                            </p:stCondLst>
                            <p:childTnLst>
                              <p:par>
                                <p:cTn id="45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3000"/>
                            </p:stCondLst>
                            <p:childTnLst>
                              <p:par>
                                <p:cTn id="45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4000"/>
                            </p:stCondLst>
                            <p:childTnLst>
                              <p:par>
                                <p:cTn id="45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5000"/>
                            </p:stCondLst>
                            <p:childTnLst>
                              <p:par>
                                <p:cTn id="46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ospodářský výsledek podniku a útvar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Z = (CV – PSNprodaných výkonů) + ∑(PSNútvaru – SKNútvaru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nebol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Z = KZ + ∑VPVHútvar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Z </a:t>
            </a: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zisk podnik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CV</a:t>
            </a: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výnosy z prodej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PSN </a:t>
            </a: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předem stanovené náklady (prodaných výkonů, útvaru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SKN</a:t>
            </a: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skutečné náklady (útvaru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KZ</a:t>
            </a: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kalkulovaný zisk z prodej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VPVH</a:t>
            </a: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vnitropodnikový výsledek hospodaření útvarů (středisek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obrazení vztahů mezi útva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CD367E-1AB4-4C7C-81C7-2953B42DFE4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0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500"/>
                            </p:stCondLst>
                            <p:childTnLst>
                              <p:par>
                                <p:cTn id="4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500"/>
                            </p:stCondLst>
                            <p:childTnLst>
                              <p:par>
                                <p:cTn id="4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7" name=""/>
          <p:cNvGrpSpPr/>
          <p:nvPr/>
        </p:nvGrpSpPr>
        <p:grpSpPr>
          <a:xfrm>
            <a:off x="611280" y="2637000"/>
            <a:ext cx="1942920" cy="791640"/>
            <a:chOff x="611280" y="2637000"/>
            <a:chExt cx="1942920" cy="791640"/>
          </a:xfrm>
        </p:grpSpPr>
        <p:sp>
          <p:nvSpPr>
            <p:cNvPr id="278" name=""/>
            <p:cNvSpPr/>
            <p:nvPr/>
          </p:nvSpPr>
          <p:spPr>
            <a:xfrm>
              <a:off x="611280" y="3068640"/>
              <a:ext cx="19429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560600" y="3068640"/>
              <a:ext cx="0" cy="360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11280" y="2637000"/>
              <a:ext cx="1942920" cy="36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xterní nákla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1" name=""/>
          <p:cNvGrpSpPr/>
          <p:nvPr/>
        </p:nvGrpSpPr>
        <p:grpSpPr>
          <a:xfrm>
            <a:off x="2987640" y="2637000"/>
            <a:ext cx="1943280" cy="791640"/>
            <a:chOff x="2987640" y="2637000"/>
            <a:chExt cx="1943280" cy="791640"/>
          </a:xfrm>
        </p:grpSpPr>
        <p:sp>
          <p:nvSpPr>
            <p:cNvPr id="282" name=""/>
            <p:cNvSpPr/>
            <p:nvPr/>
          </p:nvSpPr>
          <p:spPr>
            <a:xfrm>
              <a:off x="2987640" y="3068640"/>
              <a:ext cx="1943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937320" y="3068640"/>
              <a:ext cx="0" cy="360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987640" y="2637000"/>
              <a:ext cx="1943280" cy="36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terní výnosy (PSN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5" name=""/>
          <p:cNvGrpSpPr/>
          <p:nvPr/>
        </p:nvGrpSpPr>
        <p:grpSpPr>
          <a:xfrm>
            <a:off x="682560" y="836640"/>
            <a:ext cx="1943280" cy="791640"/>
            <a:chOff x="682560" y="836640"/>
            <a:chExt cx="1943280" cy="791640"/>
          </a:xfrm>
        </p:grpSpPr>
        <p:sp>
          <p:nvSpPr>
            <p:cNvPr id="286" name=""/>
            <p:cNvSpPr/>
            <p:nvPr/>
          </p:nvSpPr>
          <p:spPr>
            <a:xfrm>
              <a:off x="682560" y="1268280"/>
              <a:ext cx="1943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632240" y="1268280"/>
              <a:ext cx="0" cy="360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82560" y="836640"/>
              <a:ext cx="1943280" cy="36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Externí náklady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9" name=""/>
          <p:cNvGrpSpPr/>
          <p:nvPr/>
        </p:nvGrpSpPr>
        <p:grpSpPr>
          <a:xfrm>
            <a:off x="2987640" y="836640"/>
            <a:ext cx="1943280" cy="791640"/>
            <a:chOff x="2987640" y="836640"/>
            <a:chExt cx="1943280" cy="791640"/>
          </a:xfrm>
        </p:grpSpPr>
        <p:sp>
          <p:nvSpPr>
            <p:cNvPr id="290" name=""/>
            <p:cNvSpPr/>
            <p:nvPr/>
          </p:nvSpPr>
          <p:spPr>
            <a:xfrm>
              <a:off x="2987640" y="1268280"/>
              <a:ext cx="1943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937320" y="1268280"/>
              <a:ext cx="0" cy="360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987640" y="836640"/>
              <a:ext cx="1943280" cy="36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Externí výnosy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1908000" y="1413000"/>
            <a:ext cx="1800360" cy="5760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V podnik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1546200" y="2349360"/>
            <a:ext cx="24494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ředisko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1878120" y="3213000"/>
            <a:ext cx="1800000" cy="576360"/>
          </a:xfrm>
          <a:prstGeom prst="ellipse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HV středisk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568440" y="4422600"/>
            <a:ext cx="1942920" cy="792360"/>
            <a:chOff x="568440" y="4422600"/>
            <a:chExt cx="1942920" cy="792360"/>
          </a:xfrm>
        </p:grpSpPr>
        <p:sp>
          <p:nvSpPr>
            <p:cNvPr id="297" name=""/>
            <p:cNvSpPr/>
            <p:nvPr/>
          </p:nvSpPr>
          <p:spPr>
            <a:xfrm>
              <a:off x="568440" y="4854600"/>
              <a:ext cx="19429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517760" y="4854600"/>
              <a:ext cx="0" cy="360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568440" y="4422600"/>
              <a:ext cx="194292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terní nákla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771640" y="4422600"/>
            <a:ext cx="2116440" cy="792360"/>
            <a:chOff x="2771640" y="4422600"/>
            <a:chExt cx="2116440" cy="792360"/>
          </a:xfrm>
        </p:grpSpPr>
        <p:sp>
          <p:nvSpPr>
            <p:cNvPr id="301" name=""/>
            <p:cNvSpPr/>
            <p:nvPr/>
          </p:nvSpPr>
          <p:spPr>
            <a:xfrm>
              <a:off x="2771640" y="4854600"/>
              <a:ext cx="211644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894120" y="4854600"/>
              <a:ext cx="0" cy="360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771640" y="4422600"/>
              <a:ext cx="211644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terní v. (PSN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4" name=""/>
          <p:cNvSpPr/>
          <p:nvPr/>
        </p:nvSpPr>
        <p:spPr>
          <a:xfrm>
            <a:off x="1503360" y="4135320"/>
            <a:ext cx="24494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ředisko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1835280" y="5805360"/>
            <a:ext cx="1800000" cy="576360"/>
          </a:xfrm>
          <a:prstGeom prst="ellipse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HV středisk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6" name=""/>
          <p:cNvGrpSpPr/>
          <p:nvPr/>
        </p:nvGrpSpPr>
        <p:grpSpPr>
          <a:xfrm>
            <a:off x="538200" y="5359320"/>
            <a:ext cx="1942920" cy="792360"/>
            <a:chOff x="538200" y="5359320"/>
            <a:chExt cx="1942920" cy="792360"/>
          </a:xfrm>
        </p:grpSpPr>
        <p:sp>
          <p:nvSpPr>
            <p:cNvPr id="307" name=""/>
            <p:cNvSpPr/>
            <p:nvPr/>
          </p:nvSpPr>
          <p:spPr>
            <a:xfrm>
              <a:off x="538200" y="5791320"/>
              <a:ext cx="19429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487520" y="5791320"/>
              <a:ext cx="0" cy="360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38200" y="5359320"/>
              <a:ext cx="194292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xterní nákla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0" name=""/>
          <p:cNvGrpSpPr/>
          <p:nvPr/>
        </p:nvGrpSpPr>
        <p:grpSpPr>
          <a:xfrm>
            <a:off x="4672080" y="5516640"/>
            <a:ext cx="1942920" cy="792000"/>
            <a:chOff x="4672080" y="5516640"/>
            <a:chExt cx="1942920" cy="792000"/>
          </a:xfrm>
        </p:grpSpPr>
        <p:sp>
          <p:nvSpPr>
            <p:cNvPr id="311" name=""/>
            <p:cNvSpPr/>
            <p:nvPr/>
          </p:nvSpPr>
          <p:spPr>
            <a:xfrm flipV="1">
              <a:off x="5103720" y="5947920"/>
              <a:ext cx="1511280" cy="1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850000" y="5948280"/>
              <a:ext cx="0" cy="360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4672080" y="5516640"/>
              <a:ext cx="194292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    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S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4" name=""/>
          <p:cNvGrpSpPr/>
          <p:nvPr/>
        </p:nvGrpSpPr>
        <p:grpSpPr>
          <a:xfrm>
            <a:off x="6877080" y="5516640"/>
            <a:ext cx="1942920" cy="791640"/>
            <a:chOff x="6877080" y="5516640"/>
            <a:chExt cx="1942920" cy="791640"/>
          </a:xfrm>
        </p:grpSpPr>
        <p:sp>
          <p:nvSpPr>
            <p:cNvPr id="315" name=""/>
            <p:cNvSpPr/>
            <p:nvPr/>
          </p:nvSpPr>
          <p:spPr>
            <a:xfrm>
              <a:off x="6877080" y="5948280"/>
              <a:ext cx="19429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826400" y="5948280"/>
              <a:ext cx="0" cy="360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6877080" y="5516640"/>
              <a:ext cx="1942920" cy="36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xterní výnos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5435640" y="5229360"/>
            <a:ext cx="24494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Kalkulovaný zisk z prodej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258920" y="1341360"/>
            <a:ext cx="28872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1187280" y="3141720"/>
            <a:ext cx="28908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258920" y="1484280"/>
            <a:ext cx="28872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1258920" y="1628640"/>
            <a:ext cx="28872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23" name=""/>
          <p:cNvCxnSpPr>
            <a:stCxn id="319" idx="1"/>
            <a:endCxn id="320" idx="1"/>
          </p:cNvCxnSpPr>
          <p:nvPr/>
        </p:nvCxnSpPr>
        <p:spPr>
          <a:xfrm flipV="1" rot="10800000">
            <a:off x="1186560" y="1412640"/>
            <a:ext cx="72360" cy="1800720"/>
          </a:xfrm>
          <a:prstGeom prst="curvedConnector5">
            <a:avLst>
              <a:gd name="adj1" fmla="val 1213000"/>
              <a:gd name="adj2" fmla="val 49990"/>
              <a:gd name="adj3" fmla="val 1213000"/>
            </a:avLst>
          </a:prstGeom>
          <a:ln w="9360">
            <a:solidFill>
              <a:srgbClr val="ffffff"/>
            </a:solidFill>
            <a:miter/>
            <a:tailEnd len="lg" type="stealth" w="lg"/>
          </a:ln>
        </p:spPr>
      </p:cxnSp>
      <p:sp>
        <p:nvSpPr>
          <p:cNvPr id="324" name=""/>
          <p:cNvSpPr/>
          <p:nvPr/>
        </p:nvSpPr>
        <p:spPr>
          <a:xfrm>
            <a:off x="1116000" y="5934240"/>
            <a:ext cx="289080" cy="14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25" name=""/>
          <p:cNvCxnSpPr>
            <a:stCxn id="321" idx="1"/>
            <a:endCxn id="324" idx="1"/>
          </p:cNvCxnSpPr>
          <p:nvPr/>
        </p:nvCxnSpPr>
        <p:spPr>
          <a:xfrm flipV="1" rot="10800000">
            <a:off x="1115280" y="1555560"/>
            <a:ext cx="143640" cy="4450320"/>
          </a:xfrm>
          <a:prstGeom prst="curvedConnector5">
            <a:avLst>
              <a:gd name="adj1" fmla="val 800000"/>
              <a:gd name="adj2" fmla="val 49995"/>
              <a:gd name="adj3" fmla="val 800000"/>
            </a:avLst>
          </a:prstGeom>
          <a:ln w="9360">
            <a:solidFill>
              <a:srgbClr val="ffffff"/>
            </a:solidFill>
            <a:miter/>
            <a:tailEnd len="lg" type="stealth" w="lg"/>
          </a:ln>
        </p:spPr>
      </p:cxnSp>
      <p:sp>
        <p:nvSpPr>
          <p:cNvPr id="326" name=""/>
          <p:cNvSpPr/>
          <p:nvPr/>
        </p:nvSpPr>
        <p:spPr>
          <a:xfrm>
            <a:off x="4067280" y="3213000"/>
            <a:ext cx="28872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4140360" y="1413000"/>
            <a:ext cx="28872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116000" y="4997520"/>
            <a:ext cx="28908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29" name=""/>
          <p:cNvCxnSpPr>
            <a:stCxn id="326" idx="3"/>
            <a:endCxn id="328" idx="1"/>
          </p:cNvCxnSpPr>
          <p:nvPr/>
        </p:nvCxnSpPr>
        <p:spPr>
          <a:xfrm flipH="1">
            <a:off x="1115640" y="3284640"/>
            <a:ext cx="3240720" cy="1784880"/>
          </a:xfrm>
          <a:prstGeom prst="curvedConnector5">
            <a:avLst>
              <a:gd name="adj1" fmla="val -7054"/>
              <a:gd name="adj2" fmla="val 18176"/>
              <a:gd name="adj3" fmla="val -7054"/>
            </a:avLst>
          </a:prstGeom>
          <a:ln w="9360">
            <a:solidFill>
              <a:srgbClr val="ff9900"/>
            </a:solidFill>
            <a:miter/>
            <a:tailEnd len="lg" type="stealth" w="lg"/>
          </a:ln>
        </p:spPr>
      </p:cxnSp>
      <p:sp>
        <p:nvSpPr>
          <p:cNvPr id="330" name=""/>
          <p:cNvSpPr/>
          <p:nvPr/>
        </p:nvSpPr>
        <p:spPr>
          <a:xfrm>
            <a:off x="3995640" y="4997520"/>
            <a:ext cx="28908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5391000" y="6021360"/>
            <a:ext cx="28908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32" name=""/>
          <p:cNvCxnSpPr>
            <a:stCxn id="330" idx="3"/>
            <a:endCxn id="331" idx="1"/>
          </p:cNvCxnSpPr>
          <p:nvPr/>
        </p:nvCxnSpPr>
        <p:spPr>
          <a:xfrm>
            <a:off x="4284360" y="5068440"/>
            <a:ext cx="1107000" cy="1024920"/>
          </a:xfrm>
          <a:prstGeom prst="curvedConnector5">
            <a:avLst>
              <a:gd name="adj1" fmla="val 49902"/>
              <a:gd name="adj2" fmla="val 50000"/>
              <a:gd name="adj3" fmla="val 49902"/>
            </a:avLst>
          </a:prstGeom>
          <a:ln w="9360">
            <a:solidFill>
              <a:srgbClr val="ff9900"/>
            </a:solidFill>
            <a:miter/>
            <a:tailEnd len="lg" type="stealth" w="lg"/>
          </a:ln>
        </p:spPr>
      </p:cxnSp>
      <p:sp>
        <p:nvSpPr>
          <p:cNvPr id="333" name=""/>
          <p:cNvSpPr/>
          <p:nvPr/>
        </p:nvSpPr>
        <p:spPr>
          <a:xfrm>
            <a:off x="8028000" y="6093000"/>
            <a:ext cx="289080" cy="14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34" name=""/>
          <p:cNvCxnSpPr>
            <a:stCxn id="327" idx="3"/>
            <a:endCxn id="333" idx="3"/>
          </p:cNvCxnSpPr>
          <p:nvPr/>
        </p:nvCxnSpPr>
        <p:spPr>
          <a:xfrm>
            <a:off x="4429080" y="1484280"/>
            <a:ext cx="3888720" cy="4680720"/>
          </a:xfrm>
          <a:prstGeom prst="curvedConnector5">
            <a:avLst>
              <a:gd name="adj1" fmla="val 105879"/>
              <a:gd name="adj2" fmla="val 49996"/>
              <a:gd name="adj3" fmla="val 105879"/>
            </a:avLst>
          </a:prstGeom>
          <a:ln w="9360">
            <a:solidFill>
              <a:srgbClr val="ffffff"/>
            </a:solidFill>
            <a:miter/>
            <a:tailEnd len="lg" type="stealth" w="lg"/>
          </a:ln>
        </p:spPr>
      </p:cxnSp>
      <p:sp>
        <p:nvSpPr>
          <p:cNvPr id="335" name=""/>
          <p:cNvSpPr/>
          <p:nvPr/>
        </p:nvSpPr>
        <p:spPr>
          <a:xfrm>
            <a:off x="250920" y="2203560"/>
            <a:ext cx="496872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395280" y="2263680"/>
            <a:ext cx="4824360" cy="1584360"/>
          </a:xfrm>
          <a:prstGeom prst="ellipse">
            <a:avLst/>
          </a:prstGeom>
          <a:noFill/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250920" y="4005360"/>
            <a:ext cx="4752720" cy="2448000"/>
          </a:xfrm>
          <a:prstGeom prst="ellipse">
            <a:avLst/>
          </a:prstGeom>
          <a:noFill/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250920" y="333360"/>
            <a:ext cx="5473440" cy="1800360"/>
          </a:xfrm>
          <a:prstGeom prst="rect">
            <a:avLst/>
          </a:prstGeom>
          <a:blipFill rotWithShape="0">
            <a:blip r:embed="rId1">
              <a:alphaModFix amt="30000"/>
            </a:blip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4788000" y="333360"/>
            <a:ext cx="10792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34920" y="189000"/>
            <a:ext cx="8929800" cy="6480000"/>
          </a:xfrm>
          <a:prstGeom prst="rect">
            <a:avLst/>
          </a:prstGeom>
          <a:blipFill rotWithShape="0">
            <a:blip r:embed="rId2">
              <a:alphaModFix amt="30000"/>
            </a:blip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7740720" y="476280"/>
            <a:ext cx="100800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4859280" y="5043600"/>
            <a:ext cx="4033800" cy="151128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FAF080-8E1D-4122-B5E9-53BED39EEAE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0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1000"/>
                            </p:stCondLst>
                            <p:childTnLst>
                              <p:par>
                                <p:cTn id="50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2000"/>
                            </p:stCondLst>
                            <p:childTnLst>
                              <p:par>
                                <p:cTn id="512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4" dur="2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6000"/>
                            </p:stCondLst>
                            <p:childTnLst>
                              <p:par>
                                <p:cTn id="5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xit" presetID="1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slide(fromTop)" transition="out">
                                      <p:cBhvr additive="repl">
                                        <p:cTn id="521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fill="hold">
                            <p:stCondLst>
                              <p:cond delay="500"/>
                            </p:stCondLst>
                            <p:childTnLst>
                              <p:par>
                                <p:cTn id="524" nodeType="afterEffect" fill="hold" presetClass="exit" presetID="1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slide(fromTop)" transition="out">
                                      <p:cBhvr additive="repl">
                                        <p:cTn id="525" dur="20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2500"/>
                            </p:stCondLst>
                            <p:childTnLst>
                              <p:par>
                                <p:cTn id="5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0" dur="2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fill="hold">
                            <p:stCondLst>
                              <p:cond delay="4500"/>
                            </p:stCondLst>
                            <p:childTnLst>
                              <p:par>
                                <p:cTn id="53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fill="hold">
                            <p:stCondLst>
                              <p:cond delay="5500"/>
                            </p:stCondLst>
                            <p:childTnLst>
                              <p:par>
                                <p:cTn id="53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6500"/>
                            </p:stCondLst>
                            <p:childTnLst>
                              <p:par>
                                <p:cTn id="53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fill="hold">
                            <p:stCondLst>
                              <p:cond delay="7500"/>
                            </p:stCondLst>
                            <p:childTnLst>
                              <p:par>
                                <p:cTn id="54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8500"/>
                            </p:stCondLst>
                            <p:childTnLst>
                              <p:par>
                                <p:cTn id="544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6" dur="2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11500"/>
                            </p:stCondLst>
                            <p:childTnLst>
                              <p:par>
                                <p:cTn id="548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0" dur="2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fill="hold">
                            <p:stCondLst>
                              <p:cond delay="1000"/>
                            </p:stCondLst>
                            <p:childTnLst>
                              <p:par>
                                <p:cTn id="559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2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2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2000"/>
                            </p:stCondLst>
                            <p:childTnLst>
                              <p:par>
                                <p:cTn id="56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1000"/>
                            </p:stCondLst>
                            <p:childTnLst>
                              <p:par>
                                <p:cTn id="57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fill="hold">
                            <p:stCondLst>
                              <p:cond delay="2000"/>
                            </p:stCondLst>
                            <p:childTnLst>
                              <p:par>
                                <p:cTn id="581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3" dur="2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8" dur="2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fill="hold">
                            <p:stCondLst>
                              <p:cond delay="2000"/>
                            </p:stCondLst>
                            <p:childTnLst>
                              <p:par>
                                <p:cTn id="59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9" dur="2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3000"/>
                            </p:stCondLst>
                            <p:childTnLst>
                              <p:par>
                                <p:cTn id="601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3" dur="2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0" dur="2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fill="hold">
                            <p:stCondLst>
                              <p:cond delay="2000"/>
                            </p:stCondLst>
                            <p:childTnLst>
                              <p:par>
                                <p:cTn id="6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fill="hold">
                            <p:stCondLst>
                              <p:cond delay="2000"/>
                            </p:stCondLst>
                            <p:childTnLst>
                              <p:par>
                                <p:cTn id="6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7" dur="2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fill="hold">
                            <p:stCondLst>
                              <p:cond delay="4000"/>
                            </p:stCondLst>
                            <p:childTnLst>
                              <p:par>
                                <p:cTn id="6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xit" presetID="1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slide(fromTop)" transition="out">
                                      <p:cBhvr additive="repl">
                                        <p:cTn id="624" dur="2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6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27" dur="2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9" nodeType="withEffect" fill="hold" presetClass="exit" presetID="1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slide(fromTop)" transition="out">
                                      <p:cBhvr additive="repl">
                                        <p:cTn id="630" dur="2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2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33" dur="20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3" name=""/>
          <p:cNvGrpSpPr/>
          <p:nvPr/>
        </p:nvGrpSpPr>
        <p:grpSpPr>
          <a:xfrm>
            <a:off x="4573440" y="2060640"/>
            <a:ext cx="1943280" cy="791640"/>
            <a:chOff x="4573440" y="2060640"/>
            <a:chExt cx="1943280" cy="791640"/>
          </a:xfrm>
        </p:grpSpPr>
        <p:sp>
          <p:nvSpPr>
            <p:cNvPr id="344" name=""/>
            <p:cNvSpPr/>
            <p:nvPr/>
          </p:nvSpPr>
          <p:spPr>
            <a:xfrm>
              <a:off x="4573440" y="2492280"/>
              <a:ext cx="1943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523120" y="2492280"/>
              <a:ext cx="0" cy="360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573440" y="2060640"/>
              <a:ext cx="1943280" cy="36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xterní nákla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47" name=""/>
          <p:cNvGrpSpPr/>
          <p:nvPr/>
        </p:nvGrpSpPr>
        <p:grpSpPr>
          <a:xfrm>
            <a:off x="6950160" y="2060640"/>
            <a:ext cx="1942920" cy="791640"/>
            <a:chOff x="6950160" y="2060640"/>
            <a:chExt cx="1942920" cy="791640"/>
          </a:xfrm>
        </p:grpSpPr>
        <p:sp>
          <p:nvSpPr>
            <p:cNvPr id="348" name=""/>
            <p:cNvSpPr/>
            <p:nvPr/>
          </p:nvSpPr>
          <p:spPr>
            <a:xfrm>
              <a:off x="6950160" y="2492280"/>
              <a:ext cx="19429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899480" y="2492280"/>
              <a:ext cx="0" cy="360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950160" y="2060640"/>
              <a:ext cx="1942920" cy="36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terní výnosy (PSN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51" name=""/>
          <p:cNvGrpSpPr/>
          <p:nvPr/>
        </p:nvGrpSpPr>
        <p:grpSpPr>
          <a:xfrm>
            <a:off x="609480" y="189000"/>
            <a:ext cx="1943280" cy="791640"/>
            <a:chOff x="609480" y="189000"/>
            <a:chExt cx="1943280" cy="791640"/>
          </a:xfrm>
        </p:grpSpPr>
        <p:sp>
          <p:nvSpPr>
            <p:cNvPr id="352" name=""/>
            <p:cNvSpPr/>
            <p:nvPr/>
          </p:nvSpPr>
          <p:spPr>
            <a:xfrm>
              <a:off x="609480" y="620640"/>
              <a:ext cx="1943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559160" y="620640"/>
              <a:ext cx="0" cy="360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09480" y="189000"/>
              <a:ext cx="1943280" cy="36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Externí náklady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55" name=""/>
          <p:cNvGrpSpPr/>
          <p:nvPr/>
        </p:nvGrpSpPr>
        <p:grpSpPr>
          <a:xfrm>
            <a:off x="2914560" y="189000"/>
            <a:ext cx="1943280" cy="791640"/>
            <a:chOff x="2914560" y="189000"/>
            <a:chExt cx="1943280" cy="791640"/>
          </a:xfrm>
        </p:grpSpPr>
        <p:sp>
          <p:nvSpPr>
            <p:cNvPr id="356" name=""/>
            <p:cNvSpPr/>
            <p:nvPr/>
          </p:nvSpPr>
          <p:spPr>
            <a:xfrm>
              <a:off x="2914560" y="620640"/>
              <a:ext cx="1943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864240" y="620640"/>
              <a:ext cx="0" cy="360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914560" y="189000"/>
              <a:ext cx="1943280" cy="36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Externí výnosy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9" name=""/>
          <p:cNvSpPr/>
          <p:nvPr/>
        </p:nvSpPr>
        <p:spPr>
          <a:xfrm>
            <a:off x="1835280" y="765000"/>
            <a:ext cx="1800000" cy="57636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78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508720" y="1773360"/>
            <a:ext cx="24494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rafik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840280" y="2637000"/>
            <a:ext cx="1800360" cy="576000"/>
          </a:xfrm>
          <a:prstGeom prst="ellipse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- 1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27000" y="2060640"/>
            <a:ext cx="1942920" cy="791640"/>
            <a:chOff x="27000" y="2060640"/>
            <a:chExt cx="1942920" cy="791640"/>
          </a:xfrm>
        </p:grpSpPr>
        <p:sp>
          <p:nvSpPr>
            <p:cNvPr id="363" name=""/>
            <p:cNvSpPr/>
            <p:nvPr/>
          </p:nvSpPr>
          <p:spPr>
            <a:xfrm>
              <a:off x="27000" y="2492280"/>
              <a:ext cx="19429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976320" y="2492280"/>
              <a:ext cx="0" cy="360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27000" y="2060640"/>
              <a:ext cx="1942920" cy="36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terní nákla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6" name=""/>
          <p:cNvGrpSpPr/>
          <p:nvPr/>
        </p:nvGrpSpPr>
        <p:grpSpPr>
          <a:xfrm>
            <a:off x="2230560" y="2060640"/>
            <a:ext cx="2116080" cy="791640"/>
            <a:chOff x="2230560" y="2060640"/>
            <a:chExt cx="2116080" cy="791640"/>
          </a:xfrm>
        </p:grpSpPr>
        <p:sp>
          <p:nvSpPr>
            <p:cNvPr id="367" name=""/>
            <p:cNvSpPr/>
            <p:nvPr/>
          </p:nvSpPr>
          <p:spPr>
            <a:xfrm>
              <a:off x="2230560" y="2492280"/>
              <a:ext cx="2116080" cy="1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352680" y="2492280"/>
              <a:ext cx="0" cy="360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2230560" y="2060640"/>
              <a:ext cx="2116080" cy="36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terní v. (PSN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0" name=""/>
          <p:cNvSpPr/>
          <p:nvPr/>
        </p:nvSpPr>
        <p:spPr>
          <a:xfrm>
            <a:off x="961920" y="1773360"/>
            <a:ext cx="24494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jekce - Letišt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1293840" y="3443400"/>
            <a:ext cx="1800360" cy="576000"/>
          </a:xfrm>
          <a:prstGeom prst="ellipse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- 4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2" name=""/>
          <p:cNvGrpSpPr/>
          <p:nvPr/>
        </p:nvGrpSpPr>
        <p:grpSpPr>
          <a:xfrm>
            <a:off x="28440" y="2867040"/>
            <a:ext cx="1943280" cy="791640"/>
            <a:chOff x="28440" y="2867040"/>
            <a:chExt cx="1943280" cy="791640"/>
          </a:xfrm>
        </p:grpSpPr>
        <p:sp>
          <p:nvSpPr>
            <p:cNvPr id="373" name=""/>
            <p:cNvSpPr/>
            <p:nvPr/>
          </p:nvSpPr>
          <p:spPr>
            <a:xfrm>
              <a:off x="28440" y="3298680"/>
              <a:ext cx="1943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978120" y="3298680"/>
              <a:ext cx="0" cy="360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8440" y="2867040"/>
              <a:ext cx="1943280" cy="36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xterní nákla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4573440" y="4767120"/>
            <a:ext cx="1942920" cy="792000"/>
            <a:chOff x="4573440" y="4767120"/>
            <a:chExt cx="1942920" cy="792000"/>
          </a:xfrm>
        </p:grpSpPr>
        <p:sp>
          <p:nvSpPr>
            <p:cNvPr id="377" name=""/>
            <p:cNvSpPr/>
            <p:nvPr/>
          </p:nvSpPr>
          <p:spPr>
            <a:xfrm flipV="1">
              <a:off x="5005080" y="5198400"/>
              <a:ext cx="1511280" cy="1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751360" y="5198760"/>
              <a:ext cx="0" cy="360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573440" y="4767120"/>
              <a:ext cx="194292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    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S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0" name=""/>
          <p:cNvGrpSpPr/>
          <p:nvPr/>
        </p:nvGrpSpPr>
        <p:grpSpPr>
          <a:xfrm>
            <a:off x="6950160" y="4767120"/>
            <a:ext cx="1942920" cy="792360"/>
            <a:chOff x="6950160" y="4767120"/>
            <a:chExt cx="1942920" cy="792360"/>
          </a:xfrm>
        </p:grpSpPr>
        <p:sp>
          <p:nvSpPr>
            <p:cNvPr id="381" name=""/>
            <p:cNvSpPr/>
            <p:nvPr/>
          </p:nvSpPr>
          <p:spPr>
            <a:xfrm>
              <a:off x="6950160" y="5199120"/>
              <a:ext cx="19429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7899480" y="5199120"/>
              <a:ext cx="0" cy="360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6950160" y="4767120"/>
              <a:ext cx="194292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xterní výnos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5508720" y="4479840"/>
            <a:ext cx="24494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alkulovaný zisk z prodej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1185840" y="693720"/>
            <a:ext cx="28908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149800" y="2565360"/>
            <a:ext cx="28908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185840" y="836640"/>
            <a:ext cx="28908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1185840" y="981000"/>
            <a:ext cx="28908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5160" y="3357720"/>
            <a:ext cx="68724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. 1 04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8029440" y="2637000"/>
            <a:ext cx="289080" cy="14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4067280" y="765000"/>
            <a:ext cx="28872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574560" y="2635200"/>
            <a:ext cx="28908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3454560" y="2635200"/>
            <a:ext cx="28872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5149800" y="5272200"/>
            <a:ext cx="28908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8101080" y="5343480"/>
            <a:ext cx="28872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177840" y="1555920"/>
            <a:ext cx="4968720" cy="144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7" name=""/>
          <p:cNvGrpSpPr/>
          <p:nvPr/>
        </p:nvGrpSpPr>
        <p:grpSpPr>
          <a:xfrm>
            <a:off x="66600" y="4770360"/>
            <a:ext cx="1943280" cy="792360"/>
            <a:chOff x="66600" y="4770360"/>
            <a:chExt cx="1943280" cy="792360"/>
          </a:xfrm>
        </p:grpSpPr>
        <p:sp>
          <p:nvSpPr>
            <p:cNvPr id="398" name=""/>
            <p:cNvSpPr/>
            <p:nvPr/>
          </p:nvSpPr>
          <p:spPr>
            <a:xfrm>
              <a:off x="66600" y="5202360"/>
              <a:ext cx="1943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016280" y="5202360"/>
              <a:ext cx="0" cy="360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6600" y="4770360"/>
              <a:ext cx="1943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terní nákla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01" name=""/>
          <p:cNvGrpSpPr/>
          <p:nvPr/>
        </p:nvGrpSpPr>
        <p:grpSpPr>
          <a:xfrm>
            <a:off x="2270160" y="4770360"/>
            <a:ext cx="2116080" cy="792360"/>
            <a:chOff x="2270160" y="4770360"/>
            <a:chExt cx="2116080" cy="792360"/>
          </a:xfrm>
        </p:grpSpPr>
        <p:sp>
          <p:nvSpPr>
            <p:cNvPr id="402" name=""/>
            <p:cNvSpPr/>
            <p:nvPr/>
          </p:nvSpPr>
          <p:spPr>
            <a:xfrm>
              <a:off x="2270160" y="5202360"/>
              <a:ext cx="211608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3392280" y="5202360"/>
              <a:ext cx="0" cy="360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270160" y="4770360"/>
              <a:ext cx="21160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terní v. (PSN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5" name=""/>
          <p:cNvSpPr/>
          <p:nvPr/>
        </p:nvSpPr>
        <p:spPr>
          <a:xfrm>
            <a:off x="1001880" y="4483080"/>
            <a:ext cx="24494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jekce - Koupališt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1333440" y="6153120"/>
            <a:ext cx="1800360" cy="576360"/>
          </a:xfrm>
          <a:prstGeom prst="ellipse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- 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39600" y="5576760"/>
            <a:ext cx="1943280" cy="792360"/>
            <a:chOff x="39600" y="5576760"/>
            <a:chExt cx="1943280" cy="792360"/>
          </a:xfrm>
        </p:grpSpPr>
        <p:sp>
          <p:nvSpPr>
            <p:cNvPr id="408" name=""/>
            <p:cNvSpPr/>
            <p:nvPr/>
          </p:nvSpPr>
          <p:spPr>
            <a:xfrm>
              <a:off x="39600" y="6008760"/>
              <a:ext cx="1943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989280" y="6008760"/>
              <a:ext cx="0" cy="360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39600" y="5576760"/>
              <a:ext cx="1943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xterní nákla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11" name=""/>
          <p:cNvSpPr/>
          <p:nvPr/>
        </p:nvSpPr>
        <p:spPr>
          <a:xfrm>
            <a:off x="617400" y="6151680"/>
            <a:ext cx="28908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14520" y="5345280"/>
            <a:ext cx="288720" cy="14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3494160" y="5345280"/>
            <a:ext cx="288720" cy="14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24000" y="6094440"/>
            <a:ext cx="687240" cy="2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. 35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844880" y="2579760"/>
            <a:ext cx="68760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. 318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7956720" y="2522520"/>
            <a:ext cx="6872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. 2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5. 1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307800" y="2565360"/>
            <a:ext cx="687600" cy="2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. 2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324000" y="5302080"/>
            <a:ext cx="687240" cy="2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5. 1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578400" y="2565360"/>
            <a:ext cx="687240" cy="2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6. 1 2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5003640" y="5230800"/>
            <a:ext cx="7351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6. 1 2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7.    45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621240" y="5302080"/>
            <a:ext cx="687240" cy="2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7. 450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940360" y="5373720"/>
            <a:ext cx="1800360" cy="576360"/>
          </a:xfrm>
          <a:prstGeom prst="ellipse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+ 6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+ 25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7956720" y="5230800"/>
            <a:ext cx="7347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8. 1 8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9. 7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41520" y="736560"/>
            <a:ext cx="687240" cy="2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0" lang="cs-CZ" sz="1600" spc="-1" strike="noStrike">
                <a:solidFill>
                  <a:srgbClr val="ffffff"/>
                </a:solidFill>
                <a:latin typeface="Arial"/>
                <a:ea typeface="Arial"/>
              </a:rPr>
              <a:t> 1 718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3952800" y="750960"/>
            <a:ext cx="68760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0" lang="cs-CZ" sz="1600" spc="-1" strike="noStrike">
                <a:solidFill>
                  <a:srgbClr val="ffffff"/>
                </a:solidFill>
                <a:latin typeface="Arial"/>
                <a:ea typeface="Arial"/>
              </a:rPr>
              <a:t> 2 5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5364000" y="0"/>
            <a:ext cx="3600720" cy="16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říklad ARCHA – výsledky hospodařen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8C7069-996C-4F47-9D50-2B702EAB12A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ztahy mezi útvar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507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charakter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průběhu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hlavní podnikatelské činnosti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členitost procesu tvorby výkonu, široké spektrum servisních středisek ...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vyvolává požadavky na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řízení náklad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1. průběžná kontrola hospodárnosti a motivace zaměstnanců k jejímu dodržení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2. vymezení pravomoci a odpovědnosti útvarů za činnosti podniku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3. zjištění skutečných a předem stanovených nákladů na jednotku výkonů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vyvolává požadavek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rozpoznat a zobrazit vztah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mezi útvary v nákladovém účetnictv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předpoklad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zobrazení vztahů mezi útvary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1. rozpoznání a vymezení interních výkonů útvarů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2. ocenění interních výkonů útvarů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obrazení vztahů mezi útva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1399C6-4C87-4090-8A6E-1C67B0EDA1D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000"/>
                            </p:stCondLst>
                            <p:childTnLst>
                              <p:par>
                                <p:cTn id="3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00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ymezení a ocenění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terních výkonů útvar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ymezení interních výkonů předpokládá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ymezení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identifikaci) výkonu (výkonů) útvar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měřitelnos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výkon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oceně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výkon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základní varianty oceně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 na úrovni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skutečně vynaložených náklad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kutečné náklady na uskutečnění výkonu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 na úrovni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ředem stanovených náklad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odle předběžných kalkulací a rozpočt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. na úrovni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ce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používaných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mezi externími subjek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ržní cen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obrazení vztahů mezi útva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7126AF-8455-41E3-840B-3DDEA071E4E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000"/>
                            </p:stCondLst>
                            <p:childTnLst>
                              <p:par>
                                <p:cTn id="6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2000"/>
                            </p:stCondLst>
                            <p:childTnLst>
                              <p:par>
                                <p:cTn id="6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000"/>
                            </p:stCondLst>
                            <p:childTnLst>
                              <p:par>
                                <p:cTn id="7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500"/>
                            </p:stCondLst>
                            <p:childTnLst>
                              <p:par>
                                <p:cTn id="7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2500"/>
                            </p:stCondLst>
                            <p:childTnLst>
                              <p:par>
                                <p:cTn id="8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3000"/>
                            </p:stCondLst>
                            <p:childTnLst>
                              <p:par>
                                <p:cTn id="8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40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říklad ARCHA – zadání (I.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91520" cy="45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chitektonická kancelář (projekty investičních celků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rganizační struktura – útvary Projekce a Grafik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rojekce – zpracování projektů, v současnosti 2 projekty (Letiště, Koupaliště), oba dokončeny a vyfakturovány za dohodnutou cenu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Grafika – zpracování grafických prací pro útvar Projekce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šechny náklady na projekty jsou přímé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ní výkon = 1 hod práce grafika, předem st. náklady = 500Kč/ho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ozsah interních výkonů (předpokládaný rozsah byl dodržen):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400 hod pro Letiště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200 hod pro Koupaliště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obrazení vztahů mezi útva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2E326F-75D8-4CD4-948D-21999366B05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2000"/>
                            </p:stCondLst>
                            <p:childTnLst>
                              <p:par>
                                <p:cTn id="10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3000"/>
                            </p:stCondLst>
                            <p:childTnLst>
                              <p:par>
                                <p:cTn id="10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4000"/>
                            </p:stCondLst>
                            <p:childTnLst>
                              <p:par>
                                <p:cTn id="11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5000"/>
                            </p:stCondLst>
                            <p:childTnLst>
                              <p:par>
                                <p:cTn id="11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6000"/>
                            </p:stCondLst>
                            <p:childTnLst>
                              <p:par>
                                <p:cTn id="11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7000"/>
                            </p:stCondLst>
                            <p:childTnLst>
                              <p:par>
                                <p:cTn id="12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říklad ARCHA – zadání (II.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457200" y="1989000"/>
          <a:ext cx="8229600" cy="4154760"/>
        </p:xfrm>
        <a:graphic>
          <a:graphicData uri="http://schemas.openxmlformats.org/drawingml/2006/table">
            <a:tbl>
              <a:tblPr/>
              <a:tblGrid>
                <a:gridCol w="2768760"/>
                <a:gridCol w="1820880"/>
                <a:gridCol w="1819080"/>
                <a:gridCol w="1820880"/>
              </a:tblGrid>
              <a:tr h="608040"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Položk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Letiště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Koupaliště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Celke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Prodejní cena v Kč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1 800 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700 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2 500 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2100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Předem </a:t>
                      </a: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stanovené náklady</a:t>
                      </a: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celkem v </a:t>
                      </a: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Kč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1 200 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450 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1 650 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5248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Předem </a:t>
                      </a: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stanovené externí náklady útvaru Projek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1 000 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350 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1 35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5248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Předem </a:t>
                      </a: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stanovené interní náklady útvaru Grafik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200 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100 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3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5248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Předem </a:t>
                      </a: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stanovený </a:t>
                      </a: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počet </a:t>
                      </a: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hodin útvaru Grafik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4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2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6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8" name=""/>
          <p:cNvSpPr/>
          <p:nvPr/>
        </p:nvSpPr>
        <p:spPr>
          <a:xfrm>
            <a:off x="395280" y="1380600"/>
            <a:ext cx="828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12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ředem stanovené veličiny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obrazení vztahů mezi útvar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FF2C3C-0029-42A8-BD40-A5653BD54A4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říklad ARCHA – zadání (III.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468360" y="1989000"/>
          <a:ext cx="8229600" cy="2934000"/>
        </p:xfrm>
        <a:graphic>
          <a:graphicData uri="http://schemas.openxmlformats.org/drawingml/2006/table">
            <a:tbl>
              <a:tblPr/>
              <a:tblGrid>
                <a:gridCol w="2768400"/>
                <a:gridCol w="1820880"/>
                <a:gridCol w="1819440"/>
                <a:gridCol w="1820880"/>
              </a:tblGrid>
              <a:tr h="608040"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Položk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Letiště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Koupaliště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Celke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5248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Skutečné </a:t>
                      </a: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externí náklady útvaru Projek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1 045 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355 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1 4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5248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Skutečné </a:t>
                      </a: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náklady útvaru Grafik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318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2100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Skutečný</a:t>
                      </a: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počet </a:t>
                      </a: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hodin útvaru Grafik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4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2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6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71" name=""/>
          <p:cNvSpPr/>
          <p:nvPr/>
        </p:nvSpPr>
        <p:spPr>
          <a:xfrm>
            <a:off x="395280" y="1380600"/>
            <a:ext cx="828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12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kutečné veličiny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obrazení vztahů mezi útvar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3C0C93-3772-4FDA-B6C7-49B3E7FBBCE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říklad ARCHA – řešení při ocenění výkonu ve skutečných nákladec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8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kutečné náklady na 1 hod práce grafika = 318 000 / 600 = 530 Kč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332000" y="2997360"/>
            <a:ext cx="1224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) 1 04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) 35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) 31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539640" y="2925720"/>
            <a:ext cx="1436760" cy="1152360"/>
            <a:chOff x="539640" y="2925720"/>
            <a:chExt cx="1436760" cy="1152360"/>
          </a:xfrm>
        </p:grpSpPr>
        <p:sp>
          <p:nvSpPr>
            <p:cNvPr id="176" name=""/>
            <p:cNvSpPr/>
            <p:nvPr/>
          </p:nvSpPr>
          <p:spPr>
            <a:xfrm>
              <a:off x="539640" y="2925720"/>
              <a:ext cx="14367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257120" y="2925720"/>
              <a:ext cx="0" cy="1152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8" name=""/>
          <p:cNvSpPr/>
          <p:nvPr/>
        </p:nvSpPr>
        <p:spPr>
          <a:xfrm>
            <a:off x="395280" y="2565360"/>
            <a:ext cx="187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Ú k nákladů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987640" y="2997360"/>
            <a:ext cx="11541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1) 1 04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9900"/>
                </a:solidFill>
                <a:latin typeface="Arial"/>
              </a:rPr>
              <a:t>4)    2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 1 25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3494160" y="2925720"/>
            <a:ext cx="1439640" cy="1152360"/>
            <a:chOff x="3494160" y="2925720"/>
            <a:chExt cx="1439640" cy="1152360"/>
          </a:xfrm>
        </p:grpSpPr>
        <p:sp>
          <p:nvSpPr>
            <p:cNvPr id="181" name=""/>
            <p:cNvSpPr/>
            <p:nvPr/>
          </p:nvSpPr>
          <p:spPr>
            <a:xfrm>
              <a:off x="3494160" y="2925720"/>
              <a:ext cx="1439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213080" y="2925720"/>
              <a:ext cx="0" cy="1152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490920" y="2276640"/>
            <a:ext cx="15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N – Projek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proj. Letišt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133800" y="5302080"/>
            <a:ext cx="10094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2) 35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9900"/>
                </a:solidFill>
                <a:latin typeface="Arial"/>
              </a:rPr>
              <a:t>5) 10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 46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3495600" y="5230800"/>
            <a:ext cx="1440000" cy="1152360"/>
            <a:chOff x="3495600" y="5230800"/>
            <a:chExt cx="1440000" cy="1152360"/>
          </a:xfrm>
        </p:grpSpPr>
        <p:sp>
          <p:nvSpPr>
            <p:cNvPr id="186" name=""/>
            <p:cNvSpPr/>
            <p:nvPr/>
          </p:nvSpPr>
          <p:spPr>
            <a:xfrm>
              <a:off x="3495600" y="5230800"/>
              <a:ext cx="14400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214880" y="5230800"/>
              <a:ext cx="0" cy="1152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3349800" y="4581360"/>
            <a:ext cx="180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N – Projek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proj. Koupališt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940360" y="2997360"/>
            <a:ext cx="100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) 31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6302520" y="2925720"/>
            <a:ext cx="1439640" cy="1152360"/>
            <a:chOff x="6302520" y="2925720"/>
            <a:chExt cx="1439640" cy="1152360"/>
          </a:xfrm>
        </p:grpSpPr>
        <p:sp>
          <p:nvSpPr>
            <p:cNvPr id="191" name=""/>
            <p:cNvSpPr/>
            <p:nvPr/>
          </p:nvSpPr>
          <p:spPr>
            <a:xfrm>
              <a:off x="6302520" y="2925720"/>
              <a:ext cx="1439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021440" y="2925720"/>
              <a:ext cx="0" cy="1152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3" name=""/>
          <p:cNvSpPr/>
          <p:nvPr/>
        </p:nvSpPr>
        <p:spPr>
          <a:xfrm>
            <a:off x="6156360" y="256536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 – Grafik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020000" y="2997360"/>
            <a:ext cx="10094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4) 2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5) 10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156360" y="5300640"/>
            <a:ext cx="2663640" cy="936720"/>
          </a:xfrm>
          <a:prstGeom prst="bevel">
            <a:avLst>
              <a:gd name="adj" fmla="val 1250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) = 530Kč/hod*400ho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5) = 530Kč/hod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00ho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obrazení vztahů mezi útva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1FB189-13BD-4C18-A6A5-24BDF214DAA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cenění vztahů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 úrovni skutečných náklad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ochází k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řeúčtování skutečných náklad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mezi útva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ůsledk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Wingdings"/>
                <a:ea typeface="Wingdings"/>
              </a:rPr>
              <a:t>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e možné zjistit výslednou kalkulaci finálních výkonů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→ kalkulačně-výkonové účetnictví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Wingdings"/>
                <a:ea typeface="Wingdings"/>
              </a:rPr>
              <a:t>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ení možné sledovat odpovědnost za vynaložení náklad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kontrola hospodárnosti probíhá mimo účetní systé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Wingdings"/>
                <a:ea typeface="Wingdings"/>
              </a:rPr>
              <a:t>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ffcc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účtování vztahů mezi útvary probíhá následně po skončení obdob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v okamžiku předání výkonu nejsou k dispozici informace pro jeho ocenění (skutečné náklady je možno zjistit až dodatečně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obrazení vztahů mezi útva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D53855-ACCE-4DBB-80D8-9C83B541028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říklad ARCHA – řešení při ocenění výkonu v předem stanovených nákladec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260360" y="2278080"/>
            <a:ext cx="1224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) 1 04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) 35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) 31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468360" y="2206800"/>
            <a:ext cx="1436760" cy="1152360"/>
            <a:chOff x="468360" y="2206800"/>
            <a:chExt cx="1436760" cy="1152360"/>
          </a:xfrm>
        </p:grpSpPr>
        <p:sp>
          <p:nvSpPr>
            <p:cNvPr id="201" name=""/>
            <p:cNvSpPr/>
            <p:nvPr/>
          </p:nvSpPr>
          <p:spPr>
            <a:xfrm>
              <a:off x="468360" y="2206800"/>
              <a:ext cx="14367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185840" y="2206800"/>
              <a:ext cx="0" cy="1152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3" name=""/>
          <p:cNvSpPr/>
          <p:nvPr/>
        </p:nvSpPr>
        <p:spPr>
          <a:xfrm>
            <a:off x="324000" y="1846440"/>
            <a:ext cx="186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Ú k nákladů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700360" y="2278080"/>
            <a:ext cx="115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1) 1 045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6880" y="2206800"/>
            <a:ext cx="1439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3924360" y="2206800"/>
            <a:ext cx="1440" cy="430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771640" y="1557360"/>
            <a:ext cx="23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jekce: Letišt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terní nákla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221440" y="2276640"/>
            <a:ext cx="100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) 31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5583240" y="2205000"/>
            <a:ext cx="1440000" cy="1152360"/>
            <a:chOff x="5583240" y="2205000"/>
            <a:chExt cx="1440000" cy="1152360"/>
          </a:xfrm>
        </p:grpSpPr>
        <p:sp>
          <p:nvSpPr>
            <p:cNvPr id="210" name=""/>
            <p:cNvSpPr/>
            <p:nvPr/>
          </p:nvSpPr>
          <p:spPr>
            <a:xfrm>
              <a:off x="5583240" y="2205000"/>
              <a:ext cx="14400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302520" y="2205000"/>
              <a:ext cx="0" cy="1152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64000" y="155736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rafika Nákla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084720" y="5229360"/>
            <a:ext cx="2664000" cy="936360"/>
          </a:xfrm>
          <a:prstGeom prst="bevel">
            <a:avLst>
              <a:gd name="adj" fmla="val 1250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) = 500Kč/hod*400ho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5) = 500Kč/hod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00ho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700360" y="3645000"/>
            <a:ext cx="115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4) 2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6880" y="3573360"/>
            <a:ext cx="1439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3924360" y="3573360"/>
            <a:ext cx="1440" cy="430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771640" y="2924280"/>
            <a:ext cx="23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jekce: Letišt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terní nákla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700360" y="5013360"/>
            <a:ext cx="115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) 35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206880" y="4941720"/>
            <a:ext cx="1439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3924360" y="4941720"/>
            <a:ext cx="1440" cy="430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556000" y="4292640"/>
            <a:ext cx="28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jekce: Koupališt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terní nákla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700360" y="6310440"/>
            <a:ext cx="115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5) 1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206880" y="6238800"/>
            <a:ext cx="1439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3924360" y="6238800"/>
            <a:ext cx="1440" cy="430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556000" y="5589720"/>
            <a:ext cx="28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jekce: Koupališt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terní nákla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7345440" y="2205000"/>
            <a:ext cx="1439640" cy="1152360"/>
            <a:chOff x="7345440" y="2205000"/>
            <a:chExt cx="1439640" cy="1152360"/>
          </a:xfrm>
        </p:grpSpPr>
        <p:sp>
          <p:nvSpPr>
            <p:cNvPr id="227" name=""/>
            <p:cNvSpPr/>
            <p:nvPr/>
          </p:nvSpPr>
          <p:spPr>
            <a:xfrm>
              <a:off x="7345440" y="2205000"/>
              <a:ext cx="1439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8064360" y="2205000"/>
              <a:ext cx="0" cy="1152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9" name=""/>
          <p:cNvSpPr/>
          <p:nvPr/>
        </p:nvSpPr>
        <p:spPr>
          <a:xfrm>
            <a:off x="7164360" y="155736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rafika    Interní výno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8134200" y="2276640"/>
            <a:ext cx="10098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4) 2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5) 1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obrazení vztahů mezi útvar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15A14B-32B3-485B-A636-09328DF389C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0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0T13:11:59Z</dcterms:created>
  <dc:creator>NOBODY</dc:creator>
  <dc:description/>
  <dc:language>en-US</dc:language>
  <cp:lastModifiedBy>mensikm</cp:lastModifiedBy>
  <dcterms:modified xsi:type="dcterms:W3CDTF">2009-10-21T09:11:02Z</dcterms:modified>
  <cp:revision>9</cp:revision>
  <dc:subject/>
  <dc:title>Rozpoznání a zobrazení vztahů mezi útvary a pojetí výnosů v nákladovém účetnictví</dc:title>
</cp:coreProperties>
</file>