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EF3FE-6DC2-494B-909B-8068BB73B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C6DD2-E62C-4ADB-9435-3FDE6F3E3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91424-FAC0-484A-B8C9-C4CA50CD8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12CA1-3C7F-4372-958C-75014BF494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32B0C-88D5-4E58-A4DC-043D095DC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A3DB2-182C-42C2-B5BB-94E808351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1FD8E-0C7A-40D4-965A-BE76025EF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E19D2-56A6-462C-AD8A-59CA30174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41FEA-53E0-42EA-879F-EE19F1E2A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DAF63-B3F6-4AFF-BEC7-56A1104BD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BAD60-0E5D-48DF-A216-14C70EA97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F8CA1-5EC1-44D4-83F1-0CC31BA44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5052-F3DC-4713-87FB-2A3F83E6E4C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Účetní informace pro řízení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 linii odpovědnosti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edpoklad: delegovaná pravomoc a odpovědnost v investičním rozhodová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vlivňují výši a způsob využití investic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ace na ekonomickou efektivnost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ejvyšší úroveň ekonomické struktury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často je investičním střediskem pouze vrcholové ved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případě velkých firem s širokým spektrem činnosti tzv. strategické podnikatelské jednotky (strategic business uni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0113D-24C4-4B7C-BA28-9FECA5E701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dnotová kritéria řízení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otázk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dr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 vynakládají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sledku rozhodnutí střediska nebo činností, jejíž průběh středisko ovlivňuje, a jak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jich vynaložení vyvolává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Jakým způsobem měřit a hodnot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Jak vymez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sledek hospoda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45D37-F4B1-4C4F-836C-CAC7AD0D7A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odpovědnostních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princip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vlivnitel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tázka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spotřebu zdrojů, a kterému středisku by tudíž měl být náklad odpovědnostně přiřazen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střediska = ovlivnitelné interní a externí náklady (skutečné i kalkulač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zor: 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ísto vzniku nákladů = odpovědnost za vznik nákladů“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u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ati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např.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vzniklé důsledkem rozhodnu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ovlivnitelné pohyby cen vstup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účelné vynaložení zdrojů zapříčiněné činnos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01254-65D6-467C-AFC3-CE9F4B201A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nos středisk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 střediskové výnos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míře delegov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ákladní situac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. výkony střediska určeny převážně pro externí zákaz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ex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prodeje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výkony střediska určeny převážně pro osta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a základě vnitropodnikových c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výkony střediska není možné vymezit a měř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úkolem střediska je dodržet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em stanovené nákla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dle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1B1F0-874D-4D8D-AC61-B3A8B00B26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unkce vnitropodnikových c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otivovat k rozhodování a chování prospěšnému pro středisko i pod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it úroveň pravomoci a odpovědnosti a oddělit přínos střediska k výsledků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stit informace pro měření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poklady účinného využit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přede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álost v čas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ulad s ostatními nástroji vnitropodnikového říze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ce, rozpoč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rozumitelnost pro dodávající i odebírající středisko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a stejné úrovni pro stejnorodý výkon bez ohledu na odběratel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D83D6-6FAB-4041-810C-9F5859289F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y vnitropodnikových c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ariabilní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s připočtení ziskové přirá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tržní cen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dohodě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ezi středis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5A319-37A7-495C-A8A6-67C4B332C7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ek hospodaře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unkc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kriteriál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ritérium (měřítko) pro hodnocení úspěšnosti hospodaření středisk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 stimulač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timulace k zajištění souladu cílů střediska a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odnět pro rozvoj jednání, které zvyšuje efektivnost činnosti střediska, a tím i efektivnost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íčové je propojení s vhodno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ou odmě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sledku hospodaření závisí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39EF5-5B7F-4E1C-B1EF-CBE2F041C9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ah výsledku hospodař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á (výdajová)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úspora nebo překročení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ch střediskov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bjem výnosů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 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po zohlednění kalkulačních úroků z čistého pracovního kapitálu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čistého pracovní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ekonomick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residuální)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vázané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08CF2-0DA5-4679-A6BC-13ECFCB8B1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kaz hospodářského výsledku nákladového střediska (výkaz odchyl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2472480"/>
                <a:gridCol w="1917720"/>
                <a:gridCol w="1918080"/>
                <a:gridCol w="1920960"/>
              </a:tblGrid>
              <a:tr h="14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tředisk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skutečnos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nterní výnos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rozpoče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dchyl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úspora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kroč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8100E-220E-4A96-985D-6159FEB1C6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ovka ziskového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340000" y="1557360"/>
          <a:ext cx="4608360" cy="431928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nosy z prodeje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Variabilní náklady výkonů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rže (příspěvek na úhradu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vlivnitelný výsledek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Ne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hospodaření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Alokované náklady na správu a říz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střediska po alokaci správních 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411280" y="242100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386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4394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537372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E6A58-F6D0-4462-9262-9C0FE432E8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sažení takového dlouhodobého stavu, kdy jednání každého útvaru a pracovníka v podniku přispívá k dosažení strategických cílů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y odpovědnostního ří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81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ovlivnitel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avomoc a odpověd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ceš-li výsledky, musíš dát příležito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transformace cílů na úkoly → měřitelná krité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chceš řídit, musíš umět měř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přínos k výsledkům → zainteres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ekni mi, jak mě budeš měřit, a já ti řeknu, jak se budu chova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103FD-4DA4-437A-88F5-E808509BF4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ční podpora odpovědnostního řízení v oblasti hodnotový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koly odpovědnostního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rozčlenit hodnotové informace podle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vývoj nákladů, výnosů, aktiv, závazků, příjmů, výda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zobrazit vztahy mezi středisky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interní výnosy a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ý je přínos střediska k výsledkům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jádřit přímo v účetním systému rozdíly či odchylk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je příčinou a kdo je zodpovědný za rozdíly skutečnosti oproti očekávanému stav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0F5DF-4C90-4529-AB7F-B1B994689F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kturální předpoklady odpovědnostního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řešení organizační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ovení míry centralizace a decentraliza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tvoření ekonomické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5DAFC-54EE-49BA-A726-00AA8522EC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ční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ěcnou náplň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vků podnikové struktury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nimi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organizační struktury urču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rizontální vztah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ělba činností a kooper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dmětné uspořádání (od nákupu po prodej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chnologické uspořádání (specializace činností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ertikální vztahy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ozložení 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0F269-4BC2-45A0-BA1C-21952B0F8B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De)centralizace řízení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působ řízení podniku, kdy rozhodovací pravomoc i odpovědnost je soustředěna na vrcholové úrovni řízení; nižší úrovně řízení mají pouze výkonné funk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esné, včasné, kvalitní a hospodárné splnění příkaz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rektivní nástroje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vážně naturální kritéria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odchylek od stanoveného úkolu v krátkých intervale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e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 přenášení pravomoci a odpovědnosti z nadřazené úrovně řízení na úrovně podřízené; nižší úrovně řízení disponují rozhodovacími i výkonnými funkcem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ínos k zhodnocení zdrojů (účinnosti) a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rámcových podmínek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čekává se iniciativ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jné využití hodnotových kritéri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 skutečných výsledků za delš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669A8-79CA-4984-8555-B99488A74F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azuje na organizační strukturu a doplňuje věcné nástroje řízení o využit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ačně účinných hodnotových nástroj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dpovědnostního řízen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rvek ekonomické struktury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středisk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y odpovědnostních středis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rozliš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kročilé rozliš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ové/výnos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ové/výnos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daj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isk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zisk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ntabilit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vestiční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investič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41508-C6D5-43E7-8141-CAB4941448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ová, výdajová, výnosová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hospodárné vynakládá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vymezení nákladů ovlivnitelných činností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srovnání skutečné a předem stanovené výše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daj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zvyšování budoucího potenciálu firmy (vzdělávání, výzkum a vývoj, strategický marketing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převážně věcné posouzení činnosti doplněné o srovnání skutečné a předem stanovené výše náklad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ýdajů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tupují do vztahů se zákazník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vlivňují objem a strukturu prodeje (obchodní zastoupení, útvary prodeje, oddělení obchodního domu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maximalizaci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DAECC-EF93-4F30-A284-29B987B7B2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isková, rentabilit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řídí celý proces od nákupu, přes tvorbu výkonu po prodej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stupují do vztahů s dodavateli i zákazní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vlivňují náklady, výnosy a zisk střediska → orientace na ú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: skutečně dosažená úroveň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střešují několik nákladových a výnosových středis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blém orientace ziskových středisek: zvyšování zisku bez ohledu na výši čistého pracovního kapitálu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ázanost zdrojů ovlivňuje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ntabilitní středisko → zahrnutí čistého pracovního kapitálu (pohledávky, zásoby, závazky z obchodního styku ...) do odpovědnosti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5C720-C836-4A88-BDEB-25FC060AAC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7:30:03Z</dcterms:created>
  <dc:creator>NOBODY</dc:creator>
  <dc:description/>
  <dc:language>en-US</dc:language>
  <cp:lastModifiedBy>NOBODY</cp:lastModifiedBy>
  <dcterms:modified xsi:type="dcterms:W3CDTF">2007-09-04T08:35:00Z</dcterms:modified>
  <cp:revision>8</cp:revision>
  <dc:subject/>
  <dc:title>Odpovědnostní účetnictví</dc:title>
</cp:coreProperties>
</file>