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2005B-58F5-4CAB-817B-8A3710ED6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C30A2-9D39-4279-97CB-94F1BE593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E2CD7-CEF0-44A2-AFDD-E432DA90B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A0AC5-DA69-4E59-AF22-FC7F385057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8DBCA-EC48-4354-9918-E63B17F36B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795DC-6BC2-42C4-8716-B9009C2AD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7037E-788A-4ECB-ADF4-289B843B9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B95B1-F5CB-415D-9913-E99F1D4DD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F8B63-E19B-4173-9265-5BF91D19F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1828C-9175-4EFF-8BF7-4A6574E37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E400D-8AC8-4E1A-9859-ED8F9EB40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7E13E-9F70-4636-9073-48448AEBE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2F2D-1031-4E76-9521-B38CBA2C094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zpoznání a zobrazení vztahů mezi útvary a pojetí výnosů v 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 interních výkonů v předem stanovených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zniká interní náklad (odebírajícímu útvaru)/ interní výnos (předávajícímu útvaru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interní kritérium uznání racionality vynaložených nákladů a prospěchu útvaru pro celopodnikové výsled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42920" y="3716280"/>
          <a:ext cx="73454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1042920" y="3716280"/>
                    <a:ext cx="73454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474F2-976F-4E2D-A135-0D2B9F10FD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zúčtování interních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dnoznačn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ymezitelnost, změřitelnost a ocenite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edem stanovené oceně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pro konkrét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nitropodniková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ebírající útvar rozhoduje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, kvalitě a času před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otivace k úsporám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edání výkonu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nos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dodávajícího útvaru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nitelným náklad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jícíh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6F692-3B2A-43EF-B24E-37AFF9B90D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 zobrazení v předem stanovených náklade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děl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měř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 vnitropodnikových útvar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j. kvantifikovat výsledek hospoda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v účetním systém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kamžit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 uskutečnění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kon je možno ocenit v okamžiku jeho před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ýsledné 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je nutné provést úpravami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952B1-3531-4607-A7F2-F5F5346517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ek hospodaření střediska Grafi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42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51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68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134200" y="2276640"/>
            <a:ext cx="100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16720" y="2276640"/>
            <a:ext cx="1368360" cy="936360"/>
          </a:xfrm>
          <a:prstGeom prst="ellipse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ekroč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6F4B7-8C1C-4CBE-829C-D0F6D8D0CE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ůvody pro využití interních kritéri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každé etapě tvorby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znání prospěchu útvarů, kter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ají kontakt s tr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 vnitropodnikových útva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vzniká tržní 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žní cena je obvyk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ůsledkem řady fakto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není vhodná pro vnitřní uzná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 vývoje nákladů a výnosů v průběh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životního cykl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ětšina externí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ý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nepřímý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ový nesoula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u nákladů a vytvoře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9F734-BB07-47C7-8543-B3267680B7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řský výsledek podniku a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(CV – PSNprodaných výkonů) + ∑(PSNútvaru – SKN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bol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KZ + ∑VPVH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 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isk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ýnosy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SN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ředem stanovené náklady (prodaných výkonů, 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N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utečné náklady (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Z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alkulovaný zisk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PVH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nitropodnikový výsledek hospodaření útvarů (středise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5104B-23E9-4437-B6BC-0E118B81D0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611280" y="2637000"/>
            <a:ext cx="1942920" cy="791640"/>
            <a:chOff x="611280" y="2637000"/>
            <a:chExt cx="1942920" cy="791640"/>
          </a:xfrm>
        </p:grpSpPr>
        <p:sp>
          <p:nvSpPr>
            <p:cNvPr id="278" name=""/>
            <p:cNvSpPr/>
            <p:nvPr/>
          </p:nvSpPr>
          <p:spPr>
            <a:xfrm>
              <a:off x="611280" y="306864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6060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1280" y="263700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987640" y="2637000"/>
            <a:ext cx="1943280" cy="791640"/>
            <a:chOff x="2987640" y="2637000"/>
            <a:chExt cx="1943280" cy="791640"/>
          </a:xfrm>
        </p:grpSpPr>
        <p:sp>
          <p:nvSpPr>
            <p:cNvPr id="282" name=""/>
            <p:cNvSpPr/>
            <p:nvPr/>
          </p:nvSpPr>
          <p:spPr>
            <a:xfrm>
              <a:off x="2987640" y="3068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732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87640" y="2637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82560" y="836640"/>
            <a:ext cx="1943280" cy="791640"/>
            <a:chOff x="682560" y="836640"/>
            <a:chExt cx="1943280" cy="791640"/>
          </a:xfrm>
        </p:grpSpPr>
        <p:sp>
          <p:nvSpPr>
            <p:cNvPr id="286" name=""/>
            <p:cNvSpPr/>
            <p:nvPr/>
          </p:nvSpPr>
          <p:spPr>
            <a:xfrm>
              <a:off x="68256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3224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256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987640" y="836640"/>
            <a:ext cx="1943280" cy="791640"/>
            <a:chOff x="2987640" y="836640"/>
            <a:chExt cx="1943280" cy="791640"/>
          </a:xfrm>
        </p:grpSpPr>
        <p:sp>
          <p:nvSpPr>
            <p:cNvPr id="290" name=""/>
            <p:cNvSpPr/>
            <p:nvPr/>
          </p:nvSpPr>
          <p:spPr>
            <a:xfrm>
              <a:off x="298764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3732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8764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908000" y="1413000"/>
            <a:ext cx="1800360" cy="57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V podni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6200" y="2349360"/>
            <a:ext cx="2449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78120" y="321300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68440" y="4422600"/>
            <a:ext cx="1942920" cy="792360"/>
            <a:chOff x="568440" y="4422600"/>
            <a:chExt cx="1942920" cy="792360"/>
          </a:xfrm>
        </p:grpSpPr>
        <p:sp>
          <p:nvSpPr>
            <p:cNvPr id="297" name=""/>
            <p:cNvSpPr/>
            <p:nvPr/>
          </p:nvSpPr>
          <p:spPr>
            <a:xfrm>
              <a:off x="568440" y="485460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1776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8440" y="442260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71640" y="4422600"/>
            <a:ext cx="2116440" cy="792360"/>
            <a:chOff x="2771640" y="4422600"/>
            <a:chExt cx="2116440" cy="792360"/>
          </a:xfrm>
        </p:grpSpPr>
        <p:sp>
          <p:nvSpPr>
            <p:cNvPr id="301" name=""/>
            <p:cNvSpPr/>
            <p:nvPr/>
          </p:nvSpPr>
          <p:spPr>
            <a:xfrm>
              <a:off x="2771640" y="4854600"/>
              <a:ext cx="21164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9412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71640" y="4422600"/>
              <a:ext cx="21164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503360" y="413532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580536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38200" y="5359320"/>
            <a:ext cx="1942920" cy="792360"/>
            <a:chOff x="538200" y="5359320"/>
            <a:chExt cx="1942920" cy="792360"/>
          </a:xfrm>
        </p:grpSpPr>
        <p:sp>
          <p:nvSpPr>
            <p:cNvPr id="307" name=""/>
            <p:cNvSpPr/>
            <p:nvPr/>
          </p:nvSpPr>
          <p:spPr>
            <a:xfrm>
              <a:off x="538200" y="57913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87520" y="57913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8200" y="53593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672080" y="5516640"/>
            <a:ext cx="1942920" cy="792000"/>
            <a:chOff x="4672080" y="5516640"/>
            <a:chExt cx="1942920" cy="792000"/>
          </a:xfrm>
        </p:grpSpPr>
        <p:sp>
          <p:nvSpPr>
            <p:cNvPr id="311" name=""/>
            <p:cNvSpPr/>
            <p:nvPr/>
          </p:nvSpPr>
          <p:spPr>
            <a:xfrm flipV="1">
              <a:off x="5103720" y="594792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50000" y="594828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72080" y="551664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77080" y="5516640"/>
            <a:ext cx="1942920" cy="791640"/>
            <a:chOff x="6877080" y="5516640"/>
            <a:chExt cx="1942920" cy="791640"/>
          </a:xfrm>
        </p:grpSpPr>
        <p:sp>
          <p:nvSpPr>
            <p:cNvPr id="315" name=""/>
            <p:cNvSpPr/>
            <p:nvPr/>
          </p:nvSpPr>
          <p:spPr>
            <a:xfrm>
              <a:off x="6877080" y="5948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26400" y="594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77080" y="5516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5435640" y="5229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134136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3141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14842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58920" y="162864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19" idx="1"/>
            <a:endCxn id="320" idx="1"/>
          </p:cNvCxnSpPr>
          <p:nvPr/>
        </p:nvCxnSpPr>
        <p:spPr>
          <a:xfrm flipV="1" rot="10800000">
            <a:off x="1186560" y="1412640"/>
            <a:ext cx="72360" cy="1800720"/>
          </a:xfrm>
          <a:prstGeom prst="curvedConnector5">
            <a:avLst>
              <a:gd name="adj1" fmla="val 1213000"/>
              <a:gd name="adj2" fmla="val 49990"/>
              <a:gd name="adj3" fmla="val 1213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4" name=""/>
          <p:cNvSpPr/>
          <p:nvPr/>
        </p:nvSpPr>
        <p:spPr>
          <a:xfrm>
            <a:off x="1116000" y="593424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1" idx="1"/>
            <a:endCxn id="324" idx="1"/>
          </p:cNvCxnSpPr>
          <p:nvPr/>
        </p:nvCxnSpPr>
        <p:spPr>
          <a:xfrm flipV="1" rot="10800000">
            <a:off x="1115280" y="1555560"/>
            <a:ext cx="143640" cy="4450320"/>
          </a:xfrm>
          <a:prstGeom prst="curvedConnector5">
            <a:avLst>
              <a:gd name="adj1" fmla="val 800000"/>
              <a:gd name="adj2" fmla="val 49995"/>
              <a:gd name="adj3" fmla="val 800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6" name=""/>
          <p:cNvSpPr/>
          <p:nvPr/>
        </p:nvSpPr>
        <p:spPr>
          <a:xfrm>
            <a:off x="4067280" y="32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14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1600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" name=""/>
          <p:cNvCxnSpPr>
            <a:stCxn id="326" idx="3"/>
            <a:endCxn id="328" idx="1"/>
          </p:cNvCxnSpPr>
          <p:nvPr/>
        </p:nvCxnSpPr>
        <p:spPr>
          <a:xfrm flipH="1">
            <a:off x="1115640" y="3284640"/>
            <a:ext cx="3240720" cy="1784880"/>
          </a:xfrm>
          <a:prstGeom prst="curvedConnector5">
            <a:avLst>
              <a:gd name="adj1" fmla="val -7054"/>
              <a:gd name="adj2" fmla="val 18176"/>
              <a:gd name="adj3" fmla="val -7054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0" name=""/>
          <p:cNvSpPr/>
          <p:nvPr/>
        </p:nvSpPr>
        <p:spPr>
          <a:xfrm>
            <a:off x="399564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1000" y="6021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30" idx="3"/>
            <a:endCxn id="331" idx="1"/>
          </p:cNvCxnSpPr>
          <p:nvPr/>
        </p:nvCxnSpPr>
        <p:spPr>
          <a:xfrm>
            <a:off x="4284360" y="5068440"/>
            <a:ext cx="1107000" cy="1024920"/>
          </a:xfrm>
          <a:prstGeom prst="curvedConnector5">
            <a:avLst>
              <a:gd name="adj1" fmla="val 49902"/>
              <a:gd name="adj2" fmla="val 50000"/>
              <a:gd name="adj3" fmla="val 49902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3" name=""/>
          <p:cNvSpPr/>
          <p:nvPr/>
        </p:nvSpPr>
        <p:spPr>
          <a:xfrm>
            <a:off x="8028000" y="6093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4" name=""/>
          <p:cNvCxnSpPr>
            <a:stCxn id="327" idx="3"/>
            <a:endCxn id="333" idx="3"/>
          </p:cNvCxnSpPr>
          <p:nvPr/>
        </p:nvCxnSpPr>
        <p:spPr>
          <a:xfrm>
            <a:off x="4429080" y="1484280"/>
            <a:ext cx="3888720" cy="4680720"/>
          </a:xfrm>
          <a:prstGeom prst="curvedConnector5">
            <a:avLst>
              <a:gd name="adj1" fmla="val 105879"/>
              <a:gd name="adj2" fmla="val 49996"/>
              <a:gd name="adj3" fmla="val 105879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35" name=""/>
          <p:cNvSpPr/>
          <p:nvPr/>
        </p:nvSpPr>
        <p:spPr>
          <a:xfrm>
            <a:off x="250920" y="2203560"/>
            <a:ext cx="4968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2263680"/>
            <a:ext cx="4824360" cy="158436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0920" y="4005360"/>
            <a:ext cx="4752720" cy="244800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333360"/>
            <a:ext cx="5473440" cy="1800360"/>
          </a:xfrm>
          <a:prstGeom prst="rect">
            <a:avLst/>
          </a:prstGeom>
          <a:blipFill rotWithShape="0">
            <a:blip r:embed="rId1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8000" y="333360"/>
            <a:ext cx="107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920" y="189000"/>
            <a:ext cx="8929800" cy="6480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740720" y="47628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59280" y="5043600"/>
            <a:ext cx="4033800" cy="1511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A5ABB-51FD-4FEA-890A-9AE5609637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6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7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5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2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4573440" y="2060640"/>
            <a:ext cx="1943280" cy="791640"/>
            <a:chOff x="4573440" y="2060640"/>
            <a:chExt cx="1943280" cy="791640"/>
          </a:xfrm>
        </p:grpSpPr>
        <p:sp>
          <p:nvSpPr>
            <p:cNvPr id="344" name=""/>
            <p:cNvSpPr/>
            <p:nvPr/>
          </p:nvSpPr>
          <p:spPr>
            <a:xfrm>
              <a:off x="4573440" y="2492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31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73440" y="2060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950160" y="2060640"/>
            <a:ext cx="1942920" cy="791640"/>
            <a:chOff x="6950160" y="2060640"/>
            <a:chExt cx="1942920" cy="791640"/>
          </a:xfrm>
        </p:grpSpPr>
        <p:sp>
          <p:nvSpPr>
            <p:cNvPr id="348" name=""/>
            <p:cNvSpPr/>
            <p:nvPr/>
          </p:nvSpPr>
          <p:spPr>
            <a:xfrm>
              <a:off x="695016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994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5016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09480" y="189000"/>
            <a:ext cx="1943280" cy="791640"/>
            <a:chOff x="609480" y="189000"/>
            <a:chExt cx="1943280" cy="791640"/>
          </a:xfrm>
        </p:grpSpPr>
        <p:sp>
          <p:nvSpPr>
            <p:cNvPr id="352" name=""/>
            <p:cNvSpPr/>
            <p:nvPr/>
          </p:nvSpPr>
          <p:spPr>
            <a:xfrm>
              <a:off x="60948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5916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914560" y="189000"/>
            <a:ext cx="1943280" cy="791640"/>
            <a:chOff x="2914560" y="189000"/>
            <a:chExt cx="1943280" cy="791640"/>
          </a:xfrm>
        </p:grpSpPr>
        <p:sp>
          <p:nvSpPr>
            <p:cNvPr id="356" name=""/>
            <p:cNvSpPr/>
            <p:nvPr/>
          </p:nvSpPr>
          <p:spPr>
            <a:xfrm>
              <a:off x="291456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6424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1456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835280" y="765000"/>
            <a:ext cx="1800000" cy="57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087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40280" y="26370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7000" y="2060640"/>
            <a:ext cx="1942920" cy="791640"/>
            <a:chOff x="27000" y="2060640"/>
            <a:chExt cx="1942920" cy="791640"/>
          </a:xfrm>
        </p:grpSpPr>
        <p:sp>
          <p:nvSpPr>
            <p:cNvPr id="363" name=""/>
            <p:cNvSpPr/>
            <p:nvPr/>
          </p:nvSpPr>
          <p:spPr>
            <a:xfrm>
              <a:off x="2700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763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00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230560" y="2060640"/>
            <a:ext cx="2116080" cy="791640"/>
            <a:chOff x="2230560" y="2060640"/>
            <a:chExt cx="2116080" cy="791640"/>
          </a:xfrm>
        </p:grpSpPr>
        <p:sp>
          <p:nvSpPr>
            <p:cNvPr id="367" name=""/>
            <p:cNvSpPr/>
            <p:nvPr/>
          </p:nvSpPr>
          <p:spPr>
            <a:xfrm>
              <a:off x="2230560" y="2492280"/>
              <a:ext cx="2116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30560" y="2060640"/>
              <a:ext cx="2116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9619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93840" y="34434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8440" y="2867040"/>
            <a:ext cx="1943280" cy="791640"/>
            <a:chOff x="28440" y="2867040"/>
            <a:chExt cx="1943280" cy="791640"/>
          </a:xfrm>
        </p:grpSpPr>
        <p:sp>
          <p:nvSpPr>
            <p:cNvPr id="373" name=""/>
            <p:cNvSpPr/>
            <p:nvPr/>
          </p:nvSpPr>
          <p:spPr>
            <a:xfrm>
              <a:off x="28440" y="32986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78120" y="32986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440" y="28670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573440" y="4767120"/>
            <a:ext cx="1942920" cy="792000"/>
            <a:chOff x="4573440" y="4767120"/>
            <a:chExt cx="1942920" cy="792000"/>
          </a:xfrm>
        </p:grpSpPr>
        <p:sp>
          <p:nvSpPr>
            <p:cNvPr id="377" name=""/>
            <p:cNvSpPr/>
            <p:nvPr/>
          </p:nvSpPr>
          <p:spPr>
            <a:xfrm flipV="1">
              <a:off x="5005080" y="519840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51360" y="519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344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950160" y="4767120"/>
            <a:ext cx="1942920" cy="792360"/>
            <a:chOff x="6950160" y="4767120"/>
            <a:chExt cx="1942920" cy="792360"/>
          </a:xfrm>
        </p:grpSpPr>
        <p:sp>
          <p:nvSpPr>
            <p:cNvPr id="381" name=""/>
            <p:cNvSpPr/>
            <p:nvPr/>
          </p:nvSpPr>
          <p:spPr>
            <a:xfrm>
              <a:off x="6950160" y="51991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99480" y="51991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5016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508720" y="447984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5840" y="693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49800" y="2565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5840" y="83664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85840" y="9810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160" y="3357720"/>
            <a:ext cx="687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1 0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29440" y="2637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67280" y="765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4560" y="2635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54560" y="26352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49800" y="5272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101080" y="53434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7840" y="1555920"/>
            <a:ext cx="496872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6600" y="4770360"/>
            <a:ext cx="1943280" cy="792360"/>
            <a:chOff x="66600" y="4770360"/>
            <a:chExt cx="1943280" cy="792360"/>
          </a:xfrm>
        </p:grpSpPr>
        <p:sp>
          <p:nvSpPr>
            <p:cNvPr id="398" name=""/>
            <p:cNvSpPr/>
            <p:nvPr/>
          </p:nvSpPr>
          <p:spPr>
            <a:xfrm>
              <a:off x="66600" y="52023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16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600" y="47703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270160" y="4770360"/>
            <a:ext cx="2116080" cy="792360"/>
            <a:chOff x="2270160" y="4770360"/>
            <a:chExt cx="2116080" cy="792360"/>
          </a:xfrm>
        </p:grpSpPr>
        <p:sp>
          <p:nvSpPr>
            <p:cNvPr id="402" name=""/>
            <p:cNvSpPr/>
            <p:nvPr/>
          </p:nvSpPr>
          <p:spPr>
            <a:xfrm>
              <a:off x="2270160" y="5202360"/>
              <a:ext cx="2116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92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70160" y="4770360"/>
              <a:ext cx="2116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01880" y="448308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33440" y="61531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9600" y="5576760"/>
            <a:ext cx="1943280" cy="792360"/>
            <a:chOff x="39600" y="5576760"/>
            <a:chExt cx="1943280" cy="792360"/>
          </a:xfrm>
        </p:grpSpPr>
        <p:sp>
          <p:nvSpPr>
            <p:cNvPr id="408" name=""/>
            <p:cNvSpPr/>
            <p:nvPr/>
          </p:nvSpPr>
          <p:spPr>
            <a:xfrm>
              <a:off x="39600" y="60087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89280" y="600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600" y="55767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17400" y="615168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52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9416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4000" y="609444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3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44880" y="25797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3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56720" y="2522520"/>
            <a:ext cx="687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7800" y="2565360"/>
            <a:ext cx="6876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400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78400" y="25653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03640" y="523080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   4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2124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450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40360" y="53737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956720" y="5230800"/>
            <a:ext cx="73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 1 8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 7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1520" y="7365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1 7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0" y="7509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2 5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64000" y="0"/>
            <a:ext cx="36007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ky hospodař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52799-8BC9-48D3-B8BC-4084A23709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mezi útv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ůbě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lavní podnikatelské či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lenitost procesu tvorby výkonu, široké spektrum servisních středisek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ky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průběžná kontrola hospodárnosti a motivace zaměstnanců k jejímu dodrž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vymezení pravomoci a odpovědnosti útvarů za činnosti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. zjištění skutečných a předem stanovených nákladů na jednotku 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e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znat a zobrazit vzta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mezi útvary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po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obrazení vztahů mezi útvar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rozpoznání a vymeze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oceně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21E92-80D7-4100-9406-3FF745B212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mezení a oceně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ích výkonů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mezení interních výkonů předpoklád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dentifikaci) výkonu (výkonů) útva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c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varianty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kutečné náklady na uskutečnění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le předběžných kalkulací a rozpočt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uží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externími sub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ržní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9C22B-94DF-477B-8587-9FDE66A37B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hitektonická kancelář (projekty investičních celk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zační struktura – útvary Projekce a Grafi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jekce – zpracování projektů, v současnosti 2 projekty (Letiště, Koupaliště), oba dokončeny a vyfakturovány za dohodnutou ce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ka – zpracování grafických prací pro útvar Projek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šechny náklady na projekty jsou přímé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í výkon = 1 hod práce grafika, předem st. náklady = 500Kč/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sah interních výkonů (předpokládaný rozsah byl dodržen)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00 hod pro Let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00 hod pro Koupal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B973F-140F-4377-B796-B67B69DEF1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989000"/>
          <a:ext cx="8229600" cy="4154760"/>
        </p:xfrm>
        <a:graphic>
          <a:graphicData uri="http://schemas.openxmlformats.org/drawingml/2006/table">
            <a:tbl>
              <a:tblPr/>
              <a:tblGrid>
                <a:gridCol w="2768760"/>
                <a:gridCol w="1820880"/>
                <a:gridCol w="181908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Prodejní cena v 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8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7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 5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náklady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 v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6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3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interní 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ý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543B5-2506-4214-8E77-0C5A3098F9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989000"/>
          <a:ext cx="8229600" cy="2934000"/>
        </p:xfrm>
        <a:graphic>
          <a:graphicData uri="http://schemas.openxmlformats.org/drawingml/2006/table">
            <a:tbl>
              <a:tblPr/>
              <a:tblGrid>
                <a:gridCol w="2768400"/>
                <a:gridCol w="1820880"/>
                <a:gridCol w="181944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4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18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ý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uteč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0CECE-A5E9-46D4-9F1F-59ABCC9CE6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e skuteč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utečné náklady na 1 hod práce grafika = 318 000 / 600 = 530 Kč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299736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9640" y="2925720"/>
            <a:ext cx="1436760" cy="1152360"/>
            <a:chOff x="539640" y="2925720"/>
            <a:chExt cx="1436760" cy="1152360"/>
          </a:xfrm>
        </p:grpSpPr>
        <p:sp>
          <p:nvSpPr>
            <p:cNvPr id="176" name=""/>
            <p:cNvSpPr/>
            <p:nvPr/>
          </p:nvSpPr>
          <p:spPr>
            <a:xfrm>
              <a:off x="539640" y="292572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5712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95280" y="256536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2997360"/>
            <a:ext cx="115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4)   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1 2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494160" y="2925720"/>
            <a:ext cx="1439640" cy="1152360"/>
            <a:chOff x="3494160" y="2925720"/>
            <a:chExt cx="1439640" cy="1152360"/>
          </a:xfrm>
        </p:grpSpPr>
        <p:sp>
          <p:nvSpPr>
            <p:cNvPr id="181" name=""/>
            <p:cNvSpPr/>
            <p:nvPr/>
          </p:nvSpPr>
          <p:spPr>
            <a:xfrm>
              <a:off x="349416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308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0920" y="2276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33800" y="5302080"/>
            <a:ext cx="100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4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495600" y="5230800"/>
            <a:ext cx="1440000" cy="1152360"/>
            <a:chOff x="3495600" y="5230800"/>
            <a:chExt cx="1440000" cy="1152360"/>
          </a:xfrm>
        </p:grpSpPr>
        <p:sp>
          <p:nvSpPr>
            <p:cNvPr id="186" name=""/>
            <p:cNvSpPr/>
            <p:nvPr/>
          </p:nvSpPr>
          <p:spPr>
            <a:xfrm>
              <a:off x="3495600" y="52308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14880" y="5230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349800" y="4581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0360" y="29973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302520" y="2925720"/>
            <a:ext cx="1439640" cy="1152360"/>
            <a:chOff x="6302520" y="2925720"/>
            <a:chExt cx="1439640" cy="1152360"/>
          </a:xfrm>
        </p:grpSpPr>
        <p:sp>
          <p:nvSpPr>
            <p:cNvPr id="191" name=""/>
            <p:cNvSpPr/>
            <p:nvPr/>
          </p:nvSpPr>
          <p:spPr>
            <a:xfrm>
              <a:off x="630252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2144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15636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– 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997360"/>
            <a:ext cx="100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56360" y="5300640"/>
            <a:ext cx="2663640" cy="93672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3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3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9DAF3-B07D-4BDC-8EEA-3DCD63E907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skuteč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řeúčtování skuteč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jistit výslednou kalkulaci finálních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čně-výkonové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ní možné sledovat odpovědnost za vynalož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mimo účetní systé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následně 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okamžiku předání výkonu nejsou k dispozici informace pro jeho ocenění (skutečné náklady je možno zjistit až dodatečně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33B4C-4479-4CAA-B440-1FA1066157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 předem stanove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01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10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27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34200" y="2276640"/>
            <a:ext cx="1009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1444E-DE9F-4A1E-A85E-3EB4C6028A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3:11:59Z</dcterms:created>
  <dc:creator>NOBODY</dc:creator>
  <dc:description/>
  <dc:language>en-US</dc:language>
  <cp:lastModifiedBy>mensikm</cp:lastModifiedBy>
  <dcterms:modified xsi:type="dcterms:W3CDTF">2009-10-21T09:11:02Z</dcterms:modified>
  <cp:revision>9</cp:revision>
  <dc:subject/>
  <dc:title>Rozpoznání a zobrazení vztahů mezi útvary a pojetí výnosů v nákladovém účetnictví</dc:title>
</cp:coreProperties>
</file>