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4036C9-BC83-496B-A0CA-35686E5B70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1B7D00-5FEC-4B48-B062-2BD8781C28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8BB8D6-3546-46B8-89D4-0D0545C751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483E86-2945-4E46-8852-49953B2A02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23EE8D-B616-4C0C-A80D-DD285C93CF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75F576-4E05-4D45-8C5E-AE59D81C2F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F0F6DD-FCD9-4F9E-94F5-6542E792B4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34B063-9E2A-4587-AB89-29479992F5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5DD629-FF10-4257-AB15-AD7C553F1F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FAFFCA-4232-461E-805E-3BDFE38473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769D4F-B0D3-4A95-A628-F664C17BB7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15CCA4-54AF-45D4-9BD9-ABD39A8C0F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spcAft>
                <a:spcPts val="499"/>
              </a:spcAft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spcAft>
                <a:spcPts val="499"/>
              </a:spcAft>
              <a:buSzPct val="11108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1"/>
          </p:nvPr>
        </p:nvSpPr>
        <p:spPr>
          <a:xfrm>
            <a:off x="468000" y="6248520"/>
            <a:ext cx="555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2427E-FB77-408E-A903-006AD6B7E55A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39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ftr" idx="3"/>
          </p:nvPr>
        </p:nvSpPr>
        <p:spPr>
          <a:xfrm>
            <a:off x="468360" y="6248520"/>
            <a:ext cx="8207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Kalkulace plných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a variabilních nákladů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79280" y="-2736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Zjišťování hospodářského výsledku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ři oceňování na úrovni variabilních náklad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50920" y="1052640"/>
            <a:ext cx="84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66326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ynaložené náklad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Zjištění H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85840" y="2681280"/>
            <a:ext cx="219852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ariabilní výrobní 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85840" y="3500280"/>
            <a:ext cx="21985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ariabilní prodejní 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6745320" y="1511280"/>
            <a:ext cx="1601640" cy="2493720"/>
            <a:chOff x="6745320" y="1511280"/>
            <a:chExt cx="1601640" cy="2493720"/>
          </a:xfrm>
        </p:grpSpPr>
        <p:sp>
          <p:nvSpPr>
            <p:cNvPr id="257" name=""/>
            <p:cNvSpPr/>
            <p:nvPr/>
          </p:nvSpPr>
          <p:spPr>
            <a:xfrm>
              <a:off x="6745320" y="1511280"/>
              <a:ext cx="1601640" cy="54504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ÝNOS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745320" y="2418120"/>
              <a:ext cx="1601640" cy="1586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ariabilní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áklady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odané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ýkon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108920" y="1925280"/>
              <a:ext cx="94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-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0" name=""/>
          <p:cNvGrpSpPr/>
          <p:nvPr/>
        </p:nvGrpSpPr>
        <p:grpSpPr>
          <a:xfrm>
            <a:off x="285840" y="5367240"/>
            <a:ext cx="2246040" cy="609480"/>
            <a:chOff x="285840" y="5367240"/>
            <a:chExt cx="2246040" cy="609480"/>
          </a:xfrm>
        </p:grpSpPr>
        <p:sp>
          <p:nvSpPr>
            <p:cNvPr id="261" name=""/>
            <p:cNvSpPr/>
            <p:nvPr/>
          </p:nvSpPr>
          <p:spPr>
            <a:xfrm>
              <a:off x="285840" y="5367240"/>
              <a:ext cx="2246040" cy="30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ixní prodejní 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85840" y="5671440"/>
              <a:ext cx="224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 na správu a řízení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3" name=""/>
          <p:cNvSpPr/>
          <p:nvPr/>
        </p:nvSpPr>
        <p:spPr>
          <a:xfrm>
            <a:off x="285840" y="5013360"/>
            <a:ext cx="224640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Fixní výrobní 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762600" y="5013360"/>
            <a:ext cx="1584360" cy="1008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xn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ákla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762600" y="639288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Zis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7051680" y="4494240"/>
            <a:ext cx="93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051680" y="5965920"/>
            <a:ext cx="93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615000" y="4363920"/>
            <a:ext cx="198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elková marž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7051680" y="3968640"/>
            <a:ext cx="93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556000" y="5038560"/>
            <a:ext cx="215640" cy="936720"/>
          </a:xfrm>
          <a:custGeom>
            <a:avLst/>
            <a:gdLst>
              <a:gd name="textAreaLeft" fmla="*/ 0 w 215640"/>
              <a:gd name="textAreaRight" fmla="*/ 77760 w 215640"/>
              <a:gd name="textAreaTop" fmla="*/ 24120 h 936720"/>
              <a:gd name="textAreaBottom" fmla="*/ 912600 h 93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71" name=""/>
          <p:cNvCxnSpPr>
            <a:stCxn id="270" idx="1"/>
            <a:endCxn id="264" idx="1"/>
          </p:cNvCxnSpPr>
          <p:nvPr/>
        </p:nvCxnSpPr>
        <p:spPr>
          <a:xfrm>
            <a:off x="2784600" y="5506560"/>
            <a:ext cx="3978720" cy="1188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72" name=""/>
          <p:cNvSpPr/>
          <p:nvPr/>
        </p:nvSpPr>
        <p:spPr>
          <a:xfrm>
            <a:off x="2914560" y="2492280"/>
            <a:ext cx="1513080" cy="720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edokončené výkon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788000" y="2492280"/>
            <a:ext cx="1512720" cy="720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tové výkon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74" name=""/>
          <p:cNvCxnSpPr>
            <a:stCxn id="254" idx="3"/>
            <a:endCxn id="272" idx="1"/>
          </p:cNvCxnSpPr>
          <p:nvPr/>
        </p:nvCxnSpPr>
        <p:spPr>
          <a:xfrm flipV="1">
            <a:off x="2484000" y="2851920"/>
            <a:ext cx="430920" cy="396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6732720" y="3500280"/>
            <a:ext cx="219852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76" name=""/>
          <p:cNvCxnSpPr>
            <a:stCxn id="255" idx="3"/>
            <a:endCxn id="275" idx="1"/>
          </p:cNvCxnSpPr>
          <p:nvPr/>
        </p:nvCxnSpPr>
        <p:spPr>
          <a:xfrm flipV="1">
            <a:off x="2484000" y="3674880"/>
            <a:ext cx="4249080" cy="216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77" name=""/>
          <p:cNvCxnSpPr>
            <a:stCxn id="272" idx="3"/>
            <a:endCxn id="273" idx="1"/>
          </p:cNvCxnSpPr>
          <p:nvPr/>
        </p:nvCxnSpPr>
        <p:spPr>
          <a:xfrm>
            <a:off x="4427280" y="2852280"/>
            <a:ext cx="361080" cy="108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78" name=""/>
          <p:cNvSpPr/>
          <p:nvPr/>
        </p:nvSpPr>
        <p:spPr>
          <a:xfrm>
            <a:off x="6732720" y="2682720"/>
            <a:ext cx="219852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79" name=""/>
          <p:cNvCxnSpPr>
            <a:stCxn id="273" idx="3"/>
            <a:endCxn id="278" idx="1"/>
          </p:cNvCxnSpPr>
          <p:nvPr/>
        </p:nvCxnSpPr>
        <p:spPr>
          <a:xfrm>
            <a:off x="6300720" y="2852640"/>
            <a:ext cx="432720" cy="576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ce plných a variabilních 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E33A5F-BAB7-4472-87E9-7B6B1D9BD5A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1" dur="indefinite" restart="never" nodeType="tmRoot">
          <p:childTnLst>
            <p:seq>
              <p:cTn id="582" dur="indefinite" nodeType="mainSeq">
                <p:childTnLst>
                  <p:par>
                    <p:cTn id="583" fill="hold">
                      <p:stCondLst>
                        <p:cond delay="0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79280" y="-2736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Zjišťování hospodářského výsledku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ři oceňování na úrovni plných náklad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50920" y="1052640"/>
            <a:ext cx="84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66326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ynaložené náklad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Zjištění H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85840" y="2681280"/>
            <a:ext cx="219852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ariabilní výrobní 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85840" y="3500280"/>
            <a:ext cx="21985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ariabilní prodejní 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6745320" y="1511280"/>
            <a:ext cx="1601640" cy="2493720"/>
            <a:chOff x="6745320" y="1511280"/>
            <a:chExt cx="1601640" cy="2493720"/>
          </a:xfrm>
        </p:grpSpPr>
        <p:sp>
          <p:nvSpPr>
            <p:cNvPr id="285" name=""/>
            <p:cNvSpPr/>
            <p:nvPr/>
          </p:nvSpPr>
          <p:spPr>
            <a:xfrm>
              <a:off x="6745320" y="1511280"/>
              <a:ext cx="1601640" cy="54504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ÝNOS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745320" y="2418120"/>
              <a:ext cx="1601640" cy="1586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ariabilní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áklady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odané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ýkon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108920" y="1925280"/>
              <a:ext cx="94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-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8" name=""/>
          <p:cNvGrpSpPr/>
          <p:nvPr/>
        </p:nvGrpSpPr>
        <p:grpSpPr>
          <a:xfrm>
            <a:off x="285840" y="5556240"/>
            <a:ext cx="2246040" cy="609480"/>
            <a:chOff x="285840" y="5556240"/>
            <a:chExt cx="2246040" cy="609480"/>
          </a:xfrm>
        </p:grpSpPr>
        <p:sp>
          <p:nvSpPr>
            <p:cNvPr id="289" name=""/>
            <p:cNvSpPr/>
            <p:nvPr/>
          </p:nvSpPr>
          <p:spPr>
            <a:xfrm>
              <a:off x="285840" y="5556240"/>
              <a:ext cx="2246040" cy="30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ixní prodejní 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85840" y="5860440"/>
              <a:ext cx="224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 na správu a řízení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1" name=""/>
          <p:cNvSpPr/>
          <p:nvPr/>
        </p:nvSpPr>
        <p:spPr>
          <a:xfrm>
            <a:off x="285840" y="4970520"/>
            <a:ext cx="21985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Fixní výrobní 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762600" y="5013360"/>
            <a:ext cx="1584360" cy="1079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xní nákla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pravené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o aktivované fixní výrobní 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6762600" y="651816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Zis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051680" y="4494240"/>
            <a:ext cx="93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051680" y="6091200"/>
            <a:ext cx="93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615000" y="4363920"/>
            <a:ext cx="198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elková marž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7051680" y="3968640"/>
            <a:ext cx="93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914560" y="2492280"/>
            <a:ext cx="1513080" cy="720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edokončené výkon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788000" y="2492280"/>
            <a:ext cx="1512720" cy="720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tové výkon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00" name=""/>
          <p:cNvCxnSpPr>
            <a:stCxn id="282" idx="3"/>
            <a:endCxn id="298" idx="1"/>
          </p:cNvCxnSpPr>
          <p:nvPr/>
        </p:nvCxnSpPr>
        <p:spPr>
          <a:xfrm flipV="1">
            <a:off x="2484000" y="2851920"/>
            <a:ext cx="430920" cy="396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01" name=""/>
          <p:cNvSpPr/>
          <p:nvPr/>
        </p:nvSpPr>
        <p:spPr>
          <a:xfrm>
            <a:off x="6732720" y="3500280"/>
            <a:ext cx="219852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02" name=""/>
          <p:cNvCxnSpPr>
            <a:stCxn id="283" idx="3"/>
            <a:endCxn id="301" idx="1"/>
          </p:cNvCxnSpPr>
          <p:nvPr/>
        </p:nvCxnSpPr>
        <p:spPr>
          <a:xfrm flipV="1">
            <a:off x="2484000" y="3674880"/>
            <a:ext cx="4249080" cy="216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03" name=""/>
          <p:cNvCxnSpPr>
            <a:stCxn id="298" idx="3"/>
            <a:endCxn id="299" idx="1"/>
          </p:cNvCxnSpPr>
          <p:nvPr/>
        </p:nvCxnSpPr>
        <p:spPr>
          <a:xfrm>
            <a:off x="4427280" y="2852280"/>
            <a:ext cx="361080" cy="108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6732720" y="2682720"/>
            <a:ext cx="219852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05" name=""/>
          <p:cNvCxnSpPr>
            <a:stCxn id="299" idx="3"/>
            <a:endCxn id="304" idx="1"/>
          </p:cNvCxnSpPr>
          <p:nvPr/>
        </p:nvCxnSpPr>
        <p:spPr>
          <a:xfrm>
            <a:off x="6300720" y="2852640"/>
            <a:ext cx="432720" cy="576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06" name=""/>
          <p:cNvSpPr/>
          <p:nvPr/>
        </p:nvSpPr>
        <p:spPr>
          <a:xfrm>
            <a:off x="2914560" y="4797360"/>
            <a:ext cx="1513080" cy="720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Nedokončené výkon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788000" y="4797360"/>
            <a:ext cx="1512720" cy="720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Hotové výkon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08" name=""/>
          <p:cNvCxnSpPr>
            <a:stCxn id="306" idx="3"/>
            <a:endCxn id="307" idx="1"/>
          </p:cNvCxnSpPr>
          <p:nvPr/>
        </p:nvCxnSpPr>
        <p:spPr>
          <a:xfrm>
            <a:off x="4427280" y="5157360"/>
            <a:ext cx="361080" cy="108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09" name=""/>
          <p:cNvCxnSpPr>
            <a:stCxn id="291" idx="3"/>
            <a:endCxn id="306" idx="1"/>
          </p:cNvCxnSpPr>
          <p:nvPr/>
        </p:nvCxnSpPr>
        <p:spPr>
          <a:xfrm>
            <a:off x="2484000" y="5146200"/>
            <a:ext cx="430920" cy="1188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10" name=""/>
          <p:cNvSpPr/>
          <p:nvPr/>
        </p:nvSpPr>
        <p:spPr>
          <a:xfrm>
            <a:off x="6732720" y="4984920"/>
            <a:ext cx="219852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11" name=""/>
          <p:cNvCxnSpPr>
            <a:stCxn id="307" idx="3"/>
            <a:endCxn id="310" idx="1"/>
          </p:cNvCxnSpPr>
          <p:nvPr/>
        </p:nvCxnSpPr>
        <p:spPr>
          <a:xfrm>
            <a:off x="6300720" y="5157360"/>
            <a:ext cx="432720" cy="252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6732720" y="5734080"/>
            <a:ext cx="219852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484360" y="5589720"/>
            <a:ext cx="142920" cy="647640"/>
          </a:xfrm>
          <a:custGeom>
            <a:avLst/>
            <a:gdLst>
              <a:gd name="textAreaLeft" fmla="*/ 0 w 142920"/>
              <a:gd name="textAreaRight" fmla="*/ 51480 w 142920"/>
              <a:gd name="textAreaTop" fmla="*/ 16560 h 647640"/>
              <a:gd name="textAreaBottom" fmla="*/ 6310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14" name=""/>
          <p:cNvCxnSpPr>
            <a:stCxn id="313" idx="1"/>
            <a:endCxn id="312" idx="1"/>
          </p:cNvCxnSpPr>
          <p:nvPr/>
        </p:nvCxnSpPr>
        <p:spPr>
          <a:xfrm flipV="1">
            <a:off x="2639520" y="5907960"/>
            <a:ext cx="4093560" cy="540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ce plných a variabilních 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9D41F5-F9C8-4693-A043-A555D819577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3" dur="indefinite" restart="never" nodeType="tmRoot">
          <p:childTnLst>
            <p:seq>
              <p:cTn id="634" dur="indefinite" nodeType="mainSeq">
                <p:childTnLst>
                  <p:par>
                    <p:cTn id="635" fill="hold">
                      <p:stCondLst>
                        <p:cond delay="0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7" nodeType="with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3" nodeType="with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říklad – vliv kalkulace na hospodářský výsledek (homogenní výrobek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16" name=""/>
          <p:cNvGraphicFramePr/>
          <p:nvPr/>
        </p:nvGraphicFramePr>
        <p:xfrm>
          <a:off x="457200" y="2060640"/>
          <a:ext cx="8002440" cy="2004840"/>
        </p:xfrm>
        <a:graphic>
          <a:graphicData uri="http://schemas.openxmlformats.org/drawingml/2006/table">
            <a:tbl>
              <a:tblPr/>
              <a:tblGrid>
                <a:gridCol w="2979720"/>
                <a:gridCol w="2608200"/>
                <a:gridCol w="2414520"/>
              </a:tblGrid>
              <a:tr h="346680"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Položk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Celkem na 500 000 k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Na 1 k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668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Jednicový materiá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3 0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668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Jednicové mzd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 0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2100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Výrobní režijní náklad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- z toho variabilní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4 0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 0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668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Celke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8 0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17" name=""/>
          <p:cNvSpPr/>
          <p:nvPr/>
        </p:nvSpPr>
        <p:spPr>
          <a:xfrm>
            <a:off x="395280" y="1484280"/>
            <a:ext cx="81374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ředem stanovené náklady pro 1 obdob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95280" y="4149720"/>
            <a:ext cx="8137440" cy="20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 období 1. – 3. stabilní objem výroby = 500 000 ks / obdob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bjemy prodeje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 období = 500 000 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 období = 300 000 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. období = 700 000 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edochází k absolutní úspoře ani překročení nákladů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dejní cena = 18 Kč / ks (stabilní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ce plných a variabilních 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B25267-60C5-4CA1-B03E-96A410D00DB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9" dur="indefinite" restart="never" nodeType="tmRoot">
          <p:childTnLst>
            <p:seq>
              <p:cTn id="700" dur="indefinite" nodeType="mainSeq">
                <p:childTnLst>
                  <p:par>
                    <p:cTn id="701" fill="hold">
                      <p:stCondLst>
                        <p:cond delay="0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395280" y="115920"/>
            <a:ext cx="81374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zjištění HV při ocenění výkonů na úrovni plných nákladů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20" name=""/>
          <p:cNvGraphicFramePr/>
          <p:nvPr/>
        </p:nvGraphicFramePr>
        <p:xfrm>
          <a:off x="457200" y="608040"/>
          <a:ext cx="8147160" cy="2409840"/>
        </p:xfrm>
        <a:graphic>
          <a:graphicData uri="http://schemas.openxmlformats.org/drawingml/2006/table">
            <a:tbl>
              <a:tblPr/>
              <a:tblGrid>
                <a:gridCol w="2287440"/>
                <a:gridCol w="2003400"/>
                <a:gridCol w="2001960"/>
                <a:gridCol w="1854360"/>
              </a:tblGrid>
              <a:tr h="318960"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Období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932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Výroba (k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896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Prodej (k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3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7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6664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Výnosy z prodeje výrobků (Kč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9 0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(18</a:t>
                      </a: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r>
                        <a:rPr b="0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00 000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 4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(18</a:t>
                      </a: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r>
                        <a:rPr b="0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300 000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2 6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(18</a:t>
                      </a: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r>
                        <a:rPr b="0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700 000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6700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Náklady prodaných výrobků (Kč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- 8 0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(16</a:t>
                      </a:r>
                      <a:r>
                        <a:rPr b="0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r>
                        <a:rPr b="0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500 000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- 4 8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(16</a:t>
                      </a:r>
                      <a:r>
                        <a:rPr b="0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r>
                        <a:rPr b="0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300 000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- 11 2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(16</a:t>
                      </a:r>
                      <a:r>
                        <a:rPr b="0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r>
                        <a:rPr b="0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700 000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896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Zisk (Kč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 0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6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1 4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21" name=""/>
          <p:cNvSpPr/>
          <p:nvPr/>
        </p:nvSpPr>
        <p:spPr>
          <a:xfrm>
            <a:off x="395280" y="3098880"/>
            <a:ext cx="81374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zjištění HV při ocenění výkonů na úrovni variabilních nákladů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22" name=""/>
          <p:cNvGraphicFramePr/>
          <p:nvPr/>
        </p:nvGraphicFramePr>
        <p:xfrm>
          <a:off x="468360" y="3602160"/>
          <a:ext cx="8147160" cy="3047760"/>
        </p:xfrm>
        <a:graphic>
          <a:graphicData uri="http://schemas.openxmlformats.org/drawingml/2006/table">
            <a:tbl>
              <a:tblPr/>
              <a:tblGrid>
                <a:gridCol w="2287440"/>
                <a:gridCol w="2003400"/>
                <a:gridCol w="2001960"/>
                <a:gridCol w="1854360"/>
              </a:tblGrid>
              <a:tr h="318960"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Období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896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Výroba (k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932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Prodej (k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3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7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6664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Výnosy z prodeje výrobků (Kč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9 0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(18</a:t>
                      </a: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r>
                        <a:rPr b="0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00 000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 4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(18</a:t>
                      </a: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r>
                        <a:rPr b="0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300 000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2 6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(18</a:t>
                      </a: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r>
                        <a:rPr b="0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700 000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6664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Náklady prodaných výrobků (Kč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- 5 0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(10</a:t>
                      </a:r>
                      <a:r>
                        <a:rPr b="0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r>
                        <a:rPr b="0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500 000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- 3 0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(10</a:t>
                      </a:r>
                      <a:r>
                        <a:rPr b="0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r>
                        <a:rPr b="0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300 000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- 7 0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(10</a:t>
                      </a:r>
                      <a:r>
                        <a:rPr b="0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r>
                        <a:rPr b="0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700 000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932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Marže I (Kč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4 0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2 4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5 6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896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Fixní náklady (Kč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- 3 0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- 3 0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- 3 0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896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Zisk (Kč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 0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- 6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2 6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6" dur="indefinite" restart="never" nodeType="tmRoot">
          <p:childTnLst>
            <p:seq>
              <p:cTn id="717" dur="indefinite" nodeType="mainSeq">
                <p:childTnLst>
                  <p:par>
                    <p:cTn id="718" fill="hold">
                      <p:stCondLst>
                        <p:cond delay="0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rovnání rozdílu HV ve 2. období při ocenění kalkulací variabilních nákladů a plných nákladů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24" name=""/>
          <p:cNvGraphicFramePr/>
          <p:nvPr/>
        </p:nvGraphicFramePr>
        <p:xfrm>
          <a:off x="468360" y="1773360"/>
          <a:ext cx="8136000" cy="4109760"/>
        </p:xfrm>
        <a:graphic>
          <a:graphicData uri="http://schemas.openxmlformats.org/drawingml/2006/table">
            <a:tbl>
              <a:tblPr/>
              <a:tblGrid>
                <a:gridCol w="2957400"/>
                <a:gridCol w="2590920"/>
                <a:gridCol w="2587680"/>
              </a:tblGrid>
              <a:tr h="566640"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Kalkulace variabilních nákladů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Kalkulace plných nákladů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896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Výroba (k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932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Prodej (k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3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3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6664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Výnosy z prodeje výrobků (Kč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 4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(18</a:t>
                      </a: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r>
                        <a:rPr b="0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300 000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 4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(18</a:t>
                      </a: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r>
                        <a:rPr b="0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300 000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6664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Variabilní náklady (Kč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- 3 0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(10</a:t>
                      </a: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r>
                        <a:rPr b="0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300 000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- 3 0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(10</a:t>
                      </a: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r>
                        <a:rPr b="0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300 000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932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Marže I (Kč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 4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 4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6664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Fixní náklady vynaložené v období (Kč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- 3 0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- 3 0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6664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Aktivované fixní náklady v zásobách (Kč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+ 1 2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896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Zisk (Kč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- 6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+ 6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ce plných a variabilních 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751D19-3C38-48BC-AE05-FE35F71D6CA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2" dur="indefinite" restart="never" nodeType="tmRoot">
          <p:childTnLst>
            <p:seq>
              <p:cTn id="733" dur="indefinite" nodeType="mainSeq">
                <p:childTnLst>
                  <p:par>
                    <p:cTn id="734" fill="hold">
                      <p:stCondLst>
                        <p:cond delay="0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ariantnost sestavení kalkulac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35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alkulace se sestavují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ariantn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 ohledem na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rozhodovací úloh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dlišnosti v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rozsahu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kalkulovaných nákladů,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řaze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položek,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odrobnosti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členění,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struktuř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mezisoučtů, vztahu ke kalkulaci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cen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základní přístupy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alkulace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lných náklad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přiřazuje výkonu všechny náklady vynaložené při jeho vytvoření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vychází z odlišení přímých a nepřímých náklad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 kalkulace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ariabilních náklad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vychází z odlišení variabilních a fixních náklad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přiřazuje výkonu buď pouze variabilní náklady nebo odděleně variabilní a fixní náklad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ce plných a variabilních 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6D86B8-6993-490D-9C8C-752DE89E816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500"/>
                            </p:stCondLst>
                            <p:childTnLst>
                              <p:par>
                                <p:cTn id="3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řednosti a omezení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kalkulace plných náklad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36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Wingdings"/>
                <a:ea typeface="Wingdings"/>
              </a:rPr>
              <a:t>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je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statická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→ odpovídá pouze jedné variantě objemu a sortimentu výkon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Wingdings"/>
                <a:ea typeface="Wingdings"/>
              </a:rPr>
              <a:t>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je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arbitrár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→ přiřazuje i náklady bez zřetelné příčinné vazby k výkon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Wingdings"/>
                <a:ea typeface="Wingdings"/>
              </a:rPr>
              <a:t>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skutečnou výši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nákladů je možné zjistit až se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zpožděním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→ je nutná informace o objemu a struktuře výkonů vytvořených za obdob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Wingdings"/>
                <a:ea typeface="Wingdings"/>
              </a:rPr>
              <a:t>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e východiskem pro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cenovou politiku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zejména z dlouhodobého hledisk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Wingdings"/>
                <a:ea typeface="Wingdings"/>
              </a:rPr>
              <a:t>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e podkladem pro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měření konkurenceschopnosti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podniku v rámci sektor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Wingdings"/>
                <a:ea typeface="Wingdings"/>
              </a:rPr>
              <a:t>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e nástrojem pro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analýzu a porovnání ziskovosti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výkonů a služeb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Wingdings"/>
                <a:ea typeface="Wingdings"/>
              </a:rPr>
              <a:t>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e nástrojem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hodnotového říze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→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umožňuje kvantifikovat vliv využití fixních nákladů na vývoj zisku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ce plných a variabilních 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670C7D-5F47-4738-9A9A-9B36DE69EBF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50920" y="27756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říklad – omezení kalkulace plných nákladů při rozhodování o struktuře výkonů (I.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457200" y="1798560"/>
          <a:ext cx="8002080" cy="2005200"/>
        </p:xfrm>
        <a:graphic>
          <a:graphicData uri="http://schemas.openxmlformats.org/drawingml/2006/table">
            <a:tbl>
              <a:tblPr/>
              <a:tblGrid>
                <a:gridCol w="2979360"/>
                <a:gridCol w="2608560"/>
                <a:gridCol w="2414160"/>
              </a:tblGrid>
              <a:tr h="346680"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Výrobe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668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Cena (k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668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Plné náklady (k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2100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Objem výroby a prodeje v roce 200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6680">
                <a:tc gridSpan="3"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Zisk podniku = 30</a:t>
                      </a: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 000 + 15</a:t>
                      </a: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0 000 - 25</a:t>
                      </a: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 000 - 16</a:t>
                      </a: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0 000 = 3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66" name=""/>
          <p:cNvSpPr/>
          <p:nvPr/>
        </p:nvSpPr>
        <p:spPr>
          <a:xfrm>
            <a:off x="468360" y="3848040"/>
            <a:ext cx="8136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yplatí se vyrábět a prodávat ztrátový výrobek B i v roce 2008, pokud máte k dispozici následující podrobnější informace o kalkulaci nákladů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 víte, že fixní náklady jsou společné oběma výkonům a nejsou v roce 2008 ovlivnitelné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468360" y="5040360"/>
          <a:ext cx="8002440" cy="1384200"/>
        </p:xfrm>
        <a:graphic>
          <a:graphicData uri="http://schemas.openxmlformats.org/drawingml/2006/table">
            <a:tbl>
              <a:tblPr/>
              <a:tblGrid>
                <a:gridCol w="2979720"/>
                <a:gridCol w="2608200"/>
                <a:gridCol w="2414520"/>
              </a:tblGrid>
              <a:tr h="346680"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Výrobe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668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Variabilní náklady (k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668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Fixní náklady (k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668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Plné náklady (k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ce plných a variabilních 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90FB97-30DD-4A86-BF47-1DEC78A1E8A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2" dur="8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3" dur="8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" dur="8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7720"/>
                            </p:stCondLst>
                            <p:childTnLst>
                              <p:par>
                                <p:cTn id="9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50560" y="277560"/>
            <a:ext cx="8785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říklad – omezení kalkulace plných nákladů při rozhodování o struktuře výkonů (II.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1800360"/>
                <a:tab algn="l" pos="5114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porovnání podle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plné nákladové náročnost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ctr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1800360"/>
                <a:tab algn="l" pos="5114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ffffff"/>
                </a:solidFill>
                <a:latin typeface="Arial"/>
              </a:rPr>
              <a:t>15 Kč (cena)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&lt;</a:t>
            </a:r>
            <a:r>
              <a:rPr b="1" i="1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 16 Kč (plné náklady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1800360"/>
                <a:tab algn="l" pos="5114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  <a:ea typeface="Arial"/>
              </a:rPr>
              <a:t>NEVYRÁBĚT B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ctr">
              <a:spcAft>
                <a:spcPts val="499"/>
              </a:spcAft>
              <a:buNone/>
              <a:tabLst>
                <a:tab algn="l" pos="0"/>
                <a:tab algn="l" pos="1800360"/>
                <a:tab algn="l" pos="5114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------------------------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1800360"/>
                <a:tab algn="l" pos="5114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porovnání při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  <a:ea typeface="Arial Unicode MS"/>
              </a:rPr>
              <a:t>odlišení variabilních a fixních nákladů</a:t>
            </a:r>
            <a:r>
              <a:rPr b="1" i="1" lang="cs-CZ" sz="2000" spc="-1" strike="noStrike">
                <a:solidFill>
                  <a:srgbClr val="ff9900"/>
                </a:solidFill>
                <a:latin typeface="Arial"/>
                <a:ea typeface="Arial Unicode MS"/>
              </a:rPr>
              <a:t>	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1800360"/>
                <a:tab algn="l" pos="5114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	</a:t>
            </a:r>
            <a:r>
              <a:rPr b="1" i="1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	</a:t>
            </a:r>
            <a:r>
              <a:rPr b="1" i="1" lang="cs-CZ" sz="2000" spc="-1" strike="noStrike">
                <a:solidFill>
                  <a:srgbClr val="ffffff"/>
                </a:solidFill>
                <a:latin typeface="Arial"/>
              </a:rPr>
              <a:t>Marže</a:t>
            </a:r>
            <a:r>
              <a:rPr b="1" i="1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 A = (30-20)* 10 000</a:t>
            </a:r>
            <a:r>
              <a:rPr b="1" i="1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	</a:t>
            </a:r>
            <a:r>
              <a:rPr b="1" i="1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= 100 00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1800360"/>
                <a:tab algn="l" pos="5114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	</a:t>
            </a:r>
            <a:r>
              <a:rPr b="1" i="1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	</a:t>
            </a:r>
            <a:r>
              <a:rPr b="1" i="1" lang="cs-CZ" sz="2000" spc="-1" strike="noStrike">
                <a:solidFill>
                  <a:srgbClr val="ffffff"/>
                </a:solidFill>
                <a:latin typeface="Arial"/>
              </a:rPr>
              <a:t>Marže</a:t>
            </a:r>
            <a:r>
              <a:rPr b="1" i="1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 B</a:t>
            </a:r>
            <a:r>
              <a:rPr b="1" i="1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	</a:t>
            </a:r>
            <a:r>
              <a:rPr b="1" i="1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= 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1800360"/>
                <a:tab algn="l" pos="5114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	</a:t>
            </a:r>
            <a:r>
              <a:rPr b="1" i="1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	</a:t>
            </a:r>
            <a:r>
              <a:rPr b="1" i="1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Fixní náklady</a:t>
            </a:r>
            <a:r>
              <a:rPr b="1" i="1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	</a:t>
            </a:r>
            <a:r>
              <a:rPr b="1" i="1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= 110 00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1800360"/>
                <a:tab algn="l" pos="5114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	</a:t>
            </a:r>
            <a:r>
              <a:rPr b="1" i="1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	</a:t>
            </a:r>
            <a:r>
              <a:rPr b="1" i="1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Zisk / ztráta</a:t>
            </a:r>
            <a:r>
              <a:rPr b="1" i="1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	</a:t>
            </a:r>
            <a:r>
              <a:rPr b="1" i="1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= - 10 00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1800360"/>
                <a:tab algn="l" pos="5114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	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  <a:ea typeface="Arial"/>
              </a:rPr>
              <a:t>VYRÁBĚT B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ce plných a variabilních 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69E0E0-6B76-4C5F-B59E-82FEC18E0F8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20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2000"/>
                            </p:stCondLst>
                            <p:childTnLst>
                              <p:par>
                                <p:cTn id="12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3000"/>
                            </p:stCondLst>
                            <p:childTnLst>
                              <p:par>
                                <p:cTn id="12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4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5000"/>
                            </p:stCondLst>
                            <p:childTnLst>
                              <p:par>
                                <p:cTn id="13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6000"/>
                            </p:stCondLst>
                            <p:childTnLst>
                              <p:par>
                                <p:cTn id="13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Kalkulace variabilních náklad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ozlišuje náklady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odle příčin vznik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náklady vyvolané výkonem (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→ variabilní náklady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áklady vyvolané časem (→ fixní náklady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odporuje řešení řady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rozhodovacích úlo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o změnách v objemu a struktuře výkon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o limitu prodejních cen výkon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o posouzení přínosu výkonu k tvorbě zisku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ce plných a variabilních 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29E681-A979-4857-BAF6-582B65D6A2D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500"/>
                            </p:stCondLst>
                            <p:childTnLst>
                              <p:par>
                                <p:cTn id="15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000"/>
                            </p:stCondLst>
                            <p:childTnLst>
                              <p:par>
                                <p:cTn id="16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Kalkulační vzorc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06200" y="1341360"/>
            <a:ext cx="2160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diční kalkulace plných nákladů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411280" y="1341360"/>
            <a:ext cx="2376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ynamická kalkulace plných nákladů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572000" y="1341360"/>
            <a:ext cx="2232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trográdní kalkul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588000" y="1341360"/>
            <a:ext cx="2556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trográdní kalkulace se stupňovitým čl. F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79280" y="1986120"/>
            <a:ext cx="2016360" cy="50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Přímý materiá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411280" y="1987560"/>
            <a:ext cx="2016360" cy="50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Přímý materiá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643280" y="1989000"/>
            <a:ext cx="2016360" cy="50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Prodejní ce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877080" y="1989000"/>
            <a:ext cx="2016000" cy="50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Prodejní ce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79280" y="2506680"/>
            <a:ext cx="2016360" cy="50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Přímé mz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411280" y="2506680"/>
            <a:ext cx="2016360" cy="51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Přímé mz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643280" y="2506680"/>
            <a:ext cx="2016360" cy="50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- Variabilní nákla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877080" y="2506680"/>
            <a:ext cx="2016000" cy="50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- Variabilní nákla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79280" y="3025800"/>
            <a:ext cx="2016360" cy="50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Ostatní přímé 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411280" y="3040200"/>
            <a:ext cx="2016360" cy="50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Ostatní přímé 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643280" y="3025800"/>
            <a:ext cx="2016360" cy="50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= Marže výkon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877080" y="3025800"/>
            <a:ext cx="2016000" cy="50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= Marže výkonu 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9280" y="3543480"/>
            <a:ext cx="2016360" cy="50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99"/>
                </a:solidFill>
                <a:latin typeface="Times New Roman"/>
              </a:rPr>
              <a:t>Výrobní režie nepř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411280" y="4062240"/>
            <a:ext cx="2016360" cy="50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99"/>
                </a:solidFill>
                <a:latin typeface="Times New Roman"/>
              </a:rPr>
              <a:t>Výrobní režie nepř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643280" y="3543480"/>
            <a:ext cx="2016360" cy="50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- Fixní nákla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877080" y="3543480"/>
            <a:ext cx="2016000" cy="31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- FN výkon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79280" y="4062240"/>
            <a:ext cx="2016360" cy="50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Prodejní reži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411280" y="5086440"/>
            <a:ext cx="2016360" cy="50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Prodejní reži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643280" y="4062240"/>
            <a:ext cx="2016360" cy="50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= Průměrný zis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877080" y="3863880"/>
            <a:ext cx="2016000" cy="31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= Marže I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9280" y="4579920"/>
            <a:ext cx="2016360" cy="50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Správní reži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411280" y="6095880"/>
            <a:ext cx="2016360" cy="50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Správní reži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877080" y="4194000"/>
            <a:ext cx="2016000" cy="31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99"/>
                </a:solidFill>
                <a:latin typeface="Times New Roman"/>
              </a:rPr>
              <a:t>- FN skupiny výk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00" name=""/>
          <p:cNvCxnSpPr>
            <a:stCxn id="177" idx="3"/>
            <a:endCxn id="178" idx="1"/>
          </p:cNvCxnSpPr>
          <p:nvPr/>
        </p:nvCxnSpPr>
        <p:spPr>
          <a:xfrm>
            <a:off x="2195280" y="2238480"/>
            <a:ext cx="216360" cy="216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01" name=""/>
          <p:cNvCxnSpPr>
            <a:stCxn id="181" idx="3"/>
            <a:endCxn id="182" idx="1"/>
          </p:cNvCxnSpPr>
          <p:nvPr/>
        </p:nvCxnSpPr>
        <p:spPr>
          <a:xfrm>
            <a:off x="2195280" y="2759040"/>
            <a:ext cx="216360" cy="864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02" name=""/>
          <p:cNvCxnSpPr>
            <a:stCxn id="185" idx="3"/>
            <a:endCxn id="186" idx="1"/>
          </p:cNvCxnSpPr>
          <p:nvPr/>
        </p:nvCxnSpPr>
        <p:spPr>
          <a:xfrm>
            <a:off x="2195280" y="3278160"/>
            <a:ext cx="216360" cy="1512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</p:cxnSp>
      <p:sp>
        <p:nvSpPr>
          <p:cNvPr id="203" name=""/>
          <p:cNvSpPr/>
          <p:nvPr/>
        </p:nvSpPr>
        <p:spPr>
          <a:xfrm>
            <a:off x="2411280" y="3471840"/>
            <a:ext cx="2016360" cy="28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     </a:t>
            </a: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variabiln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411280" y="3760920"/>
            <a:ext cx="2016360" cy="28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     </a:t>
            </a: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fixn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411280" y="4494240"/>
            <a:ext cx="2016360" cy="28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     </a:t>
            </a: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variabiln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411280" y="4782960"/>
            <a:ext cx="2016360" cy="28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     </a:t>
            </a: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fixn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411280" y="5504040"/>
            <a:ext cx="2016360" cy="28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     </a:t>
            </a: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variabiln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411280" y="5792760"/>
            <a:ext cx="2016360" cy="28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     </a:t>
            </a: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fixn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09" name=""/>
          <p:cNvCxnSpPr>
            <a:stCxn id="189" idx="3"/>
            <a:endCxn id="190" idx="1"/>
          </p:cNvCxnSpPr>
          <p:nvPr/>
        </p:nvCxnSpPr>
        <p:spPr>
          <a:xfrm>
            <a:off x="2195280" y="3795840"/>
            <a:ext cx="216360" cy="51984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10" name=""/>
          <p:cNvCxnSpPr>
            <a:stCxn id="193" idx="3"/>
            <a:endCxn id="194" idx="1"/>
          </p:cNvCxnSpPr>
          <p:nvPr/>
        </p:nvCxnSpPr>
        <p:spPr>
          <a:xfrm>
            <a:off x="2195280" y="4314960"/>
            <a:ext cx="216360" cy="102456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11" name=""/>
          <p:cNvCxnSpPr>
            <a:stCxn id="197" idx="3"/>
            <a:endCxn id="198" idx="1"/>
          </p:cNvCxnSpPr>
          <p:nvPr/>
        </p:nvCxnSpPr>
        <p:spPr>
          <a:xfrm>
            <a:off x="2195280" y="4831920"/>
            <a:ext cx="216360" cy="151668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</p:cxnSp>
      <p:sp>
        <p:nvSpPr>
          <p:cNvPr id="212" name=""/>
          <p:cNvSpPr/>
          <p:nvPr/>
        </p:nvSpPr>
        <p:spPr>
          <a:xfrm>
            <a:off x="6877080" y="4524480"/>
            <a:ext cx="2016000" cy="31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= Marže II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877080" y="4843440"/>
            <a:ext cx="2016000" cy="31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- FN „závodu“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877080" y="5175360"/>
            <a:ext cx="2016000" cy="31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= Marže I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877080" y="5505480"/>
            <a:ext cx="2016000" cy="31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- FN podnik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877080" y="5837400"/>
            <a:ext cx="2016000" cy="50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= Průměrný zis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17" name=""/>
          <p:cNvCxnSpPr>
            <a:stCxn id="178" idx="3"/>
            <a:endCxn id="183" idx="1"/>
          </p:cNvCxnSpPr>
          <p:nvPr/>
        </p:nvCxnSpPr>
        <p:spPr>
          <a:xfrm>
            <a:off x="4427280" y="2239920"/>
            <a:ext cx="216360" cy="51984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18" name=""/>
          <p:cNvCxnSpPr>
            <a:stCxn id="182" idx="3"/>
            <a:endCxn id="183" idx="1"/>
          </p:cNvCxnSpPr>
          <p:nvPr/>
        </p:nvCxnSpPr>
        <p:spPr>
          <a:xfrm flipV="1">
            <a:off x="4427280" y="2758680"/>
            <a:ext cx="216360" cy="864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19" name=""/>
          <p:cNvCxnSpPr>
            <a:stCxn id="203" idx="3"/>
            <a:endCxn id="183" idx="1"/>
          </p:cNvCxnSpPr>
          <p:nvPr/>
        </p:nvCxnSpPr>
        <p:spPr>
          <a:xfrm flipV="1">
            <a:off x="4427280" y="2758320"/>
            <a:ext cx="216360" cy="85788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20" name=""/>
          <p:cNvCxnSpPr>
            <a:stCxn id="205" idx="3"/>
            <a:endCxn id="183" idx="1"/>
          </p:cNvCxnSpPr>
          <p:nvPr/>
        </p:nvCxnSpPr>
        <p:spPr>
          <a:xfrm flipV="1">
            <a:off x="4427280" y="2758320"/>
            <a:ext cx="216360" cy="188028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21" name=""/>
          <p:cNvCxnSpPr>
            <a:stCxn id="207" idx="3"/>
            <a:endCxn id="183" idx="1"/>
          </p:cNvCxnSpPr>
          <p:nvPr/>
        </p:nvCxnSpPr>
        <p:spPr>
          <a:xfrm flipV="1">
            <a:off x="4427280" y="2758680"/>
            <a:ext cx="216360" cy="289008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22" name=""/>
          <p:cNvCxnSpPr>
            <a:stCxn id="204" idx="3"/>
            <a:endCxn id="191" idx="1"/>
          </p:cNvCxnSpPr>
          <p:nvPr/>
        </p:nvCxnSpPr>
        <p:spPr>
          <a:xfrm flipV="1">
            <a:off x="4427280" y="3795480"/>
            <a:ext cx="216360" cy="11016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23" name=""/>
          <p:cNvCxnSpPr>
            <a:stCxn id="206" idx="3"/>
            <a:endCxn id="191" idx="1"/>
          </p:cNvCxnSpPr>
          <p:nvPr/>
        </p:nvCxnSpPr>
        <p:spPr>
          <a:xfrm flipV="1">
            <a:off x="4427280" y="3795480"/>
            <a:ext cx="216360" cy="113256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24" name=""/>
          <p:cNvCxnSpPr>
            <a:stCxn id="208" idx="3"/>
            <a:endCxn id="191" idx="1"/>
          </p:cNvCxnSpPr>
          <p:nvPr/>
        </p:nvCxnSpPr>
        <p:spPr>
          <a:xfrm flipV="1">
            <a:off x="4427280" y="3795840"/>
            <a:ext cx="216360" cy="214164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25" name=""/>
          <p:cNvCxnSpPr>
            <a:stCxn id="198" idx="3"/>
            <a:endCxn id="191" idx="1"/>
          </p:cNvCxnSpPr>
          <p:nvPr/>
        </p:nvCxnSpPr>
        <p:spPr>
          <a:xfrm flipV="1">
            <a:off x="4427280" y="3795480"/>
            <a:ext cx="216360" cy="255312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26" name=""/>
          <p:cNvCxnSpPr>
            <a:stCxn id="179" idx="3"/>
            <a:endCxn id="180" idx="1"/>
          </p:cNvCxnSpPr>
          <p:nvPr/>
        </p:nvCxnSpPr>
        <p:spPr>
          <a:xfrm>
            <a:off x="6659640" y="2241360"/>
            <a:ext cx="218160" cy="108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27" name=""/>
          <p:cNvCxnSpPr>
            <a:stCxn id="183" idx="3"/>
            <a:endCxn id="184" idx="1"/>
          </p:cNvCxnSpPr>
          <p:nvPr/>
        </p:nvCxnSpPr>
        <p:spPr>
          <a:xfrm>
            <a:off x="6659640" y="2758680"/>
            <a:ext cx="218160" cy="108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28" name=""/>
          <p:cNvCxnSpPr>
            <a:stCxn id="187" idx="3"/>
            <a:endCxn id="188" idx="1"/>
          </p:cNvCxnSpPr>
          <p:nvPr/>
        </p:nvCxnSpPr>
        <p:spPr>
          <a:xfrm>
            <a:off x="6659640" y="3277800"/>
            <a:ext cx="218160" cy="108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29" name=""/>
          <p:cNvCxnSpPr>
            <a:stCxn id="191" idx="3"/>
            <a:endCxn id="192" idx="1"/>
          </p:cNvCxnSpPr>
          <p:nvPr/>
        </p:nvCxnSpPr>
        <p:spPr>
          <a:xfrm flipV="1">
            <a:off x="6659640" y="3701160"/>
            <a:ext cx="218160" cy="9468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30" name=""/>
          <p:cNvCxnSpPr>
            <a:stCxn id="191" idx="3"/>
            <a:endCxn id="199" idx="1"/>
          </p:cNvCxnSpPr>
          <p:nvPr/>
        </p:nvCxnSpPr>
        <p:spPr>
          <a:xfrm>
            <a:off x="6659640" y="3795480"/>
            <a:ext cx="218160" cy="55764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31" name=""/>
          <p:cNvCxnSpPr>
            <a:stCxn id="191" idx="3"/>
            <a:endCxn id="213" idx="1"/>
          </p:cNvCxnSpPr>
          <p:nvPr/>
        </p:nvCxnSpPr>
        <p:spPr>
          <a:xfrm>
            <a:off x="6659640" y="3795480"/>
            <a:ext cx="218160" cy="120708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32" name=""/>
          <p:cNvCxnSpPr>
            <a:stCxn id="191" idx="3"/>
            <a:endCxn id="215" idx="1"/>
          </p:cNvCxnSpPr>
          <p:nvPr/>
        </p:nvCxnSpPr>
        <p:spPr>
          <a:xfrm>
            <a:off x="6659640" y="3795840"/>
            <a:ext cx="218160" cy="186912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B4EFCC-A93A-47D3-BD01-31181F31DF7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500"/>
                            </p:stCondLst>
                            <p:childTnLst>
                              <p:par>
                                <p:cTn id="18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1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1500"/>
                            </p:stCondLst>
                            <p:childTnLst>
                              <p:par>
                                <p:cTn id="18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2000"/>
                            </p:stCondLst>
                            <p:childTnLst>
                              <p:par>
                                <p:cTn id="18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2500"/>
                            </p:stCondLst>
                            <p:childTnLst>
                              <p:par>
                                <p:cTn id="19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2000"/>
                            </p:stCondLst>
                            <p:childTnLst>
                              <p:par>
                                <p:cTn id="2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3000"/>
                            </p:stCondLst>
                            <p:childTnLst>
                              <p:par>
                                <p:cTn id="207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4500"/>
                            </p:stCondLst>
                            <p:childTnLst>
                              <p:par>
                                <p:cTn id="2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5500"/>
                            </p:stCondLst>
                            <p:childTnLst>
                              <p:par>
                                <p:cTn id="215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7000"/>
                            </p:stCondLst>
                            <p:childTnLst>
                              <p:par>
                                <p:cTn id="2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8000"/>
                            </p:stCondLst>
                            <p:childTnLst>
                              <p:par>
                                <p:cTn id="223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9500"/>
                            </p:stCondLst>
                            <p:childTnLst>
                              <p:par>
                                <p:cTn id="2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31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12000"/>
                            </p:stCondLst>
                            <p:childTnLst>
                              <p:par>
                                <p:cTn id="2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3000"/>
                            </p:stCondLst>
                            <p:childTnLst>
                              <p:par>
                                <p:cTn id="239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1450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5500"/>
                            </p:stCondLst>
                            <p:childTnLst>
                              <p:par>
                                <p:cTn id="247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9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7500"/>
                            </p:stCondLst>
                            <p:childTnLst>
                              <p:par>
                                <p:cTn id="2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3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8500"/>
                            </p:stCondLst>
                            <p:childTnLst>
                              <p:par>
                                <p:cTn id="2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7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19500"/>
                            </p:stCondLst>
                            <p:childTnLst>
                              <p:par>
                                <p:cTn id="25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20500"/>
                            </p:stCondLst>
                            <p:childTnLst>
                              <p:par>
                                <p:cTn id="2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5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21500"/>
                            </p:stCondLst>
                            <p:childTnLst>
                              <p:par>
                                <p:cTn id="2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9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2500"/>
                            </p:stCondLst>
                            <p:childTnLst>
                              <p:par>
                                <p:cTn id="271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72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4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75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78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0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8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84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87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500"/>
                            </p:stCondLst>
                            <p:childTnLst>
                              <p:par>
                                <p:cTn id="297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9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3000"/>
                            </p:stCondLst>
                            <p:childTnLst>
                              <p:par>
                                <p:cTn id="3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3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5000"/>
                            </p:stCondLst>
                            <p:childTnLst>
                              <p:par>
                                <p:cTn id="3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7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7000"/>
                            </p:stCondLst>
                            <p:childTnLst>
                              <p:par>
                                <p:cTn id="30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1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9000"/>
                            </p:stCondLst>
                            <p:childTnLst>
                              <p:par>
                                <p:cTn id="31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5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11000"/>
                            </p:stCondLst>
                            <p:childTnLst>
                              <p:par>
                                <p:cTn id="31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2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12500"/>
                            </p:stCondLst>
                            <p:childTnLst>
                              <p:par>
                                <p:cTn id="323" nodeType="afterEffect" fill="hold" presetClass="exit" presetID="5" presetSubtype="10">
                                  <p:stCondLst>
                                    <p:cond delay="100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24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6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27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30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2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33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36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14500"/>
                            </p:stCondLst>
                            <p:childTnLst>
                              <p:par>
                                <p:cTn id="339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1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18500"/>
                            </p:stCondLst>
                            <p:childTnLst>
                              <p:par>
                                <p:cTn id="34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5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20500"/>
                            </p:stCondLst>
                            <p:childTnLst>
                              <p:par>
                                <p:cTn id="3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9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22500"/>
                            </p:stCondLst>
                            <p:childTnLst>
                              <p:par>
                                <p:cTn id="35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3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24500"/>
                            </p:stCondLst>
                            <p:childTnLst>
                              <p:par>
                                <p:cTn id="35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25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5500"/>
                            </p:stCondLst>
                            <p:childTnLst>
                              <p:par>
                                <p:cTn id="361" nodeType="afterEffect" fill="hold" presetClass="exit" presetID="5" presetSubtype="10">
                                  <p:stCondLst>
                                    <p:cond delay="100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62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4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65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68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0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71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0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1500"/>
                            </p:stCondLst>
                            <p:childTnLst>
                              <p:par>
                                <p:cTn id="3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4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2500"/>
                            </p:stCondLst>
                            <p:childTnLst>
                              <p:par>
                                <p:cTn id="386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4000"/>
                            </p:stCondLst>
                            <p:childTnLst>
                              <p:par>
                                <p:cTn id="3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2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5000"/>
                            </p:stCondLst>
                            <p:childTnLst>
                              <p:par>
                                <p:cTn id="394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6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6500"/>
                            </p:stCondLst>
                            <p:childTnLst>
                              <p:par>
                                <p:cTn id="3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0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7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10500"/>
                            </p:stCondLst>
                            <p:childTnLst>
                              <p:par>
                                <p:cTn id="4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8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12500"/>
                            </p:stCondLst>
                            <p:childTnLst>
                              <p:par>
                                <p:cTn id="410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3000"/>
                            </p:stCondLst>
                            <p:childTnLst>
                              <p:par>
                                <p:cTn id="413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5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15500"/>
                            </p:stCondLst>
                            <p:childTnLst>
                              <p:par>
                                <p:cTn id="4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9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17500"/>
                            </p:stCondLst>
                            <p:childTnLst>
                              <p:par>
                                <p:cTn id="421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18000"/>
                            </p:stCondLst>
                            <p:childTnLst>
                              <p:par>
                                <p:cTn id="424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6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20500"/>
                            </p:stCondLst>
                            <p:childTnLst>
                              <p:par>
                                <p:cTn id="4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0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22500"/>
                            </p:stCondLst>
                            <p:childTnLst>
                              <p:par>
                                <p:cTn id="432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23000"/>
                            </p:stCondLst>
                            <p:childTnLst>
                              <p:par>
                                <p:cTn id="435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25500"/>
                            </p:stCondLst>
                            <p:childTnLst>
                              <p:par>
                                <p:cTn id="4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1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27500"/>
                            </p:stCondLst>
                            <p:childTnLst>
                              <p:par>
                                <p:cTn id="443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28000"/>
                            </p:stCondLst>
                            <p:childTnLst>
                              <p:par>
                                <p:cTn id="446" nodeType="afterEffect" fill="hold" presetClass="exit" presetID="5" presetSubtype="10">
                                  <p:stCondLst>
                                    <p:cond delay="100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47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9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50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2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53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5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56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8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59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1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62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4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65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otivační důsledky kalkulace plných a variabilních náklad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 předem stanovených plných nákladech výkonu je započtena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konstantní část průměrných fixních náklad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ři porovnání lineárně přepočtených nákladů s jejich absolutní výší dochází k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relativní úspoře/překročení fixních náklad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(resp. překročené/nedostatečné úhradě fixních nákladů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hodné při motivaci útvarů na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yužití kapaci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826920" y="4294080"/>
            <a:ext cx="3600720" cy="16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RÚFN = FN / 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Plán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*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Skut 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– F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(při Q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Skut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&gt;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</a:rPr>
              <a:t>Plán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RPFN = FN - 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FN / 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Plán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*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Sku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(při Q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Skut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&gt;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</a:rPr>
              <a:t>Plán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162400" y="4191120"/>
            <a:ext cx="0" cy="1800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5162040" y="5991120"/>
            <a:ext cx="1800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830840" y="4191120"/>
            <a:ext cx="216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919920" y="6021360"/>
            <a:ext cx="216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515280" y="6021360"/>
            <a:ext cx="2156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cs-CZ" sz="1800" spc="-1" strike="noStrike" baseline="-25000">
                <a:solidFill>
                  <a:srgbClr val="ffffff"/>
                </a:solidFill>
                <a:latin typeface="Arial"/>
              </a:rPr>
              <a:t>Sku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924520" y="6021360"/>
            <a:ext cx="216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cs-CZ" sz="1800" spc="-1" strike="noStrike" baseline="-25000">
                <a:solidFill>
                  <a:srgbClr val="ffffff"/>
                </a:solidFill>
                <a:latin typeface="Arial"/>
              </a:rPr>
              <a:t>Plá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5162400" y="4981680"/>
            <a:ext cx="1729080" cy="2174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5162400" y="4406400"/>
            <a:ext cx="1511280" cy="158292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026040" y="4981680"/>
            <a:ext cx="0" cy="108432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531120" y="4478400"/>
            <a:ext cx="0" cy="158436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602400" y="4549680"/>
            <a:ext cx="71280" cy="432000"/>
          </a:xfrm>
          <a:custGeom>
            <a:avLst/>
            <a:gdLst>
              <a:gd name="textAreaLeft" fmla="*/ 0 w 71280"/>
              <a:gd name="textAreaRight" fmla="*/ 25560 w 71280"/>
              <a:gd name="textAreaTop" fmla="*/ 11160 h 432000"/>
              <a:gd name="textAreaBottom" fmla="*/ 420840 h 4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16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948360" y="4622760"/>
            <a:ext cx="216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RÚF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692760" y="4262400"/>
            <a:ext cx="216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CN</a:t>
            </a:r>
            <a:r>
              <a:rPr b="0" lang="cs-CZ" sz="1800" spc="-1" strike="noStrike" baseline="-25000">
                <a:solidFill>
                  <a:srgbClr val="ffffff"/>
                </a:solidFill>
                <a:latin typeface="Arial"/>
              </a:rPr>
              <a:t>L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= CN/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</a:rPr>
              <a:t>Plán</a:t>
            </a: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* 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Skut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877080" y="4941720"/>
            <a:ext cx="2160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ce plných a variabilních 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D23288-CC59-4F1B-A018-45E8ABC3561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0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1000"/>
                            </p:stCondLst>
                            <p:childTnLst>
                              <p:par>
                                <p:cTn id="498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0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3500"/>
                            </p:stCondLst>
                            <p:childTnLst>
                              <p:par>
                                <p:cTn id="50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fill="hold">
                            <p:stCondLst>
                              <p:cond delay="4000"/>
                            </p:stCondLst>
                            <p:childTnLst>
                              <p:par>
                                <p:cTn id="505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7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6500"/>
                            </p:stCondLst>
                            <p:childTnLst>
                              <p:par>
                                <p:cTn id="509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1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9000"/>
                            </p:stCondLst>
                            <p:childTnLst>
                              <p:par>
                                <p:cTn id="51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9500"/>
                            </p:stCondLst>
                            <p:childTnLst>
                              <p:par>
                                <p:cTn id="516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12000"/>
                            </p:stCondLst>
                            <p:childTnLst>
                              <p:par>
                                <p:cTn id="52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fill="hold">
                            <p:stCondLst>
                              <p:cond delay="12500"/>
                            </p:stCondLst>
                            <p:childTnLst>
                              <p:par>
                                <p:cTn id="523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7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2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15500"/>
                            </p:stCondLst>
                            <p:childTnLst>
                              <p:par>
                                <p:cTn id="53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6" dur="80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7" dur="80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8" dur="80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liv ocenění výkonů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 úrovni plných a variabilních nákladů na hospodářský výsledek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844640"/>
            <a:ext cx="83628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uvisí s vymezením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nákladů výkonu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nákladů obdob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kalkulace variabilních náklad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náklady výkonu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→ variabilní náklad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áklady období → fixní náklad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HV je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citlivý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na změn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v množství a struktuře prodaných výkon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motivační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působení na prodej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výkon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499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kalkulace plných náklad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áklady výkonu → variabilní náklady + fixní náklady spojené s vytvořením výkonu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áklady období → náklady správy a řízení + prodejní náklad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HV je při kolísání objemu a struktury prodeje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stabilizová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motivační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působení na výrobu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nikoli prodej výrobk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ce plných a variabilních 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280A54-EC6B-45C0-B879-179935F6C38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fill="hold">
                      <p:stCondLst>
                        <p:cond delay="0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500"/>
                            </p:stCondLst>
                            <p:childTnLst>
                              <p:par>
                                <p:cTn id="55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fill="hold">
                            <p:stCondLst>
                              <p:cond delay="1000"/>
                            </p:stCondLst>
                            <p:childTnLst>
                              <p:par>
                                <p:cTn id="56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2000"/>
                            </p:stCondLst>
                            <p:childTnLst>
                              <p:par>
                                <p:cTn id="56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fill="hold">
                            <p:stCondLst>
                              <p:cond delay="500"/>
                            </p:stCondLst>
                            <p:childTnLst>
                              <p:par>
                                <p:cTn id="57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fill="hold">
                            <p:stCondLst>
                              <p:cond delay="1000"/>
                            </p:stCondLst>
                            <p:childTnLst>
                              <p:par>
                                <p:cTn id="57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fill="hold">
                            <p:stCondLst>
                              <p:cond delay="2000"/>
                            </p:stCondLst>
                            <p:childTnLst>
                              <p:par>
                                <p:cTn id="57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7T06:41:02Z</dcterms:created>
  <dc:creator>NOBODY</dc:creator>
  <dc:description/>
  <dc:language>en-US</dc:language>
  <cp:lastModifiedBy>mensikm</cp:lastModifiedBy>
  <dcterms:modified xsi:type="dcterms:W3CDTF">2009-10-21T09:11:07Z</dcterms:modified>
  <cp:revision>14</cp:revision>
  <dc:subject/>
  <dc:title>Snímek 1</dc:title>
</cp:coreProperties>
</file>