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37C8B-3439-437E-BDBE-940B41834E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9E1A2-47F4-4DBB-A112-3D75FBF390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4A2D1-42D4-45FF-8385-3339D2A2DC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9A336-E043-4959-9B22-9DDC833852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90D33-5180-4080-A8A6-D626EEC345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CD2F1-CA53-466E-91A0-81BB9F13E8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9CA5C-A3C7-4592-93AA-57D037D8A5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4E6B5-A14D-4F20-BADE-96A2D34137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66F48-9EA3-4F55-A960-4995806C68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9B8C1-C359-4EF2-B86D-BAC401F230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4F2F8-ED8C-41CA-B937-261F32ECD4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FDC04-277D-4C84-9DD7-EA08CB0D6A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C3B3-6C90-45C8-8054-8168E668DF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ákladní souvislosti vývoje nákladů, výnosů a zisku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 model u nehomogenních výkon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průměrné variabilní náklady (v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a průměrná marže (příspěvek k tržbám, pt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eněžní jednotku výnosů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ázáno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onkrétní struktur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ůměrné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V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 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19404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de p vyjadřuje předem stanovenou strukturu sortimen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ůměrná marže (příspěvek k tržbá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/ 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1 -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N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+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ý zis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CV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– FN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CV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4AFFD-909B-49E8-BE18-B80D30A098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5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7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lišení nákladů v lineárním modelu pomocí matematickostatických met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zjištění fixní a variabilní složky nákladů by mělo vycházet z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primárního rozpoznání v kalkulacích, rozpočtech a účetním zobrazení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lze však v určitých situacích využít 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lineární model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ke zjištění fixní a variabilní složky nákla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metoda nejmenších čtverc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N = FN + v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k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FN 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-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/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(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 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-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/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(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metoda dvou bo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N1 = FN + v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* CV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N2 = FN + v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* CV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utno vycházet ze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srovnatelných údajů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a vylouči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neopakující se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nahodilé vliv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8F9B1-6B56-4922-8FB3-9A9292DDBB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é a nevyužité fix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fixní náklady se vztahují k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apacitě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Q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, kterou je možné lépe či hůře využí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ité FN odpovídaj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skutečnému využití kapacit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Q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yuž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FN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využité FN představují podíl nákladů vztahující se k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evyužité kapacitě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Ne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FN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nformace významná pro říz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těžnostní form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hospodár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68480" y="4365720"/>
            <a:ext cx="0" cy="1809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68480" y="6175440"/>
            <a:ext cx="4703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232680" y="4689360"/>
            <a:ext cx="0" cy="14875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51560" y="62704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87280" y="4365720"/>
            <a:ext cx="7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94640" y="4597560"/>
            <a:ext cx="1393560" cy="631800"/>
          </a:xfrm>
          <a:prstGeom prst="borderCallout1">
            <a:avLst>
              <a:gd name="adj1" fmla="val 18750"/>
              <a:gd name="adj2" fmla="val -8333"/>
              <a:gd name="adj3" fmla="val 118842"/>
              <a:gd name="adj4" fmla="val -2801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pacit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me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68480" y="5200560"/>
            <a:ext cx="426420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24480" y="4808520"/>
            <a:ext cx="7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27" idx="0"/>
            <a:endCxn id="233" idx="0"/>
          </p:cNvCxnSpPr>
          <p:nvPr/>
        </p:nvCxnSpPr>
        <p:spPr>
          <a:xfrm flipV="1">
            <a:off x="1968120" y="5216040"/>
            <a:ext cx="4264560" cy="9597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sp>
        <p:nvSpPr>
          <p:cNvPr id="236" name=""/>
          <p:cNvSpPr/>
          <p:nvPr/>
        </p:nvSpPr>
        <p:spPr>
          <a:xfrm>
            <a:off x="5864400" y="6269040"/>
            <a:ext cx="66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79720" y="6270480"/>
            <a:ext cx="66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5200560"/>
            <a:ext cx="1440" cy="465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98960" y="5711760"/>
            <a:ext cx="1440" cy="465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86320" y="5200560"/>
            <a:ext cx="441000" cy="511200"/>
          </a:xfrm>
          <a:custGeom>
            <a:avLst/>
            <a:gdLst>
              <a:gd name="textAreaLeft" fmla="*/ 281880 w 441000"/>
              <a:gd name="textAreaRight" fmla="*/ 441360 w 441000"/>
              <a:gd name="textAreaTop" fmla="*/ 13320 h 511200"/>
              <a:gd name="textAreaBottom" fmla="*/ 497880 h 511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98"/>
                </a:lnTo>
                <a:cubicBezTo>
                  <a:pt x="10800" y="10398"/>
                  <a:pt x="5400" y="11298"/>
                  <a:pt x="0" y="11298"/>
                </a:cubicBezTo>
                <a:cubicBezTo>
                  <a:pt x="5400" y="11298"/>
                  <a:pt x="10800" y="12198"/>
                  <a:pt x="10800" y="1309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36760" y="5342040"/>
            <a:ext cx="11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nevyuž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72040" y="5711760"/>
            <a:ext cx="515880" cy="465120"/>
          </a:xfrm>
          <a:custGeom>
            <a:avLst/>
            <a:gdLst>
              <a:gd name="textAreaLeft" fmla="*/ 0 w 515880"/>
              <a:gd name="textAreaRight" fmla="*/ 186120 w 515880"/>
              <a:gd name="textAreaTop" fmla="*/ 11880 h 465120"/>
              <a:gd name="textAreaBottom" fmla="*/ 453240 h 46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61000" y="571176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vyu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F4D0A-B082-46DD-BDF9-9BC0C40B6B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500"/>
                            </p:stCondLst>
                            <p:childTnLst>
                              <p:par>
                                <p:cTn id="5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5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členění nákladů na variabilní a fixní při řízení zis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vyjádření zisku v lineárním mode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= c * Q – v * Q – FN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od zvra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objem výkonů, při kterém se CN = CV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B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FN /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bjem výkonů pro dosaž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žadovaného zis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(FN + Z) /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aximál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še fix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vlivnitelné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Q *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– 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eovlivnitelné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Z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inimál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rodej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+ (FN + Z) /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aximální výš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ariabilních nákladů na jednot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(FN + Z) /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FA02D-AD56-4B63-9454-A31E9B6E2C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členění náklad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variabilní a fixní při řízení zis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 nehomogenních výkon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vyjádření zisku pro nehomogenní výkony při dané struktuř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= ∑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∑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FN = ∑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F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Z = (1 – v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) * CV – FN = pt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CV - F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od zvra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objem výnosů, při kterém se CN = CV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B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FN /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bjem výnosů pro dosaž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žadovaného zis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(FN + Z) /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(FN + Z) /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0B73D-473E-48E3-81A2-5BA75AF0E8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 na variabilní a fix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 začátku 20. století jedno z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jvýznamnějších čl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liv na většin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strojů manažerského účetnictv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alkulace, rozpočty, rozhodování o objemu a sortimentu ..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y – 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m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materiál, mzdy výkonných pracovníků, doprava ...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x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y – zajišťují podmínky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otenciá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činnost v určitém období v rozsahu limitované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pacit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l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N z hledisk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žnosti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volané způsobem zajištění činnosti (obsluha a řízení)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částečně ovlivniteln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rčené rozhodnutím podniku (propagace, výzkum, vzdělávání ...) → vysoce ovlivniteln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avidelně vynakládané v určité výši (časové odpisy, nájemné) → obtížná ovlivnitel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6BCC8-C779-4E11-BB03-3B0EE74BE9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lišení variabilních a fix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mnoha případech obtížné, vyplývá z odpovědí na otázk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á se o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pakovaně vkládan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měnícím se množstvím výkonů, či o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tenciá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á se o náklady vyvola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či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as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ariabil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jednotce výkonu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dávce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ix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dennímu, týdennímu, měsíčnímu, ročnímu ...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lišení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visí na potřebách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působ řízení a stanovení úkolu (normy, normativy, limi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znamnost nákladové polo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50833-F69D-48B6-B99B-B11CD9F59D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 model nákladů a výnos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znamný nástroj pro vyjádř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voje nákladů a výno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M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v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levantním rozpět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aková část nelineárního průběhu nákladu, ve které se variabilní náklady nejvíce přibližují proporcionálnímu vývoji a fixní náklady jsou konstant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ka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tendenci vývo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povídá analýz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ě vynaložený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minulých období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jadřuje způsob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ovení nákladového úkol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dalš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9C4B6-C5C3-4E04-A9AC-00B560B68C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poklady lineárního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í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žitnými vlastnostmi a kvalit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ra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stant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dávaného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ělené na variabilní a fix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xní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konstantní výš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stant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 náklady na jednot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ál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echnologie, produktivita prá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last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122FD-D3FF-4203-9B75-14FBA0622A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metry a formální vyjádře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ho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arametry mode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bjem výkonů v naturálním vyjádření (Q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odejní cena na jednotku výkonů (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ariabilní náklady na jednotku (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á výše fixních nákladů na vymezené období (FN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ální vyjád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výnos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V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N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N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Q +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812A9-B70F-433D-BBF4-0BF38B8D12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fické vyjádření lineárního model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celkové veliči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16360" y="1700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916360" y="6093000"/>
            <a:ext cx="43941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32000" y="1700280"/>
            <a:ext cx="1439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, VN, FN, 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16360" y="6165720"/>
            <a:ext cx="360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vantní rozpě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3280" y="1916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1916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16360" y="5227560"/>
            <a:ext cx="4394160" cy="18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915640" y="1217160"/>
            <a:ext cx="4281480" cy="48704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642920" y="4308840"/>
            <a:ext cx="1247040" cy="75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643640" y="3453840"/>
            <a:ext cx="1220760" cy="758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652640" y="2793960"/>
            <a:ext cx="1182600" cy="1293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0360" y="2590920"/>
            <a:ext cx="266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V = 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5229360"/>
            <a:ext cx="122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40360" y="3240000"/>
            <a:ext cx="26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N= v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 + 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40360" y="4176720"/>
            <a:ext cx="266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N = v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40360" y="4968720"/>
            <a:ext cx="26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88000" y="6165720"/>
            <a:ext cx="86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628200">
            <a:off x="3276360" y="1843200"/>
            <a:ext cx="3627360" cy="4601880"/>
          </a:xfrm>
          <a:custGeom>
            <a:avLst/>
            <a:gdLst/>
            <a:ahLst/>
            <a:rect l="l" t="t" r="r" b="b"/>
            <a:pathLst>
              <a:path w="2540" h="2147">
                <a:moveTo>
                  <a:pt x="0" y="2147"/>
                </a:moveTo>
                <a:cubicBezTo>
                  <a:pt x="90" y="2015"/>
                  <a:pt x="181" y="1883"/>
                  <a:pt x="453" y="1739"/>
                </a:cubicBezTo>
                <a:cubicBezTo>
                  <a:pt x="725" y="1595"/>
                  <a:pt x="1308" y="1542"/>
                  <a:pt x="1633" y="1285"/>
                </a:cubicBezTo>
                <a:cubicBezTo>
                  <a:pt x="1958" y="1028"/>
                  <a:pt x="2268" y="394"/>
                  <a:pt x="2404" y="197"/>
                </a:cubicBezTo>
                <a:cubicBezTo>
                  <a:pt x="2540" y="0"/>
                  <a:pt x="2494" y="53"/>
                  <a:pt x="2449" y="106"/>
                </a:cubicBezTo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628200">
            <a:off x="3320640" y="987480"/>
            <a:ext cx="3627360" cy="4602240"/>
          </a:xfrm>
          <a:custGeom>
            <a:avLst/>
            <a:gdLst/>
            <a:ahLst/>
            <a:rect l="l" t="t" r="r" b="b"/>
            <a:pathLst>
              <a:path w="2540" h="2147">
                <a:moveTo>
                  <a:pt x="0" y="2147"/>
                </a:moveTo>
                <a:cubicBezTo>
                  <a:pt x="90" y="2015"/>
                  <a:pt x="181" y="1883"/>
                  <a:pt x="453" y="1739"/>
                </a:cubicBezTo>
                <a:cubicBezTo>
                  <a:pt x="725" y="1595"/>
                  <a:pt x="1308" y="1542"/>
                  <a:pt x="1633" y="1285"/>
                </a:cubicBezTo>
                <a:cubicBezTo>
                  <a:pt x="1958" y="1028"/>
                  <a:pt x="2268" y="394"/>
                  <a:pt x="2404" y="197"/>
                </a:cubicBezTo>
                <a:cubicBezTo>
                  <a:pt x="2540" y="0"/>
                  <a:pt x="2494" y="53"/>
                  <a:pt x="2449" y="106"/>
                </a:cubicBezTo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7950D-F00A-4DFD-AC8A-96DC0817AE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že a zisk v lineárním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arž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příspěvek na úhradu fixních nákladů a tvorbu zisk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kritérium pr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řízení zisk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, rozhodování 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optimální struktuř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výkonů at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jednot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M = CV – VN =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zi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elkový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CV – VN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cj * Q – vj * Q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mj * Q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0DD8F-6B0D-4230-94B8-109D9A564E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fické vyjádření vývoje marže a zis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 lineárním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11600" y="2349360"/>
            <a:ext cx="604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10160" y="50832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133720"/>
            <a:ext cx="598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,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9040" y="4938840"/>
            <a:ext cx="368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89040" y="2276280"/>
            <a:ext cx="3019320" cy="26622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84360" y="4076280"/>
            <a:ext cx="3087720" cy="8650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11600" y="4149720"/>
            <a:ext cx="469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368440" y="3430440"/>
            <a:ext cx="843120" cy="70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ARŽE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92280" y="206028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636040" y="2349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636040" y="50832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70440" y="2133720"/>
            <a:ext cx="102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, N,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68800" y="4938840"/>
            <a:ext cx="395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068800" y="2133720"/>
            <a:ext cx="3606840" cy="28065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076720" y="3068640"/>
            <a:ext cx="3672000" cy="9367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636040" y="3132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23080" y="3573360"/>
            <a:ext cx="0" cy="1368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 rot="21183600">
            <a:off x="5095800" y="3789360"/>
            <a:ext cx="10288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ZTRÁTA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 rot="681600">
            <a:off x="7975080" y="2491920"/>
            <a:ext cx="6001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ZISK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5067360" y="494172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095800" y="4941360"/>
            <a:ext cx="1708200" cy="79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637480" y="42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51800" y="501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76640"/>
            <a:ext cx="2952720" cy="2665080"/>
          </a:xfrm>
          <a:custGeom>
            <a:avLst/>
            <a:gdLst/>
            <a:ahLst/>
            <a:rect l="l" t="t" r="r" b="b"/>
            <a:pathLst>
              <a:path w="1860" h="1679">
                <a:moveTo>
                  <a:pt x="0" y="1679"/>
                </a:moveTo>
                <a:lnTo>
                  <a:pt x="1860" y="1134"/>
                </a:lnTo>
                <a:lnTo>
                  <a:pt x="1860" y="0"/>
                </a:lnTo>
                <a:lnTo>
                  <a:pt x="0" y="1633"/>
                </a:lnTo>
                <a:lnTo>
                  <a:pt x="0" y="1679"/>
                </a:lnTo>
                <a:close/>
              </a:path>
            </a:pathLst>
          </a:cu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065560" y="206028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76720" y="3573360"/>
            <a:ext cx="1727280" cy="1368360"/>
          </a:xfrm>
          <a:custGeom>
            <a:avLst/>
            <a:gdLst/>
            <a:ahLst/>
            <a:rect l="l" t="t" r="r" b="b"/>
            <a:pathLst>
              <a:path w="1088" h="862">
                <a:moveTo>
                  <a:pt x="0" y="862"/>
                </a:moveTo>
                <a:lnTo>
                  <a:pt x="1088" y="0"/>
                </a:lnTo>
                <a:lnTo>
                  <a:pt x="0" y="272"/>
                </a:lnTo>
                <a:lnTo>
                  <a:pt x="0" y="862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0800000">
            <a:off x="6948360" y="2131560"/>
            <a:ext cx="1727280" cy="1368360"/>
          </a:xfrm>
          <a:custGeom>
            <a:avLst/>
            <a:gdLst/>
            <a:ahLst/>
            <a:rect l="l" t="t" r="r" b="b"/>
            <a:pathLst>
              <a:path w="1088" h="862">
                <a:moveTo>
                  <a:pt x="0" y="862"/>
                </a:moveTo>
                <a:lnTo>
                  <a:pt x="1088" y="0"/>
                </a:lnTo>
                <a:lnTo>
                  <a:pt x="0" y="272"/>
                </a:lnTo>
                <a:lnTo>
                  <a:pt x="0" y="862"/>
                </a:lnTo>
                <a:close/>
              </a:path>
            </a:pathLst>
          </a:custGeom>
          <a:solidFill>
            <a:srgbClr val="66ff3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804000" y="4149720"/>
            <a:ext cx="1708200" cy="79056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1E2C3-E2C5-4AA2-9723-A7F3C220DC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9Z</dcterms:modified>
  <cp:revision>13</cp:revision>
  <dc:subject/>
  <dc:title>Snímek 1</dc:title>
</cp:coreProperties>
</file>