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7B814-3BC3-4B10-84EA-3D6B0297C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97174-35DA-4F50-B23B-818022755F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75353-3BCE-46A3-AA07-059BBF0C7D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226C4-63CA-4CD7-A68E-95659129C9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4FF44-7E3A-4373-8CDF-7EF53ED730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56E39-A332-4AE8-A235-9FC93C634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7B404-A91A-465E-8FFB-6C496A234C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6A4DC-870F-4A0A-AADB-97DE009243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6450C-4BE8-48E6-ADC3-BBEDFD9768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1E136-63E9-4C15-8A2E-1CE1359487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5BD91-40F9-4437-B06A-96E461F7E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7A5BD-B014-4530-A6C4-91F341613F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42CD-3899-4C40-893C-D1C4FCE8B46B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Účetní informace pro řízení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 linii odpovědnosti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stič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Investič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ředpoklad: delegovaná pravomoc a odpovědnost v investičním rozhodová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vlivňují výši a způsob využití investic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rientace na ekonomickou efektivnost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ejvyšší úroveň ekonomické struktury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často je investičním střediskem pouze vrcholové ved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 případě velkých firem s širokým spektrem činnosti tzv. strategické podnikatelské jednotky (strategic business units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A4C83-6BC9-4400-ADD3-5A920B331D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dnotová kritéria řízení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otázk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Kter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dro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e vynakládají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sledku rozhodnutí střediska nebo činností, jejíž průběh středisko ovlivňuje, a jak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jich vynaložení vyvolává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Jakým způsobem měřit a hodnot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k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Jak vymez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sledek hospoda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k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6FBC4-D0C9-44EE-AAC9-33379821F9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y odpovědnostních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kladní princip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vlivnitel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tázka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do je odpovědný za spotřebu zdrojů, a kterému středisku by tudíž měl být náklad odpovědnostně přiřazen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y střediska = ovlivnitelné interní a externí náklady (skutečné i kalkulační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zor: 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ísto vzniku nákladů = odpovědnost za vznik nákladů“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mus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ž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lati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např.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y vzniklé důsledkem rozhodnutí jiného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ovlivnitelné pohyby cen vstup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účelné vynaložení zdrojů zapříčiněné činností jiného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8F0D5-0727-4EEA-A67F-26709AFBDE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nos středisk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→ střediskové výnos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ypu odpovědnostního středisk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na míře delegova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avomoci a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ákladní situac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. výkony střediska určeny převážně pro externí zákazní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externí výnos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 prodeje za trž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výkony střediska určeny převážně pro osta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nterní výnos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a základě vnitropodnikových c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výkony střediska není možné vymezit a měř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úkolem střediska je dodržet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edem stanovené náklad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odle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9899E-7C1A-49CE-A1C5-8ED615E7FF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nitropodnikové ce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unkce vnitropodnikových ce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otivovat k rozhodování a chování prospěšnému pro středisko i podni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jádřit úroveň pravomoci a odpovědnosti a oddělit přínos střediska k výsledkům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jistit informace pro měření výko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poklady účinného využit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předem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álost v čas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oulad s ostatními nástroji vnitropodnikového řízení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kalkulace, rozpoč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rozumitelnost pro dodávající i odebírající středisko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na stejné úrovni pro stejnorodý výkon bez ohledu na odběratel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6C52C-8F24-4A93-93FF-8AF51D3DB5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y vnitropodnikových c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náklad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ariabilní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lných střediskový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lných střediskový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s připočtení ziskové přirá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tržní ceně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dohodě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ezi středis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20A2F-BF01-4AE3-BAB0-97EBA0A5B7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ek hospodaře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unkc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. kriteriál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ritérium (měřítko) pro hodnocení úspěšnosti hospodaření střediska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2. stimulač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timulace k zajištění souladu cílů střediska a podniku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odnět pro rozvoj jednání, které zvyšuje efektivnost činnosti střediska, a tím i efektivnost podniku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líčové je propojení s vhodnou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ou odměny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bsah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sledku hospodaření závisí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ypu odpovědnostního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42F19-8DBD-414A-942B-1244569421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sah výsledku hospodař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ová (výdajová)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úspora nebo překročení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vlivnitelných střediskov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ýnos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bjem výnosů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porovnání s rozpočte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isk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vlivnitelný 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porovnání s rozpočte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ntabili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po zohlednění kalkulačních úroků z čistého pracovního kapitálu nebo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entabilita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čistého pracovního kapitá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estič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ekonomick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(residuální)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ebo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entabilita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vázaného kapitá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B143A-6B73-4584-A3CE-5E0F5D86AE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kaz hospodářského výsledku nákladového střediska (výkaz odchyle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1600200"/>
          <a:ext cx="8229240" cy="4530240"/>
        </p:xfrm>
        <a:graphic>
          <a:graphicData uri="http://schemas.openxmlformats.org/drawingml/2006/table">
            <a:tbl>
              <a:tblPr/>
              <a:tblGrid>
                <a:gridCol w="2472480"/>
                <a:gridCol w="1917720"/>
                <a:gridCol w="1918080"/>
                <a:gridCol w="1920960"/>
              </a:tblGrid>
              <a:tr h="14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tředisk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„skutečnost“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nterní výnos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„rozpočet“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dchyl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úspora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kroče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ý materiá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é mz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9945D-7959-4253-A039-BAC6140322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ovka ziskového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340000" y="1557360"/>
          <a:ext cx="4608360" cy="4319280"/>
        </p:xfrm>
        <a:graphic>
          <a:graphicData uri="http://schemas.openxmlformats.org/drawingml/2006/table">
            <a:tbl>
              <a:tblPr/>
              <a:tblGrid>
                <a:gridCol w="4608360"/>
              </a:tblGrid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nosy z prodeje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Variabilní náklady výkonů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rže (příspěvek na úhradu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Ovlivnitelné fixní náklady středisk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vlivnitelný výsledek středis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Neovlivnitelné fixní náklady středisk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sledek hospodaření středis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Alokované náklady na správu a říze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sledek střediska po alokaci správních 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2411280" y="242100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338616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439416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11280" y="537372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1F9DD-C747-4757-B216-4BE580594F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povědnostní říz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cí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sažení takového dlouhodobého stavu, kdy jednání každého útvaru a pracovníka v podniku přispívá k dosažení strategických cílů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y odpovědnostního ří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881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ovlivnitelnos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pravomoc a odpověd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ceš-li výsledky, musíš dát příležito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transformace cílů na úkoly → měřitelná kritéri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 chceš řídit, musíš umět měř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přínos k výsledkům → zainteresova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ekni mi, jak mě budeš měřit, a já ti řeknu, jak se budu chova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A6014-6595-44EB-AE10-DE5357574C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povědnostní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cí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ační podpora odpovědnostního řízení v oblasti hodnotových informac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koly odpovědnostního účetnictv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rozčlenit hodnotové informace podle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do je odpovědný za vývoj nákladů, výnosů, aktiv, závazků, příjmů, výda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zobrazit vztahy mezi středisky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interní výnosy a náklad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ý je přínos střediska k výsledkům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jádřit přímo v účetním systému rozdíly či odchylky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 je příčinou a kdo je zodpovědný za rozdíly skutečnosti oproti očekávanému stav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F883C-D704-4705-B9C0-8F39614347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ukturální předpoklady odpovědnostního říz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řešení organizační struktury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ovení míry centralizace a decentraliza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tvoření ekonomické struktury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52FBA-E6FD-480E-A736-96CE574763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ační struktura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ěcnou náplň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vků podnikové struktury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z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nimi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vorba organizační struktury urču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rizontální vztah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ělba činností a kooper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ředmětné uspořádání (od nákupu po prodej .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chnologické uspořádání (specializace činností .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ertikální vztahy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ozložení pravomoci a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entraliz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centraliz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62BB5-6DE1-46C0-9749-187AC0E8D1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De)centralizace řízení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traliz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působ řízení podniku, kdy rozhodovací pravomoc i odpovědnost je soustředěna na vrcholové úrovni řízení; nižší úrovně řízení mají pouze výkonné funk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přesné, včasné, kvalitní a hospodárné splnění příkaz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rektivní nástroje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řevážně naturální kritéria výko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odchylek od stanoveného úkolu v krátkých intervale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ecentraliz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 přenášení pravomoci a odpovědnosti z nadřazené úrovně řízení na úrovně podřízené; nižší úrovně řízení disponují rozhodovacími i výkonnými funkcem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přínos k zhodnocení zdrojů (účinnosti) a finanční pozi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rámcových podmínek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čekává se iniciativ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jné využití hodnotových kritéri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dnocení skutečných výsledků za delší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47963-EF91-4895-9263-7061D476D6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konomická struktura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azuje na organizační strukturu a doplňuje věcné nástroje řízení o využit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tivačně účinných hodnotových nástroj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dpovědnostního řízení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prvek ekonomické struktury –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středisk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y odpovědnostních středise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rozliš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kročilé rozliš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ové/výnosové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ové/výnos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daj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iskové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zisk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ntabilitní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vestiční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investiční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3F3F5-1521-4789-B1FF-B1599C158C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ová, výdajová, výnosová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hospodárné vynakládání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poklad: vymezení nákladů ovlivnitelných činností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dnocení: srovnání skutečné a předem stanovené výše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daj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zvyšování budoucího potenciálu firmy (vzdělávání, výzkum a vývoj, strategický marketing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dnocení: převážně věcné posouzení činnosti doplněné o srovnání skutečné a předem stanovené výše náklad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ýdajů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tupují do vztahů se zákazník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vlivňují objem a strukturu prodeje (obchodní zastoupení, útvary prodeje, oddělení obchodního domu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maximalizaci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8C7FE-9BAA-47C7-9CEC-BC3CEA9A43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isková, rentabilit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isk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poklad: řídí celý proces od nákupu, přes tvorbu výkonu po prodej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stupují do vztahů s dodavateli i zákazní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vlivňují náklady, výnosy a zisk střediska → orientace na ú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dnocení: skutečně dosažená úroveň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astřešují několik nákladových a výnosových středis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ntabili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blém orientace ziskových středisek: zvyšování zisku bez ohledu na výši čistého pracovního kapitálu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ázanost zdrojů ovlivňuje finanční pozi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ntabilitní středisko → zahrnutí čistého pracovního kapitálu (pohledávky, zásoby, závazky z obchodního styku ...) do odpovědnosti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109EB-29FF-40DE-AF6F-8F0738BD7A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7:30:03Z</dcterms:created>
  <dc:creator>NOBODY</dc:creator>
  <dc:description/>
  <dc:language>en-US</dc:language>
  <cp:lastModifiedBy>NOBODY</cp:lastModifiedBy>
  <dcterms:modified xsi:type="dcterms:W3CDTF">2007-09-04T08:35:00Z</dcterms:modified>
  <cp:revision>8</cp:revision>
  <dc:subject/>
  <dc:title>Odpovědnostní účetnictví</dc:title>
</cp:coreProperties>
</file>