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25A8-2545-4B52-B930-B132C526429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E= ČZ/Výnosy * Výnosy/Aktiva / VK/Ak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=Zisk z HČ po zdanění – Kapitál*P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76FD2-9CAB-4AD4-9F9C-05879874B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C43F8-AAC2-47CD-ABC2-CE86A2657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AA418-7AB4-4B94-9661-18E0CD689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8E50-DCD1-4692-826F-3A6EE0B3F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DC49-E3F8-4DBE-B7AC-E8E8C393C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1B812-CA4C-40BC-AC33-7241B2E15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D7D2E-D9BA-40BD-BDCF-FDA210BB4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28F0D-7C88-41A9-90F4-FB6C17E09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3276-FE6A-47B1-AAB7-6FAF86411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FDA72-E2A5-4235-9173-149788DF3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2B0A6-EA3E-4E0D-AC34-C0B649D46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A7569-7A5F-4045-9481-CE38D963B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30D2-D5C6-47F5-9E0A-059B996343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apitola%205%20V&#253;voj%20n&#225;klad&#367;,%20v&#253;nos&#367;%20a%20zisku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jetí a členění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ojetí a členění nákladů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podle rozhodovacích úl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9200" y="2781360"/>
            <a:ext cx="316872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2555640" y="24098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800000">
            <a:off x="2554200" y="40064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9000000">
            <a:off x="5866920" y="240948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2600000">
            <a:off x="5867280" y="400500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700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é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414972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 jakým účelem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16984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jsou kalkulová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1080" y="4148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se mění s množství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6D6C-B24C-4DFC-B914-FB2EF257D3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h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druh zdroje je spotřebován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 druh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teriál, externí práce a služby, mzdy, odpisy, finanční náklady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porcí, stability a rovnová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potřebou zdrojů podniku a jejich zabezpečení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otázky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 koho, k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l zdroj spotřeb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ůkazné a jednoznačné sled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abývá se příčinou spotřeby zdrojů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mezené využití pr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E7649-CB6C-431D-B4C3-951DA1796B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stnosti druhového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jsou předmětem zobrazení při vstupu do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xte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znikají spotřebou zdrojů od externích subjek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duch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není možné je podrobněji čle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76B41-0AA0-4B2F-9FC3-839CB57AD3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Účel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á je příčina spotřeby zdroje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                        útvar                           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zum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ám spotře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drojů → základ 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pro členění nákladů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9542-9922-4E4E-A79C-21C212190D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technologické a na obsluhu a řízení, jednicové a režij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e náklad vynaložen při vlastním vytvoření výkon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nebo souvisí se zajištěním podmínek činnosti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echnologické náklady          náklady na obsluhu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ak stanovit nákladový úkol a řídit hospodárnost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jednicové náklady                    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F0366-F7D9-4BB1-B4F3-836A5CC500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dnicové a režij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icov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volány vytvořením každé konkrétně definovan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ednotky výko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norma x předem stanovené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or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předem stanovený úkol spotřeby materiálu, práce,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 přesně vymezený výkon, za konkrétních technických, technologických, organizačních podmínek a kvality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dnicov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poleč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uhu výkonu, skupiny výkonů, útva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č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zpoč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ákladového úkolu pro útvar, na čas. období a na rozsah či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E899-232A-4F66-8BA8-F23E527DD8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je příčinný vztah nákladu k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 přiřazovat náklad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           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bytné pro sestavení kalkulace a porozumění vypovídací schopnosti kalkulačního vzor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E421A-1224-47E9-82F4-D4A78BB564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7413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ztah nákladů k technologickému proce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749680"/>
            <a:ext cx="1800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ic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obsluhu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ntrola přiměřenosti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180036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54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nic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žij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četně technické přiřa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2781360"/>
            <a:ext cx="432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84360" y="3141720"/>
            <a:ext cx="11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42900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724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724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1BC2A-A4EE-4745-8E46-B0F6E19E1E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ilní a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ění se objem vynaložených zdrojů s objemem výkonů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         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e zkvalitnění informačního zajištění široké škály rozhodovacích úlo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viz samostatná prezentac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D1882-2A6F-47B7-86A6-C2FD2DC9FA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ektiv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rcholové kritériu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konnosti podnikatelské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fektivnost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jadřuj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ír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osažení očekávaných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měrů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odnikatelské obla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chopnost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hodnotit vložený kapitá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ritér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ěřítk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lastního kapitá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vlastního kapitálu (ROE, Return On Equ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anažerský (ekonomický) zisk (EVA, Economic Value Add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ktiv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apitálu)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aktiv hlavní výdělečné činnosti (ROA, Return On Asse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zaměstnaného kapitálu (ROCE, Return On Capital Employ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8B36-BEE8-4B4B-BD87-72F8975F99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u Pont rozklad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ntability vlastního kapitá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 / Vlastní kapitá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/Výnosy z prodeje x Výnosy z prodeje/Aktiv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astní kapitál/Akti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4360" y="2444760"/>
            <a:ext cx="3211200" cy="2536920"/>
            <a:chOff x="684360" y="2444760"/>
            <a:chExt cx="3211200" cy="2536920"/>
          </a:xfrm>
        </p:grpSpPr>
        <p:sp>
          <p:nvSpPr>
            <p:cNvPr id="172" name=""/>
            <p:cNvSpPr/>
            <p:nvPr/>
          </p:nvSpPr>
          <p:spPr>
            <a:xfrm>
              <a:off x="944640" y="2444760"/>
              <a:ext cx="295092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3986280"/>
              <a:ext cx="215892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ISKOVOST VÝNOSŮ Z PRODE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4"/>
              <a:endCxn id="173" idx="0"/>
            </p:cNvCxnSpPr>
            <p:nvPr/>
          </p:nvCxnSpPr>
          <p:spPr>
            <a:xfrm flipH="1">
              <a:off x="1763280" y="3164040"/>
              <a:ext cx="65808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3651120" y="2473200"/>
            <a:ext cx="2936880" cy="2536920"/>
            <a:chOff x="3651120" y="2473200"/>
            <a:chExt cx="2936880" cy="2536920"/>
          </a:xfrm>
        </p:grpSpPr>
        <p:sp>
          <p:nvSpPr>
            <p:cNvPr id="176" name=""/>
            <p:cNvSpPr/>
            <p:nvPr/>
          </p:nvSpPr>
          <p:spPr>
            <a:xfrm>
              <a:off x="3995640" y="2473200"/>
              <a:ext cx="259236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1120" y="4014720"/>
              <a:ext cx="1895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RÁTKA AKT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6" idx="4"/>
              <a:endCxn id="177" idx="0"/>
            </p:cNvCxnSpPr>
            <p:nvPr/>
          </p:nvCxnSpPr>
          <p:spPr>
            <a:xfrm flipH="1">
              <a:off x="4598280" y="3192480"/>
              <a:ext cx="69444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9" name=""/>
          <p:cNvGrpSpPr/>
          <p:nvPr/>
        </p:nvGrpSpPr>
        <p:grpSpPr>
          <a:xfrm>
            <a:off x="6218280" y="2473200"/>
            <a:ext cx="2717640" cy="2536920"/>
            <a:chOff x="6218280" y="2473200"/>
            <a:chExt cx="2717640" cy="2536920"/>
          </a:xfrm>
        </p:grpSpPr>
        <p:sp>
          <p:nvSpPr>
            <p:cNvPr id="180" name=""/>
            <p:cNvSpPr/>
            <p:nvPr/>
          </p:nvSpPr>
          <p:spPr>
            <a:xfrm>
              <a:off x="6659640" y="2473200"/>
              <a:ext cx="227628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8280" y="4014720"/>
              <a:ext cx="1882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PŮSOB FINANCOVÁ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80" idx="4"/>
              <a:endCxn id="181" idx="0"/>
            </p:cNvCxnSpPr>
            <p:nvPr/>
          </p:nvCxnSpPr>
          <p:spPr>
            <a:xfrm flipH="1">
              <a:off x="7158960" y="3192480"/>
              <a:ext cx="63900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3738E-9FF2-4DD4-84E0-5407AD6502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účin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íru zhodnocení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prodeji výkonů zákazníkům,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ech z prode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ít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 z 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/výnosy z prodeje; zisk/náklady; náklad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výnos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7576-DCFC-48C7-932E-3C4974F395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r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ěř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ši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rocesu tvorb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ov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bě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, při kterém se dosahu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žado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  co možn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nižším vynaložením náklad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odárnosti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měr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naturá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ospodárné vynakládání nákladů se měří porovnáním nákladového úkolu a skutečných nákladů a) v celkové výši, b) na jednotku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y zvyšování hospodárnosti (formy hospodár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spor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níž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bsolutní výše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daný objem a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těž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výš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stejných náklade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B42AC-DCBC-486B-9EDE-7E0A1D25D2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y hospodár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řizovací cena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litativní odchylk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srovnává výši nákladů na spotřebované vstupy při předem stanovených a skutečných pořizovací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 spotřebovaných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ntitativní odchylka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rovnává předem stanovené a skutečné množství spotřebovaných vstupů v předem stanovený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lišení významné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pravomoci a odpovědno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573880"/>
            <a:ext cx="8353440" cy="7347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předem stanovená cena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předem stanove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skutečná cena               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skuteč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33498-3DFB-4FCA-B7C7-9640A19724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ěžně vyjádřené snížení vlastního kapitálu ve sledovaném obdob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eré se projevilo úbytkem nebo snížením užitečnosti aktiv nebo zvýšením závazků a které vedlo ke snížení vlastního kapitálu jiným způsobem, než jsou příděly z vlastního kapitálu vlastníků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odnotově vyjádřené účelné vynalož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konomických zdrojů, kter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ě souvi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uskutečňováním předmětu činnosti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 zdůrazněním potřeby zajistit hospodárnost vynaložen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racionální a přiměřená výše vzhledem k výsledk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ý charak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myslem vynaložení zdrojů je zhodnoc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34920" y="4019400"/>
            <a:ext cx="3586320" cy="1209960"/>
            <a:chOff x="1834920" y="4019400"/>
            <a:chExt cx="3586320" cy="1209960"/>
          </a:xfrm>
        </p:grpSpPr>
        <p:sp>
          <p:nvSpPr>
            <p:cNvPr id="193" name=""/>
            <p:cNvSpPr/>
            <p:nvPr/>
          </p:nvSpPr>
          <p:spPr>
            <a:xfrm>
              <a:off x="3262320" y="4019400"/>
              <a:ext cx="215892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834920" y="4365720"/>
              <a:ext cx="16570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27200" y="4336920"/>
            <a:ext cx="2016000" cy="1397160"/>
            <a:chOff x="727200" y="4336920"/>
            <a:chExt cx="2016000" cy="1397160"/>
          </a:xfrm>
        </p:grpSpPr>
        <p:sp>
          <p:nvSpPr>
            <p:cNvPr id="196" name=""/>
            <p:cNvSpPr/>
            <p:nvPr/>
          </p:nvSpPr>
          <p:spPr>
            <a:xfrm>
              <a:off x="727200" y="4336920"/>
              <a:ext cx="201600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76360" y="4797360"/>
              <a:ext cx="0" cy="9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0CED0-384F-46F0-9F2B-45B305B5A8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akteristiky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nější vztah k výkonům – součástí N i výdaje odlišného charakteru (dary) a rozdělení zisku (daň ze zisk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eněžně vynaložené zdr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sleduje vazbu na žádoucí výši spotřeby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odmínky platné v době pořízení zdrojů               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historické cen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ový (těsný) vztah k výkon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 další zdroje, které umožňují vyjádřit skutečný ekonomický přínos hodnocených činností (kalkulační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ůraz na zajištění hospodár-ného vynaložení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í podmínky platné v čase uskutečňování příslušných výkonů, činností a proces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E161-1753-4CA5-A778-3B50C39D4D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nákladů ukazují na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istiky a vlastnost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ochopit, 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každé čl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é členění nákladů je vhodné pr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ní možné zaměňov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ynaloženého zdro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ůžeme řídit náklady, a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jejich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984BA-1481-4228-9BC4-8E8F39ED04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25:00Z</dcterms:modified>
  <cp:revision>14</cp:revision>
  <dc:subject/>
  <dc:title>Snímek 1</dc:title>
</cp:coreProperties>
</file>