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59AB7-93CD-4906-8A45-DCC0CA0B51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D4A98-7ED4-4A74-996F-3C6E71D82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63109-E78B-4F24-9A93-FF1CEBEFFA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D1DEC-F893-4D11-942C-C5813D3732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C1A13-2EBF-4E3F-B9EE-83D3BC4B2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6D0AE-DBFE-4EFF-B9E9-4241D7C12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2BC4E-2F69-4E7D-ABFE-5FE729C2C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D4790-5D1A-4963-86DE-25E658785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5642C-03FC-4F70-8302-5C2B81A50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6891C-5B19-40CD-AD4B-AA6BEC3700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C4AC1-F7C1-486C-834A-0E134B5D9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36C1D-CC72-46BD-82D6-27E356838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3CD1-D5E8-461B-AD34-82A57CD6DA6F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ztah finančního, nákladového a manažerského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manažerského a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413000"/>
          <a:ext cx="8569080" cy="5316480"/>
        </p:xfrm>
        <a:graphic>
          <a:graphicData uri="http://schemas.openxmlformats.org/drawingml/2006/table">
            <a:tbl>
              <a:tblPr/>
              <a:tblGrid>
                <a:gridCol w="4282920"/>
                <a:gridCol w="4286160"/>
              </a:tblGrid>
              <a:tr h="58500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ystém účetních informací pro řízení a rozhodová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Nákladov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odnikat.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u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o jehož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arametrech již bylo rozhodnuto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  </a:t>
                      </a:r>
                      <a:r>
                        <a:rPr b="1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hodování</a:t>
                      </a:r>
                      <a:r>
                        <a:rPr b="0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 budoucích alternativách činnost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operativní řízení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v bezprostřední návaznosti na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taktické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plán, porovnání se skutečností, běžná a preventivní kontrol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ariantní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a existující kapacitě a o budoucí kapacitě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po linii útvarů,  výkonů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mplexní informace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rcholové řízení a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jmén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hospodárnosti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zejména účinnosti a efektiv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vyhodnocení  vlivu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měn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 objemu a  sortimentu  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konů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dod. na tr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ásadní změny činnosti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trategický marketing, výzkum a vývoj, investiční   rozhodování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dnikové rozpočty  - 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počtová výsledovka, rozvaha, rozpočet peněžních tok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93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tah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ho rozpočt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ových rozpočtů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ředisek,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kalkulačního systém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. c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 střednědobé a dlouhodobé rozpoč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13F84-C34F-4F69-AE33-A5797BEE99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ční zajištění řídicího cyk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68360" y="155736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novit cí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it požadova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8360" y="285120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RGAN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dat úk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tivov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66920" y="5176800"/>
            <a:ext cx="3238560" cy="987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jistit skuteč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rovnat skutečnost a 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66920" y="4148280"/>
            <a:ext cx="3238560" cy="6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AL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vést/ vykon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7" idx="2"/>
            <a:endCxn id="239" idx="0"/>
          </p:cNvCxnSpPr>
          <p:nvPr/>
        </p:nvCxnSpPr>
        <p:spPr>
          <a:xfrm flipH="1">
            <a:off x="3885840" y="3766680"/>
            <a:ext cx="2160" cy="381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6" idx="2"/>
            <a:endCxn id="237" idx="0"/>
          </p:cNvCxnSpPr>
          <p:nvPr/>
        </p:nvCxnSpPr>
        <p:spPr>
          <a:xfrm>
            <a:off x="3887280" y="2473200"/>
            <a:ext cx="1080" cy="378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9" idx="2"/>
            <a:endCxn id="238" idx="0"/>
          </p:cNvCxnSpPr>
          <p:nvPr/>
        </p:nvCxnSpPr>
        <p:spPr>
          <a:xfrm>
            <a:off x="3885840" y="479592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8" idx="1"/>
            <a:endCxn id="236" idx="1"/>
          </p:cNvCxnSpPr>
          <p:nvPr/>
        </p:nvCxnSpPr>
        <p:spPr>
          <a:xfrm flipH="1" rot="10800000">
            <a:off x="2266560" y="2015280"/>
            <a:ext cx="2160" cy="36554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724360" y="2781360"/>
            <a:ext cx="576360" cy="3456000"/>
          </a:xfrm>
          <a:custGeom>
            <a:avLst/>
            <a:gdLst>
              <a:gd name="textAreaLeft" fmla="*/ 0 w 576360"/>
              <a:gd name="textAreaRight" fmla="*/ 208080 w 57636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924280"/>
            <a:ext cx="433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48360" y="1557360"/>
            <a:ext cx="576360" cy="4751280"/>
          </a:xfrm>
          <a:custGeom>
            <a:avLst/>
            <a:gdLst>
              <a:gd name="textAreaLeft" fmla="*/ 0 w 576360"/>
              <a:gd name="textAreaRight" fmla="*/ 208080 w 576360"/>
              <a:gd name="textAreaTop" fmla="*/ 123840 h 4751280"/>
              <a:gd name="textAreaBottom" fmla="*/ 4627440 h 47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12000" y="2276640"/>
            <a:ext cx="433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8400C-65D2-4714-B804-A393CCD508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manažerského účetnictví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a controlling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istoricky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nglosaské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ing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 70. let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germanofonní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ictví historicky spojováno se zobrazením skuteč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loha účetnictví pro manažery – pouze analytické členění 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ontrolling =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etod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informační podpora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unkce manažerského účetnictví) je součástí funkcí controlling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uje se nejen na hodnotové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finanční a nákladový controlling), ale i na věcnou stránku řízení (→ naturální controlling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v praxi –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ingové odděl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(→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er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2C11D-F15F-4CFD-927D-CCA8CC0648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controllera a řídicího pracovní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podklady pro plánování a rozhodov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nformuje o odchylká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metodiku kalkulací, rozpočtování, systém kalkulací a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informuje o změnách v okol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je poradce management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lánuje, rozhodu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reaguje na zjištěné odchyl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osazuje a využívá informace připravených systémů kalkulací,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reaguje, aby udržel dlouho-dobou rovnováhu s okolí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kceptuje controlling v procesu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A0171-72C7-4C42-A625-2DC133FFD8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7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9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 je účetnictví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an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ysté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formac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který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zobr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atelský proc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hodnotovou stránku podnikatelského proces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delové zobrazení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al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incipy a metody účetního zobrazení, „rozpoznání“ podstaty hospodářských transakcí, pravidla jejich oceně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komplexního mě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pozi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měny ve finanční pozic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9EEBB-2CE4-4897-B122-7901E31022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ční pozice, výkonnost a změn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 finanční situaci v účetních výkaze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47840" y="2509920"/>
            <a:ext cx="4469040" cy="3022560"/>
            <a:chOff x="2247840" y="2509920"/>
            <a:chExt cx="4469040" cy="3022560"/>
          </a:xfrm>
        </p:grpSpPr>
        <p:sp>
          <p:nvSpPr>
            <p:cNvPr id="164" name=""/>
            <p:cNvSpPr/>
            <p:nvPr/>
          </p:nvSpPr>
          <p:spPr>
            <a:xfrm>
              <a:off x="22478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AKT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louh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rátk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Zásob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hledávk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prostředk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ekvivalent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816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PAS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Vlastn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Základní kapitá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Kapitálové fond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Hospodářský výsl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Ciz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320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52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74760" y="1844640"/>
            <a:ext cx="4608720" cy="37609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ZVA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4957920"/>
            <a:ext cx="1584360" cy="9363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KAZ PENĚŽNÍCH TO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89920" y="3517920"/>
            <a:ext cx="1800000" cy="936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LEDOV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834920" y="5318280"/>
            <a:ext cx="215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77080" y="4021200"/>
            <a:ext cx="21600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FBBD4-25A8-4B06-9C0C-AB4D284EE2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2997360"/>
            <a:ext cx="302400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1268280"/>
            <a:ext cx="1656000" cy="64800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AZ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141300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06064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ĚŘI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220500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LAST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1341360"/>
            <a:ext cx="1655640" cy="792360"/>
          </a:xfrm>
          <a:prstGeom prst="wedgeRoundRectCallout">
            <a:avLst>
              <a:gd name="adj1" fmla="val -51726"/>
              <a:gd name="adj2" fmla="val 78856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5023440" y="2227680"/>
            <a:ext cx="608040" cy="64800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8000"/>
              <a:gd name="textAreaBottom" fmla="*/ 4896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79736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N. ÚŘ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551808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ČS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4654440"/>
            <a:ext cx="2808000" cy="16560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013360"/>
            <a:ext cx="1655640" cy="792000"/>
          </a:xfrm>
          <a:prstGeom prst="wedgeRoundRectCallout">
            <a:avLst>
              <a:gd name="adj1" fmla="val -67449"/>
              <a:gd name="adj2" fmla="val 44791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ST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5640" y="4005360"/>
            <a:ext cx="1655640" cy="10094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DIC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ACOV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3789360"/>
            <a:ext cx="2374920" cy="15843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77080" y="5661000"/>
            <a:ext cx="1576440" cy="865080"/>
          </a:xfrm>
          <a:prstGeom prst="wedgeRoundRectCallout">
            <a:avLst>
              <a:gd name="adj1" fmla="val -44763"/>
              <a:gd name="adj2" fmla="val -63759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0090400">
            <a:off x="2646360" y="384156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2879600">
            <a:off x="5886000" y="434592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2852640"/>
            <a:ext cx="180036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MĚSTNAN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125360"/>
            <a:ext cx="4105080" cy="2590920"/>
          </a:xfrm>
          <a:custGeom>
            <a:avLst/>
            <a:gdLst/>
            <a:ahLst/>
            <a:rect l="l" t="t" r="r" b="b"/>
            <a:pathLst>
              <a:path w="2586" h="1632">
                <a:moveTo>
                  <a:pt x="2586" y="0"/>
                </a:moveTo>
                <a:lnTo>
                  <a:pt x="0" y="0"/>
                </a:lnTo>
                <a:lnTo>
                  <a:pt x="0" y="1632"/>
                </a:lnTo>
                <a:lnTo>
                  <a:pt x="1225" y="1632"/>
                </a:lnTo>
                <a:lnTo>
                  <a:pt x="2586" y="1088"/>
                </a:lnTo>
                <a:lnTo>
                  <a:pt x="2586" y="0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9B0E2-670E-47E5-B50D-51709D4E56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informační potřeb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5483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piny uživatel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řeš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ro které potřebu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inform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 proto ma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 požadavky n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16640" y="1841400"/>
            <a:ext cx="2160720" cy="36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 KOH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90E19-B60C-49D9-82FE-AD113A5873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systémy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uživatel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ř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základ daně z příjmu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220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finanční stabilita a výkonno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1348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9900"/>
                </a:solidFill>
                <a:latin typeface="Arial"/>
              </a:rPr>
              <a:t>(hodnotové řízení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40000" y="2637000"/>
            <a:ext cx="4608360" cy="223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dlišné požadavky n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jetí (vymezení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eně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ktu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ktiv, vlastního kapitálu, závazků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ů, výnosů, zisku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íjmů a výdajů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100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Ň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EVIDE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656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13320" y="5157720"/>
            <a:ext cx="259272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196" idx="2"/>
            <a:endCxn id="199" idx="0"/>
          </p:cNvCxnSpPr>
          <p:nvPr/>
        </p:nvCxnSpPr>
        <p:spPr>
          <a:xfrm>
            <a:off x="1620360" y="2276280"/>
            <a:ext cx="302508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4" name=""/>
          <p:cNvCxnSpPr>
            <a:stCxn id="197" idx="2"/>
            <a:endCxn id="199" idx="0"/>
          </p:cNvCxnSpPr>
          <p:nvPr/>
        </p:nvCxnSpPr>
        <p:spPr>
          <a:xfrm>
            <a:off x="4642920" y="2276280"/>
            <a:ext cx="252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5" name=""/>
          <p:cNvCxnSpPr>
            <a:stCxn id="198" idx="2"/>
            <a:endCxn id="199" idx="0"/>
          </p:cNvCxnSpPr>
          <p:nvPr/>
        </p:nvCxnSpPr>
        <p:spPr>
          <a:xfrm flipH="1">
            <a:off x="4644360" y="2276280"/>
            <a:ext cx="295020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6" name=""/>
          <p:cNvCxnSpPr>
            <a:stCxn id="199" idx="2"/>
            <a:endCxn id="200" idx="0"/>
          </p:cNvCxnSpPr>
          <p:nvPr/>
        </p:nvCxnSpPr>
        <p:spPr>
          <a:xfrm flipH="1">
            <a:off x="1647360" y="4869000"/>
            <a:ext cx="299808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7" name=""/>
          <p:cNvCxnSpPr>
            <a:stCxn id="199" idx="2"/>
            <a:endCxn id="201" idx="0"/>
          </p:cNvCxnSpPr>
          <p:nvPr/>
        </p:nvCxnSpPr>
        <p:spPr>
          <a:xfrm flipH="1">
            <a:off x="4642560" y="4869000"/>
            <a:ext cx="252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8" name=""/>
          <p:cNvCxnSpPr>
            <a:stCxn id="199" idx="2"/>
            <a:endCxn id="202" idx="0"/>
          </p:cNvCxnSpPr>
          <p:nvPr/>
        </p:nvCxnSpPr>
        <p:spPr>
          <a:xfrm>
            <a:off x="4644720" y="4869000"/>
            <a:ext cx="296604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CF6B4-3F4E-42EA-9251-E3AEC4CD58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finančního a 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ference stabilního výv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držování pravidel zabezpečuje spolehlivé a srovnatel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tetick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entace na výsledky dosažené v minul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vykazované v pravidelných intervale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tupy (výkazy) veřejně přístupné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ritické informace o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fické informace podle potřeb managementu umožňující aktivně měnit chován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tický pohled na podni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rovnání skutečnosti s předem stanoveným vývoj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s minimálním zpožděním za skutečným průběh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taje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5DCDE-E0D1-42EB-A8AC-CAE897525A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innosti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lavní výděleč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transformace vynaložených zdrojů na výstupy (výkon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656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běť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2764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rospě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536920"/>
            <a:ext cx="2663640" cy="71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6"/>
            <a:endCxn id="216" idx="1"/>
          </p:cNvCxnSpPr>
          <p:nvPr/>
        </p:nvCxnSpPr>
        <p:spPr>
          <a:xfrm>
            <a:off x="2914560" y="28893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6" idx="3"/>
            <a:endCxn id="215" idx="2"/>
          </p:cNvCxnSpPr>
          <p:nvPr/>
        </p:nvCxnSpPr>
        <p:spPr>
          <a:xfrm flipV="1">
            <a:off x="5940360" y="288900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46656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2764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350028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9" idx="6"/>
            <a:endCxn id="221" idx="1"/>
          </p:cNvCxnSpPr>
          <p:nvPr/>
        </p:nvCxnSpPr>
        <p:spPr>
          <a:xfrm>
            <a:off x="2914560" y="385272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21" idx="3"/>
            <a:endCxn id="220" idx="2"/>
          </p:cNvCxnSpPr>
          <p:nvPr/>
        </p:nvCxnSpPr>
        <p:spPr>
          <a:xfrm flipV="1">
            <a:off x="5940360" y="385236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55760" y="4508640"/>
            <a:ext cx="8229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a investiční činn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zhodnocení zdrojů poskytnutím 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668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DRO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9776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MĚ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6480" y="537372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KYTNU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25" idx="6"/>
            <a:endCxn id="227" idx="1"/>
          </p:cNvCxnSpPr>
          <p:nvPr/>
        </p:nvCxnSpPr>
        <p:spPr>
          <a:xfrm>
            <a:off x="2884320" y="57261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7" idx="3"/>
            <a:endCxn id="226" idx="2"/>
          </p:cNvCxnSpPr>
          <p:nvPr/>
        </p:nvCxnSpPr>
        <p:spPr>
          <a:xfrm flipV="1">
            <a:off x="5909760" y="5725800"/>
            <a:ext cx="2883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5867280" y="1125360"/>
            <a:ext cx="3025800" cy="719280"/>
          </a:xfrm>
          <a:prstGeom prst="wedgeRoundRectCallout">
            <a:avLst>
              <a:gd name="adj1" fmla="val -43754"/>
              <a:gd name="adj2" fmla="val 66115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3669E-A309-447E-99E1-A4324632E9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, obsah a struktur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íl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ť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říd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ykázání) informací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to takovým způsobem, který umožní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řídicím pracovníkům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vědomě ovládat podnikatelskou činnost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ah: závisí na hierarchii a návaznosti cíl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ategického, taktického a operativní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ysté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atelského procesu, o jehož parametrech bylo již v zásadě rozhodnut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rozhod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aktické a strategické) o variantách budoucího vývoje 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anažerské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v užším pojet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90BDE-46EE-43DA-AFBA-54B9994793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5Z</dcterms:modified>
  <cp:revision>16</cp:revision>
  <dc:subject/>
  <dc:title>Snímek 1</dc:title>
</cp:coreProperties>
</file>