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33B90-06FF-4A4B-A9A7-A3CBF884D7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61DD3-79E1-4721-95A1-BFEFE10988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EF441-CB92-47CF-9444-8FEB02F515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38E8D-3C40-438E-B5CF-EDA2DEEFC6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53B8D-C7B4-4DB6-B3F8-0AB8E368BC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E2F5E-D33D-4521-872A-75CA970776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2211F-EF6E-4EE5-A350-770E0E8D3D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0E872-3A9A-4A3E-ABD8-D948E87E63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F9437-2497-4E73-8495-40A0FD4F03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8BB50-128C-4888-8C75-FFEE477B8D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A3269-F2E4-462A-8EBC-C31674E89C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1E820-BECA-4DC2-9565-3135675FF0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0858-AD0E-4EF6-81E6-C2F4D3E4F4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formační nástroje pro řízení po linii výkonu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okační fáz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metod alokace 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zbách mezi útvar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zování nákladů probíhá v řadě na sebe navazující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lokačních fáz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stu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vní fáze: přiřazení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ktu alok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ý je vyvolal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jednice výkonu, druh výkonu, útvar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vazné fáze -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rozděl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ezi objek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cílem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přerozdělit náklady útvarů servisní činnosti na ostatní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přerozdělit náklady útvarů hlavní činnosti na externí výko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příp. přiřadit náklady útvarů správy a řízení útvarům hlavní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pokladem je správné urč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ílů jednotlivých 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FA9EC-DC88-4DE7-9C6F-40B7AD53ED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alokační fáze v softwarové firm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zační struktura firm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voj software – hla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mplementace software – hla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budov – servis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sítě a údržba hardware – servis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a řízení – sprá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formace o vztazích mezi útvary pro alokaci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3560760"/>
          <a:ext cx="8229600" cy="2351160"/>
        </p:xfrm>
        <a:graphic>
          <a:graphicData uri="http://schemas.openxmlformats.org/drawingml/2006/table">
            <a:tbl>
              <a:tblPr/>
              <a:tblGrid>
                <a:gridCol w="2386080"/>
                <a:gridCol w="2089080"/>
                <a:gridCol w="1933560"/>
                <a:gridCol w="1820880"/>
              </a:tblGrid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Útv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díl na pronaj. prostorá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hodin práce správy sí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hodin přímé prá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voj softw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mplementace softwar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práva budov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práva sítě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práva a řízení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452520" y="5965920"/>
            <a:ext cx="792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na správu a řízení se alokují na útvary hlavní činnosti podle hodin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7033E-198F-4D59-952F-F7727EC3A4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084320" y="333360"/>
            <a:ext cx="180000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bud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51360" y="1571760"/>
            <a:ext cx="180000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sí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08360" y="3911760"/>
            <a:ext cx="1800360" cy="50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4265640"/>
            <a:ext cx="1800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149960" y="4251240"/>
            <a:ext cx="1800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vo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82520" y="83340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7 2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7" name=""/>
          <p:cNvCxnSpPr>
            <a:stCxn id="196" idx="2"/>
            <a:endCxn id="198" idx="1"/>
          </p:cNvCxnSpPr>
          <p:nvPr/>
        </p:nvCxnSpPr>
        <p:spPr>
          <a:xfrm>
            <a:off x="1982880" y="1197000"/>
            <a:ext cx="1969200" cy="145152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199" name=""/>
          <p:cNvCxnSpPr>
            <a:stCxn id="196" idx="2"/>
            <a:endCxn id="200" idx="1"/>
          </p:cNvCxnSpPr>
          <p:nvPr/>
        </p:nvCxnSpPr>
        <p:spPr>
          <a:xfrm>
            <a:off x="1982520" y="1197000"/>
            <a:ext cx="2626200" cy="37965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395280" y="47703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13 56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1360" y="207648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8 4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08360" y="44164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2 5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49960" y="4756320"/>
            <a:ext cx="180036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12 45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51360" y="246528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1 08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51360" y="285444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9 48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51609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2 16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554040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4 74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08360" y="48099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72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08360" y="51991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948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149960" y="51465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3 24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49960" y="55339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3792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59245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2 20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49960" y="59212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1 95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08360" y="55879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4 168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4" name=""/>
          <p:cNvCxnSpPr>
            <a:stCxn id="196" idx="2"/>
          </p:cNvCxnSpPr>
          <p:nvPr/>
        </p:nvCxnSpPr>
        <p:spPr>
          <a:xfrm>
            <a:off x="1982880" y="1197000"/>
            <a:ext cx="4534560" cy="21672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cxnSp>
        <p:nvCxnSpPr>
          <p:cNvPr id="215" name=""/>
          <p:cNvCxnSpPr>
            <a:endCxn id="209" idx="1"/>
          </p:cNvCxnSpPr>
          <p:nvPr/>
        </p:nvCxnSpPr>
        <p:spPr>
          <a:xfrm>
            <a:off x="6516360" y="1413000"/>
            <a:ext cx="633960" cy="39168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6" name=""/>
          <p:cNvCxnSpPr>
            <a:stCxn id="205" idx="2"/>
            <a:endCxn id="207" idx="3"/>
          </p:cNvCxnSpPr>
          <p:nvPr/>
        </p:nvCxnSpPr>
        <p:spPr>
          <a:xfrm flipH="1">
            <a:off x="2194920" y="3218040"/>
            <a:ext cx="2656440" cy="25056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7" name=""/>
          <p:cNvCxnSpPr>
            <a:stCxn id="205" idx="2"/>
            <a:endCxn id="208" idx="1"/>
          </p:cNvCxnSpPr>
          <p:nvPr/>
        </p:nvCxnSpPr>
        <p:spPr>
          <a:xfrm rot="5400000">
            <a:off x="3647160" y="4178160"/>
            <a:ext cx="2164320" cy="243720"/>
          </a:xfrm>
          <a:prstGeom prst="curvedConnector5">
            <a:avLst>
              <a:gd name="adj1" fmla="val 23240"/>
              <a:gd name="adj2" fmla="val 97041"/>
              <a:gd name="adj3" fmla="val 23240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8" name=""/>
          <p:cNvCxnSpPr>
            <a:stCxn id="205" idx="2"/>
          </p:cNvCxnSpPr>
          <p:nvPr/>
        </p:nvCxnSpPr>
        <p:spPr>
          <a:xfrm>
            <a:off x="4851360" y="3218040"/>
            <a:ext cx="1737360" cy="559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cxnSp>
        <p:nvCxnSpPr>
          <p:cNvPr id="219" name=""/>
          <p:cNvCxnSpPr>
            <a:endCxn id="210" idx="1"/>
          </p:cNvCxnSpPr>
          <p:nvPr/>
        </p:nvCxnSpPr>
        <p:spPr>
          <a:xfrm>
            <a:off x="6587640" y="3789000"/>
            <a:ext cx="562680" cy="19278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95280" y="63118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22 66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49960" y="6321600"/>
            <a:ext cx="180036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21 441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13" idx="2"/>
            <a:endCxn id="211" idx="3"/>
          </p:cNvCxnSpPr>
          <p:nvPr/>
        </p:nvCxnSpPr>
        <p:spPr>
          <a:xfrm rot="5400000">
            <a:off x="3773880" y="4372560"/>
            <a:ext cx="155880" cy="3313800"/>
          </a:xfrm>
          <a:prstGeom prst="curvedConnector2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223" name=""/>
          <p:cNvCxnSpPr>
            <a:stCxn id="213" idx="2"/>
            <a:endCxn id="212" idx="1"/>
          </p:cNvCxnSpPr>
          <p:nvPr/>
        </p:nvCxnSpPr>
        <p:spPr>
          <a:xfrm flipH="1" rot="16200000">
            <a:off x="6252120" y="5206680"/>
            <a:ext cx="153000" cy="1641960"/>
          </a:xfrm>
          <a:prstGeom prst="curvedConnector2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356000" y="404640"/>
            <a:ext cx="2305080" cy="576360"/>
          </a:xfrm>
          <a:prstGeom prst="wedgeRoundRectCallout">
            <a:avLst>
              <a:gd name="adj1" fmla="val -48898"/>
              <a:gd name="adj2" fmla="val 92699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7 200 000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podíl na pronajaté ploš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38920" y="2637000"/>
            <a:ext cx="2305080" cy="576000"/>
          </a:xfrm>
          <a:prstGeom prst="wedgeRoundRectCallout">
            <a:avLst>
              <a:gd name="adj1" fmla="val -74722"/>
              <a:gd name="adj2" fmla="val 114736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(9 480 000 / 1 000) 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hodiny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00720" y="6243480"/>
            <a:ext cx="2447640" cy="576360"/>
          </a:xfrm>
          <a:prstGeom prst="wedgeRoundRectCallout">
            <a:avLst>
              <a:gd name="adj1" fmla="val -80481"/>
              <a:gd name="adj2" fmla="val -66527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(4 168 000 / 20 000) 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hodiny přímé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7" name=""/>
          <p:cNvCxnSpPr>
            <a:stCxn id="196" idx="2"/>
            <a:endCxn id="206" idx="3"/>
          </p:cNvCxnSpPr>
          <p:nvPr/>
        </p:nvCxnSpPr>
        <p:spPr>
          <a:xfrm flipH="1" rot="16200000">
            <a:off x="15120" y="3163680"/>
            <a:ext cx="4147200" cy="213480"/>
          </a:xfrm>
          <a:prstGeom prst="curvedConnector5">
            <a:avLst>
              <a:gd name="adj1" fmla="val 47773"/>
              <a:gd name="adj2" fmla="val 103716"/>
              <a:gd name="adj3" fmla="val 47773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70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75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800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80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8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5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65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průřezy vnitropodnikové struktury (opakován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 linii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é jsou náklady výkonů a jak řídit jejich hospodárnost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měřit přínos z prodeje konkrétních výkonů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ov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kalkulačně – výkonové)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stroj: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ce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 (marže, ceny)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 linii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zainteresovat útvary na chování v souladu s cíli a plány podniku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včas změřit přínos útvarů k podnikovým výsledkům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snižovat režijní náklady útvarů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stroje: plány,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ozpočty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nitropodnikové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08720" y="1728720"/>
            <a:ext cx="15112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9900"/>
                </a:solidFill>
                <a:latin typeface="Wingdings"/>
                <a:ea typeface="Wingdings"/>
              </a:rPr>
              <a:t>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411200"/>
            <a:ext cx="7129440" cy="2376720"/>
          </a:xfrm>
          <a:prstGeom prst="rect">
            <a:avLst/>
          </a:pr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C8807-7895-4901-BD08-CF77D2A967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ř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propočet) nákladů, marže, zisku, ceny nebo ji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dnotové veliči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turálně vyjádřenou jednotku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výrobek, práci nebo službu, na činnost nebo operaci, kterou je třeba v souvislosti s procesem tvorby výkonu provést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tázk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a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dit náklad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č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zovat náklady výkonu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teré náklady přiřadit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 jaké struktuře uvádět kalkulované položky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D7DA0-504F-4523-A8EA-98CCA3AA91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přiřazení doprav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olečná doprava 40 kg karotky za 30 F a 60 kg pórku za 20 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pravní náklady: 50 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Jak přiřadit náklady na karotku a póre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55300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35336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15228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195264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3753000" y="2852640"/>
            <a:ext cx="1619280" cy="308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4E334-D3AD-4D29-ABA5-EDB184C6F7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kalkulace v rozhodovacích úlohách („proč“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28560"/>
            <a:ext cx="868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hodování o změnách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mu a struktuře sortimen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ouz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louhodobé ziskov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na základě propočtu plných nákladů výkon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anov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hranice ce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ákladního a doplňkového sortimen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cen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nitropodnikový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osouzení schopnosti výkon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unést správní a strategick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y   (→ tzv. reprodukční úloh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-------------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bhajoba ce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ři jednání se zákazník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ceň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nitropodnikových výkonů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finanční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5892840"/>
            <a:ext cx="8496000" cy="5032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existuje univerzálně správný či špatný postup přiřazení nákladů !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4667B-EC42-4786-BB66-8C81642647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visí n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mětu kalkul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šechny nebo vybrané druhy dílčích (interních) i finálních (externích)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utno určit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ční jednici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ované množstv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ře nákladových polože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ariantní podle rozhodovacích úlo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jádřeno v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čním vzor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působ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řazování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mětu kalkul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em členění nákladů n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římé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nepřím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9D39F-9415-4FC6-AA8F-46902A6050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přiřazová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hrnují všechny jednicové náklady (kromě sdružených výkonů) a část režijních nákladů související s druhem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řazení pomocí dělení kalkulovaným množství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olečné náklady skupiny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řazení pomocí metod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dělení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st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poměrovými (ekvivalenčními čísl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přiráž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ač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ferencovan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87010-256A-4752-A3B4-A5DAA00BC4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ncipy přiřazování nepřím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 příčinné souvisl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otázka: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Jaký je příčinný vztah mezi kalkulovanými náklady a výkony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 únos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otázka: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olik nákladů unese výkon v prodejní ceně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A3189-7218-48E8-ADFF-DC0051DF24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rážková metoda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ívá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ozvrhové základny, klíč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le 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yužitých rozvrhových základen je možné rozlišit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sumač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irážkovou kalkulaci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yužití jedné základ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diferencovano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přirážkovou kalkulaci → využití různých rozvrhových základen podle analýzy vztahu nákladů, základen a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le charakter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je možné rozlišit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naturál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vrhové základny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ýpočet sazby režie (Kč / natur. j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azba režie = nepřímé režijní náklady / rozvrhová základn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eněž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vrhové základny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ýpočet přirážky v procent. vyjád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rocentní přirážka = nepřímé režijní náklady / rozvrhová základn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10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476600" y="3219480"/>
                <a:ext cx="190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CB85E-9A80-429F-A871-B252D6AD46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5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12Z</dcterms:modified>
  <cp:revision>10</cp:revision>
  <dc:subject/>
  <dc:title>Snímek 1</dc:title>
</cp:coreProperties>
</file>