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EAD41-7C9E-49CD-958E-7756CE098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81281-29F8-4D23-B3E2-5FAF07A20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381D1-217B-48D4-8062-092E13115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4B98A-2F21-4535-BAC3-95A289A06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6DD62-F8D5-45F9-863E-D225AA9F5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3FC67-98E8-4A46-A161-2B6C7A3D4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49F80-2FF5-4D04-8DA3-FA86D381A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B3AB9-B849-4B70-AEC8-4E9CA2B5F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F2888-F6E5-4ACF-A5DE-58EB83F0B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430F-5AB2-4A3C-9BF7-19DF59D1D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D92B-DB07-47AC-B86A-A324E8D95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F89C2-D5F0-4938-8771-F7A7A344B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9378-178A-4AA2-9F3D-F279A361E16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ce plných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variabilních náklad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57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5840" y="5367240"/>
            <a:ext cx="2246040" cy="609480"/>
            <a:chOff x="285840" y="5367240"/>
            <a:chExt cx="2246040" cy="609480"/>
          </a:xfrm>
        </p:grpSpPr>
        <p:sp>
          <p:nvSpPr>
            <p:cNvPr id="261" name=""/>
            <p:cNvSpPr/>
            <p:nvPr/>
          </p:nvSpPr>
          <p:spPr>
            <a:xfrm>
              <a:off x="285840" y="5367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840" y="5671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85840" y="5013360"/>
            <a:ext cx="224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62600" y="5013360"/>
            <a:ext cx="1584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62600" y="6392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51680" y="5965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503856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1"/>
            <a:endCxn id="264" idx="1"/>
          </p:cNvCxnSpPr>
          <p:nvPr/>
        </p:nvCxnSpPr>
        <p:spPr>
          <a:xfrm>
            <a:off x="2784600" y="5506560"/>
            <a:ext cx="39787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54" idx="3"/>
            <a:endCxn id="272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55" idx="3"/>
            <a:endCxn id="275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3"/>
            <a:endCxn id="273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3"/>
            <a:endCxn id="278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9DD19-16F4-4743-9BED-D6B6F83F7C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85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5840" y="5556240"/>
            <a:ext cx="2246040" cy="609480"/>
            <a:chOff x="285840" y="5556240"/>
            <a:chExt cx="2246040" cy="609480"/>
          </a:xfrm>
        </p:grpSpPr>
        <p:sp>
          <p:nvSpPr>
            <p:cNvPr id="289" name=""/>
            <p:cNvSpPr/>
            <p:nvPr/>
          </p:nvSpPr>
          <p:spPr>
            <a:xfrm>
              <a:off x="285840" y="5556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840" y="5860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5840" y="497052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2600" y="5013360"/>
            <a:ext cx="1584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prav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 aktivované fixní výrobní 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6518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1680" y="60912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2" idx="3"/>
            <a:endCxn id="298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83" idx="3"/>
            <a:endCxn id="301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9" idx="3"/>
            <a:endCxn id="304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914560" y="479736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479736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3"/>
            <a:endCxn id="307" idx="1"/>
          </p:cNvCxnSpPr>
          <p:nvPr/>
        </p:nvCxnSpPr>
        <p:spPr>
          <a:xfrm>
            <a:off x="4427280" y="515736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3"/>
            <a:endCxn id="306" idx="1"/>
          </p:cNvCxnSpPr>
          <p:nvPr/>
        </p:nvCxnSpPr>
        <p:spPr>
          <a:xfrm>
            <a:off x="2484000" y="5146200"/>
            <a:ext cx="4309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6732720" y="498492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7" idx="3"/>
            <a:endCxn id="310" idx="1"/>
          </p:cNvCxnSpPr>
          <p:nvPr/>
        </p:nvCxnSpPr>
        <p:spPr>
          <a:xfrm>
            <a:off x="6300720" y="515736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732720" y="57340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558972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3" idx="1"/>
            <a:endCxn id="312" idx="1"/>
          </p:cNvCxnSpPr>
          <p:nvPr/>
        </p:nvCxnSpPr>
        <p:spPr>
          <a:xfrm flipV="1">
            <a:off x="2639520" y="5907960"/>
            <a:ext cx="4093560" cy="5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AD6B-3146-4D9D-A27C-E5421C3C90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vliv kalkulace na hospodářský výsledek (homogenní výrob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060640"/>
          <a:ext cx="8002440" cy="200484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elkem na 500 000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Na 1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ní režijní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z toho variabil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95280" y="14842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náklady pro 1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4149720"/>
            <a:ext cx="813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období 1. – 3. stabilní objem výroby = 500 000 ks /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my prodej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období = 5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období = 3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období = 7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ochází k absolutní úspoře ani překročení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ejní cena = 18 Kč / ks (stabil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93404-D6E0-4198-9A94-8FB1CE23D1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1592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plný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608040"/>
          <a:ext cx="8147160" cy="240984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4 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1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30988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variabilní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3602160"/>
          <a:ext cx="8147160" cy="304776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5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7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ovnání rozdílu HV ve 2. období při ocenění kalkulací variabilních nákladů a plných nákla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773360"/>
          <a:ext cx="8136000" cy="4109760"/>
        </p:xfrm>
        <a:graphic>
          <a:graphicData uri="http://schemas.openxmlformats.org/drawingml/2006/table">
            <a:tbl>
              <a:tblPr/>
              <a:tblGrid>
                <a:gridCol w="2957400"/>
                <a:gridCol w="2590920"/>
                <a:gridCol w="2587680"/>
              </a:tblGrid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variabilní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plný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vynaložené v období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ktivované fixní náklady v zásobách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14CA8-8094-4174-85AD-EC865C026A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tnost sestave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sestav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i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sa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alkulovaných nákladů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ožek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lenění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součtů, vztahu ke kalkulac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řístup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všechny náklady vynaložené při jeho vytvoř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přímých a nepřím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variabilních a fixní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buď pouze variabilní náklady nebo odděleně variabilní a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3CAF4-E70E-4432-856D-042D88E04C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osti a omez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tick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odpovídá pouze jedné variantě objemu a sortiment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bitrá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přiřazuje i náklady bez zřetelné příčinné vazby k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kutečnou výš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ů je možné zjistit až 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poždění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e nutná informace o objemu a struktuře výkonů vytvořený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východisk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ovou polit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ejména z dlouhodobého hl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podklad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ení konkurenceschop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v rámci sekto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u a porovnání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a služ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h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možňuje kvantifikovat vliv využití fixních nákladů na vývoj zis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32834-A6DD-4570-85C1-DB65D8F1FE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798560"/>
          <a:ext cx="8002080" cy="2005200"/>
        </p:xfrm>
        <a:graphic>
          <a:graphicData uri="http://schemas.openxmlformats.org/drawingml/2006/table">
            <a:tbl>
              <a:tblPr/>
              <a:tblGrid>
                <a:gridCol w="2979360"/>
                <a:gridCol w="2608560"/>
                <a:gridCol w="241416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n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bjem výroby a prodeje v roce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isk podniku = 30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+ 1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- 2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- 16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= 3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68360" y="38480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atí se vyrábět a prodávat ztrátový výrobek B i v roce 2008, pokud máte k dispozici následující podrobnější informace o kalkulaci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íte, že fixní náklady jsou společné oběma výkonům a nejsou v roce 2008 ovlivnitelné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5040360"/>
          <a:ext cx="8002440" cy="138420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28174-4C2D-4AA0-9981-831C702FC2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72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rovnání podl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lné nákladové nároč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15 Kč (cena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16 Kč (plné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NE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---------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orovnání př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odlišení variabilních a fixních nákladů</a:t>
            </a:r>
            <a:r>
              <a:rPr b="1" i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A = (30-20)* 10 000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0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B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ixní náklady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Zisk / ztrát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- 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AC58B-5D35-4EE3-A9F3-B3089CF3D3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uje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le příčin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yvolané výkonem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yvolané časem (→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dporuje řešení ř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hodovacích úlo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změnách v objemu a struktuř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limitu prodejních cen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posouzení přínosu výkonu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2C3F-6839-4462-AB28-0FC3DCD33A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vz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" y="134136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ční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ká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34136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341360"/>
            <a:ext cx="25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 se stupňovitým čl.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9861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98756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98900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198900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506680"/>
            <a:ext cx="201636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50668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30402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0258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3543480"/>
            <a:ext cx="2016000" cy="3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508644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8638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5799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609588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419400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- FN skupiny vý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77" idx="3"/>
            <a:endCxn id="178" idx="1"/>
          </p:cNvCxnSpPr>
          <p:nvPr/>
        </p:nvCxnSpPr>
        <p:spPr>
          <a:xfrm>
            <a:off x="2195280" y="2238480"/>
            <a:ext cx="21636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1" idx="3"/>
            <a:endCxn id="182" idx="1"/>
          </p:cNvCxnSpPr>
          <p:nvPr/>
        </p:nvCxnSpPr>
        <p:spPr>
          <a:xfrm>
            <a:off x="2195280" y="275904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5" idx="3"/>
            <a:endCxn id="186" idx="1"/>
          </p:cNvCxnSpPr>
          <p:nvPr/>
        </p:nvCxnSpPr>
        <p:spPr>
          <a:xfrm>
            <a:off x="2195280" y="3278160"/>
            <a:ext cx="216360" cy="15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03" name=""/>
          <p:cNvSpPr/>
          <p:nvPr/>
        </p:nvSpPr>
        <p:spPr>
          <a:xfrm>
            <a:off x="2411280" y="347184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76092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4942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829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040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57927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9" idx="3"/>
            <a:endCxn id="190" idx="1"/>
          </p:cNvCxnSpPr>
          <p:nvPr/>
        </p:nvCxnSpPr>
        <p:spPr>
          <a:xfrm>
            <a:off x="2195280" y="379584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193" idx="3"/>
            <a:endCxn id="194" idx="1"/>
          </p:cNvCxnSpPr>
          <p:nvPr/>
        </p:nvCxnSpPr>
        <p:spPr>
          <a:xfrm>
            <a:off x="2195280" y="4314960"/>
            <a:ext cx="216360" cy="1024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197" idx="3"/>
            <a:endCxn id="198" idx="1"/>
          </p:cNvCxnSpPr>
          <p:nvPr/>
        </p:nvCxnSpPr>
        <p:spPr>
          <a:xfrm>
            <a:off x="2195280" y="4831920"/>
            <a:ext cx="216360" cy="1516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6877080" y="4524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484344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„závodu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77080" y="517536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505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8374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78" idx="3"/>
            <a:endCxn id="183" idx="1"/>
          </p:cNvCxnSpPr>
          <p:nvPr/>
        </p:nvCxnSpPr>
        <p:spPr>
          <a:xfrm>
            <a:off x="4427280" y="223992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8" name=""/>
          <p:cNvCxnSpPr>
            <a:stCxn id="182" idx="3"/>
            <a:endCxn id="183" idx="1"/>
          </p:cNvCxnSpPr>
          <p:nvPr/>
        </p:nvCxnSpPr>
        <p:spPr>
          <a:xfrm flipV="1">
            <a:off x="4427280" y="275868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9" name=""/>
          <p:cNvCxnSpPr>
            <a:stCxn id="203" idx="3"/>
            <a:endCxn id="183" idx="1"/>
          </p:cNvCxnSpPr>
          <p:nvPr/>
        </p:nvCxnSpPr>
        <p:spPr>
          <a:xfrm flipV="1">
            <a:off x="4427280" y="2758320"/>
            <a:ext cx="216360" cy="857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0" name=""/>
          <p:cNvCxnSpPr>
            <a:stCxn id="205" idx="3"/>
            <a:endCxn id="183" idx="1"/>
          </p:cNvCxnSpPr>
          <p:nvPr/>
        </p:nvCxnSpPr>
        <p:spPr>
          <a:xfrm flipV="1">
            <a:off x="4427280" y="2758320"/>
            <a:ext cx="216360" cy="18802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1" name=""/>
          <p:cNvCxnSpPr>
            <a:stCxn id="207" idx="3"/>
            <a:endCxn id="183" idx="1"/>
          </p:cNvCxnSpPr>
          <p:nvPr/>
        </p:nvCxnSpPr>
        <p:spPr>
          <a:xfrm flipV="1">
            <a:off x="4427280" y="2758680"/>
            <a:ext cx="216360" cy="2890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2" name=""/>
          <p:cNvCxnSpPr>
            <a:stCxn id="204" idx="3"/>
            <a:endCxn id="191" idx="1"/>
          </p:cNvCxnSpPr>
          <p:nvPr/>
        </p:nvCxnSpPr>
        <p:spPr>
          <a:xfrm flipV="1">
            <a:off x="4427280" y="3795480"/>
            <a:ext cx="216360" cy="110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3" name=""/>
          <p:cNvCxnSpPr>
            <a:stCxn id="206" idx="3"/>
            <a:endCxn id="191" idx="1"/>
          </p:cNvCxnSpPr>
          <p:nvPr/>
        </p:nvCxnSpPr>
        <p:spPr>
          <a:xfrm flipV="1">
            <a:off x="4427280" y="3795480"/>
            <a:ext cx="216360" cy="1132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4" name=""/>
          <p:cNvCxnSpPr>
            <a:stCxn id="208" idx="3"/>
            <a:endCxn id="191" idx="1"/>
          </p:cNvCxnSpPr>
          <p:nvPr/>
        </p:nvCxnSpPr>
        <p:spPr>
          <a:xfrm flipV="1">
            <a:off x="4427280" y="3795840"/>
            <a:ext cx="216360" cy="2141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5" name=""/>
          <p:cNvCxnSpPr>
            <a:stCxn id="198" idx="3"/>
            <a:endCxn id="191" idx="1"/>
          </p:cNvCxnSpPr>
          <p:nvPr/>
        </p:nvCxnSpPr>
        <p:spPr>
          <a:xfrm flipV="1">
            <a:off x="4427280" y="3795480"/>
            <a:ext cx="216360" cy="2553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>
            <a:stCxn id="179" idx="3"/>
            <a:endCxn id="180" idx="1"/>
          </p:cNvCxnSpPr>
          <p:nvPr/>
        </p:nvCxnSpPr>
        <p:spPr>
          <a:xfrm>
            <a:off x="6659640" y="224136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>
            <a:stCxn id="183" idx="3"/>
            <a:endCxn id="184" idx="1"/>
          </p:cNvCxnSpPr>
          <p:nvPr/>
        </p:nvCxnSpPr>
        <p:spPr>
          <a:xfrm>
            <a:off x="6659640" y="275868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187" idx="3"/>
            <a:endCxn id="188" idx="1"/>
          </p:cNvCxnSpPr>
          <p:nvPr/>
        </p:nvCxnSpPr>
        <p:spPr>
          <a:xfrm>
            <a:off x="6659640" y="327780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9" name=""/>
          <p:cNvCxnSpPr>
            <a:stCxn id="191" idx="3"/>
            <a:endCxn id="192" idx="1"/>
          </p:cNvCxnSpPr>
          <p:nvPr/>
        </p:nvCxnSpPr>
        <p:spPr>
          <a:xfrm flipV="1">
            <a:off x="6659640" y="3701160"/>
            <a:ext cx="218160" cy="94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0" name=""/>
          <p:cNvCxnSpPr>
            <a:stCxn id="191" idx="3"/>
            <a:endCxn id="199" idx="1"/>
          </p:cNvCxnSpPr>
          <p:nvPr/>
        </p:nvCxnSpPr>
        <p:spPr>
          <a:xfrm>
            <a:off x="6659640" y="3795480"/>
            <a:ext cx="218160" cy="557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1" name=""/>
          <p:cNvCxnSpPr>
            <a:stCxn id="191" idx="3"/>
            <a:endCxn id="213" idx="1"/>
          </p:cNvCxnSpPr>
          <p:nvPr/>
        </p:nvCxnSpPr>
        <p:spPr>
          <a:xfrm>
            <a:off x="6659640" y="3795480"/>
            <a:ext cx="21816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2" name=""/>
          <p:cNvCxnSpPr>
            <a:stCxn id="191" idx="3"/>
            <a:endCxn id="215" idx="1"/>
          </p:cNvCxnSpPr>
          <p:nvPr/>
        </p:nvCxnSpPr>
        <p:spPr>
          <a:xfrm>
            <a:off x="6659640" y="3795840"/>
            <a:ext cx="218160" cy="1869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5CFFE-3C7F-47E7-96C7-89D8C221D6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1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ční důsledky kalkulace plných a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ředem stanovených plných nákladech výkonu je započt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stantní část průměrných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porovnání lineárně přepočtených nákladů s jejich absolutní výší 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ativní úspoře/překročení fixní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(resp. překročené/nedostatečné úhradě fixních náklad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hodné při motivaci útvarů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užití kapac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294080"/>
            <a:ext cx="360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ÚFN = 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– F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RPFN = FN -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62400" y="41911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62040" y="59911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419112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60213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245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162400" y="4981680"/>
            <a:ext cx="172908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62400" y="4406400"/>
            <a:ext cx="1511280" cy="158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6040" y="4981680"/>
            <a:ext cx="0" cy="1084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31120" y="4478400"/>
            <a:ext cx="0" cy="1584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0" y="4549680"/>
            <a:ext cx="71280" cy="432000"/>
          </a:xfrm>
          <a:custGeom>
            <a:avLst/>
            <a:gdLst>
              <a:gd name="textAreaLeft" fmla="*/ 0 w 71280"/>
              <a:gd name="textAreaRight" fmla="*/ 25560 w 71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6227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Ú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92760" y="42624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= CN/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4941720"/>
            <a:ext cx="2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4B192-F45F-4C70-B2C7-44E9C33AEE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ocenění výkon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lných a variabilních nákladů na hospodářský výsled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visí s vymezení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ce 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ýkon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itliv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a změ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 množství a struktuře prodan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prode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ce 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ýkonu → variabilní náklady + fixní náklady spojené s vytvořením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náklady správy a řízení + prodej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při kolísání objemu a struktury prode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biliz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výrob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ikoli prodej výrob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401F8-7313-437A-BAD0-5CC1FF45CD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7Z</dcterms:modified>
  <cp:revision>14</cp:revision>
  <dc:subject/>
  <dc:title>Snímek 1</dc:title>
</cp:coreProperties>
</file>