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78190-8306-42F9-B44A-C8F93F956B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2A147-6704-47A1-8CFC-C4ABEFF480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BA3F9-198A-4FF6-BE8C-39C9419125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2F1F5-6DC5-4006-BA18-022CA121F0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DE582-B6FC-4C86-8D64-8454586233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026F4-981C-4912-A677-E765EBD83F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8FBC4-7434-4DED-8615-A8D0BA5758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BC420-740E-4A0F-9F48-F8B33C206F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CDC0A-EF72-4E0E-AC64-DAB26F8121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BBB9F-C5F9-41B2-B70F-B1A6E2C5EE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C5AC5-4E33-4535-B666-F3FC315D32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D4F2C-45E3-4829-A50B-4E7327621F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F09D5-E013-46C6-9FD4-453BB614622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toda standardních nákladů a výnosů a analýza odchylek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chylky ze změny struktury prodej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ři nehomogenní produkci lze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odchylku objemu prodej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změnu marže v důsledku změny objemu prodeje) rozložit na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odchylku ze změny objemu výkonů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působenou zvýšením či snížením objemu prodej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–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(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odchylku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ze změny struktury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způsobenou změnou sortimentu prodávaných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r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(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,i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,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lternativně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lze odchylku vyjádřit přes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říspěvek k tržbá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r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– 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kde CT jsou celkové tržb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7F48B-E120-4273-AB0C-F447A7B3BC4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chylka ze změny struktury vstup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 případě možnosti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měni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v technologickém postupu tvorby výkonu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měr vstup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, je možné rozdělit celkovou odchylku ze změny objemu na „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čistou kvantitativní odchylk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“ 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dchylku ze změny struktury vstupů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poče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odchyl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r,vstupy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průměrná cena naturální jednotky vstupů při standardní struktuře vstupů – průměrná cena naturální jednotky vstupů při skutečné struktuře)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skutečná spotřeba vstupů v naturálním vyjádření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standardní spotřeba vstupů v naturálním vyjádření –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skutečná spotřeba vstupů v naturálním vyjádření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průměrná cena naturální jednotky vstupů při standardní struktuře vstupů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4E5F4-ECBD-4DF3-B207-DE70B4953F4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jetí a cíle analýzy odchyl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chodisko – urč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dem stanovených hodn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zjišt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kutečné výš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jejich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rovn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četně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nalýzy rozdíl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e páteří manažerského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yužití v kalkulacích, rozpočetnictví i odpovědnostním říz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áz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ystému řízení na základě odchyl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ovení standard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jištění skutečných výsledk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jištění odchylky mezi standardní a skutečnou hodnoto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alýza odchyle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řijetí opatře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A8E93-F1ED-471F-9F68-E0D308B6996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novení standar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dard -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dem stanovená výš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kladů, ceny, zisku či naturálně vyjádřeného zdro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a jednotk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dnotkou výkonu – jednotk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nálního výkon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ebo „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andardní dílčí čá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 výkonu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u finálních výkonů přizpůsobovaných zákazníkům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úrovně standar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základ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– úroveň neměnná po určitou dob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běžný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– reálně dosažitelná úroveň při efektivním provádění činnosti v daném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ideál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– úroveň dosažitelná při ideálním průběhu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6C94B-5AC2-4107-BAFC-8199E50178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tup stanovení standardů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92360" y="1716120"/>
            <a:ext cx="2159280" cy="57456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jednotka výrobku (1 k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19640" y="2506680"/>
            <a:ext cx="2158920" cy="57456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c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219640" y="3298680"/>
            <a:ext cx="2158920" cy="57492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jednicové a variabil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4091040"/>
            <a:ext cx="2158920" cy="57456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marž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19640" y="4883040"/>
            <a:ext cx="2158920" cy="57492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fix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19640" y="5675400"/>
            <a:ext cx="2158920" cy="57456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z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6732360" y="1787400"/>
            <a:ext cx="431640" cy="432000"/>
          </a:xfrm>
          <a:prstGeom prst="line">
            <a:avLst/>
          </a:prstGeom>
          <a:ln w="76320">
            <a:solidFill>
              <a:srgbClr val="96969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308720" y="1341360"/>
            <a:ext cx="1835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šechny veličiny vyjádřeny na 1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55640" y="2720880"/>
            <a:ext cx="3240000" cy="172872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ormy spotřeby materiálu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předem stan. cena materiál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orma spotřeby času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předem stan. mzdový tari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ormativ spotřeby stroj. hodi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předem stan. výše var.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5640" y="4883040"/>
            <a:ext cx="3240000" cy="57492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mit fixních nákladů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objem výkon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87560" y="517212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6" name=""/>
          <p:cNvCxnSpPr>
            <a:stCxn id="165" idx="2"/>
            <a:endCxn id="173" idx="0"/>
          </p:cNvCxnSpPr>
          <p:nvPr/>
        </p:nvCxnSpPr>
        <p:spPr>
          <a:xfrm flipH="1">
            <a:off x="2376000" y="2290320"/>
            <a:ext cx="2196000" cy="4309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77" name=""/>
          <p:cNvCxnSpPr>
            <a:stCxn id="165" idx="2"/>
            <a:endCxn id="166" idx="0"/>
          </p:cNvCxnSpPr>
          <p:nvPr/>
        </p:nvCxnSpPr>
        <p:spPr>
          <a:xfrm>
            <a:off x="4572000" y="2290680"/>
            <a:ext cx="172800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78" name=""/>
          <p:cNvCxnSpPr>
            <a:stCxn id="166" idx="2"/>
            <a:endCxn id="167" idx="0"/>
          </p:cNvCxnSpPr>
          <p:nvPr/>
        </p:nvCxnSpPr>
        <p:spPr>
          <a:xfrm>
            <a:off x="6298920" y="3081240"/>
            <a:ext cx="108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79" name=""/>
          <p:cNvCxnSpPr>
            <a:stCxn id="167" idx="2"/>
            <a:endCxn id="168" idx="0"/>
          </p:cNvCxnSpPr>
          <p:nvPr/>
        </p:nvCxnSpPr>
        <p:spPr>
          <a:xfrm>
            <a:off x="6298920" y="3873600"/>
            <a:ext cx="108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80" name=""/>
          <p:cNvCxnSpPr>
            <a:stCxn id="168" idx="2"/>
            <a:endCxn id="169" idx="0"/>
          </p:cNvCxnSpPr>
          <p:nvPr/>
        </p:nvCxnSpPr>
        <p:spPr>
          <a:xfrm>
            <a:off x="6298920" y="4665600"/>
            <a:ext cx="108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81" name=""/>
          <p:cNvCxnSpPr>
            <a:stCxn id="169" idx="2"/>
            <a:endCxn id="170" idx="0"/>
          </p:cNvCxnSpPr>
          <p:nvPr/>
        </p:nvCxnSpPr>
        <p:spPr>
          <a:xfrm>
            <a:off x="6298920" y="5457960"/>
            <a:ext cx="108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82" name=""/>
          <p:cNvCxnSpPr>
            <a:stCxn id="174" idx="3"/>
            <a:endCxn id="169" idx="1"/>
          </p:cNvCxnSpPr>
          <p:nvPr/>
        </p:nvCxnSpPr>
        <p:spPr>
          <a:xfrm>
            <a:off x="3995640" y="5169960"/>
            <a:ext cx="12247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83" name=""/>
          <p:cNvCxnSpPr>
            <a:stCxn id="173" idx="3"/>
            <a:endCxn id="167" idx="1"/>
          </p:cNvCxnSpPr>
          <p:nvPr/>
        </p:nvCxnSpPr>
        <p:spPr>
          <a:xfrm>
            <a:off x="3995640" y="3585960"/>
            <a:ext cx="12247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62CB2-8D6E-4CD0-A905-DC67496B62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800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70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působy zjišťování odchyl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sledn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v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růběh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období se v MÚ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sledují skutečné veličin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a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zjištění odchyle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probíhá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o skončení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ení možné pružně reagovat na vznik odchyle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btížná identifikace příčin vzniku a odpovědnosti za vzni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formace o skutečných nákladech výkonů lze získat až po skončení obdob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růběžn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→ již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ři zobraz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nákladu je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oddělena předem stanovená výše a odchylka skuteč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(tzv. rozdílové metody říze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ožnost okamžité analýzy a reakce na zjištěné odchyl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áročnější na informační systém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yužívá se zejména u jednicových nákladů a prodejních ce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1FCDB-349B-4DE0-A1A1-291C2BB7E45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alýza odchyl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y vzni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dpověd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a vznik odchylek je možné analyzovat v růz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drobnosti podle potře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onkrétní pravidla a metodické postup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i stanovuje podni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2001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ýza a zjišťování odchylek většinou vychází ze základních faktorů ovlivňujících zisk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8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objem prodaných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8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rodejní cen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8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ariabil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8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fix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8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truktura prodaných výkonů při nehomogenních výkonech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ED4D2-63A8-4DC0-9D39-5D3843F8493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0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chylky prodejní cen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39720" y="1700280"/>
            <a:ext cx="5372280" cy="288108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Odchylku prodejní ceny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lze vyjádř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) na jednotk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b) na celkový obj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= 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) procent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%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/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2560" y="4724280"/>
            <a:ext cx="3672000" cy="136872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Legen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skutečná prodejní c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standardní prodejní c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skutečný objem prode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1AA79-9555-47AF-B2D6-AEDFB5788A1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chylky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9280" y="1413000"/>
            <a:ext cx="4349880" cy="288108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9900"/>
                </a:solidFill>
                <a:latin typeface="Arial"/>
              </a:rPr>
              <a:t>Odchylku variabilních nákladů 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lze vyjádř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) na jednotku výkon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b) na celkový objem výkon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= (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) procent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%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/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00440" y="1413000"/>
            <a:ext cx="4364280" cy="288108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9900"/>
                </a:solidFill>
                <a:latin typeface="Arial"/>
              </a:rPr>
              <a:t>Odchylku fixních nákladů 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lze vyjádřit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) celk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b) na jednotku výkon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F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= (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) procent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/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9280" y="4365720"/>
            <a:ext cx="4897440" cy="20160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Legen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 variabilní náklady na jednotku standardní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- variabilní náklady na jednotku skutečn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celkové fixní náklady standardní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celkové fixní náklady skutečn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skutečný objem výkon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68E99-7BE8-4A5A-ADBA-CEEAB2388D8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50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chylky objemu prodej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9280" y="1341360"/>
            <a:ext cx="8828280" cy="295128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Vliv objemu výkonů na zisk se projeví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změnou marže. Odchylka objemu prodeje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 se zjist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*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Tuto odchylku lze dále rozložit na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a) relativní úsporu fixních náklad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=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–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b) vliv zisku z prodeje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*z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9280" y="4365720"/>
            <a:ext cx="8785440" cy="20160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Legen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marže na jednotku výkonů standard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zisk na jednotku výkonů standard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celkové fixní náklady standard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- objem prodeje standard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- objem prodeje skutečn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8ACBD-BB20-4171-83F8-36B2C893AFB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NOBODY</cp:lastModifiedBy>
  <dcterms:modified xsi:type="dcterms:W3CDTF">2007-09-04T08:36:44Z</dcterms:modified>
  <cp:revision>15</cp:revision>
  <dc:subject/>
  <dc:title>Snímek 1</dc:title>
</cp:coreProperties>
</file>