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79982-8B5B-435D-9440-ED93851B41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6E518-867E-40C4-A2DB-E0D0E45422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DB0F5-381C-4D6D-BD17-843F7AC04E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6E8BA-F759-44B7-A483-5EAE79BBD9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56CC6-1C0C-481A-80E1-CA80AF6C92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E2641-9A54-4244-92D8-3C69553A1C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72DD0-3EBB-46BB-A8E4-1F91AE613A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F84B4-6DEA-4576-8B03-9284C0660F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287DF-E5E2-4BCD-9BDC-1582AB1E78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D0308-F8C0-4CEF-BAF9-E5EE0A50CD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07A67-B57F-4498-9E74-33049BA308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4A750-F598-4D57-831B-0B43DC3506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B2124-DB1F-4D15-B5FB-817D0D8A772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Kalkulační systém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 jeho využití v řízení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liv konkrétních podmínek činnosti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řízení nákladů výkon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charakter výrobního proces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ganická x heterogenní výrob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typ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omogenní x heterogenní výko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členitost výrobního proces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ečlenitý (technologicky uzavřený) x členitý proces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vztah výkonu k zákazníkov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romadná x sériová x kusová výrob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existence nedokončené výrob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eexistující x stabilní x kolísajíc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druženost výrob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družená x nesdružená výrob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E4B4A-B43D-4D05-81D1-3B505D2C1C2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45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650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80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85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y evidence a kalkulace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sdružená čin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áklad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ázová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upňová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akázková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družená čin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DAAF3-6EDF-4018-A96B-3E85FC2C34B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ákladní mod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vykle pokud kompletní provedení jednoho druhu finálního výkonu tvoří nepřetržitý a místně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uzavřený pro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84360" y="2924280"/>
            <a:ext cx="1439640" cy="25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 vynaložené na hlavní činnos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435640" y="3429000"/>
            <a:ext cx="2158920" cy="1511280"/>
          </a:xfrm>
          <a:prstGeom prst="hexagon">
            <a:avLst>
              <a:gd name="adj" fmla="val 35713"/>
              <a:gd name="vf" fmla="val 11547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končen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97040" y="3400560"/>
            <a:ext cx="2374920" cy="158256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tvar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lavní činnos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0" name=""/>
          <p:cNvCxnSpPr>
            <a:stCxn id="207" idx="3"/>
            <a:endCxn id="209" idx="1"/>
          </p:cNvCxnSpPr>
          <p:nvPr/>
        </p:nvCxnSpPr>
        <p:spPr>
          <a:xfrm>
            <a:off x="2124000" y="4184640"/>
            <a:ext cx="47376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11" name=""/>
          <p:cNvCxnSpPr>
            <a:stCxn id="209" idx="3"/>
            <a:endCxn id="208" idx="1"/>
          </p:cNvCxnSpPr>
          <p:nvPr/>
        </p:nvCxnSpPr>
        <p:spPr>
          <a:xfrm flipV="1">
            <a:off x="4971960" y="4184280"/>
            <a:ext cx="46440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12" name=""/>
          <p:cNvSpPr/>
          <p:nvPr/>
        </p:nvSpPr>
        <p:spPr>
          <a:xfrm>
            <a:off x="8748720" y="404820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3" name=""/>
          <p:cNvCxnSpPr>
            <a:stCxn id="208" idx="3"/>
            <a:endCxn id="212" idx="1"/>
          </p:cNvCxnSpPr>
          <p:nvPr/>
        </p:nvCxnSpPr>
        <p:spPr>
          <a:xfrm>
            <a:off x="7594560" y="4184640"/>
            <a:ext cx="115488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14" name=""/>
          <p:cNvSpPr/>
          <p:nvPr/>
        </p:nvSpPr>
        <p:spPr>
          <a:xfrm>
            <a:off x="7740720" y="378936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4B70D-6E97-434E-B5F4-47B7463B83B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2000"/>
                            </p:stCondLst>
                            <p:childTnLst>
                              <p:par>
                                <p:cTn id="3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8000"/>
                            </p:stCondLst>
                            <p:childTnLst>
                              <p:par>
                                <p:cTn id="4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ázová meto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roba finálního výrobku je rozdělena do několika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fáz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které se liší charakterem činností, objemem prováděných výkonů v jednotlivých časových úsecích a většinou i místem provádě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klady se sledují podle fází, výkony předávané mezi fázemi však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nejsou předmětem hodnotového zobra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71680" y="3529080"/>
            <a:ext cx="1439640" cy="25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 vynaložené na hlavní činnos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22960" y="4033800"/>
            <a:ext cx="2158920" cy="1511280"/>
          </a:xfrm>
          <a:prstGeom prst="hexagon">
            <a:avLst>
              <a:gd name="adj" fmla="val 35713"/>
              <a:gd name="vf" fmla="val 11547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končen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411280" y="3386160"/>
            <a:ext cx="2374920" cy="7920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tv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fá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636040" y="465300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1" name=""/>
          <p:cNvCxnSpPr>
            <a:stCxn id="218" idx="3"/>
            <a:endCxn id="220" idx="1"/>
          </p:cNvCxnSpPr>
          <p:nvPr/>
        </p:nvCxnSpPr>
        <p:spPr>
          <a:xfrm>
            <a:off x="7481880" y="4789440"/>
            <a:ext cx="115488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2" name=""/>
          <p:cNvSpPr/>
          <p:nvPr/>
        </p:nvSpPr>
        <p:spPr>
          <a:xfrm>
            <a:off x="7628040" y="4394160"/>
            <a:ext cx="215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411280" y="4394160"/>
            <a:ext cx="2374920" cy="79236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tv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fá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411280" y="5402160"/>
            <a:ext cx="2374920" cy="79236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tv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fá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5" name=""/>
          <p:cNvCxnSpPr>
            <a:stCxn id="217" idx="3"/>
            <a:endCxn id="223" idx="1"/>
          </p:cNvCxnSpPr>
          <p:nvPr/>
        </p:nvCxnSpPr>
        <p:spPr>
          <a:xfrm>
            <a:off x="2010960" y="4789080"/>
            <a:ext cx="40068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6" name=""/>
          <p:cNvCxnSpPr/>
          <p:nvPr/>
        </p:nvCxnSpPr>
        <p:spPr>
          <a:xfrm>
            <a:off x="2008080" y="3789360"/>
            <a:ext cx="40104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/>
          <p:nvPr/>
        </p:nvCxnSpPr>
        <p:spPr>
          <a:xfrm>
            <a:off x="2022120" y="5805000"/>
            <a:ext cx="40068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19" idx="2"/>
            <a:endCxn id="223" idx="0"/>
          </p:cNvCxnSpPr>
          <p:nvPr/>
        </p:nvCxnSpPr>
        <p:spPr>
          <a:xfrm>
            <a:off x="3598560" y="4178160"/>
            <a:ext cx="1080" cy="216720"/>
          </a:xfrm>
          <a:prstGeom prst="straightConnector1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229" name=""/>
          <p:cNvCxnSpPr>
            <a:stCxn id="223" idx="2"/>
            <a:endCxn id="224" idx="0"/>
          </p:cNvCxnSpPr>
          <p:nvPr/>
        </p:nvCxnSpPr>
        <p:spPr>
          <a:xfrm>
            <a:off x="3598560" y="5186160"/>
            <a:ext cx="1080" cy="216360"/>
          </a:xfrm>
          <a:prstGeom prst="straightConnector1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230" name=""/>
          <p:cNvCxnSpPr>
            <a:stCxn id="219" idx="3"/>
            <a:endCxn id="218" idx="1"/>
          </p:cNvCxnSpPr>
          <p:nvPr/>
        </p:nvCxnSpPr>
        <p:spPr>
          <a:xfrm>
            <a:off x="4785840" y="3782880"/>
            <a:ext cx="537480" cy="1007280"/>
          </a:xfrm>
          <a:prstGeom prst="straightConnector1">
            <a:avLst/>
          </a:prstGeom>
          <a:ln w="9360">
            <a:solidFill>
              <a:srgbClr val="ffffff"/>
            </a:solidFill>
            <a:prstDash val="dashDot"/>
            <a:miter/>
            <a:tailEnd len="med" type="triangle" w="med"/>
          </a:ln>
        </p:spPr>
      </p:cxnSp>
      <p:cxnSp>
        <p:nvCxnSpPr>
          <p:cNvPr id="231" name=""/>
          <p:cNvCxnSpPr>
            <a:stCxn id="223" idx="3"/>
            <a:endCxn id="218" idx="1"/>
          </p:cNvCxnSpPr>
          <p:nvPr/>
        </p:nvCxnSpPr>
        <p:spPr>
          <a:xfrm flipV="1">
            <a:off x="4785840" y="4788720"/>
            <a:ext cx="537480" cy="2520"/>
          </a:xfrm>
          <a:prstGeom prst="straightConnector1">
            <a:avLst/>
          </a:prstGeom>
          <a:ln w="9360">
            <a:solidFill>
              <a:srgbClr val="ffffff"/>
            </a:solidFill>
            <a:prstDash val="dashDot"/>
            <a:miter/>
            <a:tailEnd len="med" type="triangle" w="med"/>
          </a:ln>
        </p:spPr>
      </p:cxnSp>
      <p:cxnSp>
        <p:nvCxnSpPr>
          <p:cNvPr id="232" name=""/>
          <p:cNvCxnSpPr>
            <a:stCxn id="224" idx="3"/>
            <a:endCxn id="218" idx="1"/>
          </p:cNvCxnSpPr>
          <p:nvPr/>
        </p:nvCxnSpPr>
        <p:spPr>
          <a:xfrm flipV="1">
            <a:off x="4785840" y="4788720"/>
            <a:ext cx="537480" cy="1010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5410080" y="5734080"/>
            <a:ext cx="3492720" cy="647640"/>
          </a:xfrm>
          <a:prstGeom prst="rect">
            <a:avLst/>
          </a:prstGeom>
          <a:solidFill>
            <a:srgbClr val="ffff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uze naturální veliči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uze hodnotové veliči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630760" y="5886360"/>
            <a:ext cx="43200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-10800" bIns="-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630760" y="617364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-10800" bIns="-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959E7-B20A-4793-9F40-DC4A78F186F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4000"/>
                            </p:stCondLst>
                            <p:childTnLst>
                              <p:par>
                                <p:cTn id="46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700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9000"/>
                            </p:stCondLst>
                            <p:childTnLst>
                              <p:par>
                                <p:cTn id="4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1000"/>
                            </p:stCondLst>
                            <p:childTnLst>
                              <p:par>
                                <p:cTn id="4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2300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250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7000"/>
                            </p:stCondLst>
                            <p:childTnLst>
                              <p:par>
                                <p:cTn id="4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9000"/>
                            </p:stCondLst>
                            <p:childTnLst>
                              <p:par>
                                <p:cTn id="4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upňová meto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roba finálního výrobku je rozdělena do několika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tupň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výstupem každého stupně (kromě posledního) je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polotova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který může být dále spotřebován nebo prodá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klady se sledují podle stupňů, výkony předávané mezi stupni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jsou předmětem hodnotového zobra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10960" y="3529080"/>
            <a:ext cx="1440000" cy="25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 vynaložené na hlavní činnos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979960" y="4438800"/>
            <a:ext cx="1830600" cy="1511280"/>
          </a:xfrm>
          <a:prstGeom prst="hexagon">
            <a:avLst>
              <a:gd name="adj" fmla="val 30282"/>
              <a:gd name="vf" fmla="val 11547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končen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050920" y="3386160"/>
            <a:ext cx="1800360" cy="7920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tv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stupn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934480" y="5057640"/>
            <a:ext cx="2095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2" name=""/>
          <p:cNvCxnSpPr>
            <a:stCxn id="239" idx="3"/>
            <a:endCxn id="241" idx="1"/>
          </p:cNvCxnSpPr>
          <p:nvPr/>
        </p:nvCxnSpPr>
        <p:spPr>
          <a:xfrm>
            <a:off x="7810560" y="5194440"/>
            <a:ext cx="112464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3" name=""/>
          <p:cNvSpPr/>
          <p:nvPr/>
        </p:nvSpPr>
        <p:spPr>
          <a:xfrm>
            <a:off x="7953480" y="4799160"/>
            <a:ext cx="2095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4" name=""/>
          <p:cNvCxnSpPr/>
          <p:nvPr/>
        </p:nvCxnSpPr>
        <p:spPr>
          <a:xfrm>
            <a:off x="1647720" y="3789360"/>
            <a:ext cx="40104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4211640" y="3198960"/>
            <a:ext cx="1873080" cy="1152360"/>
          </a:xfrm>
          <a:prstGeom prst="flowChartDecision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lotova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6" name=""/>
          <p:cNvCxnSpPr>
            <a:stCxn id="240" idx="3"/>
            <a:endCxn id="245" idx="1"/>
          </p:cNvCxnSpPr>
          <p:nvPr/>
        </p:nvCxnSpPr>
        <p:spPr>
          <a:xfrm flipV="1">
            <a:off x="3850920" y="3774600"/>
            <a:ext cx="36108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7" name=""/>
          <p:cNvSpPr/>
          <p:nvPr/>
        </p:nvSpPr>
        <p:spPr>
          <a:xfrm>
            <a:off x="3851280" y="4797360"/>
            <a:ext cx="1800360" cy="79236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tv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stupn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8" name=""/>
          <p:cNvCxnSpPr>
            <a:stCxn id="245" idx="2"/>
            <a:endCxn id="247" idx="0"/>
          </p:cNvCxnSpPr>
          <p:nvPr/>
        </p:nvCxnSpPr>
        <p:spPr>
          <a:xfrm flipH="1">
            <a:off x="4750560" y="4350960"/>
            <a:ext cx="397800" cy="446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9" name=""/>
          <p:cNvCxnSpPr>
            <a:stCxn id="247" idx="3"/>
            <a:endCxn id="239" idx="1"/>
          </p:cNvCxnSpPr>
          <p:nvPr/>
        </p:nvCxnSpPr>
        <p:spPr>
          <a:xfrm>
            <a:off x="5651640" y="5194080"/>
            <a:ext cx="3290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50" name=""/>
          <p:cNvSpPr/>
          <p:nvPr/>
        </p:nvSpPr>
        <p:spPr>
          <a:xfrm>
            <a:off x="7223040" y="3645000"/>
            <a:ext cx="2095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242040" y="3386160"/>
            <a:ext cx="2095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2" name=""/>
          <p:cNvCxnSpPr>
            <a:stCxn id="245" idx="3"/>
            <a:endCxn id="250" idx="1"/>
          </p:cNvCxnSpPr>
          <p:nvPr/>
        </p:nvCxnSpPr>
        <p:spPr>
          <a:xfrm>
            <a:off x="6084720" y="3774960"/>
            <a:ext cx="1139040" cy="151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5940D-DFEB-4897-8D0D-01A74AD9C2C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2000"/>
                            </p:stCondLst>
                            <p:childTnLst>
                              <p:par>
                                <p:cTn id="5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6000"/>
                            </p:stCondLst>
                            <p:childTnLst>
                              <p:par>
                                <p:cTn id="5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80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5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4000"/>
                            </p:stCondLst>
                            <p:childTnLst>
                              <p:par>
                                <p:cTn id="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6000"/>
                            </p:stCondLst>
                            <p:childTnLst>
                              <p:par>
                                <p:cTn id="5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8000"/>
                            </p:stCondLst>
                            <p:childTnLst>
                              <p:par>
                                <p:cTn id="5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2000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2000"/>
                            </p:stCondLst>
                            <p:childTnLst>
                              <p:par>
                                <p:cTn id="5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akázková meto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398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užití při tvorbě jedinečných individuálních výkonů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zakáze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ímé náklady se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přiřazuj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iž při vzniku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na zakázk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přímé náklady se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kumulují na účtech reži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poté je podle řešené rozhodovací úlohy rozhodnuto o jejich alokac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zakázkově orientovaném typu výroby má výkonově orientované účetnictví daleko širší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význam pro řízení nákladů a zisk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92000" y="3529080"/>
            <a:ext cx="1440000" cy="1771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ynaložené přímé náklady zakáz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153040" y="3971880"/>
            <a:ext cx="1830240" cy="1511280"/>
          </a:xfrm>
          <a:prstGeom prst="hexagon">
            <a:avLst>
              <a:gd name="adj" fmla="val 30276"/>
              <a:gd name="vf" fmla="val 11547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končené zakázk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107200" y="4591080"/>
            <a:ext cx="2098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8" name=""/>
          <p:cNvCxnSpPr>
            <a:stCxn id="256" idx="3"/>
            <a:endCxn id="257" idx="1"/>
          </p:cNvCxnSpPr>
          <p:nvPr/>
        </p:nvCxnSpPr>
        <p:spPr>
          <a:xfrm>
            <a:off x="6983280" y="4727520"/>
            <a:ext cx="112464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59" name=""/>
          <p:cNvSpPr/>
          <p:nvPr/>
        </p:nvSpPr>
        <p:spPr>
          <a:xfrm>
            <a:off x="7126200" y="4332240"/>
            <a:ext cx="2095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992320" y="3500280"/>
            <a:ext cx="1513080" cy="72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akázka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92000" y="5373720"/>
            <a:ext cx="1440000" cy="1006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ynaložené nepřímé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992320" y="4365720"/>
            <a:ext cx="1513080" cy="72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akázka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992320" y="5229360"/>
            <a:ext cx="1513080" cy="72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akázka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4" name=""/>
          <p:cNvCxnSpPr>
            <a:stCxn id="262" idx="3"/>
            <a:endCxn id="256" idx="1"/>
          </p:cNvCxnSpPr>
          <p:nvPr/>
        </p:nvCxnSpPr>
        <p:spPr>
          <a:xfrm>
            <a:off x="4505040" y="4726080"/>
            <a:ext cx="64836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65" name=""/>
          <p:cNvCxnSpPr>
            <a:stCxn id="255" idx="3"/>
            <a:endCxn id="260" idx="1"/>
          </p:cNvCxnSpPr>
          <p:nvPr/>
        </p:nvCxnSpPr>
        <p:spPr>
          <a:xfrm flipV="1">
            <a:off x="2232000" y="3859920"/>
            <a:ext cx="761040" cy="554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66" name=""/>
          <p:cNvCxnSpPr>
            <a:stCxn id="255" idx="3"/>
            <a:endCxn id="262" idx="1"/>
          </p:cNvCxnSpPr>
          <p:nvPr/>
        </p:nvCxnSpPr>
        <p:spPr>
          <a:xfrm>
            <a:off x="2232000" y="4414320"/>
            <a:ext cx="761040" cy="311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67" name=""/>
          <p:cNvCxnSpPr>
            <a:stCxn id="255" idx="3"/>
            <a:endCxn id="263" idx="1"/>
          </p:cNvCxnSpPr>
          <p:nvPr/>
        </p:nvCxnSpPr>
        <p:spPr>
          <a:xfrm>
            <a:off x="2232000" y="4414680"/>
            <a:ext cx="761040" cy="117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68" name=""/>
          <p:cNvCxnSpPr>
            <a:stCxn id="261" idx="3"/>
            <a:endCxn id="260" idx="1"/>
          </p:cNvCxnSpPr>
          <p:nvPr/>
        </p:nvCxnSpPr>
        <p:spPr>
          <a:xfrm flipV="1">
            <a:off x="2232000" y="3859920"/>
            <a:ext cx="761040" cy="2017080"/>
          </a:xfrm>
          <a:prstGeom prst="straightConnector1">
            <a:avLst/>
          </a:prstGeom>
          <a:ln w="9360">
            <a:solidFill>
              <a:srgbClr val="ffffff"/>
            </a:solidFill>
            <a:prstDash val="sysDot"/>
            <a:miter/>
            <a:tailEnd len="med" type="stealth" w="med"/>
          </a:ln>
        </p:spPr>
      </p:cxnSp>
      <p:cxnSp>
        <p:nvCxnSpPr>
          <p:cNvPr id="269" name=""/>
          <p:cNvCxnSpPr>
            <a:stCxn id="261" idx="3"/>
            <a:endCxn id="262" idx="1"/>
          </p:cNvCxnSpPr>
          <p:nvPr/>
        </p:nvCxnSpPr>
        <p:spPr>
          <a:xfrm flipV="1">
            <a:off x="2232000" y="4725360"/>
            <a:ext cx="761040" cy="1151640"/>
          </a:xfrm>
          <a:prstGeom prst="straightConnector1">
            <a:avLst/>
          </a:prstGeom>
          <a:ln w="9360">
            <a:solidFill>
              <a:srgbClr val="ffffff"/>
            </a:solidFill>
            <a:prstDash val="sysDot"/>
            <a:miter/>
            <a:tailEnd len="med" type="stealth" w="med"/>
          </a:ln>
        </p:spPr>
      </p:cxnSp>
      <p:cxnSp>
        <p:nvCxnSpPr>
          <p:cNvPr id="270" name=""/>
          <p:cNvCxnSpPr>
            <a:stCxn id="261" idx="3"/>
            <a:endCxn id="263" idx="1"/>
          </p:cNvCxnSpPr>
          <p:nvPr/>
        </p:nvCxnSpPr>
        <p:spPr>
          <a:xfrm flipV="1">
            <a:off x="2232000" y="5589360"/>
            <a:ext cx="761040" cy="288000"/>
          </a:xfrm>
          <a:prstGeom prst="straightConnector1">
            <a:avLst/>
          </a:prstGeom>
          <a:ln w="9360">
            <a:solidFill>
              <a:srgbClr val="ffffff"/>
            </a:solidFill>
            <a:prstDash val="sysDot"/>
            <a:miter/>
            <a:tailEnd len="med" type="stealth" w="med"/>
          </a:ln>
        </p:spPr>
      </p:cxnSp>
      <p:sp>
        <p:nvSpPr>
          <p:cNvPr id="271" name=""/>
          <p:cNvSpPr/>
          <p:nvPr/>
        </p:nvSpPr>
        <p:spPr>
          <a:xfrm>
            <a:off x="2233440" y="6237360"/>
            <a:ext cx="590580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-10800" bIns="-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2" name=""/>
          <p:cNvCxnSpPr>
            <a:stCxn id="260" idx="3"/>
            <a:endCxn id="256" idx="1"/>
          </p:cNvCxnSpPr>
          <p:nvPr/>
        </p:nvCxnSpPr>
        <p:spPr>
          <a:xfrm>
            <a:off x="4505040" y="3860640"/>
            <a:ext cx="648360" cy="867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73" name=""/>
          <p:cNvCxnSpPr>
            <a:stCxn id="263" idx="3"/>
            <a:endCxn id="256" idx="1"/>
          </p:cNvCxnSpPr>
          <p:nvPr/>
        </p:nvCxnSpPr>
        <p:spPr>
          <a:xfrm flipV="1">
            <a:off x="4505040" y="4726800"/>
            <a:ext cx="648360" cy="862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D6DC9-099B-448A-8E26-82122D11390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2000"/>
                            </p:stCondLst>
                            <p:childTnLst>
                              <p:par>
                                <p:cTn id="5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4000"/>
                            </p:stCondLst>
                            <p:childTnLst>
                              <p:par>
                                <p:cTn id="5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6000"/>
                            </p:stCondLst>
                            <p:childTnLst>
                              <p:par>
                                <p:cTn id="5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8000"/>
                            </p:stCondLst>
                            <p:childTnLst>
                              <p:par>
                                <p:cTn id="6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2000"/>
                            </p:stCondLst>
                            <p:childTnLst>
                              <p:par>
                                <p:cTn id="6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4000"/>
                            </p:stCondLst>
                            <p:childTnLst>
                              <p:par>
                                <p:cTn id="6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16000"/>
                            </p:stCondLst>
                            <p:childTnLst>
                              <p:par>
                                <p:cTn id="6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8000"/>
                            </p:stCondLst>
                            <p:childTnLst>
                              <p:par>
                                <p:cTn id="6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20000"/>
                            </p:stCondLst>
                            <p:childTnLst>
                              <p:par>
                                <p:cTn id="6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2000"/>
                            </p:stCondLst>
                            <p:childTnLst>
                              <p:par>
                                <p:cTn id="6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4000"/>
                            </p:stCondLst>
                            <p:childTnLst>
                              <p:par>
                                <p:cTn id="6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26000"/>
                            </p:stCondLst>
                            <p:childTnLst>
                              <p:par>
                                <p:cTn id="6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28000"/>
                            </p:stCondLst>
                            <p:childTnLst>
                              <p:par>
                                <p:cTn id="6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30000"/>
                            </p:stCondLst>
                            <p:childTnLst>
                              <p:par>
                                <p:cTn id="6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32000"/>
                            </p:stCondLst>
                            <p:childTnLst>
                              <p:par>
                                <p:cTn id="6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34000"/>
                            </p:stCondLst>
                            <p:childTnLst>
                              <p:par>
                                <p:cTn id="6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a sdružených výkonů 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zniká-li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z kombin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ložených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vstupů více výkon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 omezeně ovlivnitelném poměru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všechny náklady jsou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nepřímé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(sdružené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členění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lavní výkony – hlavní cíl činnosti podni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dlejší výkony – nejsou hlavním cílem činnosti, ale mají hodnot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dpad – nutné důsledky činnosti s minimální hodnoto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tížné nalezení vazby mezi sdruženými náklady a jednotlivými výkon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alokace obvykle na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rincipu únos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z důvod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cenění zásob ve finančním účetnictv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bhajoby ce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cenění výkonů pro hodnotové řízení podni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EBDF8-2E80-4446-A94D-BE6EC72906B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0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000"/>
                            </p:stCondLst>
                            <p:childTnLst>
                              <p:par>
                                <p:cTn id="6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2000"/>
                            </p:stCondLst>
                            <p:childTnLst>
                              <p:par>
                                <p:cTn id="6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000"/>
                            </p:stCondLst>
                            <p:childTnLst>
                              <p:par>
                                <p:cTn id="6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a sdružených výkonů I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lokace nákladů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hlavních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na základě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hodnotových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rozvrhových základen (prodejní cena, příspěvek k tržbám ...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na základě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naturálních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rozvrhových základen (objem, hmotnost ...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cenění a zobrazení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vedlejších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rozčítací způsob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– vedlejší výkony zachyceny obdobně jako hlav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odčítací způsob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– výnosy z prodeje vedlejších výkonů považovány za snížení nákladů vynaložených na hlavní výko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E83B3-18F2-43CF-98F7-B957B31EAC0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0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1000"/>
                            </p:stCondLst>
                            <p:childTnLst>
                              <p:par>
                                <p:cTn id="7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1000"/>
                            </p:stCondLst>
                            <p:childTnLst>
                              <p:par>
                                <p:cTn id="7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lišnosti kalkulací ve vztah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 časovému horizont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lkulace se třeba sestavovat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ntn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 ohledem n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roveň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 operativní říz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 taktické říz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 strategické říz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ázi řídicího cykl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 fázi plánování a kontroly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předběžné kalkulac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 průběhu či po skončení tvorby a prodeje výkonů → výsledné kalkulac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ílem je poskytnout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informace pro řízení hodno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výkonu po celou dobu jeho existe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alkulace jsou významné nejen samostatně ale zejména jako ucelený systém →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kalkulační systé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B1B9A-356C-4927-8D52-1B63FFD388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ulační systé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187280" y="2083680"/>
            <a:ext cx="6984360" cy="3411720"/>
            <a:chOff x="1187280" y="2083680"/>
            <a:chExt cx="6984360" cy="3411720"/>
          </a:xfrm>
        </p:grpSpPr>
        <p:cxnSp>
          <p:nvCxnSpPr>
            <p:cNvPr id="164" name="_s56328"/>
            <p:cNvCxnSpPr>
              <a:stCxn id="165" idx="3"/>
              <a:endCxn id="166" idx="2"/>
            </p:cNvCxnSpPr>
            <p:nvPr/>
          </p:nvCxnSpPr>
          <p:spPr>
            <a:xfrm flipV="1">
              <a:off x="4639320" y="4124160"/>
              <a:ext cx="384120" cy="11426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7" name="_s56329"/>
            <p:cNvCxnSpPr>
              <a:stCxn id="168" idx="3"/>
              <a:endCxn id="166" idx="2"/>
            </p:cNvCxnSpPr>
            <p:nvPr/>
          </p:nvCxnSpPr>
          <p:spPr>
            <a:xfrm flipV="1">
              <a:off x="4639320" y="4123800"/>
              <a:ext cx="384120" cy="4575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9" name="_s56330"/>
            <p:cNvCxnSpPr>
              <a:stCxn id="166" idx="0"/>
              <a:endCxn id="170" idx="2"/>
            </p:cNvCxnSpPr>
            <p:nvPr/>
          </p:nvCxnSpPr>
          <p:spPr>
            <a:xfrm flipV="1" rot="16200000">
              <a:off x="4237200" y="2881080"/>
              <a:ext cx="228960" cy="1343520"/>
            </a:xfrm>
            <a:prstGeom prst="bentConnector3">
              <a:avLst>
                <a:gd name="adj1" fmla="val 4960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1" name="_s56331"/>
            <p:cNvCxnSpPr>
              <a:stCxn id="172" idx="0"/>
              <a:endCxn id="170" idx="2"/>
            </p:cNvCxnSpPr>
            <p:nvPr/>
          </p:nvCxnSpPr>
          <p:spPr>
            <a:xfrm flipH="1" flipV="1" rot="5400000">
              <a:off x="2894400" y="2881800"/>
              <a:ext cx="228960" cy="1342800"/>
            </a:xfrm>
            <a:prstGeom prst="bentConnector3">
              <a:avLst>
                <a:gd name="adj1" fmla="val 4960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3" name="_s56332"/>
            <p:cNvCxnSpPr>
              <a:stCxn id="174" idx="0"/>
              <a:endCxn id="175" idx="2"/>
            </p:cNvCxnSpPr>
            <p:nvPr/>
          </p:nvCxnSpPr>
          <p:spPr>
            <a:xfrm flipV="1" rot="16200000">
              <a:off x="5627520" y="1806480"/>
              <a:ext cx="228960" cy="212148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6" name="_s56333"/>
            <p:cNvCxnSpPr>
              <a:stCxn id="170" idx="0"/>
              <a:endCxn id="175" idx="2"/>
            </p:cNvCxnSpPr>
            <p:nvPr/>
          </p:nvCxnSpPr>
          <p:spPr>
            <a:xfrm flipH="1" flipV="1" rot="5400000">
              <a:off x="4066560" y="2366280"/>
              <a:ext cx="228960" cy="100224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75" name="_s56334"/>
            <p:cNvSpPr/>
            <p:nvPr/>
          </p:nvSpPr>
          <p:spPr>
            <a:xfrm>
              <a:off x="3531240" y="2083680"/>
              <a:ext cx="2298960" cy="669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KALKULACE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NÁKLADŮ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_s56335"/>
            <p:cNvSpPr/>
            <p:nvPr/>
          </p:nvSpPr>
          <p:spPr>
            <a:xfrm>
              <a:off x="2311200" y="2981880"/>
              <a:ext cx="273816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PŘEDBĚŽNÁ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_s56336"/>
            <p:cNvSpPr/>
            <p:nvPr/>
          </p:nvSpPr>
          <p:spPr>
            <a:xfrm>
              <a:off x="5433480" y="2981880"/>
              <a:ext cx="273816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VÝSLEDNÁ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_s56337"/>
            <p:cNvSpPr/>
            <p:nvPr/>
          </p:nvSpPr>
          <p:spPr>
            <a:xfrm>
              <a:off x="1187280" y="3667320"/>
              <a:ext cx="230148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PROPOČTOVÁ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_s56338"/>
            <p:cNvSpPr/>
            <p:nvPr/>
          </p:nvSpPr>
          <p:spPr>
            <a:xfrm>
              <a:off x="3872520" y="3667320"/>
              <a:ext cx="230148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NORMOVÁ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_s56339"/>
            <p:cNvSpPr/>
            <p:nvPr/>
          </p:nvSpPr>
          <p:spPr>
            <a:xfrm>
              <a:off x="2337840" y="4353120"/>
              <a:ext cx="230148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PLÁNOVÁ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_s56340"/>
            <p:cNvSpPr/>
            <p:nvPr/>
          </p:nvSpPr>
          <p:spPr>
            <a:xfrm>
              <a:off x="2337840" y="5038560"/>
              <a:ext cx="230148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OPERATIVNÍ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A3DC3-FBA5-460A-841E-7E2A47D575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6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80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očtová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v hromadné a sériové výrobě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 fázi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výzkumu a vývoj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vého výkon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čel: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posouzení účinnost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ového výrobku ve srovnání s ceno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 limitem pro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útvary technické příprav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výrob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402732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ři zakázkové činnost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 fázi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přípravy zakázk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čel: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zpracování cenové nabídk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 jednání o ceně se zákazníke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 výchozí úrovní nákladové náročnosti pro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útvary zajišťující přípravu a realizac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zakázk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5760" y="4581360"/>
            <a:ext cx="806436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35712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ři sestavování se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vychází z informací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o podobných výkonech, z normativů obecnější platnosti a z odborných odhad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lkulační vzorec se sestavuje na úrovni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lných nákladů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tj. včetně prodejní a správní rež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hodný typ kalkulačního vzorce –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retrográdní kalkulační vzore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236DE-F3D9-4C2D-86CB-41E31F96E1A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lánová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5075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 fázi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tvorby výkonů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vyjadřuje úroveň nákladů výkonu, které by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ělo bý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v průběhu rozpočtového období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dosažen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á význam u výkonů, jejichž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tvorba se opakuj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v průběhu obdob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účel: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lánování hodnotových veličin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na středních a vyšších úrovních řízení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podklad pro hlavní podnikový rozpoče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ozpočet nákladů v rozpočtové výsledovce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ozpočet výdajů v rozpočtu peněžních toků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ozpočet zásob vlastní výroby v rozpočtové rozvaze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je úkolem pro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útvary technické příprav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výrob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ři sestavování se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vychází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 existujících podmínek a uvažovaných změ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kalkulace dílčího období – váže na předpokládaný průběh změn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kalkulace celého rozpočtového období – průměr dílčích kalkulací vážený plánovaným objemem výkonů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stavuje se na úrovni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jednicových nákladů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případně vč. variabilní reži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E9DD6-7725-47AC-8F23-A2F2BBC7FA0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erativní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ve fázi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tvorby výkonů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vyjadřuje úroveň nákladů, které by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mělo být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při stávajících technologických a konstrukčních podmínkách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dosažen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ve vazbě na plán. kalkulaci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zpřesňuje předem stanovenou výši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náklad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účel: posouzení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dodržení úkolu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útvary zajišťujícími podmínky tvorby výkonu (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→ technická příprava výrob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je úkolem pro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útvary zajišťující tvorbu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výkon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ři sestavování se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vychází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z konkrétních konstrukčních a technologických podmínek činnosti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kalkulace dílčího období – odráží skutečný průběh změn podmínek činnosti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kalkulace celého sledovaného období – průměr dílčích kalkulací vážený plánovaným či skutečným objemem výkonů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sestavuje se na úrovni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jednicových nákladů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na základě aktuálních norem (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norma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předem stanovená cena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02E9C-488B-4684-8A48-8C6FFEE5C07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ýsledná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 průběhu či po skončení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tvorby výkonů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jadřuje úroveň nákladů výkonu, které ve skutečnosti či v průměru byly vynaloženy na jednotku výkonu vyrobenou v určitém období či dáv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účel: různé využití na jednotlivých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úrovních řízen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ýznamné pro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kontrolu hospodárnost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nápravná opatření (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→ při výrobách s dalším cyklem)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nalýza příčin a odpovědnosti za vznik odchylek (→ ve výrobách s kratším cyklem)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odle potřeby se sestavuje v různém obsahu i struktuře položek (od jednicových nákladů po plné náklad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757D3-475E-460E-BE8F-13E9E9FEA44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 kalkulace nákladů, ceny a zisku (marže) u zakázkové činnos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Z (M) = PC – V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Z (M) = (PC – PrK) + (PrK – OK) + (OK – VK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Zisk (marže) = kalkulovaný zisk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dodržení propočtové k.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dodržení operativní k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dodržení propočtové kalkulace v odpovědnosti útvarů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zajišťujících podmínky tvorby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výkon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dodržení operativní kalkulace v odpovědnosti útvarů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zajišťujících tvorbu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výkon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2841480" y="2781360"/>
            <a:ext cx="719280" cy="503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03640" y="2781360"/>
            <a:ext cx="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372360" y="2708280"/>
            <a:ext cx="122400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4D4AD-9C35-42A3-880A-8A808319B38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60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 kalkulace nákladů, ceny a zisku (marže) u hromadné činnos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ke konkrétnímu okamžik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Úspora/překročení nákladů = (Pl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O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+ (O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VK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Úspora/překročení nákladů = dodržení plánové k.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dodržení operativní k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b)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ve vztahu k hodnocenému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(např. ročnímu)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obdob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Z (M) = (PC – Pl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+ (Pl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O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,plán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+ (O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,plán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O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,sk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+ (O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, sk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VK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Z (M) = kalkul. zisk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dodrž. plánové k.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vliv změny objemu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dodrž. operativní k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859280" y="2492280"/>
            <a:ext cx="64944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020000" y="2421000"/>
            <a:ext cx="360360" cy="431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619280" y="4653000"/>
            <a:ext cx="288720" cy="431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3203640" y="4653000"/>
            <a:ext cx="28872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5651280" y="4581360"/>
            <a:ext cx="21564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956720" y="4653000"/>
            <a:ext cx="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4F356-8354-4C14-9924-27FEC51C507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000"/>
                            </p:stCondLst>
                            <p:childTnLst>
                              <p:par>
                                <p:cTn id="2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7000"/>
                            </p:stCondLst>
                            <p:childTnLst>
                              <p:par>
                                <p:cTn id="3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90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mensikm</cp:lastModifiedBy>
  <dcterms:modified xsi:type="dcterms:W3CDTF">2009-10-21T09:11:04Z</dcterms:modified>
  <cp:revision>12</cp:revision>
  <dc:subject/>
  <dc:title>Snímek 1</dc:title>
</cp:coreProperties>
</file>