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CDCCE-A635-4513-B1DE-DAE7D5E756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BE9AD-BB3F-4E96-88FE-DA0757529E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64154-B140-455B-8DF7-A4D65C1740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E2C51-0E26-4185-B24D-CDD6B54B4C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6F11B-325A-41EF-91C9-95E50014D8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F88D8-4639-41B9-B09A-06C241DE68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22A73-FD5D-416D-8208-31B4359BB5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03422-B10D-4CA8-8C43-077D84F052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21DE0-F625-41A0-AF76-AE37A28A56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CA974-F5C5-489A-944A-381BCC52A3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9D801-0D6E-40A2-977F-AED83A149E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E6F20-BFC5-404A-AAC2-A116186E49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2D1C-5F18-4A83-8AA6-8066B2D3E7C1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alkulace plných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variabilních nákladů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9280" y="-27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jišťování hospodářského výsled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i oceňování na úrovni variabil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0920" y="1052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naložené náklad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H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5840" y="268128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85840" y="3500280"/>
            <a:ext cx="2198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prodej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745320" y="1511280"/>
            <a:ext cx="1601640" cy="2493720"/>
            <a:chOff x="6745320" y="1511280"/>
            <a:chExt cx="1601640" cy="2493720"/>
          </a:xfrm>
        </p:grpSpPr>
        <p:sp>
          <p:nvSpPr>
            <p:cNvPr id="257" name=""/>
            <p:cNvSpPr/>
            <p:nvPr/>
          </p:nvSpPr>
          <p:spPr>
            <a:xfrm>
              <a:off x="6745320" y="1511280"/>
              <a:ext cx="1601640" cy="545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45320" y="2418120"/>
              <a:ext cx="1601640" cy="1586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riabil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áklady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dan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kon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08920" y="1925280"/>
              <a:ext cx="94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285840" y="5367240"/>
            <a:ext cx="2246040" cy="609480"/>
            <a:chOff x="285840" y="5367240"/>
            <a:chExt cx="2246040" cy="609480"/>
          </a:xfrm>
        </p:grpSpPr>
        <p:sp>
          <p:nvSpPr>
            <p:cNvPr id="261" name=""/>
            <p:cNvSpPr/>
            <p:nvPr/>
          </p:nvSpPr>
          <p:spPr>
            <a:xfrm>
              <a:off x="285840" y="5367240"/>
              <a:ext cx="22460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ixní prodejní 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5840" y="5671440"/>
              <a:ext cx="224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 na správu a říze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285840" y="5013360"/>
            <a:ext cx="22464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Fix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762600" y="5013360"/>
            <a:ext cx="158436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762600" y="63928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051680" y="44942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051680" y="596592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615000" y="4363920"/>
            <a:ext cx="19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lková marž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051680" y="3968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56000" y="5038560"/>
            <a:ext cx="215640" cy="936720"/>
          </a:xfrm>
          <a:custGeom>
            <a:avLst/>
            <a:gdLst>
              <a:gd name="textAreaLeft" fmla="*/ 0 w 215640"/>
              <a:gd name="textAreaRight" fmla="*/ 77760 w 215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1" name=""/>
          <p:cNvCxnSpPr>
            <a:stCxn id="270" idx="1"/>
            <a:endCxn id="264" idx="1"/>
          </p:cNvCxnSpPr>
          <p:nvPr/>
        </p:nvCxnSpPr>
        <p:spPr>
          <a:xfrm>
            <a:off x="2784600" y="5506560"/>
            <a:ext cx="3978720" cy="118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2914560" y="2492280"/>
            <a:ext cx="151308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88000" y="2492280"/>
            <a:ext cx="151272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ov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4" name=""/>
          <p:cNvCxnSpPr>
            <a:stCxn id="254" idx="3"/>
            <a:endCxn id="272" idx="1"/>
          </p:cNvCxnSpPr>
          <p:nvPr/>
        </p:nvCxnSpPr>
        <p:spPr>
          <a:xfrm flipV="1">
            <a:off x="2484000" y="2851920"/>
            <a:ext cx="430920" cy="39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6732720" y="350028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6" name=""/>
          <p:cNvCxnSpPr>
            <a:stCxn id="255" idx="3"/>
            <a:endCxn id="275" idx="1"/>
          </p:cNvCxnSpPr>
          <p:nvPr/>
        </p:nvCxnSpPr>
        <p:spPr>
          <a:xfrm flipV="1">
            <a:off x="2484000" y="3674880"/>
            <a:ext cx="424908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3"/>
            <a:endCxn id="273" idx="1"/>
          </p:cNvCxnSpPr>
          <p:nvPr/>
        </p:nvCxnSpPr>
        <p:spPr>
          <a:xfrm>
            <a:off x="4427280" y="2852280"/>
            <a:ext cx="36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732720" y="268272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9" name=""/>
          <p:cNvCxnSpPr>
            <a:stCxn id="273" idx="3"/>
            <a:endCxn id="278" idx="1"/>
          </p:cNvCxnSpPr>
          <p:nvPr/>
        </p:nvCxnSpPr>
        <p:spPr>
          <a:xfrm>
            <a:off x="6300720" y="2852640"/>
            <a:ext cx="432720" cy="57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B93CC-F2CB-4F36-8338-5079954ACB3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280" y="-27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jišťování hospodářského výsled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i oceňování na úrovni pl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50920" y="1052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naložené náklad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H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85840" y="268128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5840" y="3500280"/>
            <a:ext cx="2198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prodej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6745320" y="1511280"/>
            <a:ext cx="1601640" cy="2493720"/>
            <a:chOff x="6745320" y="1511280"/>
            <a:chExt cx="1601640" cy="2493720"/>
          </a:xfrm>
        </p:grpSpPr>
        <p:sp>
          <p:nvSpPr>
            <p:cNvPr id="285" name=""/>
            <p:cNvSpPr/>
            <p:nvPr/>
          </p:nvSpPr>
          <p:spPr>
            <a:xfrm>
              <a:off x="6745320" y="1511280"/>
              <a:ext cx="1601640" cy="545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745320" y="2418120"/>
              <a:ext cx="1601640" cy="1586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riabil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áklady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dan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kon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08920" y="1925280"/>
              <a:ext cx="94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285840" y="5556240"/>
            <a:ext cx="2246040" cy="609480"/>
            <a:chOff x="285840" y="5556240"/>
            <a:chExt cx="2246040" cy="609480"/>
          </a:xfrm>
        </p:grpSpPr>
        <p:sp>
          <p:nvSpPr>
            <p:cNvPr id="289" name=""/>
            <p:cNvSpPr/>
            <p:nvPr/>
          </p:nvSpPr>
          <p:spPr>
            <a:xfrm>
              <a:off x="285840" y="5556240"/>
              <a:ext cx="22460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ixní prodejní 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85840" y="5860440"/>
              <a:ext cx="224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 na správu a říze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85840" y="4970520"/>
            <a:ext cx="2198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Fix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762600" y="5013360"/>
            <a:ext cx="1584360" cy="10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x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praven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 aktivované fixní výrobní 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762600" y="65181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051680" y="44942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051680" y="609120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15000" y="4363920"/>
            <a:ext cx="19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lková marž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051680" y="3968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914560" y="2492280"/>
            <a:ext cx="151308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788000" y="2492280"/>
            <a:ext cx="151272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ov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0" name=""/>
          <p:cNvCxnSpPr>
            <a:stCxn id="282" idx="3"/>
            <a:endCxn id="298" idx="1"/>
          </p:cNvCxnSpPr>
          <p:nvPr/>
        </p:nvCxnSpPr>
        <p:spPr>
          <a:xfrm flipV="1">
            <a:off x="2484000" y="2851920"/>
            <a:ext cx="430920" cy="39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1" name=""/>
          <p:cNvSpPr/>
          <p:nvPr/>
        </p:nvSpPr>
        <p:spPr>
          <a:xfrm>
            <a:off x="6732720" y="350028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2" name=""/>
          <p:cNvCxnSpPr>
            <a:stCxn id="283" idx="3"/>
            <a:endCxn id="301" idx="1"/>
          </p:cNvCxnSpPr>
          <p:nvPr/>
        </p:nvCxnSpPr>
        <p:spPr>
          <a:xfrm flipV="1">
            <a:off x="2484000" y="3674880"/>
            <a:ext cx="424908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3" name=""/>
          <p:cNvCxnSpPr>
            <a:stCxn id="298" idx="3"/>
            <a:endCxn id="299" idx="1"/>
          </p:cNvCxnSpPr>
          <p:nvPr/>
        </p:nvCxnSpPr>
        <p:spPr>
          <a:xfrm>
            <a:off x="4427280" y="2852280"/>
            <a:ext cx="36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6732720" y="268272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299" idx="3"/>
            <a:endCxn id="304" idx="1"/>
          </p:cNvCxnSpPr>
          <p:nvPr/>
        </p:nvCxnSpPr>
        <p:spPr>
          <a:xfrm>
            <a:off x="6300720" y="2852640"/>
            <a:ext cx="432720" cy="57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2914560" y="4797360"/>
            <a:ext cx="151308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Ne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88000" y="4797360"/>
            <a:ext cx="151272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otov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8" name=""/>
          <p:cNvCxnSpPr>
            <a:stCxn id="306" idx="3"/>
            <a:endCxn id="307" idx="1"/>
          </p:cNvCxnSpPr>
          <p:nvPr/>
        </p:nvCxnSpPr>
        <p:spPr>
          <a:xfrm>
            <a:off x="4427280" y="5157360"/>
            <a:ext cx="36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9" name=""/>
          <p:cNvCxnSpPr>
            <a:stCxn id="291" idx="3"/>
            <a:endCxn id="306" idx="1"/>
          </p:cNvCxnSpPr>
          <p:nvPr/>
        </p:nvCxnSpPr>
        <p:spPr>
          <a:xfrm>
            <a:off x="2484000" y="5146200"/>
            <a:ext cx="430920" cy="118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0" name=""/>
          <p:cNvSpPr/>
          <p:nvPr/>
        </p:nvSpPr>
        <p:spPr>
          <a:xfrm>
            <a:off x="6732720" y="498492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7" idx="3"/>
            <a:endCxn id="310" idx="1"/>
          </p:cNvCxnSpPr>
          <p:nvPr/>
        </p:nvCxnSpPr>
        <p:spPr>
          <a:xfrm>
            <a:off x="6300720" y="5157360"/>
            <a:ext cx="432720" cy="252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6732720" y="573408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4360" y="558972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4" name=""/>
          <p:cNvCxnSpPr>
            <a:stCxn id="313" idx="1"/>
            <a:endCxn id="312" idx="1"/>
          </p:cNvCxnSpPr>
          <p:nvPr/>
        </p:nvCxnSpPr>
        <p:spPr>
          <a:xfrm flipV="1">
            <a:off x="2639520" y="5907960"/>
            <a:ext cx="4093560" cy="54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863B1-C80A-4AA3-956B-FB26CBD1795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vliv kalkulace na hospodářský výsledek (homogenní výrobek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457200" y="2060640"/>
          <a:ext cx="8002440" cy="2004840"/>
        </p:xfrm>
        <a:graphic>
          <a:graphicData uri="http://schemas.openxmlformats.org/drawingml/2006/table">
            <a:tbl>
              <a:tblPr/>
              <a:tblGrid>
                <a:gridCol w="2979720"/>
                <a:gridCol w="2608200"/>
                <a:gridCol w="2414520"/>
              </a:tblGrid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Polož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Celkem na 500 000 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Na 1 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ý materiá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é mz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ní režijní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z toho variabil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7" name=""/>
          <p:cNvSpPr/>
          <p:nvPr/>
        </p:nvSpPr>
        <p:spPr>
          <a:xfrm>
            <a:off x="395280" y="1484280"/>
            <a:ext cx="813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em stanovené náklady pro 1 obdob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95280" y="4149720"/>
            <a:ext cx="8137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období 1. – 3. stabilní objem výroby = 500 000 ks / obdob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my prodeje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období = 500 000 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období = 300 000 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období = 700 000 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dochází k absolutní úspoře ani překročení nákla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ejní cena = 18 Kč / ks (stabilní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D36AD-6338-4701-90BB-67F84E481E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95280" y="115920"/>
            <a:ext cx="813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jištění HV při ocenění výkonů na úrovni plných nákla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457200" y="608040"/>
          <a:ext cx="8147160" cy="2409840"/>
        </p:xfrm>
        <a:graphic>
          <a:graphicData uri="http://schemas.openxmlformats.org/drawingml/2006/table">
            <a:tbl>
              <a:tblPr/>
              <a:tblGrid>
                <a:gridCol w="2287440"/>
                <a:gridCol w="2003400"/>
                <a:gridCol w="2001960"/>
                <a:gridCol w="1854360"/>
              </a:tblGrid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Obdob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rodej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nosy z prodeje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7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Náklady prodaných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8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6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4 8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6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11 2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6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Zisk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1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1" name=""/>
          <p:cNvSpPr/>
          <p:nvPr/>
        </p:nvSpPr>
        <p:spPr>
          <a:xfrm>
            <a:off x="395280" y="3098880"/>
            <a:ext cx="813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jištění HV při ocenění výkonů na úrovni variabilních nákla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468360" y="3602160"/>
          <a:ext cx="8147160" cy="3047760"/>
        </p:xfrm>
        <a:graphic>
          <a:graphicData uri="http://schemas.openxmlformats.org/drawingml/2006/table">
            <a:tbl>
              <a:tblPr/>
              <a:tblGrid>
                <a:gridCol w="2287440"/>
                <a:gridCol w="2003400"/>
                <a:gridCol w="2001960"/>
                <a:gridCol w="1854360"/>
              </a:tblGrid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Obdob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rodej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nosy z prodeje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Náklady prodaných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5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7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arže I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4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2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náklady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Zisk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2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rovnání rozdílu HV ve 2. období při ocenění kalkulací variabilních nákladů a plných nákladů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468360" y="1773360"/>
          <a:ext cx="8136000" cy="4109760"/>
        </p:xfrm>
        <a:graphic>
          <a:graphicData uri="http://schemas.openxmlformats.org/drawingml/2006/table">
            <a:tbl>
              <a:tblPr/>
              <a:tblGrid>
                <a:gridCol w="2957400"/>
                <a:gridCol w="2590920"/>
                <a:gridCol w="2587680"/>
              </a:tblGrid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Kalkulace variabilních náklad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Kalkulace plných náklad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rodej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nosy z prodeje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ariabilní náklady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arže I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náklady vynaložené v období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Aktivované fixní náklady v zásobách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+ 1 2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Zisk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+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C7FB5-6B9B-4350-B434-0D88A2F86B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ntnost sestavení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lkulace se sestavuj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nt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ohledem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hodovací úloh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lišnosti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sah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kalkulovaných nákladů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řa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ložek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rob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členění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ř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součtů, vztahu ke kalkulaci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přístup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lkulac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l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řiřazuje výkonu všechny náklady vynaložené při jeho vytvoř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ychází z odlišení přímých a nepřímý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kalkulac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ychází z odlišení variabilních a fixní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řiřazuje výkonu buď pouze variabilní náklady nebo odděleně variabilní a fix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EF67F-8791-4381-960E-1B3E666B0A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ednosti a omeze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ce pl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tatick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→ odpovídá pouze jedné variantě objemu a sortiment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arbitrár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→ přiřazuje i náklady bez zřetelné příčinné vazby k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kutečnou výš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ákladů je možné zjistit až s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poždění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je nutná informace o objemu a struktuře výkonů vytvořených za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východiskem pr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ovou politi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zejména z dlouhodobého hl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podkladem pr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ení konkurenceschop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 v rámci sektor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nástrojem pr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u a porovnání ziskov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 a služe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nástroje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odnotového ří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možňuje kvantifikovat vliv využití fixních nákladů na vývoj zisk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DD98C-45A6-4050-BC6D-5B0A92E11C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omezení kalkulace plných nákladů při rozhodování o struktuře výkonů (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57200" y="1798560"/>
          <a:ext cx="8002080" cy="2005200"/>
        </p:xfrm>
        <a:graphic>
          <a:graphicData uri="http://schemas.openxmlformats.org/drawingml/2006/table">
            <a:tbl>
              <a:tblPr/>
              <a:tblGrid>
                <a:gridCol w="2979360"/>
                <a:gridCol w="2608560"/>
                <a:gridCol w="2414160"/>
              </a:tblGrid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Výrobe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en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lné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Objem výroby a prodeje v roce 20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 gridSpan="3"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Zisk podniku = 30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000 + 15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 000 - 25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000 - 16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 000 = 3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468360" y="3848040"/>
            <a:ext cx="813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platí se vyrábět a prodávat ztrátový výrobek B i v roce 2008, pokud máte k dispozici následující podrobnější informace o kalkulaci nákladů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víte, že fixní náklady jsou společné oběma výkonům a nejsou v roce 2008 ovlivnitelné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68360" y="5040360"/>
          <a:ext cx="8002440" cy="1384200"/>
        </p:xfrm>
        <a:graphic>
          <a:graphicData uri="http://schemas.openxmlformats.org/drawingml/2006/table">
            <a:tbl>
              <a:tblPr/>
              <a:tblGrid>
                <a:gridCol w="2979720"/>
                <a:gridCol w="2608200"/>
                <a:gridCol w="2414520"/>
              </a:tblGrid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Výrobe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ariabilní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lné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06730-A539-45EC-9B7B-AE54943E41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772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omezení kalkulace plných nákladů při rozhodování o struktuře výkonů (I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rovnání podl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lné nákladové nároč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15 Kč (cena)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16 Kč (plné náklad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NEVYRÁBĚT 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------------------------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porovnání př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 Unicode MS"/>
              </a:rPr>
              <a:t>odlišení variabilních a fixních nákladů</a:t>
            </a:r>
            <a:r>
              <a:rPr b="1" i="1" lang="cs-CZ" sz="2000" spc="-1" strike="noStrike">
                <a:solidFill>
                  <a:srgbClr val="ff9900"/>
                </a:solidFill>
                <a:latin typeface="Arial"/>
                <a:ea typeface="Arial Unicode MS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Marže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 A = (30-20)* 10 000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100 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Marže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 B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Fixní náklady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110 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Zisk / ztráta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- 10 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VYRÁBĚT 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92B75-E85A-4BAB-85D3-AC8D214EF0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ce variabil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lišuje nákl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le příčin vz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áklady vyvolané výkonem (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ariabil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vyvolané časem (→ fix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odporuje řešení ř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rozhodovacích úlo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změnách v objemu a struktuře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limitu prodejních cen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posouzení přínosu výkonu k tvorbě zis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82226-2772-4F55-8E58-AC22F14937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ční vzor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6200" y="1341360"/>
            <a:ext cx="216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diční kalkulace plných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11280" y="1341360"/>
            <a:ext cx="2376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ynamická kalkulace plných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1341360"/>
            <a:ext cx="223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trográdní kalku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88000" y="1341360"/>
            <a:ext cx="2556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trográdní kalkulace se stupňovitým čl. 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198612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ý materiá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11280" y="198756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ý materiá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43280" y="198900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77080" y="1989000"/>
            <a:ext cx="201600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25066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é mz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11280" y="2506680"/>
            <a:ext cx="201636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é mz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3280" y="25066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Variabil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77080" y="2506680"/>
            <a:ext cx="2016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Variabil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9280" y="302580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statní přímé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11280" y="304020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statní přímé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43280" y="302580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výkon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77080" y="3025800"/>
            <a:ext cx="2016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výkonu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9280" y="35434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99"/>
                </a:solidFill>
                <a:latin typeface="Times New Roman"/>
              </a:rPr>
              <a:t>Výrobní režie nepř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11280" y="406224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99"/>
                </a:solidFill>
                <a:latin typeface="Times New Roman"/>
              </a:rPr>
              <a:t>Výrobní režie nepř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43280" y="35434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ix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77080" y="3543480"/>
            <a:ext cx="2016000" cy="31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N výkon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9280" y="406224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11280" y="508644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43280" y="406224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Průměrný 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386388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457992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práv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11280" y="609588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práv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77080" y="419400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99"/>
                </a:solidFill>
                <a:latin typeface="Times New Roman"/>
              </a:rPr>
              <a:t>- FN skupiny vý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0" name=""/>
          <p:cNvCxnSpPr>
            <a:stCxn id="177" idx="3"/>
            <a:endCxn id="178" idx="1"/>
          </p:cNvCxnSpPr>
          <p:nvPr/>
        </p:nvCxnSpPr>
        <p:spPr>
          <a:xfrm>
            <a:off x="2195280" y="2238480"/>
            <a:ext cx="216360" cy="2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1" name=""/>
          <p:cNvCxnSpPr>
            <a:stCxn id="181" idx="3"/>
            <a:endCxn id="182" idx="1"/>
          </p:cNvCxnSpPr>
          <p:nvPr/>
        </p:nvCxnSpPr>
        <p:spPr>
          <a:xfrm>
            <a:off x="2195280" y="2759040"/>
            <a:ext cx="216360" cy="8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2" name=""/>
          <p:cNvCxnSpPr>
            <a:stCxn id="185" idx="3"/>
            <a:endCxn id="186" idx="1"/>
          </p:cNvCxnSpPr>
          <p:nvPr/>
        </p:nvCxnSpPr>
        <p:spPr>
          <a:xfrm>
            <a:off x="2195280" y="3278160"/>
            <a:ext cx="216360" cy="151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03" name=""/>
          <p:cNvSpPr/>
          <p:nvPr/>
        </p:nvSpPr>
        <p:spPr>
          <a:xfrm>
            <a:off x="2411280" y="3471840"/>
            <a:ext cx="20163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variabil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11280" y="3760920"/>
            <a:ext cx="2016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11280" y="4494240"/>
            <a:ext cx="2016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variabil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1280" y="4782960"/>
            <a:ext cx="20163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11280" y="5504040"/>
            <a:ext cx="2016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variabil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11280" y="5792760"/>
            <a:ext cx="20163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89" idx="3"/>
            <a:endCxn id="190" idx="1"/>
          </p:cNvCxnSpPr>
          <p:nvPr/>
        </p:nvCxnSpPr>
        <p:spPr>
          <a:xfrm>
            <a:off x="2195280" y="3795840"/>
            <a:ext cx="216360" cy="5198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0" name=""/>
          <p:cNvCxnSpPr>
            <a:stCxn id="193" idx="3"/>
            <a:endCxn id="194" idx="1"/>
          </p:cNvCxnSpPr>
          <p:nvPr/>
        </p:nvCxnSpPr>
        <p:spPr>
          <a:xfrm>
            <a:off x="2195280" y="4314960"/>
            <a:ext cx="216360" cy="10245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1" name=""/>
          <p:cNvCxnSpPr>
            <a:stCxn id="197" idx="3"/>
            <a:endCxn id="198" idx="1"/>
          </p:cNvCxnSpPr>
          <p:nvPr/>
        </p:nvCxnSpPr>
        <p:spPr>
          <a:xfrm>
            <a:off x="2195280" y="4831920"/>
            <a:ext cx="216360" cy="15166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12" name=""/>
          <p:cNvSpPr/>
          <p:nvPr/>
        </p:nvSpPr>
        <p:spPr>
          <a:xfrm>
            <a:off x="6877080" y="452448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I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77080" y="484344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N „závodu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77080" y="517536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I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77080" y="550548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N podni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77080" y="5837400"/>
            <a:ext cx="2016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Průměrný 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178" idx="3"/>
            <a:endCxn id="183" idx="1"/>
          </p:cNvCxnSpPr>
          <p:nvPr/>
        </p:nvCxnSpPr>
        <p:spPr>
          <a:xfrm>
            <a:off x="4427280" y="2239920"/>
            <a:ext cx="216360" cy="5198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8" name=""/>
          <p:cNvCxnSpPr>
            <a:stCxn id="182" idx="3"/>
            <a:endCxn id="183" idx="1"/>
          </p:cNvCxnSpPr>
          <p:nvPr/>
        </p:nvCxnSpPr>
        <p:spPr>
          <a:xfrm flipV="1">
            <a:off x="4427280" y="2758680"/>
            <a:ext cx="216360" cy="8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9" name=""/>
          <p:cNvCxnSpPr>
            <a:stCxn id="203" idx="3"/>
            <a:endCxn id="183" idx="1"/>
          </p:cNvCxnSpPr>
          <p:nvPr/>
        </p:nvCxnSpPr>
        <p:spPr>
          <a:xfrm flipV="1">
            <a:off x="4427280" y="2758320"/>
            <a:ext cx="216360" cy="8578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0" name=""/>
          <p:cNvCxnSpPr>
            <a:stCxn id="205" idx="3"/>
            <a:endCxn id="183" idx="1"/>
          </p:cNvCxnSpPr>
          <p:nvPr/>
        </p:nvCxnSpPr>
        <p:spPr>
          <a:xfrm flipV="1">
            <a:off x="4427280" y="2758320"/>
            <a:ext cx="216360" cy="18802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1" name=""/>
          <p:cNvCxnSpPr>
            <a:stCxn id="207" idx="3"/>
            <a:endCxn id="183" idx="1"/>
          </p:cNvCxnSpPr>
          <p:nvPr/>
        </p:nvCxnSpPr>
        <p:spPr>
          <a:xfrm flipV="1">
            <a:off x="4427280" y="2758680"/>
            <a:ext cx="216360" cy="2890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2" name=""/>
          <p:cNvCxnSpPr>
            <a:stCxn id="204" idx="3"/>
            <a:endCxn id="191" idx="1"/>
          </p:cNvCxnSpPr>
          <p:nvPr/>
        </p:nvCxnSpPr>
        <p:spPr>
          <a:xfrm flipV="1">
            <a:off x="4427280" y="3795480"/>
            <a:ext cx="216360" cy="110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3" name=""/>
          <p:cNvCxnSpPr>
            <a:stCxn id="206" idx="3"/>
            <a:endCxn id="191" idx="1"/>
          </p:cNvCxnSpPr>
          <p:nvPr/>
        </p:nvCxnSpPr>
        <p:spPr>
          <a:xfrm flipV="1">
            <a:off x="4427280" y="3795480"/>
            <a:ext cx="216360" cy="11325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4" name=""/>
          <p:cNvCxnSpPr>
            <a:stCxn id="208" idx="3"/>
            <a:endCxn id="191" idx="1"/>
          </p:cNvCxnSpPr>
          <p:nvPr/>
        </p:nvCxnSpPr>
        <p:spPr>
          <a:xfrm flipV="1">
            <a:off x="4427280" y="3795840"/>
            <a:ext cx="216360" cy="2141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5" name=""/>
          <p:cNvCxnSpPr>
            <a:stCxn id="198" idx="3"/>
            <a:endCxn id="191" idx="1"/>
          </p:cNvCxnSpPr>
          <p:nvPr/>
        </p:nvCxnSpPr>
        <p:spPr>
          <a:xfrm flipV="1">
            <a:off x="4427280" y="3795480"/>
            <a:ext cx="216360" cy="25531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6" name=""/>
          <p:cNvCxnSpPr>
            <a:stCxn id="179" idx="3"/>
            <a:endCxn id="180" idx="1"/>
          </p:cNvCxnSpPr>
          <p:nvPr/>
        </p:nvCxnSpPr>
        <p:spPr>
          <a:xfrm>
            <a:off x="6659640" y="2241360"/>
            <a:ext cx="218160" cy="1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7" name=""/>
          <p:cNvCxnSpPr>
            <a:stCxn id="183" idx="3"/>
            <a:endCxn id="184" idx="1"/>
          </p:cNvCxnSpPr>
          <p:nvPr/>
        </p:nvCxnSpPr>
        <p:spPr>
          <a:xfrm>
            <a:off x="6659640" y="2758680"/>
            <a:ext cx="218160" cy="1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8" name=""/>
          <p:cNvCxnSpPr>
            <a:stCxn id="187" idx="3"/>
            <a:endCxn id="188" idx="1"/>
          </p:cNvCxnSpPr>
          <p:nvPr/>
        </p:nvCxnSpPr>
        <p:spPr>
          <a:xfrm>
            <a:off x="6659640" y="3277800"/>
            <a:ext cx="218160" cy="1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9" name=""/>
          <p:cNvCxnSpPr>
            <a:stCxn id="191" idx="3"/>
            <a:endCxn id="192" idx="1"/>
          </p:cNvCxnSpPr>
          <p:nvPr/>
        </p:nvCxnSpPr>
        <p:spPr>
          <a:xfrm flipV="1">
            <a:off x="6659640" y="3701160"/>
            <a:ext cx="218160" cy="946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30" name=""/>
          <p:cNvCxnSpPr>
            <a:stCxn id="191" idx="3"/>
            <a:endCxn id="199" idx="1"/>
          </p:cNvCxnSpPr>
          <p:nvPr/>
        </p:nvCxnSpPr>
        <p:spPr>
          <a:xfrm>
            <a:off x="6659640" y="3795480"/>
            <a:ext cx="218160" cy="557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31" name=""/>
          <p:cNvCxnSpPr>
            <a:stCxn id="191" idx="3"/>
            <a:endCxn id="213" idx="1"/>
          </p:cNvCxnSpPr>
          <p:nvPr/>
        </p:nvCxnSpPr>
        <p:spPr>
          <a:xfrm>
            <a:off x="6659640" y="3795480"/>
            <a:ext cx="218160" cy="1207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32" name=""/>
          <p:cNvCxnSpPr>
            <a:stCxn id="191" idx="3"/>
            <a:endCxn id="215" idx="1"/>
          </p:cNvCxnSpPr>
          <p:nvPr/>
        </p:nvCxnSpPr>
        <p:spPr>
          <a:xfrm>
            <a:off x="6659640" y="3795840"/>
            <a:ext cx="218160" cy="18691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AC376-8BAF-4356-BD05-B4E516F790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70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9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45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75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85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9500"/>
                            </p:stCondLst>
                            <p:childTnLst>
                              <p:par>
                                <p:cTn id="2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5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15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2500"/>
                            </p:stCondLst>
                            <p:childTnLst>
                              <p:par>
                                <p:cTn id="271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0"/>
                            </p:stCondLst>
                            <p:childTnLst>
                              <p:par>
                                <p:cTn id="3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7000"/>
                            </p:stCondLst>
                            <p:childTnLst>
                              <p:par>
                                <p:cTn id="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9000"/>
                            </p:stCondLst>
                            <p:childTnLst>
                              <p:par>
                                <p:cTn id="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3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4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2500"/>
                            </p:stCondLst>
                            <p:childTnLst>
                              <p:par>
                                <p:cTn id="3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4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5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5500"/>
                            </p:stCondLst>
                            <p:childTnLst>
                              <p:par>
                                <p:cTn id="361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65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7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2500"/>
                            </p:stCondLst>
                            <p:childTnLst>
                              <p:par>
                                <p:cTn id="410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5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7500"/>
                            </p:stCondLst>
                            <p:childTnLst>
                              <p:par>
                                <p:cTn id="42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80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5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2500"/>
                            </p:stCondLst>
                            <p:childTnLst>
                              <p:par>
                                <p:cTn id="432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3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5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7500"/>
                            </p:stCondLst>
                            <p:childTnLst>
                              <p:par>
                                <p:cTn id="44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8000"/>
                            </p:stCondLst>
                            <p:childTnLst>
                              <p:par>
                                <p:cTn id="446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tivační důsledky kalkulace plných a variabil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předem stanovených plných nákladech výkonu je započte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nstantní část průměrných fix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 porovnání lineárně přepočtených nákladů s jejich absolutní výší dochází 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lativní úspoře/překročení fixních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(resp. překročené/nedostatečné úhradě fixních náklad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hodné při motivaci útvarů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užití kapac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26920" y="4294080"/>
            <a:ext cx="3600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RÚFN = FN /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– F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při 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RPFN = FN -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FN /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při 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162400" y="4191120"/>
            <a:ext cx="0" cy="180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5162040" y="599112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30840" y="419112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19920" y="60213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15280" y="6021360"/>
            <a:ext cx="215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24520" y="60213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5162400" y="4981680"/>
            <a:ext cx="1729080" cy="217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162400" y="4406400"/>
            <a:ext cx="1511280" cy="1582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26040" y="4981680"/>
            <a:ext cx="0" cy="10843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531120" y="4478400"/>
            <a:ext cx="0" cy="15843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602400" y="4549680"/>
            <a:ext cx="71280" cy="432000"/>
          </a:xfrm>
          <a:custGeom>
            <a:avLst/>
            <a:gdLst>
              <a:gd name="textAreaLeft" fmla="*/ 0 w 71280"/>
              <a:gd name="textAreaRight" fmla="*/ 25560 w 7128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948360" y="46227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Ú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92760" y="426240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N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= CN/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77080" y="4941720"/>
            <a:ext cx="2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9A56B-CC21-4D3A-BB20-E9ED958139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35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4000"/>
                            </p:stCondLst>
                            <p:childTnLst>
                              <p:par>
                                <p:cTn id="50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6500"/>
                            </p:stCondLst>
                            <p:childTnLst>
                              <p:par>
                                <p:cTn id="50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9000"/>
                            </p:stCondLst>
                            <p:childTnLst>
                              <p:par>
                                <p:cTn id="5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9500"/>
                            </p:stCondLst>
                            <p:childTnLst>
                              <p:par>
                                <p:cTn id="51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52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5500"/>
                            </p:stCondLst>
                            <p:childTnLst>
                              <p:par>
                                <p:cTn id="5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liv ocenění výkonů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plných a variabilních nákladů na hospodářský výsled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362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uvisí s vymezení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ů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ů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alkulace variabil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áklady výkonu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období → fix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V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citliv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na změ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v množství a struktuře prodaný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otivač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ůsobení na prodej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kalkulace pl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výkonu → variabilní náklady + fixní náklady spojené s vytvořením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období → náklady správy a řízení + prodej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V je při kolísání objemu a struktury prode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tabilizová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otivač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ůsobení na výrob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ikoli prodej výrob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DE7A7-964E-4FCE-A06D-26007B5E77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07Z</dcterms:modified>
  <cp:revision>14</cp:revision>
  <dc:subject/>
  <dc:title>Snímek 1</dc:title>
</cp:coreProperties>
</file>