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66D19-5B5A-4767-87FF-9D9A1E1533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862F5-9358-492D-B00D-9E64343383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F694D-D2CB-4792-8273-862FA09452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AE7D8-EA81-485E-9974-E658A3B1E1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B59F9-AD93-43F3-857F-51896CE32B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88C68-311E-40E9-8F77-C0A4A18EF0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F31CD-97AF-41B3-8F98-7497EC1AE5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41672-06AC-49D4-80FB-1060E72435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947A7-F493-4C0E-B825-332314B21E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C6A2E-C529-499A-BCCD-973D8319FF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92F64-0EBF-4990-BE32-1E10885E04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77B99-02AD-44E7-A2F5-794A3DEA82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FFB6-ADD8-47DA-B546-A7E3E4DA76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toda standardních nákladů a výnosů a analýza odchylek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chylky ze změny struktury prodej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ři nehomogenní produkci lze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odchylku objemu prodej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změnu marže v důsledku změny objemu prodeje) rozložit na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odchylku ze změny objemu výkonů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působenou zvýšením či snížením objemu prodej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–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(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odchylku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ze změny struktury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způsobenou změnou sortimentu prodávaných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r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(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,i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,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lternativně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lze odchylku vyjádřit přes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říspěvek k tržbá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r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– 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kde CT jsou celkové tržb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45884-BCDC-462B-814F-BC63473B9CB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chylka ze změny struktury vstup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 případě možnosti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měni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v technologickém postupu tvorby výkonu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měr vstup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, je možné rozdělit celkovou odchylku ze změny objemu na „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čistou kvantitativní odchylk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“ 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dchylku ze změny struktury vstupů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poče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odchyl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r,vstupy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průměrná cena naturální jednotky vstupů při standardní struktuře vstupů – průměrná cena naturální jednotky vstupů při skutečné struktuře)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skutečná spotřeba vstupů v naturálním vyjádření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standardní spotřeba vstupů v naturálním vyjádření –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skutečná spotřeba vstupů v naturálním vyjádření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průměrná cena naturální jednotky vstupů při standardní struktuře vstupů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55193-94D2-47E6-955F-8FD50B5C325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jetí a cíle analýzy odchyl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chodisko – urč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dem stanovených hodn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zjišt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kutečné výš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jejich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rovn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četně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nalýzy rozdíl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e páteří manažerského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yužití v kalkulacích, rozpočetnictví i odpovědnostním říz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áz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ystému řízení na základě odchyl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ovení standard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jištění skutečných výsledk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jištění odchylky mezi standardní a skutečnou hodnoto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alýza odchyle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řijetí opatře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A0299-6B35-4A22-9352-96F7544E8C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novení standar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dard -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dem stanovená výš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kladů, ceny, zisku či naturálně vyjádřeného zdro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a jednotk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dnotkou výkonu – jednotk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nálního výkon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ebo „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andardní dílčí čá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 výkonu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u finálních výkonů přizpůsobovaných zákazníkům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úrovně standar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základ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– úroveň neměnná po určitou dob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běžný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– reálně dosažitelná úroveň při efektivním provádění činnosti v daném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ideál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– úroveň dosažitelná při ideálním průběhu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42E84-6DA1-4C7B-8F11-7ED10F2E68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tup stanovení standardů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92360" y="1716120"/>
            <a:ext cx="2159280" cy="57456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jednotka výrobku (1 k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19640" y="2506680"/>
            <a:ext cx="2158920" cy="57456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c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219640" y="3298680"/>
            <a:ext cx="2158920" cy="57492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jednicové a variabil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4091040"/>
            <a:ext cx="2158920" cy="57456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marž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19640" y="4883040"/>
            <a:ext cx="2158920" cy="57492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fix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19640" y="5675400"/>
            <a:ext cx="2158920" cy="57456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z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6732360" y="1787400"/>
            <a:ext cx="431640" cy="432000"/>
          </a:xfrm>
          <a:prstGeom prst="line">
            <a:avLst/>
          </a:prstGeom>
          <a:ln w="76320">
            <a:solidFill>
              <a:srgbClr val="96969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308720" y="1341360"/>
            <a:ext cx="1835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šechny veličiny vyjádřeny na 1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55640" y="2720880"/>
            <a:ext cx="3240000" cy="172872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ormy spotřeby materiálu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předem stan. cena materiál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orma spotřeby času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předem stan. mzdový tari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ormativ spotřeby stroj. hodi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předem stan. výše var.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5640" y="4883040"/>
            <a:ext cx="3240000" cy="57492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mit fixních nákladů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objem výkon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87560" y="517212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6" name=""/>
          <p:cNvCxnSpPr>
            <a:stCxn id="165" idx="2"/>
            <a:endCxn id="173" idx="0"/>
          </p:cNvCxnSpPr>
          <p:nvPr/>
        </p:nvCxnSpPr>
        <p:spPr>
          <a:xfrm flipH="1">
            <a:off x="2376000" y="2290320"/>
            <a:ext cx="2196000" cy="4309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77" name=""/>
          <p:cNvCxnSpPr>
            <a:stCxn id="165" idx="2"/>
            <a:endCxn id="166" idx="0"/>
          </p:cNvCxnSpPr>
          <p:nvPr/>
        </p:nvCxnSpPr>
        <p:spPr>
          <a:xfrm>
            <a:off x="4572000" y="2290680"/>
            <a:ext cx="172800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78" name=""/>
          <p:cNvCxnSpPr>
            <a:stCxn id="166" idx="2"/>
            <a:endCxn id="167" idx="0"/>
          </p:cNvCxnSpPr>
          <p:nvPr/>
        </p:nvCxnSpPr>
        <p:spPr>
          <a:xfrm>
            <a:off x="6298920" y="3081240"/>
            <a:ext cx="108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79" name=""/>
          <p:cNvCxnSpPr>
            <a:stCxn id="167" idx="2"/>
            <a:endCxn id="168" idx="0"/>
          </p:cNvCxnSpPr>
          <p:nvPr/>
        </p:nvCxnSpPr>
        <p:spPr>
          <a:xfrm>
            <a:off x="6298920" y="3873600"/>
            <a:ext cx="108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80" name=""/>
          <p:cNvCxnSpPr>
            <a:stCxn id="168" idx="2"/>
            <a:endCxn id="169" idx="0"/>
          </p:cNvCxnSpPr>
          <p:nvPr/>
        </p:nvCxnSpPr>
        <p:spPr>
          <a:xfrm>
            <a:off x="6298920" y="4665600"/>
            <a:ext cx="108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81" name=""/>
          <p:cNvCxnSpPr>
            <a:stCxn id="169" idx="2"/>
            <a:endCxn id="170" idx="0"/>
          </p:cNvCxnSpPr>
          <p:nvPr/>
        </p:nvCxnSpPr>
        <p:spPr>
          <a:xfrm>
            <a:off x="6298920" y="5457960"/>
            <a:ext cx="108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82" name=""/>
          <p:cNvCxnSpPr>
            <a:stCxn id="174" idx="3"/>
            <a:endCxn id="169" idx="1"/>
          </p:cNvCxnSpPr>
          <p:nvPr/>
        </p:nvCxnSpPr>
        <p:spPr>
          <a:xfrm>
            <a:off x="3995640" y="5169960"/>
            <a:ext cx="12247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83" name=""/>
          <p:cNvCxnSpPr>
            <a:stCxn id="173" idx="3"/>
            <a:endCxn id="167" idx="1"/>
          </p:cNvCxnSpPr>
          <p:nvPr/>
        </p:nvCxnSpPr>
        <p:spPr>
          <a:xfrm>
            <a:off x="3995640" y="3585960"/>
            <a:ext cx="12247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F4E01-D258-42B6-B115-BB5E96BE8B8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800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70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působy zjišťování odchyl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sledn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v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růběh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období se v MÚ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sledují skutečné veličin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a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zjištění odchyle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probíhá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o skončení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ení možné pružně reagovat na vznik odchyle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btížná identifikace příčin vzniku a odpovědnosti za vzni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formace o skutečných nákladech výkonů lze získat až po skončení obdob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růběžn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→ již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ři zobraz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nákladu je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oddělena předem stanovená výše a odchylka skuteč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(tzv. rozdílové metody říze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ožnost okamžité analýzy a reakce na zjištěné odchyl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áročnější na informační systém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yužívá se zejména u jednicových nákladů a prodejních ce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34A7A-C6C8-4679-8335-4FBE1A9C87D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alýza odchyl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y vzni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dpověd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a vznik odchylek je možné analyzovat v růz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drobnosti podle potře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onkrétní pravidla a metodické postup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i stanovuje podni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2001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ýza a zjišťování odchylek většinou vychází ze základních faktorů ovlivňujících zisk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8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objem prodaných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8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rodejní cen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8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ariabil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8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fix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8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truktura prodaných výkonů při nehomogenních výkonech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C630B-6056-4199-A651-4B20198D9A4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0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chylky prodejní cen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39720" y="1700280"/>
            <a:ext cx="5372280" cy="288108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Odchylku prodejní ceny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lze vyjádř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) na jednotk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b) na celkový obj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= 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) procent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%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/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2560" y="4724280"/>
            <a:ext cx="3672000" cy="136872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Legen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skutečná prodejní c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standardní prodejní c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skutečný objem prode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F35CC-35EA-4825-80E4-926660109E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chylky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9280" y="1413000"/>
            <a:ext cx="4349880" cy="288108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9900"/>
                </a:solidFill>
                <a:latin typeface="Arial"/>
              </a:rPr>
              <a:t>Odchylku variabilních nákladů 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lze vyjádř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) na jednotku výkon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b) na celkový objem výkon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= (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) procent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%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/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00440" y="1413000"/>
            <a:ext cx="4364280" cy="288108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9900"/>
                </a:solidFill>
                <a:latin typeface="Arial"/>
              </a:rPr>
              <a:t>Odchylku fixních nákladů 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lze vyjádřit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) celk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b) na jednotku výkon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F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= (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) procent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/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9280" y="4365720"/>
            <a:ext cx="4897440" cy="20160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Legen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 variabilní náklady na jednotku standardní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- variabilní náklady na jednotku skutečn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celkové fixní náklady standardní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celkové fixní náklady skutečn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skutečný objem výkon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DD558-EB68-4C03-92CC-2F0B4F0551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50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chylky objemu prodej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9280" y="1341360"/>
            <a:ext cx="8828280" cy="295128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Vliv objemu výkonů na zisk se projeví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změnou marže. Odchylka objemu prodeje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 se zjist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*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Tuto odchylku lze dále rozložit na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a) relativní úsporu fixních náklad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=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–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b) vliv zisku z prodeje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*z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9280" y="4365720"/>
            <a:ext cx="8785440" cy="20160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Legen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marže na jednotku výkonů standard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zisk na jednotku výkonů standard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celkové fixní náklady standard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- objem prodeje standard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- objem prodeje skutečn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7C94A-39C6-4BDA-9A09-16DCEC2355D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NOBODY</cp:lastModifiedBy>
  <dcterms:modified xsi:type="dcterms:W3CDTF">2007-09-04T08:36:44Z</dcterms:modified>
  <cp:revision>15</cp:revision>
  <dc:subject/>
  <dc:title>Snímek 1</dc:title>
</cp:coreProperties>
</file>