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38992-28A9-4336-84A2-6598548A3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234CA-19B2-4C9F-8DCA-9C1C52CE6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C9A38-A003-4FD7-8D94-F9A59F764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9233E-7831-420A-9952-C07E44123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199D-7D9E-4D48-B3D3-68E1DBEC2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78BB9-E28C-4CD1-9FDA-2DFAE36DE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82570-E43C-4162-9AF9-A3285B660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A7E27-9569-4B11-A464-BC8F496F1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44E29-F6D4-4B4B-91B5-1FAEF05F43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0502F-2F7A-462A-B473-A26328D7C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74591-8324-4D09-842B-3D3956147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44E91-B810-454F-AC03-9105E86B2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A256-8783-45E9-91C4-1065E995555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Účetní informace pro řízení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 linii odpovědnosti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edpoklad: delegovaná pravomoc a odpovědnost v investičním rozhodová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vlivňují výši a způsob využití investic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ace na ekonomickou efektivnost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ejvyšší úroveň ekonomické struktury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často je investičním střediskem pouze vrcholové ved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případě velkých firem s širokým spektrem činnosti tzv. strategické podnikatelské jednotky (strategic business uni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14316-B0DA-4AA8-80C7-1880D763A2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dnotová kritéria řízení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otázk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dr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 vynakládají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sledku rozhodnutí střediska nebo činností, jejíž průběh středisko ovlivňuje, a jak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jich vynaložení vyvolává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Jakým způsobem měřit a hodnot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Jak vymez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sledek hospoda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40158-5184-4F59-BF6F-B6200EB033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odpovědnostních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princip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vlivnitel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tázka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spotřebu zdrojů, a kterému středisku by tudíž měl být náklad odpovědnostně přiřazen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střediska = ovlivnitelné interní a externí náklady (skutečné i kalkulač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zor: 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ísto vzniku nákladů = odpovědnost za vznik nákladů“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u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at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apř.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vzniklé důsledkem rozhodnu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ovlivnitelné pohyby cen vstup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účelné vynaložení zdrojů zapříčiněné činnos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ACDF0-D0D7-4238-BE88-A792B0409B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nos středisk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střediskové výnos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míře delegov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ákladní situac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. výkony střediska určeny převážně pro externí zákaz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ex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prodeje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výkony střediska určeny převážně pro osta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a základě vnitropodnikových c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výkony střediska není možné vymezit a měř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úkolem střediska je dodržet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em stanovené nákla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dle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30359-590B-41E5-8168-AACC9A9E99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unkce vnitropodnikových c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tivovat k rozhodování a chování prospěšnému pro středisko i pod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it úroveň pravomoci a odpovědnosti a oddělit přínos střediska k výsledků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stit informace pro měření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poklady účinného využit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přede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álost v čas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ulad s ostatními nástroji vnitropodnikového říze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ce, rozpoč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rozumitelnost pro dodávající i odebírající středisko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a stejné úrovni pro stejnorodý výkon bez ohledu na odběrate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EE9CD-EAED-4887-97CB-866F00E07F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y vnitropodnikových c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ariabilní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s připočtení ziskové přirá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tržní cen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dohodě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zi středis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33B62-345C-4BD8-93C6-62EF56B823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ek hospodaře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unkc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kriteriál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ritérium (měřítko) pro hodnocení úspěšnosti hospodaření středisk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 stimulač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timulace k zajištění souladu cílů střediska a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odnět pro rozvoj jednání, které zvyšuje efektivnost činnosti střediska, a tím i efektivnost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čové je propojení s vhodno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ou odmě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sledku hospodaření závisí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3B6CE-89E6-4FDE-90DC-65A0EFF0E8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ah výsledku hospodař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á (výdajová)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úspora nebo překročení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ch střediskov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bjem výnosů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 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po zohlednění kalkulačních úroků z čistého pracovního kapitálu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čistého pracovní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ekonomick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residuální)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vázané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AC71F-0ECA-41B2-B2B2-DA5B2A0DF3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kaz hospodářského výsledku nákladového střediska (výkaz odchyl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472480"/>
                <a:gridCol w="1917720"/>
                <a:gridCol w="1918080"/>
                <a:gridCol w="1920960"/>
              </a:tblGrid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ředisk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skutečnos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nterní výnos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rozpoče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dchyl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úspora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kroč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F5DEF-4C8E-4B9A-B6E0-A437B53378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ovka ziskového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340000" y="1557360"/>
          <a:ext cx="4608360" cy="431928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nosy z prodeje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Variabilní náklady výkonů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že (příspěvek na úhrad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vlivnitelný výsledek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Ne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hospodaření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Alokované náklady na správu a říz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střediska po alokaci správních 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411280" y="242100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386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4394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537372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FC59B-EA5B-4120-BE57-CF75EB46BB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ažení takového dlouhodobého stavu, kdy jednání každého útvaru a pracovníka v podniku přispívá k dosažení strategických cílů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y odpovědnostního ří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81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ovlivnitel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avomoc a odpověd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ceš-li výsledky, musíš dát příležito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transformace cílů na úkoly → měřitelná krité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chceš řídit, musíš umět měř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přínos k výsledkům → zainteres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ekni mi, jak mě budeš měřit, a já ti řeknu, jak se budu chova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A73E7-F97D-47EA-8CED-4F433E9918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ční podpora odpovědnostního řízení v oblasti hodnotový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koly odpovědnostního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rozčlenit hodnotové informace podle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vývoj nákladů, výnosů, aktiv, závazků, příjmů, výda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zobrazit vztahy mezi středisky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interní výnosy a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ý je přínos střediska k výsledkům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jádřit přímo v účetním systému rozdíly či odchylk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je příčinou a kdo je zodpovědný za rozdíly skutečnosti oproti očekávanému stav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535C2-DCA5-42FC-B753-8610637446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kturální předpoklady odpovědnostního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řešení organizační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ovení míry centralizace a decentraliza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tvoření ekonomické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1364F-634B-4AB7-8883-F38A314E67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ční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ěcnou náplň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vků podnikové struktury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nim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organizační struktury urču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rizontální vztah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ělba činností a kooper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dmětné uspořádání (od nákupu po prodej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chnologické uspořádání (specializace činností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ertikální vztahy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zložení 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B194D-8C91-4674-BD5D-1DD910C0CA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e)centralizace řízení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působ řízení podniku, kdy rozhodovací pravomoc i odpovědnost je soustředěna na vrcholové úrovni řízení; nižší úrovně řízení mají pouze výkonné funk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esné, včasné, kvalitní a hospodárné splnění příkaz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rektivní nástroje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vážně naturální kritéria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odchylek od stanoveného úkolu v krátkých intervale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e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 přenášení pravomoci a odpovědnosti z nadřazené úrovně řízení na úrovně podřízené; nižší úrovně řízení disponují rozhodovacími i výkonnými funkcem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ínos k zhodnocení zdrojů (účinnosti) a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rámcových podmínek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čekává se iniciativ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jné využití hodnotových kritéri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 skutečných výsledků za delš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58292-03CF-47E2-B43D-71886360A9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azuje na organizační strukturu a doplňuje věcné nástroje řízení o využit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ačně účinných hodnotových nástroj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dpovědnostního řízen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rvek ekonomické struktury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středisk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y odpovědnostních středis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rozliš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kročilé rozliš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ové/výnos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ové/výnos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daj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isk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zisk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ntabilit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vestiční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nvestič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6DDF3-57A0-4741-9A73-772A446F3E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ová, výdajová, výnosová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hospodárné vynakládá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vymezení nákladů ovlivnitelných činností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srovnání skutečné a předem stanovené výše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daj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zvyšování budoucího potenciálu firmy (vzdělávání, výzkum a vývoj, strategický marketing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převážně věcné posouzení činnosti doplněné o srovnání skutečné a předem stanovené výše náklad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ýdajů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tupují do vztahů se zákazník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vlivňují objem a strukturu prodeje (obchodní zastoupení, útvary prodeje, oddělení obchodního domu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maximalizaci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5C162-1B30-41F3-8E87-3474CBB28F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isková, rentabilit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řídí celý proces od nákupu, přes tvorbu výkonu po prodej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stupují do vztahů s dodavateli i zákazní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vlivňují náklady, výnosy a zisk střediska → orientace na ú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: skutečně dosažená úroveň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střešují několik nákladových a výnosových středis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blém orientace ziskových středisek: zvyšování zisku bez ohledu na výši čistého pracovního kapitálu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ázanost zdrojů ovlivňuje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ntabilitní středisko → zahrnutí čistého pracovního kapitálu (pohledávky, zásoby, závazky z obchodního styku ...) do odpovědnosti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3741C-A925-4F90-BCC1-F5FA195775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7:30:03Z</dcterms:created>
  <dc:creator>NOBODY</dc:creator>
  <dc:description/>
  <dc:language>en-US</dc:language>
  <cp:lastModifiedBy>NOBODY</cp:lastModifiedBy>
  <dcterms:modified xsi:type="dcterms:W3CDTF">2007-09-04T08:35:00Z</dcterms:modified>
  <cp:revision>8</cp:revision>
  <dc:subject/>
  <dc:title>Odpovědnostní účetnictví</dc:title>
</cp:coreProperties>
</file>