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DFA66-EBF7-43F7-946F-F7E0EB405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D044E-E0B5-4CF9-8C0E-E6843218F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EB8C2-8F08-45C2-9F8E-89D5BEE86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7E09-E0D5-4F00-8062-FB4FD175A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296E8-112D-4887-9289-41BBD7D6C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06EE-60B9-4B9E-8577-7FB2BF72A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68510-98F5-4C5B-B709-1BDE6AA8B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3577-D392-46B1-B8ED-E010105F2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A481-527A-4509-A253-0880AA9E4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753A-0FBA-41B7-B554-0587DB897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6CF8-F0D0-4EB1-97DB-F27B542DF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AFB8-A009-4F07-B9E3-566CB79B9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8F46-B98F-42D1-B8F9-B0A1BFFE0A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souvislosti vývoje nákladů, výnosů a zisk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průměrné variabilní náklady (v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a průměrná marže (příspěvek k tržbám, pt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eněžní jednotku výnosů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záno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onkrétní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V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19404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e p vyjadřuje předem stanovenou strukturu sorti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á marže (příspěvek k tržbá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1 -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ý zis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CV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3317D-DADD-47B7-B119-682A998806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lišení nákladů v lineárním modelu pomocí matematickostatických met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jištění fixní a variabilní složky nákladů by mělo vycházet z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primárního rozpoznání v kalkulacích, rozpočtech a účetním zobrazen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šak v určitých situacích využít 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lineární model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e zjištění fixní a variabilní složky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metoda nejmenších čtverc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N = FN + v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metoda dvou bo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1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2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utno vycházet z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srovnatelných údajů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 vylouči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eopakující s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ahodilé vliv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FD72-E405-49F2-9C45-17E4E15522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é a nevyužité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fixní náklady se vztahují k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apaci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, kterou je možné lépe či hůře využ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té FN odpovídaj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skutečnému využití kapaci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yuž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využité FN představují podíl nákladů vztahující se k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evyužité kapacit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Ne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formace významná pro říz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těžnostní form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hospodár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4365720"/>
            <a:ext cx="0" cy="18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8480" y="6175440"/>
            <a:ext cx="4703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32680" y="4689360"/>
            <a:ext cx="0" cy="1487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51560" y="6270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365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4640" y="4597560"/>
            <a:ext cx="1393560" cy="631800"/>
          </a:xfrm>
          <a:prstGeom prst="borderCallout1">
            <a:avLst>
              <a:gd name="adj1" fmla="val 18750"/>
              <a:gd name="adj2" fmla="val -8333"/>
              <a:gd name="adj3" fmla="val 118842"/>
              <a:gd name="adj4" fmla="val -280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pacit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5200560"/>
            <a:ext cx="42642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24480" y="480852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0"/>
            <a:endCxn id="233" idx="0"/>
          </p:cNvCxnSpPr>
          <p:nvPr/>
        </p:nvCxnSpPr>
        <p:spPr>
          <a:xfrm flipV="1">
            <a:off x="1968120" y="5216040"/>
            <a:ext cx="4264560" cy="9597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236" name=""/>
          <p:cNvSpPr/>
          <p:nvPr/>
        </p:nvSpPr>
        <p:spPr>
          <a:xfrm>
            <a:off x="5864400" y="6269040"/>
            <a:ext cx="66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9720" y="627048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52005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98960" y="57117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6320" y="5200560"/>
            <a:ext cx="441000" cy="511200"/>
          </a:xfrm>
          <a:custGeom>
            <a:avLst/>
            <a:gdLst>
              <a:gd name="textAreaLeft" fmla="*/ 281880 w 441000"/>
              <a:gd name="textAreaRight" fmla="*/ 441360 w 44100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8"/>
                </a:lnTo>
                <a:cubicBezTo>
                  <a:pt x="10800" y="10398"/>
                  <a:pt x="5400" y="11298"/>
                  <a:pt x="0" y="11298"/>
                </a:cubicBezTo>
                <a:cubicBezTo>
                  <a:pt x="5400" y="11298"/>
                  <a:pt x="10800" y="12198"/>
                  <a:pt x="10800" y="130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6760" y="5342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nevyuž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72040" y="5711760"/>
            <a:ext cx="515880" cy="465120"/>
          </a:xfrm>
          <a:custGeom>
            <a:avLst/>
            <a:gdLst>
              <a:gd name="textAreaLeft" fmla="*/ 0 w 515880"/>
              <a:gd name="textAreaRight" fmla="*/ 186120 w 51588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61000" y="57117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yu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3B700-B785-45DD-BA4A-4511C47725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na variabilní a fixní při řízení zis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v lineárním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c * Q – v * Q – FN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kon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kon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še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Q *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– 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e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in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dej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+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výš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ariabilních nákladů na jednot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9589-E6E6-421A-9B52-8857D7140E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variabilní a fixní při řízení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pro nehomogenní výkony při dané struktuř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∑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∑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 = ∑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Z = (1 – v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) * CV – FN = pt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CV -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nos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nos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(FN + Z)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5FED8-E7A8-490A-9C84-812D74C3B8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na variabilní a fix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začátku 20. století jedno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významnějších 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liv na většin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trojů manažerského účetnictv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alkulace, rozpočty, rozhodování o objemu a sortimentu 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materiál, mzdy výkonných pracovníků, doprava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ajišťují podmínky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ciá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činnost v určitém období v rozsahu limitované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pac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N z hledis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žnost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volané způsobem zajištění činnosti (obsluha a řízení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částečně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ené rozhodnutím podniku (propagace, výzkum, vzdělávání ...) → vysoce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videlně vynakládané v určité výši (časové odpisy, nájemné) → obtížná ovlivnitel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DA70C-B590-4759-B820-769D043449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lišení variabilních a fix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mnoha případech obtížné, vyplývá z odpovědí na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pakovaně vkládan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měnícím se množstvím výkonů, či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tenci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vyvol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č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il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jednotce výkon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ávc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ennímu, týdennímu, měsíčnímu, ročnímu ...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visí na potřebách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působ řízení a stanovení úkolu (normy, normativy, lim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znamnost nákladové po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D3152-509E-49BB-94BA-1FD7C33802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nákladů a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namný nástroj pro vyjádř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e nákladů a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v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evantním rozpě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ková část nelineárního průběhu nákladu, ve které se variabilní náklady nejvíce přibližují proporcionálnímu vývoji a fixní náklady jsou konstant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tendenci výv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vídá analýz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inulých období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způsob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ení nákladového úkol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lš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604D-8BE2-450F-9FA5-CD20553583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žitnými vlastnostmi a kval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ělené na variabilní a fix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konstantní výš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na 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ál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chnologie, produktivita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last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E7DD0-0DD9-4C9E-9771-E37667E3EB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ry a formální vyjádř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arametry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bjem výkonů v naturálním vyjádření (Q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odejní cena na jednotku výkonů (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ariabilní náklady na jednotku (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 výše fixních nákladů na vymezené období (F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ýnos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Q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05193-483D-48F6-9173-219827AEF6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lineárního model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celkové velič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1700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16360" y="6093000"/>
            <a:ext cx="4394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1700280"/>
            <a:ext cx="143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, VN, FN, 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165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ntní rozpě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16360" y="5227560"/>
            <a:ext cx="439416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15640" y="1217160"/>
            <a:ext cx="4281480" cy="4870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2920" y="4308840"/>
            <a:ext cx="1247040" cy="75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640" y="3453840"/>
            <a:ext cx="1220760" cy="75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52640" y="2793960"/>
            <a:ext cx="1182600" cy="129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590920"/>
            <a:ext cx="26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229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4000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 +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176720"/>
            <a:ext cx="266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96872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616572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28200">
            <a:off x="3276360" y="1843200"/>
            <a:ext cx="3627360" cy="460188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28200">
            <a:off x="3320640" y="987480"/>
            <a:ext cx="3627360" cy="460224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EAF2-1B89-4B53-874A-67CE2356D3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že a zisk 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rž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příspěvek na úhradu fixních nákladů a tvorbu zis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ritérium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zis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, rozhodování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optimální struktuř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 at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ednot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M = CV – VN =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elkov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V – VN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j * Q – v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m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BC72-8135-4735-A4D9-1413084120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vývoje marže a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0" y="2349360"/>
            <a:ext cx="60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83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133720"/>
            <a:ext cx="598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9040" y="4938840"/>
            <a:ext cx="368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040" y="2276280"/>
            <a:ext cx="3019320" cy="2662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4360" y="4076280"/>
            <a:ext cx="3087720" cy="865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11600" y="4149720"/>
            <a:ext cx="469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68440" y="3430440"/>
            <a:ext cx="8431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RŽ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228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040" y="5083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0440" y="213372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,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8800" y="4938840"/>
            <a:ext cx="39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68800" y="2133720"/>
            <a:ext cx="3606840" cy="2806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068640"/>
            <a:ext cx="3672000" cy="936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040" y="3132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3080" y="357336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183600">
            <a:off x="5095800" y="3789360"/>
            <a:ext cx="10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TRÁT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 rot="681600">
            <a:off x="7975080" y="2491920"/>
            <a:ext cx="6001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ZISK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941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95800" y="4941360"/>
            <a:ext cx="170820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74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2952720" cy="2665080"/>
          </a:xfrm>
          <a:custGeom>
            <a:avLst/>
            <a:gdLst/>
            <a:ahLst/>
            <a:rect l="l" t="t" r="r" b="b"/>
            <a:pathLst>
              <a:path w="1860" h="1679">
                <a:moveTo>
                  <a:pt x="0" y="1679"/>
                </a:moveTo>
                <a:lnTo>
                  <a:pt x="1860" y="1134"/>
                </a:lnTo>
                <a:lnTo>
                  <a:pt x="1860" y="0"/>
                </a:lnTo>
                <a:lnTo>
                  <a:pt x="0" y="1633"/>
                </a:lnTo>
                <a:lnTo>
                  <a:pt x="0" y="1679"/>
                </a:lnTo>
                <a:close/>
              </a:path>
            </a:pathLst>
          </a:cu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6556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5733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6948360" y="21315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66ff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04000" y="4149720"/>
            <a:ext cx="1708200" cy="790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A2134-A738-4356-8FF1-3B456C6A30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9Z</dcterms:modified>
  <cp:revision>13</cp:revision>
  <dc:subject/>
  <dc:title>Snímek 1</dc:title>
</cp:coreProperties>
</file>