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267A2-5DAE-4BE2-B13A-34293CC276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9C286-4DCE-44CE-A950-B391D77A7F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4A8A6-A598-403C-8E1D-DE8F6014CE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6646F-B4E2-4002-AD24-46147BF413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4706E-F5A1-4264-957B-96D5419D8E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52724-666B-4E5C-AC28-6B9B4AE906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594C5-0D64-45BD-9E33-F62E07D322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1906B-797E-42F6-9CC7-15A1E63AB3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89349-43AF-4CC5-BF8D-907235F2F0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D1B8B-26EE-4C35-973B-54FAC82DB9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73FD5-F8AA-4427-BBC2-3D4AA48021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C2109-82CC-4E63-AD59-889D47F1F1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B6324-9351-4D93-A311-13E2EB4043B1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Kalkulace plných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 variabilních nákladů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79280" y="-2736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jišťování hospodářského výsledku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i oceňování na úrovni variabilní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50920" y="105264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ynaložené náklad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jištění H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85840" y="2681280"/>
            <a:ext cx="21985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riabilní výrobní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85840" y="3500280"/>
            <a:ext cx="21985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riabilní prodejní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6745320" y="1511280"/>
            <a:ext cx="1601640" cy="2493720"/>
            <a:chOff x="6745320" y="1511280"/>
            <a:chExt cx="1601640" cy="2493720"/>
          </a:xfrm>
        </p:grpSpPr>
        <p:sp>
          <p:nvSpPr>
            <p:cNvPr id="257" name=""/>
            <p:cNvSpPr/>
            <p:nvPr/>
          </p:nvSpPr>
          <p:spPr>
            <a:xfrm>
              <a:off x="6745320" y="1511280"/>
              <a:ext cx="1601640" cy="5450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ÝNOS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745320" y="2418120"/>
              <a:ext cx="1601640" cy="1586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ariabilní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áklady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odané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ýkon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108920" y="1925280"/>
              <a:ext cx="94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285840" y="5367240"/>
            <a:ext cx="2246040" cy="609480"/>
            <a:chOff x="285840" y="5367240"/>
            <a:chExt cx="2246040" cy="609480"/>
          </a:xfrm>
        </p:grpSpPr>
        <p:sp>
          <p:nvSpPr>
            <p:cNvPr id="261" name=""/>
            <p:cNvSpPr/>
            <p:nvPr/>
          </p:nvSpPr>
          <p:spPr>
            <a:xfrm>
              <a:off x="285840" y="5367240"/>
              <a:ext cx="224604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ixní prodejní 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85840" y="5671440"/>
              <a:ext cx="224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 na správu a řízení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285840" y="5013360"/>
            <a:ext cx="22464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Fixní výrobní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762600" y="5013360"/>
            <a:ext cx="158436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x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762600" y="63928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i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051680" y="449424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051680" y="596592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615000" y="4363920"/>
            <a:ext cx="198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elková marž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051680" y="396864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556000" y="5038560"/>
            <a:ext cx="215640" cy="936720"/>
          </a:xfrm>
          <a:custGeom>
            <a:avLst/>
            <a:gdLst>
              <a:gd name="textAreaLeft" fmla="*/ 0 w 215640"/>
              <a:gd name="textAreaRight" fmla="*/ 77760 w 21564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1" name=""/>
          <p:cNvCxnSpPr>
            <a:stCxn id="270" idx="1"/>
            <a:endCxn id="264" idx="1"/>
          </p:cNvCxnSpPr>
          <p:nvPr/>
        </p:nvCxnSpPr>
        <p:spPr>
          <a:xfrm>
            <a:off x="2784600" y="5506560"/>
            <a:ext cx="3978720" cy="118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72" name=""/>
          <p:cNvSpPr/>
          <p:nvPr/>
        </p:nvSpPr>
        <p:spPr>
          <a:xfrm>
            <a:off x="2914560" y="2492280"/>
            <a:ext cx="1513080" cy="7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dokončen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788000" y="2492280"/>
            <a:ext cx="1512720" cy="7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tov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4" name=""/>
          <p:cNvCxnSpPr>
            <a:stCxn id="254" idx="3"/>
            <a:endCxn id="272" idx="1"/>
          </p:cNvCxnSpPr>
          <p:nvPr/>
        </p:nvCxnSpPr>
        <p:spPr>
          <a:xfrm flipV="1">
            <a:off x="2484000" y="2851920"/>
            <a:ext cx="430920" cy="39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6732720" y="3500280"/>
            <a:ext cx="21985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6" name=""/>
          <p:cNvCxnSpPr>
            <a:stCxn id="255" idx="3"/>
            <a:endCxn id="275" idx="1"/>
          </p:cNvCxnSpPr>
          <p:nvPr/>
        </p:nvCxnSpPr>
        <p:spPr>
          <a:xfrm flipV="1">
            <a:off x="2484000" y="3674880"/>
            <a:ext cx="4249080" cy="21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3"/>
            <a:endCxn id="273" idx="1"/>
          </p:cNvCxnSpPr>
          <p:nvPr/>
        </p:nvCxnSpPr>
        <p:spPr>
          <a:xfrm>
            <a:off x="4427280" y="2852280"/>
            <a:ext cx="36108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732720" y="2682720"/>
            <a:ext cx="21985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9" name=""/>
          <p:cNvCxnSpPr>
            <a:stCxn id="273" idx="3"/>
            <a:endCxn id="278" idx="1"/>
          </p:cNvCxnSpPr>
          <p:nvPr/>
        </p:nvCxnSpPr>
        <p:spPr>
          <a:xfrm>
            <a:off x="6300720" y="2852640"/>
            <a:ext cx="432720" cy="57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C8AF6-F0F2-4C3D-9105-57CCCD677DD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0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79280" y="-2736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jišťování hospodářského výsledku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i oceňování na úrovni plný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50920" y="105264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ynaložené náklad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jištění H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85840" y="2681280"/>
            <a:ext cx="21985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riabilní výrobní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85840" y="3500280"/>
            <a:ext cx="21985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riabilní prodejní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6745320" y="1511280"/>
            <a:ext cx="1601640" cy="2493720"/>
            <a:chOff x="6745320" y="1511280"/>
            <a:chExt cx="1601640" cy="2493720"/>
          </a:xfrm>
        </p:grpSpPr>
        <p:sp>
          <p:nvSpPr>
            <p:cNvPr id="285" name=""/>
            <p:cNvSpPr/>
            <p:nvPr/>
          </p:nvSpPr>
          <p:spPr>
            <a:xfrm>
              <a:off x="6745320" y="1511280"/>
              <a:ext cx="1601640" cy="5450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ÝNOS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745320" y="2418120"/>
              <a:ext cx="1601640" cy="1586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ariabilní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áklady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odané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ýkon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108920" y="1925280"/>
              <a:ext cx="94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285840" y="5556240"/>
            <a:ext cx="2246040" cy="609480"/>
            <a:chOff x="285840" y="5556240"/>
            <a:chExt cx="2246040" cy="609480"/>
          </a:xfrm>
        </p:grpSpPr>
        <p:sp>
          <p:nvSpPr>
            <p:cNvPr id="289" name=""/>
            <p:cNvSpPr/>
            <p:nvPr/>
          </p:nvSpPr>
          <p:spPr>
            <a:xfrm>
              <a:off x="285840" y="5556240"/>
              <a:ext cx="224604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ixní prodejní 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85840" y="5860440"/>
              <a:ext cx="224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 na správu a řízení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285840" y="4970520"/>
            <a:ext cx="21985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Fixní výrobní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762600" y="5013360"/>
            <a:ext cx="1584360" cy="1079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x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praven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 aktivované fixní výrobní 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762600" y="65181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i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051680" y="449424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051680" y="609120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15000" y="4363920"/>
            <a:ext cx="198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elková marž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051680" y="396864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914560" y="2492280"/>
            <a:ext cx="1513080" cy="7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dokončen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788000" y="2492280"/>
            <a:ext cx="1512720" cy="7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tov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00" name=""/>
          <p:cNvCxnSpPr>
            <a:stCxn id="282" idx="3"/>
            <a:endCxn id="298" idx="1"/>
          </p:cNvCxnSpPr>
          <p:nvPr/>
        </p:nvCxnSpPr>
        <p:spPr>
          <a:xfrm flipV="1">
            <a:off x="2484000" y="2851920"/>
            <a:ext cx="430920" cy="39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1" name=""/>
          <p:cNvSpPr/>
          <p:nvPr/>
        </p:nvSpPr>
        <p:spPr>
          <a:xfrm>
            <a:off x="6732720" y="3500280"/>
            <a:ext cx="21985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02" name=""/>
          <p:cNvCxnSpPr>
            <a:stCxn id="283" idx="3"/>
            <a:endCxn id="301" idx="1"/>
          </p:cNvCxnSpPr>
          <p:nvPr/>
        </p:nvCxnSpPr>
        <p:spPr>
          <a:xfrm flipV="1">
            <a:off x="2484000" y="3674880"/>
            <a:ext cx="4249080" cy="21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03" name=""/>
          <p:cNvCxnSpPr>
            <a:stCxn id="298" idx="3"/>
            <a:endCxn id="299" idx="1"/>
          </p:cNvCxnSpPr>
          <p:nvPr/>
        </p:nvCxnSpPr>
        <p:spPr>
          <a:xfrm>
            <a:off x="4427280" y="2852280"/>
            <a:ext cx="36108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6732720" y="2682720"/>
            <a:ext cx="21985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299" idx="3"/>
            <a:endCxn id="304" idx="1"/>
          </p:cNvCxnSpPr>
          <p:nvPr/>
        </p:nvCxnSpPr>
        <p:spPr>
          <a:xfrm>
            <a:off x="6300720" y="2852640"/>
            <a:ext cx="432720" cy="57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2914560" y="4797360"/>
            <a:ext cx="1513080" cy="7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Nedokončen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88000" y="4797360"/>
            <a:ext cx="1512720" cy="7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Hotov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08" name=""/>
          <p:cNvCxnSpPr>
            <a:stCxn id="306" idx="3"/>
            <a:endCxn id="307" idx="1"/>
          </p:cNvCxnSpPr>
          <p:nvPr/>
        </p:nvCxnSpPr>
        <p:spPr>
          <a:xfrm>
            <a:off x="4427280" y="5157360"/>
            <a:ext cx="36108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09" name=""/>
          <p:cNvCxnSpPr>
            <a:stCxn id="291" idx="3"/>
            <a:endCxn id="306" idx="1"/>
          </p:cNvCxnSpPr>
          <p:nvPr/>
        </p:nvCxnSpPr>
        <p:spPr>
          <a:xfrm>
            <a:off x="2484000" y="5146200"/>
            <a:ext cx="430920" cy="118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10" name=""/>
          <p:cNvSpPr/>
          <p:nvPr/>
        </p:nvSpPr>
        <p:spPr>
          <a:xfrm>
            <a:off x="6732720" y="4984920"/>
            <a:ext cx="21985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7" idx="3"/>
            <a:endCxn id="310" idx="1"/>
          </p:cNvCxnSpPr>
          <p:nvPr/>
        </p:nvCxnSpPr>
        <p:spPr>
          <a:xfrm>
            <a:off x="6300720" y="5157360"/>
            <a:ext cx="432720" cy="252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6732720" y="5734080"/>
            <a:ext cx="21985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484360" y="5589720"/>
            <a:ext cx="142920" cy="647640"/>
          </a:xfrm>
          <a:custGeom>
            <a:avLst/>
            <a:gdLst>
              <a:gd name="textAreaLeft" fmla="*/ 0 w 142920"/>
              <a:gd name="textAreaRight" fmla="*/ 514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4" name=""/>
          <p:cNvCxnSpPr>
            <a:stCxn id="313" idx="1"/>
            <a:endCxn id="312" idx="1"/>
          </p:cNvCxnSpPr>
          <p:nvPr/>
        </p:nvCxnSpPr>
        <p:spPr>
          <a:xfrm flipV="1">
            <a:off x="2639520" y="5907960"/>
            <a:ext cx="4093560" cy="540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9B9CC-FE90-47E0-9F9A-41A17645E11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0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– vliv kalkulace na hospodářský výsledek (homogenní výrobek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457200" y="2060640"/>
          <a:ext cx="8002440" cy="2004840"/>
        </p:xfrm>
        <a:graphic>
          <a:graphicData uri="http://schemas.openxmlformats.org/drawingml/2006/table">
            <a:tbl>
              <a:tblPr/>
              <a:tblGrid>
                <a:gridCol w="2979720"/>
                <a:gridCol w="2608200"/>
                <a:gridCol w="2414520"/>
              </a:tblGrid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Polož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Celkem na 500 000 k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Na 1 k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Jednicový materiá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Jednicové mzd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10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ýrobní režijní náklad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 z toho variabilní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Celk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8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17" name=""/>
          <p:cNvSpPr/>
          <p:nvPr/>
        </p:nvSpPr>
        <p:spPr>
          <a:xfrm>
            <a:off x="395280" y="1484280"/>
            <a:ext cx="8137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edem stanovené náklady pro 1 obdob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95280" y="4149720"/>
            <a:ext cx="813744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 období 1. – 3. stabilní objem výroby = 500 000 ks / obdob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jemy prodeje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období = 500 000 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období = 300 000 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období = 700 000 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dochází k absolutní úspoře ani překročení náklad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dejní cena = 18 Kč / ks (stabilní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137A4-3624-4348-A4F3-3A06E657ECB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0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395280" y="115920"/>
            <a:ext cx="8137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jištění HV při ocenění výkonů na úrovni plných náklad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457200" y="608040"/>
          <a:ext cx="8147160" cy="2409840"/>
        </p:xfrm>
        <a:graphic>
          <a:graphicData uri="http://schemas.openxmlformats.org/drawingml/2006/table">
            <a:tbl>
              <a:tblPr/>
              <a:tblGrid>
                <a:gridCol w="2287440"/>
                <a:gridCol w="2003400"/>
                <a:gridCol w="2001960"/>
                <a:gridCol w="1854360"/>
              </a:tblGrid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Období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93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ýroba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rodej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ýnosy z prodeje výrobků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8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8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2 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8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70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Náklady prodaných výrobků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8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(16</a:t>
                      </a:r>
                      <a:r>
                        <a:rPr b="0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5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4 8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(16</a:t>
                      </a:r>
                      <a:r>
                        <a:rPr b="0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3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11 2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(16</a:t>
                      </a:r>
                      <a:r>
                        <a:rPr b="0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7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Zisk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1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21" name=""/>
          <p:cNvSpPr/>
          <p:nvPr/>
        </p:nvSpPr>
        <p:spPr>
          <a:xfrm>
            <a:off x="395280" y="3098880"/>
            <a:ext cx="8137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jištění HV při ocenění výkonů na úrovni variabilních náklad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468360" y="3602160"/>
          <a:ext cx="8147160" cy="3047760"/>
        </p:xfrm>
        <a:graphic>
          <a:graphicData uri="http://schemas.openxmlformats.org/drawingml/2006/table">
            <a:tbl>
              <a:tblPr/>
              <a:tblGrid>
                <a:gridCol w="2287440"/>
                <a:gridCol w="2003400"/>
                <a:gridCol w="2001960"/>
                <a:gridCol w="1854360"/>
              </a:tblGrid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Období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ýroba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93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rodej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ýnosy z prodeje výrobků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8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8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2 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8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Náklady prodaných výrobků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5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(10</a:t>
                      </a:r>
                      <a:r>
                        <a:rPr b="0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5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(10</a:t>
                      </a:r>
                      <a:r>
                        <a:rPr b="0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3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7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(10</a:t>
                      </a:r>
                      <a:r>
                        <a:rPr b="0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7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93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Marže I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4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2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5 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Fixní náklady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Zisk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2 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0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rovnání rozdílu HV ve 2. období při ocenění kalkulací variabilních nákladů a plných nákladů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468360" y="1773360"/>
          <a:ext cx="8136000" cy="4109760"/>
        </p:xfrm>
        <a:graphic>
          <a:graphicData uri="http://schemas.openxmlformats.org/drawingml/2006/table">
            <a:tbl>
              <a:tblPr/>
              <a:tblGrid>
                <a:gridCol w="2957400"/>
                <a:gridCol w="2590920"/>
                <a:gridCol w="2587680"/>
              </a:tblGrid>
              <a:tr h="56664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Kalkulace variabilních náklad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Kalkulace plných náklad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ýroba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93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rodej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ýnosy z prodeje výrobků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8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8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ariabilní náklady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 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0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 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0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93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Marže I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Fixní náklady vynaložené v období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 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 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Aktivované fixní náklady v zásobách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+ 1 2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Zisk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+ 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2E344-FE3A-4AB5-86B5-E409DC16F61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0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riantnost sestavení kalkul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lkulace se sestavuj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riantn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 ohledem 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ozhodovací úloh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lišnosti v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ozsah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kalkulovaných nákladů,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řaz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oložek,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drob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členění,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ruktuř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zisoučtů, vztahu ke kalkulaci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en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ní přístupy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lkulac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lný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řiřazuje výkonu všechny náklady vynaložené při jeho vytvoře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vychází z odlišení přímých a nepřímých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kalkulac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riabilní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vychází z odlišení variabilních a fixních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řiřazuje výkonu buď pouze variabilní náklady nebo odděleně variabilní a fixní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A2AB3-AC41-4911-B6D5-CF259745F49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ednosti a omezen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alkulace plný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statick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→ odpovídá pouze jedné variantě objemu a sortimentu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arbitrár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→ přiřazuje i náklady bez zřetelné příčinné vazby k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skutečnou výš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nákladů je možné zjistit až s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zpožděním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je nutná informace o objemu a struktuře výkonů vytvořených za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 východiskem pro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enovou politik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zejména z dlouhodobého hl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 podkladem pro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ěření konkurenceschop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odniku v rámci sektor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 nástrojem pro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analýzu a porovnání ziskov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ýkonů a služe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 nástrojem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hodnotového říz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umožňuje kvantifikovat vliv využití fixních nákladů na vývoj zisk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D31EA-EA65-44BB-A1BA-5E2C05B4185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– omezení kalkulace plných nákladů při rozhodování o struktuře výkonů (I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457200" y="1798560"/>
          <a:ext cx="8002080" cy="2005200"/>
        </p:xfrm>
        <a:graphic>
          <a:graphicData uri="http://schemas.openxmlformats.org/drawingml/2006/table">
            <a:tbl>
              <a:tblPr/>
              <a:tblGrid>
                <a:gridCol w="2979360"/>
                <a:gridCol w="2608560"/>
                <a:gridCol w="2414160"/>
              </a:tblGrid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Výrobe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Cena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lné náklady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10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Objem výroby a prodeje v roce 200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 gridSpan="3"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Zisk podniku = 30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 000 + 15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0 000 - 25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 000 - 16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0 000 = 3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468360" y="3848040"/>
            <a:ext cx="8136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yplatí se vyrábět a prodávat ztrátový výrobek B i v roce 2008, pokud máte k dispozici následující podrobnější informace o kalkulaci nákladů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víte, že fixní náklady jsou společné oběma výkonům a nejsou v roce 2008 ovlivnitelné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68360" y="5040360"/>
          <a:ext cx="8002440" cy="1384200"/>
        </p:xfrm>
        <a:graphic>
          <a:graphicData uri="http://schemas.openxmlformats.org/drawingml/2006/table">
            <a:tbl>
              <a:tblPr/>
              <a:tblGrid>
                <a:gridCol w="2979720"/>
                <a:gridCol w="2608200"/>
                <a:gridCol w="2414520"/>
              </a:tblGrid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Výrobe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ariabilní náklady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Fixní náklady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lné náklady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29D9E-3E15-4196-9832-08246714806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772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50560" y="277560"/>
            <a:ext cx="87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– omezení kalkulace plných nákladů při rozhodování o struktuře výkonů (II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orovnání podle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lné nákladové nároč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ff"/>
                </a:solidFill>
                <a:latin typeface="Arial"/>
              </a:rPr>
              <a:t>15 Kč (cena)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&lt;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16 Kč (plné náklady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NEVYRÁBĚT 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spcAft>
                <a:spcPts val="499"/>
              </a:spcAft>
              <a:buNone/>
              <a:tabLst>
                <a:tab algn="l" pos="0"/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------------------------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porovnání při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 Unicode MS"/>
              </a:rPr>
              <a:t>odlišení variabilních a fixních nákladů</a:t>
            </a:r>
            <a:r>
              <a:rPr b="1" i="1" lang="cs-CZ" sz="2000" spc="-1" strike="noStrike">
                <a:solidFill>
                  <a:srgbClr val="ff9900"/>
                </a:solidFill>
                <a:latin typeface="Arial"/>
                <a:ea typeface="Arial Unicode MS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</a:rPr>
              <a:t>Marže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 A = (30-20)* 10 000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= 100 00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</a:rPr>
              <a:t>Marže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 B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= 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Fixní náklady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= 110 00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Zisk / ztráta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= - 10 00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VYRÁBĚT 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A3F51-EF3D-4EA6-8168-B93778EC29E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2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60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alkulace variabilní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zlišuje náklady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dle příčin vz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náklady vyvolané výkonem (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variabilní náklady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áklady vyvolané časem (→ fixní náklady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odporuje řešení řady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rozhodovacích úlo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 změnách v objemu a struktuře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 limitu prodejních cen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 posouzení přínosu výkonu k tvorbě zisk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7989D-2F66-4FBE-92CB-EF55659A501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alkulační vzor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06200" y="1341360"/>
            <a:ext cx="2160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diční kalkulace plných náklad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411280" y="1341360"/>
            <a:ext cx="2376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ynamická kalkulace plných náklad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1341360"/>
            <a:ext cx="2232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trográdní kalku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588000" y="1341360"/>
            <a:ext cx="2556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trográdní kalkulace se stupňovitým čl. F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79280" y="198612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římý materiá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411280" y="198756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římý materiá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643280" y="1989000"/>
            <a:ext cx="201636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rodejní ce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877080" y="1989000"/>
            <a:ext cx="201600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rodejní ce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79280" y="250668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římé mz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411280" y="2506680"/>
            <a:ext cx="2016360" cy="51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římé mz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43280" y="250668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- Variabil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877080" y="2506680"/>
            <a:ext cx="201600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- Variabil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79280" y="302580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Ostatní přímé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411280" y="304020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Ostatní přímé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643280" y="302580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= Marže výkon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77080" y="3025800"/>
            <a:ext cx="201600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= Marže výkonu 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9280" y="354348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99"/>
                </a:solidFill>
                <a:latin typeface="Times New Roman"/>
              </a:rPr>
              <a:t>Výrobní režie nepř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411280" y="4062240"/>
            <a:ext cx="201636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99"/>
                </a:solidFill>
                <a:latin typeface="Times New Roman"/>
              </a:rPr>
              <a:t>Výrobní režie nepř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643280" y="354348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- Fix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77080" y="3543480"/>
            <a:ext cx="2016000" cy="31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- FN výkon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79280" y="4062240"/>
            <a:ext cx="201636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rodejní rež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411280" y="508644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rodejní rež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643280" y="4062240"/>
            <a:ext cx="201636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= Průměrný zi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77080" y="3863880"/>
            <a:ext cx="2016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= Marže 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9280" y="457992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Správní rež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411280" y="6095880"/>
            <a:ext cx="201636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Správní rež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877080" y="4194000"/>
            <a:ext cx="2016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99"/>
                </a:solidFill>
                <a:latin typeface="Times New Roman"/>
              </a:rPr>
              <a:t>- FN skupiny vý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0" name=""/>
          <p:cNvCxnSpPr>
            <a:stCxn id="177" idx="3"/>
            <a:endCxn id="178" idx="1"/>
          </p:cNvCxnSpPr>
          <p:nvPr/>
        </p:nvCxnSpPr>
        <p:spPr>
          <a:xfrm>
            <a:off x="2195280" y="2238480"/>
            <a:ext cx="216360" cy="216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01" name=""/>
          <p:cNvCxnSpPr>
            <a:stCxn id="181" idx="3"/>
            <a:endCxn id="182" idx="1"/>
          </p:cNvCxnSpPr>
          <p:nvPr/>
        </p:nvCxnSpPr>
        <p:spPr>
          <a:xfrm>
            <a:off x="2195280" y="2759040"/>
            <a:ext cx="216360" cy="864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02" name=""/>
          <p:cNvCxnSpPr>
            <a:stCxn id="185" idx="3"/>
            <a:endCxn id="186" idx="1"/>
          </p:cNvCxnSpPr>
          <p:nvPr/>
        </p:nvCxnSpPr>
        <p:spPr>
          <a:xfrm>
            <a:off x="2195280" y="3278160"/>
            <a:ext cx="216360" cy="1512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203" name=""/>
          <p:cNvSpPr/>
          <p:nvPr/>
        </p:nvSpPr>
        <p:spPr>
          <a:xfrm>
            <a:off x="2411280" y="3471840"/>
            <a:ext cx="201636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variabil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411280" y="3760920"/>
            <a:ext cx="201636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fix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411280" y="4494240"/>
            <a:ext cx="201636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variabil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11280" y="4782960"/>
            <a:ext cx="201636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fix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11280" y="5504040"/>
            <a:ext cx="201636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variabil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411280" y="5792760"/>
            <a:ext cx="201636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fix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89" idx="3"/>
            <a:endCxn id="190" idx="1"/>
          </p:cNvCxnSpPr>
          <p:nvPr/>
        </p:nvCxnSpPr>
        <p:spPr>
          <a:xfrm>
            <a:off x="2195280" y="3795840"/>
            <a:ext cx="216360" cy="51984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10" name=""/>
          <p:cNvCxnSpPr>
            <a:stCxn id="193" idx="3"/>
            <a:endCxn id="194" idx="1"/>
          </p:cNvCxnSpPr>
          <p:nvPr/>
        </p:nvCxnSpPr>
        <p:spPr>
          <a:xfrm>
            <a:off x="2195280" y="4314960"/>
            <a:ext cx="216360" cy="102456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11" name=""/>
          <p:cNvCxnSpPr>
            <a:stCxn id="197" idx="3"/>
            <a:endCxn id="198" idx="1"/>
          </p:cNvCxnSpPr>
          <p:nvPr/>
        </p:nvCxnSpPr>
        <p:spPr>
          <a:xfrm>
            <a:off x="2195280" y="4831920"/>
            <a:ext cx="216360" cy="15166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212" name=""/>
          <p:cNvSpPr/>
          <p:nvPr/>
        </p:nvSpPr>
        <p:spPr>
          <a:xfrm>
            <a:off x="6877080" y="4524480"/>
            <a:ext cx="2016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= Marže I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877080" y="4843440"/>
            <a:ext cx="2016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- FN „závodu“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877080" y="5175360"/>
            <a:ext cx="2016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= Marže I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877080" y="5505480"/>
            <a:ext cx="2016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- FN podnik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877080" y="5837400"/>
            <a:ext cx="201600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= Průměrný zi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7" name=""/>
          <p:cNvCxnSpPr>
            <a:stCxn id="178" idx="3"/>
            <a:endCxn id="183" idx="1"/>
          </p:cNvCxnSpPr>
          <p:nvPr/>
        </p:nvCxnSpPr>
        <p:spPr>
          <a:xfrm>
            <a:off x="4427280" y="2239920"/>
            <a:ext cx="216360" cy="51984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18" name=""/>
          <p:cNvCxnSpPr>
            <a:stCxn id="182" idx="3"/>
            <a:endCxn id="183" idx="1"/>
          </p:cNvCxnSpPr>
          <p:nvPr/>
        </p:nvCxnSpPr>
        <p:spPr>
          <a:xfrm flipV="1">
            <a:off x="4427280" y="2758680"/>
            <a:ext cx="216360" cy="864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19" name=""/>
          <p:cNvCxnSpPr>
            <a:stCxn id="203" idx="3"/>
            <a:endCxn id="183" idx="1"/>
          </p:cNvCxnSpPr>
          <p:nvPr/>
        </p:nvCxnSpPr>
        <p:spPr>
          <a:xfrm flipV="1">
            <a:off x="4427280" y="2758320"/>
            <a:ext cx="216360" cy="8578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0" name=""/>
          <p:cNvCxnSpPr>
            <a:stCxn id="205" idx="3"/>
            <a:endCxn id="183" idx="1"/>
          </p:cNvCxnSpPr>
          <p:nvPr/>
        </p:nvCxnSpPr>
        <p:spPr>
          <a:xfrm flipV="1">
            <a:off x="4427280" y="2758320"/>
            <a:ext cx="216360" cy="18802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1" name=""/>
          <p:cNvCxnSpPr>
            <a:stCxn id="207" idx="3"/>
            <a:endCxn id="183" idx="1"/>
          </p:cNvCxnSpPr>
          <p:nvPr/>
        </p:nvCxnSpPr>
        <p:spPr>
          <a:xfrm flipV="1">
            <a:off x="4427280" y="2758680"/>
            <a:ext cx="216360" cy="28900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2" name=""/>
          <p:cNvCxnSpPr>
            <a:stCxn id="204" idx="3"/>
            <a:endCxn id="191" idx="1"/>
          </p:cNvCxnSpPr>
          <p:nvPr/>
        </p:nvCxnSpPr>
        <p:spPr>
          <a:xfrm flipV="1">
            <a:off x="4427280" y="3795480"/>
            <a:ext cx="216360" cy="11016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3" name=""/>
          <p:cNvCxnSpPr>
            <a:stCxn id="206" idx="3"/>
            <a:endCxn id="191" idx="1"/>
          </p:cNvCxnSpPr>
          <p:nvPr/>
        </p:nvCxnSpPr>
        <p:spPr>
          <a:xfrm flipV="1">
            <a:off x="4427280" y="3795480"/>
            <a:ext cx="216360" cy="113256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4" name=""/>
          <p:cNvCxnSpPr>
            <a:stCxn id="208" idx="3"/>
            <a:endCxn id="191" idx="1"/>
          </p:cNvCxnSpPr>
          <p:nvPr/>
        </p:nvCxnSpPr>
        <p:spPr>
          <a:xfrm flipV="1">
            <a:off x="4427280" y="3795840"/>
            <a:ext cx="216360" cy="214164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5" name=""/>
          <p:cNvCxnSpPr>
            <a:stCxn id="198" idx="3"/>
            <a:endCxn id="191" idx="1"/>
          </p:cNvCxnSpPr>
          <p:nvPr/>
        </p:nvCxnSpPr>
        <p:spPr>
          <a:xfrm flipV="1">
            <a:off x="4427280" y="3795480"/>
            <a:ext cx="216360" cy="255312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6" name=""/>
          <p:cNvCxnSpPr>
            <a:stCxn id="179" idx="3"/>
            <a:endCxn id="180" idx="1"/>
          </p:cNvCxnSpPr>
          <p:nvPr/>
        </p:nvCxnSpPr>
        <p:spPr>
          <a:xfrm>
            <a:off x="6659640" y="2241360"/>
            <a:ext cx="218160" cy="10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7" name=""/>
          <p:cNvCxnSpPr>
            <a:stCxn id="183" idx="3"/>
            <a:endCxn id="184" idx="1"/>
          </p:cNvCxnSpPr>
          <p:nvPr/>
        </p:nvCxnSpPr>
        <p:spPr>
          <a:xfrm>
            <a:off x="6659640" y="2758680"/>
            <a:ext cx="218160" cy="10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8" name=""/>
          <p:cNvCxnSpPr>
            <a:stCxn id="187" idx="3"/>
            <a:endCxn id="188" idx="1"/>
          </p:cNvCxnSpPr>
          <p:nvPr/>
        </p:nvCxnSpPr>
        <p:spPr>
          <a:xfrm>
            <a:off x="6659640" y="3277800"/>
            <a:ext cx="218160" cy="10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9" name=""/>
          <p:cNvCxnSpPr>
            <a:stCxn id="191" idx="3"/>
            <a:endCxn id="192" idx="1"/>
          </p:cNvCxnSpPr>
          <p:nvPr/>
        </p:nvCxnSpPr>
        <p:spPr>
          <a:xfrm flipV="1">
            <a:off x="6659640" y="3701160"/>
            <a:ext cx="218160" cy="946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30" name=""/>
          <p:cNvCxnSpPr>
            <a:stCxn id="191" idx="3"/>
            <a:endCxn id="199" idx="1"/>
          </p:cNvCxnSpPr>
          <p:nvPr/>
        </p:nvCxnSpPr>
        <p:spPr>
          <a:xfrm>
            <a:off x="6659640" y="3795480"/>
            <a:ext cx="218160" cy="55764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31" name=""/>
          <p:cNvCxnSpPr>
            <a:stCxn id="191" idx="3"/>
            <a:endCxn id="213" idx="1"/>
          </p:cNvCxnSpPr>
          <p:nvPr/>
        </p:nvCxnSpPr>
        <p:spPr>
          <a:xfrm>
            <a:off x="6659640" y="3795480"/>
            <a:ext cx="218160" cy="12070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32" name=""/>
          <p:cNvCxnSpPr>
            <a:stCxn id="191" idx="3"/>
            <a:endCxn id="215" idx="1"/>
          </p:cNvCxnSpPr>
          <p:nvPr/>
        </p:nvCxnSpPr>
        <p:spPr>
          <a:xfrm>
            <a:off x="6659640" y="3795840"/>
            <a:ext cx="218160" cy="186912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11AEC-4EA1-4389-9A8B-7BD60190F6B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5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50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50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7000"/>
                            </p:stCondLst>
                            <p:childTnLst>
                              <p:par>
                                <p:cTn id="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800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9500"/>
                            </p:stCondLst>
                            <p:childTnLst>
                              <p:par>
                                <p:cTn id="2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3000"/>
                            </p:stCondLst>
                            <p:childTnLst>
                              <p:par>
                                <p:cTn id="239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45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500"/>
                            </p:stCondLst>
                            <p:childTnLst>
                              <p:par>
                                <p:cTn id="24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7500"/>
                            </p:stCondLst>
                            <p:childTnLst>
                              <p:par>
                                <p:cTn id="2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8500"/>
                            </p:stCondLst>
                            <p:childTnLst>
                              <p:par>
                                <p:cTn id="2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9500"/>
                            </p:stCondLst>
                            <p:childTnLst>
                              <p:par>
                                <p:cTn id="2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20500"/>
                            </p:stCondLst>
                            <p:childTnLst>
                              <p:par>
                                <p:cTn id="2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1500"/>
                            </p:stCondLst>
                            <p:childTnLst>
                              <p:par>
                                <p:cTn id="2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2500"/>
                            </p:stCondLst>
                            <p:childTnLst>
                              <p:par>
                                <p:cTn id="271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3000"/>
                            </p:stCondLst>
                            <p:childTnLst>
                              <p:par>
                                <p:cTn id="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0"/>
                            </p:stCondLst>
                            <p:childTnLst>
                              <p:par>
                                <p:cTn id="3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7000"/>
                            </p:stCondLst>
                            <p:childTnLst>
                              <p:par>
                                <p:cTn id="3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9000"/>
                            </p:stCondLst>
                            <p:childTnLst>
                              <p:par>
                                <p:cTn id="3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1000"/>
                            </p:stCondLst>
                            <p:childTnLst>
                              <p:par>
                                <p:cTn id="3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2500"/>
                            </p:stCondLst>
                            <p:childTnLst>
                              <p:par>
                                <p:cTn id="323" nodeType="afterEffect" fill="hold" presetClass="exit" presetID="5" presetSubtype="10">
                                  <p:stCondLst>
                                    <p:cond delay="1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7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0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3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6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4500"/>
                            </p:stCondLst>
                            <p:childTnLst>
                              <p:par>
                                <p:cTn id="339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8500"/>
                            </p:stCondLst>
                            <p:childTnLst>
                              <p:par>
                                <p:cTn id="3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0500"/>
                            </p:stCondLst>
                            <p:childTnLst>
                              <p:par>
                                <p:cTn id="3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22500"/>
                            </p:stCondLst>
                            <p:childTnLst>
                              <p:par>
                                <p:cTn id="3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24500"/>
                            </p:stCondLst>
                            <p:childTnLst>
                              <p:par>
                                <p:cTn id="3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25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5500"/>
                            </p:stCondLst>
                            <p:childTnLst>
                              <p:par>
                                <p:cTn id="361" nodeType="afterEffect" fill="hold" presetClass="exit" presetID="5" presetSubtype="10">
                                  <p:stCondLst>
                                    <p:cond delay="1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2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5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8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71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50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50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4000"/>
                            </p:stCondLst>
                            <p:childTnLst>
                              <p:par>
                                <p:cTn id="3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0"/>
                            </p:stCondLst>
                            <p:childTnLst>
                              <p:par>
                                <p:cTn id="394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6500"/>
                            </p:stCondLst>
                            <p:childTnLst>
                              <p:par>
                                <p:cTn id="3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7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500"/>
                            </p:stCondLst>
                            <p:childTnLst>
                              <p:par>
                                <p:cTn id="4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2500"/>
                            </p:stCondLst>
                            <p:childTnLst>
                              <p:par>
                                <p:cTn id="410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3000"/>
                            </p:stCondLst>
                            <p:childTnLst>
                              <p:par>
                                <p:cTn id="41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5500"/>
                            </p:stCondLst>
                            <p:childTnLst>
                              <p:par>
                                <p:cTn id="4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7500"/>
                            </p:stCondLst>
                            <p:childTnLst>
                              <p:par>
                                <p:cTn id="421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8000"/>
                            </p:stCondLst>
                            <p:childTnLst>
                              <p:par>
                                <p:cTn id="424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20500"/>
                            </p:stCondLst>
                            <p:childTnLst>
                              <p:par>
                                <p:cTn id="4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2500"/>
                            </p:stCondLst>
                            <p:childTnLst>
                              <p:par>
                                <p:cTn id="432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23000"/>
                            </p:stCondLst>
                            <p:childTnLst>
                              <p:par>
                                <p:cTn id="43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55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7500"/>
                            </p:stCondLst>
                            <p:childTnLst>
                              <p:par>
                                <p:cTn id="443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28000"/>
                            </p:stCondLst>
                            <p:childTnLst>
                              <p:par>
                                <p:cTn id="446" nodeType="afterEffect" fill="hold" presetClass="exit" presetID="5" presetSubtype="10">
                                  <p:stCondLst>
                                    <p:cond delay="1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47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0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3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6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9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62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65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tivační důsledky kalkulace plných a variabilní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 předem stanovených plných nákladech výkonu je započte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onstantní část průměrných fixní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i porovnání lineárně přepočtených nákladů s jejich absolutní výší dochází k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elativní úspoře/překročení fixních náklad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(resp. překročené/nedostatečné úhradě fixních nákladů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hodné při motivaci útvarů 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yužití kapac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26920" y="4294080"/>
            <a:ext cx="360072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RÚFN = FN /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lán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Skut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– F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(při 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Sku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gt;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Plán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RPFN = FN -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FN /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lán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Sk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(při 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Sku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gt;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Plán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162400" y="4191120"/>
            <a:ext cx="0" cy="1800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5162040" y="5991120"/>
            <a:ext cx="180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830840" y="419112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919920" y="602136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515280" y="6021360"/>
            <a:ext cx="215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Sk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924520" y="602136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Plá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5162400" y="4981680"/>
            <a:ext cx="1729080" cy="217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5162400" y="4406400"/>
            <a:ext cx="1511280" cy="1582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026040" y="4981680"/>
            <a:ext cx="0" cy="10843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531120" y="4478400"/>
            <a:ext cx="0" cy="158436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602400" y="4549680"/>
            <a:ext cx="71280" cy="432000"/>
          </a:xfrm>
          <a:custGeom>
            <a:avLst/>
            <a:gdLst>
              <a:gd name="textAreaLeft" fmla="*/ 0 w 71280"/>
              <a:gd name="textAreaRight" fmla="*/ 25560 w 71280"/>
              <a:gd name="textAreaTop" fmla="*/ 11160 h 432000"/>
              <a:gd name="textAreaBottom" fmla="*/ 42084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948360" y="462276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RÚF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692760" y="426240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N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= CN/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Plán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Skut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877080" y="4941720"/>
            <a:ext cx="216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5F736-0EF8-42E7-99C1-5D189E4D1ED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1000"/>
                            </p:stCondLst>
                            <p:childTnLst>
                              <p:par>
                                <p:cTn id="498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0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3500"/>
                            </p:stCondLst>
                            <p:childTnLst>
                              <p:par>
                                <p:cTn id="5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4000"/>
                            </p:stCondLst>
                            <p:childTnLst>
                              <p:par>
                                <p:cTn id="50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6500"/>
                            </p:stCondLst>
                            <p:childTnLst>
                              <p:par>
                                <p:cTn id="509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9000"/>
                            </p:stCondLst>
                            <p:childTnLst>
                              <p:par>
                                <p:cTn id="5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9500"/>
                            </p:stCondLst>
                            <p:childTnLst>
                              <p:par>
                                <p:cTn id="516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2000"/>
                            </p:stCondLst>
                            <p:childTnLst>
                              <p:par>
                                <p:cTn id="5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12500"/>
                            </p:stCondLst>
                            <p:childTnLst>
                              <p:par>
                                <p:cTn id="523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5500"/>
                            </p:stCondLst>
                            <p:childTnLst>
                              <p:par>
                                <p:cTn id="5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6" dur="8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7" dur="8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8" dur="8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liv ocenění výkonů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 úrovni plných a variabilních nákladů na hospodářský výsled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3628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uvisí s vymezením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kladů výkon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kladů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alkulace variabilní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náklady výkonu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variabilní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áklady období → fixní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HV 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citlivý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na změn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v množství a struktuře prodaných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otivač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ůsobení na prodej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kalkulace plný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áklady výkonu → variabilní náklady + fixní náklady spojené s vytvořením výkon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áklady období → náklady správy a řízení + prodejní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HV je při kolísání objemu a struktury prode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stabilizová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otivač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ůsobení na výrob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nikoli prodej výrobk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F4F1E-BBE1-4DDC-B2B7-6562AB051E6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0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1000"/>
                            </p:stCondLst>
                            <p:childTnLst>
                              <p:par>
                                <p:cTn id="5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2000"/>
                            </p:stCondLst>
                            <p:childTnLst>
                              <p:par>
                                <p:cTn id="56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500"/>
                            </p:stCondLst>
                            <p:childTnLst>
                              <p:par>
                                <p:cTn id="57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1000"/>
                            </p:stCondLst>
                            <p:childTnLst>
                              <p:par>
                                <p:cTn id="57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2000"/>
                            </p:stCondLst>
                            <p:childTnLst>
                              <p:par>
                                <p:cTn id="57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mensikm</cp:lastModifiedBy>
  <dcterms:modified xsi:type="dcterms:W3CDTF">2009-10-21T09:11:07Z</dcterms:modified>
  <cp:revision>14</cp:revision>
  <dc:subject/>
  <dc:title>Snímek 1</dc:title>
</cp:coreProperties>
</file>