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2E25D-5E49-43A6-8E7B-02A4C16E11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0C310-2CB1-456B-8C02-5668D036FD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E947F-C512-44E3-BEE6-4EE2359D73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EC510-57C5-4FA1-AF22-33AA4309DB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87B82-B51C-497A-A67B-3A0FED8E27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60D49-AE6C-4F06-8FB2-7052CF6A1E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35869-338A-4930-8A6D-E970BA1442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CAB5B-821B-4D60-806D-D1C3DA5D5C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E5D54-1D2A-4173-B886-44233DE573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28ADE-073F-435D-AF36-BE0805FD6D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77E29-71CD-4591-B986-3882A41A56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CFF64-FDC2-4FA3-8A2F-B13B1414F1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472D-105C-4418-91B5-63260E2526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toda standardních nákladů a výnosů a analýza odchylek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ze změny struktury prode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i nehomogenní produkci lze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odchylku objemu prodej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změnu marže v důsledku změny objemu prodeje) rozložit na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odchylku ze změny objemu výkonů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působenou zvýšením či snížením objemu prodej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odchylku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ze změny struktury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způsobenou změnou sortimentu prodávaných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,i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,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lternativně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lze odchylku vyjádřit přes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říspěvek k tržbá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de CT jsou celkové tržb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D2FA0-21F4-4E34-A01E-A28F36E34B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a ze změny struktury vstup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 případě možnosti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měni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 technologickém postupu tvorby výkonu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měr vstup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je možné rozdělit celkovou odchylku ze změny objemu na „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čistou kvantitativní odchylk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“ 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dchylku ze změny struktury vstup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poče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odchyl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r,vstupy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průměrná cena naturální jednotky vstupů při standardní struktuře vstupů – průměrná cena naturální jednotky vstupů při skutečné struktuře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skutečná spotřeba vstupů v naturálním vyjádřen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standardní spotřeba vstupů v naturálním vyjádření –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skutečná spotřeba vstupů v naturálním vyjádřen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průměrná cena naturální jednotky vstupů při standardní struktuře vstupů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38448-949D-4582-8AB8-84DE0A87FF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jetí a cíle analýzy odchy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chodisko – urč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em stanovených hodn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zjišt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tečné výš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jeji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rovn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četně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y rozdíl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e páteří manažerského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užití v kalkulacích, rozpočetnictví i odpovědnostním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áz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ystému řízení na základě odchyl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ovení standard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skutečných výsledk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odchylky mezi standardní a skutečnou hodnoto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ýza odchyle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řijetí opatř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79F74-08CD-4463-949E-86B4F80639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ovení standar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 -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em stanovená výš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ů, ceny, zisku či naturálně vyjádřeného zdro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jednotk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otkou výkonu – jednotk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álního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ebo „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dardní dílčí čá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 výkonu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u finálních výkonů přizpůsobovaných zákazníkům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úrovně standar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áklad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– úroveň neměnná po určitou dob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běžn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– reálně dosažitelná úroveň při efektivním provádění činnosti v daném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deál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– úroveň dosažitelná při ideálním průběhu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C72C4-7490-4A27-BFF2-4DF0488813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tup stanovení standardů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92360" y="1716120"/>
            <a:ext cx="215928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jednotka výrobku (1 k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19640" y="2506680"/>
            <a:ext cx="215892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19640" y="3298680"/>
            <a:ext cx="2158920" cy="5749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jednicové a variabil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4091040"/>
            <a:ext cx="215892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mar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19640" y="4883040"/>
            <a:ext cx="2158920" cy="5749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fix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19640" y="5675400"/>
            <a:ext cx="215892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6732360" y="1787400"/>
            <a:ext cx="431640" cy="43200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08720" y="1341360"/>
            <a:ext cx="1835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šechny veličiny vyjádřeny na 1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2720880"/>
            <a:ext cx="3240000" cy="17287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ormy spotřeby materiál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předem stan. cena materi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orma spotřeby čas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ředem stan. mzdový tar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ormativ spotřeby stroj. hod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ředem stan. výše var.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4883040"/>
            <a:ext cx="3240000" cy="5749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mit fixních nákladů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objem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87560" y="517212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6" name=""/>
          <p:cNvCxnSpPr>
            <a:stCxn id="165" idx="2"/>
            <a:endCxn id="173" idx="0"/>
          </p:cNvCxnSpPr>
          <p:nvPr/>
        </p:nvCxnSpPr>
        <p:spPr>
          <a:xfrm flipH="1">
            <a:off x="2376000" y="2290320"/>
            <a:ext cx="2196000" cy="430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77" name=""/>
          <p:cNvCxnSpPr>
            <a:stCxn id="165" idx="2"/>
            <a:endCxn id="166" idx="0"/>
          </p:cNvCxnSpPr>
          <p:nvPr/>
        </p:nvCxnSpPr>
        <p:spPr>
          <a:xfrm>
            <a:off x="4572000" y="2290680"/>
            <a:ext cx="17280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78" name=""/>
          <p:cNvCxnSpPr>
            <a:stCxn id="166" idx="2"/>
            <a:endCxn id="167" idx="0"/>
          </p:cNvCxnSpPr>
          <p:nvPr/>
        </p:nvCxnSpPr>
        <p:spPr>
          <a:xfrm>
            <a:off x="6298920" y="308124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79" name=""/>
          <p:cNvCxnSpPr>
            <a:stCxn id="167" idx="2"/>
            <a:endCxn id="168" idx="0"/>
          </p:cNvCxnSpPr>
          <p:nvPr/>
        </p:nvCxnSpPr>
        <p:spPr>
          <a:xfrm>
            <a:off x="6298920" y="387360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0" name=""/>
          <p:cNvCxnSpPr>
            <a:stCxn id="168" idx="2"/>
            <a:endCxn id="169" idx="0"/>
          </p:cNvCxnSpPr>
          <p:nvPr/>
        </p:nvCxnSpPr>
        <p:spPr>
          <a:xfrm>
            <a:off x="6298920" y="466560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1" name=""/>
          <p:cNvCxnSpPr>
            <a:stCxn id="169" idx="2"/>
            <a:endCxn id="170" idx="0"/>
          </p:cNvCxnSpPr>
          <p:nvPr/>
        </p:nvCxnSpPr>
        <p:spPr>
          <a:xfrm>
            <a:off x="6298920" y="545796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2" name=""/>
          <p:cNvCxnSpPr>
            <a:stCxn id="174" idx="3"/>
            <a:endCxn id="169" idx="1"/>
          </p:cNvCxnSpPr>
          <p:nvPr/>
        </p:nvCxnSpPr>
        <p:spPr>
          <a:xfrm>
            <a:off x="3995640" y="5169960"/>
            <a:ext cx="12247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3" name=""/>
          <p:cNvCxnSpPr>
            <a:stCxn id="173" idx="3"/>
            <a:endCxn id="167" idx="1"/>
          </p:cNvCxnSpPr>
          <p:nvPr/>
        </p:nvCxnSpPr>
        <p:spPr>
          <a:xfrm>
            <a:off x="3995640" y="3585960"/>
            <a:ext cx="12247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D0489-4B6E-488B-A256-857669F24C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působy zjišťování odchy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sled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v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ůběh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období se v MÚ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ledují skutečné veliči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jištění odchyl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robíhá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o skončen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ení možné pružně reagovat na vznik odchyle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btížná identifikace příčin vzniku a odpovědnosti za vzni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formace o skutečných nákladech výkonů lze získat až po skončení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ůběž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→ již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ři zobra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ákladu j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ddělena předem stanovená výše a odchylka skuteč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tzv. rozdílové metody říze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žnost okamžité analýzy a reakce na zjištěné odchyl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ročnější na informační systé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yužívá se zejména u jednicových nákladů a prodejních ce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D45D5-D9C2-435F-A9C0-DE986D9547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alýza odchy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y vzni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a vznik odchylek je možné analyzovat v růz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robnosti podle potře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nkrétní pravidla a metodické postup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i stanovuje podni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ýza a zjišťování odchylek většinou vychází ze základních faktorů ovlivňujících zisk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bjem prodaných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rodejní cen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ix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ruktura prodaných výkonů při nehomogenních výkonech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B2B14-C15A-4DE6-99CE-413A95DB9D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prodejní ce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9720" y="1700280"/>
            <a:ext cx="5372280" cy="28810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Odchylku prodejní ceny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lze vyjádř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na jednot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na celkový obj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procent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%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/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2560" y="4724280"/>
            <a:ext cx="3672000" cy="136872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Le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skutečná 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standardní 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skutečný objem prode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A954D-2EE5-479C-B10A-50F4C9F4FB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413000"/>
            <a:ext cx="4349880" cy="28810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9900"/>
                </a:solidFill>
                <a:latin typeface="Arial"/>
              </a:rPr>
              <a:t>Odchylku variabilních nákladů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lze vyjádř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na jednotku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na celkový objem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(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procent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%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/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00440" y="1413000"/>
            <a:ext cx="4364280" cy="28810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9900"/>
                </a:solidFill>
                <a:latin typeface="Arial"/>
              </a:rPr>
              <a:t>Odchylku fixních nákladů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lze vyjádři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celk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na jednotku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F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(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procent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/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9280" y="4365720"/>
            <a:ext cx="4897440" cy="20160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Le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 variabilní náklady na jednotku standardní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variabilní náklady na jednotku skutečn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celkové fixní náklady standardní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celkové fixní náklady skutečn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skutečný objem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385EA-B6F6-4FFC-9F0C-17B6A65E3B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5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objemu prode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9280" y="1341360"/>
            <a:ext cx="8828280" cy="29512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liv objemu výkonů na zisk se projeví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změnou marže. Odchylka objemu prodeje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 se zjis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*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Tuto odchylku lze dále rozložit na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a) relativní úsporu fixních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b) vliv zisku z prodej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*z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4365720"/>
            <a:ext cx="8785440" cy="20160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Le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marže na jednotku výkonů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zisk na jednotku výkonů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celkové fixní náklady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objem prodeje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objem prodeje skutečn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F3974-88C0-49C9-854C-E5AB15A567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36:44Z</dcterms:modified>
  <cp:revision>15</cp:revision>
  <dc:subject/>
  <dc:title>Snímek 1</dc:title>
</cp:coreProperties>
</file>