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28E03-7D92-4F46-B3C0-80E2A5DFDA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73322-8DD7-4D6A-902E-0B7A54F286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7CD05-174B-4423-89D2-FAA3B71252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E30C9-B6C2-4E2B-ACE2-E3B298A46F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DCC1F-BDC4-44BE-BBC4-FBD9504031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304FB-453D-4008-9E52-DE791A38BF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D42BC-73F3-4D7B-88ED-CFD2E542A9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3B845-716D-4628-BCB3-E81D032B75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EE633-0F0B-43CF-873C-49A4F53981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A93F4-D569-422E-A599-4ECF7F8B19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9F865-7579-42FF-8753-04C39FA792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D4398-2D4F-4E3A-8CF7-94DDFA391F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AE9B-FA25-4BBE-93A9-A168022FF560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ztah finančního, nákladového a manažerského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manažerského a nákladov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50920" y="1413000"/>
          <a:ext cx="8569080" cy="5316480"/>
        </p:xfrm>
        <a:graphic>
          <a:graphicData uri="http://schemas.openxmlformats.org/drawingml/2006/table">
            <a:tbl>
              <a:tblPr/>
              <a:tblGrid>
                <a:gridCol w="4282920"/>
                <a:gridCol w="4286160"/>
              </a:tblGrid>
              <a:tr h="585000">
                <a:tc gridSpan="2"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Manažerské účetnictví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systém účetních informací pro řízení a rozhodová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740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Nákladové účetnictví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účetnictví pro 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odnikat.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rocesu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o jehož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arametrech již bylo rozhodnuto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Manažerské účetnictví  </a:t>
                      </a:r>
                      <a:r>
                        <a:rPr b="1" i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účetnictví pro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rozhodování</a:t>
                      </a:r>
                      <a:r>
                        <a:rPr b="0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 budoucích alternativách činnost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604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operativní řízení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v bezprostřední návaznosti na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taktické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plán, porovnání se skutečností, běžná a preventivní kontrola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ariantní rozhodová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na existující kapacitě a o budoucí kapacitě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po linii útvarů,  výkonů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roces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omplexní informace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rcholové řízení a rozhodová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ejména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hospodárnosti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zejména účinnosti a efektivnos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vyhodnocení  vlivu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změn 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 objemu a  sortimentu  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konů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dod. na tr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zásadní změny činnosti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strategický marketing, výzkum a vývoj, investiční   rozhodování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0680">
                <a:tc gridSpan="2"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dnikové rozpočty  - 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Rozpočtová výsledovka, rozvaha, rozpočet peněžních tok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932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tah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odnikového rozpočtu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nitropodnikových rozpočtů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ředisek,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kalkulačního systému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nitropodnik. c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odnikové střednědobé a dlouhodobé rozpoč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E2147-0402-4C30-9AA9-08EA87D210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ční zajištění řídicího cyk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68360" y="1557360"/>
            <a:ext cx="3238560" cy="915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ÁNOVÁ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anovit cí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rčit požadované hodno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68360" y="2851200"/>
            <a:ext cx="3238560" cy="915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ORGAN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adat úk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tivov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66920" y="5176800"/>
            <a:ext cx="3238560" cy="987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ONTR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jistit skutečné hodno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orovnat skutečnost a plá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66920" y="4148280"/>
            <a:ext cx="3238560" cy="6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AL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ovést/ vykon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0" name=""/>
          <p:cNvCxnSpPr>
            <a:stCxn id="237" idx="2"/>
            <a:endCxn id="239" idx="0"/>
          </p:cNvCxnSpPr>
          <p:nvPr/>
        </p:nvCxnSpPr>
        <p:spPr>
          <a:xfrm flipH="1">
            <a:off x="3885840" y="3766680"/>
            <a:ext cx="2160" cy="381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6" idx="2"/>
            <a:endCxn id="237" idx="0"/>
          </p:cNvCxnSpPr>
          <p:nvPr/>
        </p:nvCxnSpPr>
        <p:spPr>
          <a:xfrm>
            <a:off x="3887280" y="2473200"/>
            <a:ext cx="1080" cy="378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39" idx="2"/>
            <a:endCxn id="238" idx="0"/>
          </p:cNvCxnSpPr>
          <p:nvPr/>
        </p:nvCxnSpPr>
        <p:spPr>
          <a:xfrm>
            <a:off x="3885840" y="4795920"/>
            <a:ext cx="10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38" idx="1"/>
            <a:endCxn id="236" idx="1"/>
          </p:cNvCxnSpPr>
          <p:nvPr/>
        </p:nvCxnSpPr>
        <p:spPr>
          <a:xfrm flipH="1" rot="10800000">
            <a:off x="2266560" y="2015280"/>
            <a:ext cx="2160" cy="36554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724360" y="2781360"/>
            <a:ext cx="576360" cy="3456000"/>
          </a:xfrm>
          <a:custGeom>
            <a:avLst/>
            <a:gdLst>
              <a:gd name="textAreaLeft" fmla="*/ 0 w 576360"/>
              <a:gd name="textAreaRight" fmla="*/ 208080 w 576360"/>
              <a:gd name="textAreaTop" fmla="*/ 90000 h 3456000"/>
              <a:gd name="textAreaBottom" fmla="*/ 3366000 h 34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2924280"/>
            <a:ext cx="4330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48360" y="1557360"/>
            <a:ext cx="576360" cy="4751280"/>
          </a:xfrm>
          <a:custGeom>
            <a:avLst/>
            <a:gdLst>
              <a:gd name="textAreaLeft" fmla="*/ 0 w 576360"/>
              <a:gd name="textAreaRight" fmla="*/ 208080 w 576360"/>
              <a:gd name="textAreaTop" fmla="*/ 123840 h 4751280"/>
              <a:gd name="textAreaBottom" fmla="*/ 4627440 h 47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812000" y="2276640"/>
            <a:ext cx="4334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DD21C-0236-4600-BD21-99B4790B73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5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5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ztah manažerského účetnictví </a:t>
            </a: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a controlling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istoricky rozvoj v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nglosaské obla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ontrolling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 70. let rozvoj v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germanofonní obla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ictví historicky spojováno se zobrazením skuteč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loha účetnictví pro manažery – pouze analytické členění nákladů a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ontrolling =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etod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informační podpora řízení (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unkce manažerského účetnictví) je součástí funkcí controlling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rientuje se nejen na hodnotové řízení (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finanční a nákladový controlling), ale i na věcnou stránku řízení (→ naturální controlling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v praxi –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controllingové odděl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(→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controller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989CB-BA80-42B3-A18E-904F158253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ztah controllera a řídicího pracovní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ONTROLL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pravuje podklady pro plánování a rozhodová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informuje o odchylkác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pravuje metodiku kalkulací, rozpočtování, systém kalkulací a rozpočt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informuje o změnách v okolí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je poradce management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ŘÍDICÍ PRACOVNÍ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lánuje, rozhodu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reaguje na zjištěné odchyl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osazuje a využívá informace připravených systémů kalkulací, rozpočt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reaguje, aby udržel dlouho-dobou rovnováhu s okolí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akceptuje controlling v procesu říz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4EBF1-43DE-47F1-9115-06927CA238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5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75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8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95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 je účetnictví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uspořádan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ysté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formac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který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m vyjádř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zobra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nikatelský proc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hodnotovou stránku podnikatelského proces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delové zobrazení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ali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incipy a metody účetního zobrazení, „rozpoznání“ podstaty hospodářských transakcí, pravidla jejich oceně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komplexního mě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pozi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nost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měny ve finanční pozic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6F793-6317-4FD2-9905-734040F603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nanční pozice, výkonnost a změn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 finanční situaci v účetních výkaze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247840" y="2509920"/>
            <a:ext cx="4469040" cy="3022560"/>
            <a:chOff x="2247840" y="2509920"/>
            <a:chExt cx="4469040" cy="3022560"/>
          </a:xfrm>
        </p:grpSpPr>
        <p:sp>
          <p:nvSpPr>
            <p:cNvPr id="164" name=""/>
            <p:cNvSpPr/>
            <p:nvPr/>
          </p:nvSpPr>
          <p:spPr>
            <a:xfrm>
              <a:off x="2247840" y="2509920"/>
              <a:ext cx="2235240" cy="3022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AKTIV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louhodobá aktiv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Krátkodobá aktiv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Zásob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hledávk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Peněžní prostředky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peněžní ekvivalent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81640" y="2509920"/>
              <a:ext cx="2235240" cy="3022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9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cs-CZ" sz="1900" spc="-1" strike="noStrike">
                  <a:solidFill>
                    <a:srgbClr val="ffffff"/>
                  </a:solidFill>
                  <a:latin typeface="Arial"/>
                </a:rPr>
                <a:t>PASIV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Arial"/>
                </a:rPr>
                <a:t>Vlastní kapitá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Základní kapitá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Kapitálové fond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9900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9900"/>
                  </a:solidFill>
                  <a:latin typeface="Arial"/>
                </a:rPr>
                <a:t>Hospodářský výsl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Arial"/>
                </a:rPr>
                <a:t>Cizí kapitá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320920" y="287028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52920" y="287028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74760" y="1844640"/>
            <a:ext cx="4608720" cy="37609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ZVA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4957920"/>
            <a:ext cx="1584360" cy="93636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KAZ PENĚŽNÍCH TOK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189920" y="3517920"/>
            <a:ext cx="1800000" cy="936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SLEDOV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834920" y="5318280"/>
            <a:ext cx="215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877080" y="4021200"/>
            <a:ext cx="21600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6C584-07F7-4C25-9EDE-BEFBF57995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živatelé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2997360"/>
            <a:ext cx="3024000" cy="1512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DNIKATELSK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1268280"/>
            <a:ext cx="1656000" cy="64800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AZ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56000" y="1413000"/>
            <a:ext cx="165564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NKU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206064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ĚŘI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84360" y="220500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LAST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1341360"/>
            <a:ext cx="1655640" cy="792360"/>
          </a:xfrm>
          <a:prstGeom prst="wedgeRoundRectCallout">
            <a:avLst>
              <a:gd name="adj1" fmla="val -51726"/>
              <a:gd name="adj2" fmla="val 78856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EX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5023440" y="2227680"/>
            <a:ext cx="608040" cy="64800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8000"/>
              <a:gd name="textAreaBottom" fmla="*/ 4896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479736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N. ÚŘ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92360" y="5518080"/>
            <a:ext cx="165564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ČS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4360" y="4654440"/>
            <a:ext cx="2808000" cy="16560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4360" y="5013360"/>
            <a:ext cx="1655640" cy="792000"/>
          </a:xfrm>
          <a:prstGeom prst="wedgeRoundRectCallout">
            <a:avLst>
              <a:gd name="adj1" fmla="val -67449"/>
              <a:gd name="adj2" fmla="val 44791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STÁ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75640" y="4005360"/>
            <a:ext cx="1655640" cy="10094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ÍDIC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ACOV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88000" y="3789360"/>
            <a:ext cx="2374920" cy="15843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77080" y="5661000"/>
            <a:ext cx="1576440" cy="865080"/>
          </a:xfrm>
          <a:prstGeom prst="wedgeRoundRectCallout">
            <a:avLst>
              <a:gd name="adj1" fmla="val -44763"/>
              <a:gd name="adj2" fmla="val -63759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IN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0090400">
            <a:off x="2646360" y="3841560"/>
            <a:ext cx="608040" cy="64764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7640"/>
              <a:gd name="textAreaBottom" fmla="*/ 4896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2879600">
            <a:off x="5886000" y="4345920"/>
            <a:ext cx="608040" cy="64764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7640"/>
              <a:gd name="textAreaBottom" fmla="*/ 4896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2852640"/>
            <a:ext cx="180036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MĚSTNAN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1125360"/>
            <a:ext cx="4105080" cy="2590920"/>
          </a:xfrm>
          <a:custGeom>
            <a:avLst/>
            <a:gdLst/>
            <a:ahLst/>
            <a:rect l="l" t="t" r="r" b="b"/>
            <a:pathLst>
              <a:path w="2586" h="1632">
                <a:moveTo>
                  <a:pt x="2586" y="0"/>
                </a:moveTo>
                <a:lnTo>
                  <a:pt x="0" y="0"/>
                </a:lnTo>
                <a:lnTo>
                  <a:pt x="0" y="1632"/>
                </a:lnTo>
                <a:lnTo>
                  <a:pt x="1225" y="1632"/>
                </a:lnTo>
                <a:lnTo>
                  <a:pt x="2586" y="1088"/>
                </a:lnTo>
                <a:lnTo>
                  <a:pt x="2586" y="0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045A6-ABC1-4A2C-8841-AF6C811041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52" dur="2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živatelé účetních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jejich informační potřeb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842840"/>
            <a:ext cx="5483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piny uživatel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řeší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pro které potřebuj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inform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a proto maj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 požadavky n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obra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atelského proces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16640" y="1841400"/>
            <a:ext cx="2160720" cy="36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 KOH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Č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AK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64454-8C0A-4C80-90C6-59F83FDD3A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systémy účetních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jejich uživatelé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ř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(základ daně z příjmu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6220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(finanční stabilita a výkonno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1348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In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9900"/>
                </a:solidFill>
                <a:latin typeface="Arial"/>
              </a:rPr>
              <a:t>(hodnotové řízení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40000" y="2637000"/>
            <a:ext cx="4608360" cy="223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Odlišné požadavky n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jetí (vymezení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eně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uktu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aktiv, vlastního kapitálu, závazků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nákladů, výnosů, zisku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íjmů a výdajů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1000" y="5157720"/>
            <a:ext cx="2592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Ň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EVIDE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6560" y="5157720"/>
            <a:ext cx="2592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13320" y="5157720"/>
            <a:ext cx="259272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196" idx="2"/>
            <a:endCxn id="199" idx="0"/>
          </p:cNvCxnSpPr>
          <p:nvPr/>
        </p:nvCxnSpPr>
        <p:spPr>
          <a:xfrm>
            <a:off x="1620360" y="2276280"/>
            <a:ext cx="302508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4" name=""/>
          <p:cNvCxnSpPr>
            <a:stCxn id="197" idx="2"/>
            <a:endCxn id="199" idx="0"/>
          </p:cNvCxnSpPr>
          <p:nvPr/>
        </p:nvCxnSpPr>
        <p:spPr>
          <a:xfrm>
            <a:off x="4642920" y="2276280"/>
            <a:ext cx="252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5" name=""/>
          <p:cNvCxnSpPr>
            <a:stCxn id="198" idx="2"/>
            <a:endCxn id="199" idx="0"/>
          </p:cNvCxnSpPr>
          <p:nvPr/>
        </p:nvCxnSpPr>
        <p:spPr>
          <a:xfrm flipH="1">
            <a:off x="4644360" y="2276280"/>
            <a:ext cx="295020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6" name=""/>
          <p:cNvCxnSpPr>
            <a:stCxn id="199" idx="2"/>
            <a:endCxn id="200" idx="0"/>
          </p:cNvCxnSpPr>
          <p:nvPr/>
        </p:nvCxnSpPr>
        <p:spPr>
          <a:xfrm flipH="1">
            <a:off x="1647360" y="4869000"/>
            <a:ext cx="299808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7" name=""/>
          <p:cNvCxnSpPr>
            <a:stCxn id="199" idx="2"/>
            <a:endCxn id="201" idx="0"/>
          </p:cNvCxnSpPr>
          <p:nvPr/>
        </p:nvCxnSpPr>
        <p:spPr>
          <a:xfrm flipH="1">
            <a:off x="4642560" y="4869000"/>
            <a:ext cx="252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8" name=""/>
          <p:cNvCxnSpPr>
            <a:stCxn id="199" idx="2"/>
            <a:endCxn id="202" idx="0"/>
          </p:cNvCxnSpPr>
          <p:nvPr/>
        </p:nvCxnSpPr>
        <p:spPr>
          <a:xfrm>
            <a:off x="4644720" y="4869000"/>
            <a:ext cx="296604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23BE9-4ECA-4684-8690-78C81C7B3E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finančního a 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ference stabilního vývo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držování pravidel zabezpečuje spolehlivé a srovnateln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ntetick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ientace na výsledky dosažené v minulosti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ce vykazované v pravidelných intervalec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stupy (výkazy) veřejně přístupné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71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ritické informace o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cifické informace podle potřeb managementu umožňující aktivně měnit chování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ytický pohled na podni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rovnání skutečnosti s předem stanoveným vývoj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ce s minimálním zpožděním za skutečným průběh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tajen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B7473-FC25-438A-B6F0-A278DF3F17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innosti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lavní výděleč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statou je transformace vynaložených zdrojů na výstupy (výkon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6560" y="256536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STU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oběť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27640" y="256536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STU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prospě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2536920"/>
            <a:ext cx="2663640" cy="71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ORM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214" idx="6"/>
            <a:endCxn id="216" idx="1"/>
          </p:cNvCxnSpPr>
          <p:nvPr/>
        </p:nvCxnSpPr>
        <p:spPr>
          <a:xfrm>
            <a:off x="2914560" y="288936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16" idx="3"/>
            <a:endCxn id="215" idx="2"/>
          </p:cNvCxnSpPr>
          <p:nvPr/>
        </p:nvCxnSpPr>
        <p:spPr>
          <a:xfrm flipV="1">
            <a:off x="5940360" y="2889000"/>
            <a:ext cx="2880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466560" y="352908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27640" y="352908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3500280"/>
            <a:ext cx="266364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ORM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19" idx="6"/>
            <a:endCxn id="221" idx="1"/>
          </p:cNvCxnSpPr>
          <p:nvPr/>
        </p:nvCxnSpPr>
        <p:spPr>
          <a:xfrm>
            <a:off x="2914560" y="385272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21" idx="3"/>
            <a:endCxn id="220" idx="2"/>
          </p:cNvCxnSpPr>
          <p:nvPr/>
        </p:nvCxnSpPr>
        <p:spPr>
          <a:xfrm flipV="1">
            <a:off x="5940360" y="3852360"/>
            <a:ext cx="2880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55760" y="4508640"/>
            <a:ext cx="8229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anční a investiční činn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statou je zhodnocení zdrojů poskytnutím kapit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36680" y="5402160"/>
            <a:ext cx="244764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DRO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97760" y="5402160"/>
            <a:ext cx="244764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DMĚ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46480" y="5373720"/>
            <a:ext cx="266364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KYTNU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PIT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8" name=""/>
          <p:cNvCxnSpPr>
            <a:stCxn id="225" idx="6"/>
            <a:endCxn id="227" idx="1"/>
          </p:cNvCxnSpPr>
          <p:nvPr/>
        </p:nvCxnSpPr>
        <p:spPr>
          <a:xfrm>
            <a:off x="2884320" y="572616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27" idx="3"/>
            <a:endCxn id="226" idx="2"/>
          </p:cNvCxnSpPr>
          <p:nvPr/>
        </p:nvCxnSpPr>
        <p:spPr>
          <a:xfrm flipV="1">
            <a:off x="5909760" y="5725800"/>
            <a:ext cx="28836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5867280" y="1125360"/>
            <a:ext cx="3025800" cy="719280"/>
          </a:xfrm>
          <a:prstGeom prst="wedgeRoundRectCallout">
            <a:avLst>
              <a:gd name="adj1" fmla="val -43754"/>
              <a:gd name="adj2" fmla="val 66115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5E7FA-F236-4DDC-9905-943AF83B55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5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8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9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0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íle, obsah a struktura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íl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jišť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říd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ezent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vykázání) informací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 to takovým způsobem, který umožní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řídicím pracovníkům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vědomě ovládat podnikatelskou činnost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ah: závisí na hierarchii a návaznosti cíl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ategického, taktického a operativníh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ystém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četní informace pro ří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atelského procesu, o jehož parametrech bylo již v zásadě rozhodnuto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ákladov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četní informace pro rozhod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taktické a strategické) o variantách budoucího vývoje podnikatelského proces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manažerské účetnictv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v užším pojet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608D6-BBE1-439E-863B-A601FC7CC5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5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15Z</dcterms:modified>
  <cp:revision>16</cp:revision>
  <dc:subject/>
  <dc:title>Snímek 1</dc:title>
</cp:coreProperties>
</file>